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2CFC1-58AA-407A-A118-F20F4D8CA45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6253B-E573-40AA-835C-1C3C108159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4F250-356E-400C-90A7-CF74DFD4D9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A5488-0FD7-4B54-AE50-252ADCF957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7E01F-59F0-4298-9DE2-C14A4EFAA5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A3DB6-7976-4BD8-9FA1-769B7C30E6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C896F-BE28-4BBA-A53E-F17CBAE5E4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9584D-7FCE-49A7-AB64-1CCD9B113A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CBB1D-B5BC-4469-9C7B-C5FDA6DD5C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2B522-1DF4-4B8D-B77E-7CE689F9A3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1FB94-6521-4190-860F-F01EF66F62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A4331-1AFE-4A9B-BCAD-981F98B6B87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279995-C67E-4BDE-8227-32212A0ED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18F4D-63D1-428F-AB6A-EAE219B4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719F0F-0872-4DF1-A214-F78CA63F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A86099-AAF1-45B8-85B3-E85B9A3C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623C80-5BCF-47E6-A952-34E9B829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54761B-A8F7-4D1E-9CB2-123E4C56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07E97A-F80B-49B3-8CC9-5582F2C3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B2E450-AE81-4A88-8BF9-DB7F47E0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EA25F6-A7ED-4565-8866-9BBA9EDB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61DDCC-73B4-46CF-B114-FC8BE15A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BB80FD-D8B6-4D6F-BF2E-F0BDA9017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83800C-90A8-46FD-BF57-23699E3BA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36794C-5770-42E2-9446-2B004EB3D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EAA7AC-39AD-4B0D-A893-59BE4A12E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DF2DD6-7BD9-410A-8ED5-16931B11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1058E2-2CFC-4D6F-A762-812CA8D2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FE18C2-F6FA-4311-97C6-A3FF687E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94F2DF-6CB6-474F-84C4-B9E5ABA6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9C5EB6-2465-4A02-A3DE-269CEA80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71D662-1FFD-4E8E-986C-2C20ABFD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56CE2D-7167-461B-AA75-CC604C22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13E720-B30F-461F-851E-69C0072B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CCABC54-859C-4061-B292-7A692A88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0BDE65-F388-4BC7-A5B6-B2CE3FC1D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5F88-8D8F-49F3-9CC4-6A4387BF05C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6599-DB5D-43A5-8929-26A068C04C31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EF77-8242-4552-9867-2D129C709CF1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5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440160" y="1197000"/>
            <a:ext cx="5668920" cy="42512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457880" cy="2971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9120" y="555300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92929"/>
                </a:solidFill>
                <a:latin typeface="Arial"/>
              </a:rPr>
              <a:t>Inleiding laptopdidactiek</a:t>
            </a:r>
            <a:endParaRPr b="0" lang="en-US" sz="54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76327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Kennismaken met de drie pijlers van de laptopdidactiek’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508720" y="3789360"/>
            <a:ext cx="33112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pdracht 1: stelling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houd: drie pijlers, Tpackmod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est practic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508720" y="4653000"/>
            <a:ext cx="255276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4284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dracht 1 Stelli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2205000"/>
            <a:ext cx="8675640" cy="29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ageer op de stellingen.</a:t>
            </a:r>
            <a:endParaRPr b="0" lang="en-US" sz="32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p ieder scherm staat een andere stelling.</a:t>
            </a:r>
            <a:endParaRPr b="0" lang="en-US" sz="32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egin iedere reactie met je initialen.</a:t>
            </a:r>
            <a:endParaRPr b="0" lang="en-US" sz="32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32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692316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jler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000" y="2797200"/>
            <a:ext cx="72723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901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Maak afspraken en stel regels.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901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Integreer ict in de werkvormen (T-Pack).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901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Bij eigen laptop: zet laptop veel en effectief in.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084720" y="765000"/>
            <a:ext cx="2448000" cy="18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31680" y="549000"/>
            <a:ext cx="71578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T-PACK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560" y="2708280"/>
            <a:ext cx="4249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Didactische kennis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Vakinhoudelijke kennis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Technologische kennis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0" y="1628640"/>
            <a:ext cx="42069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4284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igen best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5280" y="220500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92929"/>
                </a:solidFill>
                <a:latin typeface="Calibri"/>
              </a:rPr>
              <a:t>Een voorbeeld</a:t>
            </a:r>
            <a:endParaRPr b="0" lang="en-US" sz="36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211640" y="4005360"/>
            <a:ext cx="2895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Josien</cp:lastModifiedBy>
  <cp:lastPrinted>1999-12-08T22:23:44Z</cp:lastPrinted>
  <dcterms:modified xsi:type="dcterms:W3CDTF">2011-09-14T14:38:46Z</dcterms:modified>
  <cp:revision>139</cp:revision>
  <dc:subject/>
  <dc:title>C. van de Graaf &amp; Partners</dc:title>
</cp:coreProperties>
</file>