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5D2BB-98B0-4969-8B7B-D911FDCA00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55B3-1B44-4084-8F0B-670EA6F0EC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73464-4CC0-4CF2-A104-92061F0947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7BDB7-61C7-4FD7-B2FF-474744FAB5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C904-E6E8-4F14-824D-3ED3E0C123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F5A5B-7198-4B1A-BD7D-5996A80D0EB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6FE0-E2DC-47AB-A76C-CFEF9E5698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FB66-56F5-4817-95B5-730CEFBCE0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C97E-5870-418F-86F0-3529BF7DEFD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57234-34BA-41C9-85B4-99F42DBB30E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036CF-14B4-4296-81E2-F46F1BC12F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53C1-7CF2-45A3-B2A7-E81C96F2C76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7960A-E5DA-43B8-932C-828E73088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DCD04F-E8F0-4A43-9CBA-E9930BACB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E2E93-4CD2-4680-AAEF-F7DD6532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0933F-07FD-49A1-B32D-FACA1BA8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AD871-142E-4B10-94C5-3687FA61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4CCABB-4827-499E-9A2C-ED00548B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F98CA7-0D1B-42FA-B186-82FB3654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920DF-8D49-4E75-A2A5-FA6F2331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008D8-5940-41B3-A391-53CFB6E80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0D14F5-3AE0-4E60-A729-0C960640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01592-9633-4235-868D-85B9B4BD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430D99-9026-4477-ADB1-13B446735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75A722-756C-4082-A09E-ABA54F292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90CA9-D83E-4AA3-A011-2B9CA606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669312-1327-4D55-95F5-A31E4121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C58EB4-9F6A-4B8A-A6C4-7F3A9932F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F2B548-26AC-4EC7-9A04-6DE88009F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148ABD-8688-4322-BE5B-09D3513D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8830E6-A425-4AAF-A9A8-13D587F1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384A46-E6E1-491C-A314-7E7470CB4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A37CEC-B927-494C-9914-43BF5586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F8EC8B-14F8-4506-8FF9-E226043D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F6825-0770-4E92-9874-00B5D997E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787647-B525-4867-9F26-A42FBC766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Logo_mauve"/>
          <p:cNvPicPr/>
          <p:nvPr/>
        </p:nvPicPr>
        <p:blipFill>
          <a:blip r:embed="rId2"/>
          <a:stretch/>
        </p:blipFill>
        <p:spPr>
          <a:xfrm>
            <a:off x="2987640" y="5692680"/>
            <a:ext cx="2376360" cy="863640"/>
          </a:xfrm>
          <a:prstGeom prst="rect">
            <a:avLst/>
          </a:prstGeom>
          <a:ln w="0">
            <a:noFill/>
          </a:ln>
        </p:spPr>
      </p:pic>
      <p:sp>
        <p:nvSpPr>
          <p:cNvPr id="1" name="Line 13"/>
          <p:cNvSpPr/>
          <p:nvPr/>
        </p:nvSpPr>
        <p:spPr>
          <a:xfrm>
            <a:off x="5508720" y="5589720"/>
            <a:ext cx="0" cy="1039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2" name="Text Box 19"/>
          <p:cNvSpPr/>
          <p:nvPr/>
        </p:nvSpPr>
        <p:spPr>
          <a:xfrm>
            <a:off x="5581800" y="5667480"/>
            <a:ext cx="215892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Bankrashof 3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1183 NP Amstelveen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 +31 (0)20 3455550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F +31 (0)20 3455551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3" name="Text Box 32"/>
          <p:cNvSpPr/>
          <p:nvPr/>
        </p:nvSpPr>
        <p:spPr>
          <a:xfrm>
            <a:off x="7165800" y="5667480"/>
            <a:ext cx="2159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E info@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I www.cvdgraaf.nl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KvK Amsterdam 34116245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7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Num" idx="1"/>
          </p:nvPr>
        </p:nvSpPr>
        <p:spPr>
          <a:xfrm>
            <a:off x="46800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8A25C-8D3B-446C-A8F5-5BAEA9E682B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7574040" y="5805360"/>
            <a:ext cx="179856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Ontwikkel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Advies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Projectmanagement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808080"/>
                </a:solidFill>
                <a:latin typeface="Caecilia Roman"/>
              </a:rPr>
              <a:t>Training</a:t>
            </a:r>
            <a:endParaRPr b="0" lang="en-US" sz="10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50" name="Picture 14" descr="Logo_mauve"/>
          <p:cNvPicPr/>
          <p:nvPr/>
        </p:nvPicPr>
        <p:blipFill>
          <a:blip r:embed="rId2"/>
          <a:stretch/>
        </p:blipFill>
        <p:spPr>
          <a:xfrm>
            <a:off x="5437080" y="5952960"/>
            <a:ext cx="1943280" cy="7066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5"/>
          <p:cNvSpPr/>
          <p:nvPr/>
        </p:nvSpPr>
        <p:spPr>
          <a:xfrm>
            <a:off x="179280" y="3068640"/>
            <a:ext cx="2521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grpSp>
        <p:nvGrpSpPr>
          <p:cNvPr id="52" name="Group 27"/>
          <p:cNvGrpSpPr/>
          <p:nvPr/>
        </p:nvGrpSpPr>
        <p:grpSpPr>
          <a:xfrm>
            <a:off x="7613640" y="1268280"/>
            <a:ext cx="1206000" cy="4176360"/>
            <a:chOff x="7613640" y="1268280"/>
            <a:chExt cx="1206000" cy="4176360"/>
          </a:xfrm>
        </p:grpSpPr>
        <p:pic>
          <p:nvPicPr>
            <p:cNvPr id="53" name="Picture 16" descr="advies_8%"/>
            <p:cNvPicPr/>
            <p:nvPr/>
          </p:nvPicPr>
          <p:blipFill>
            <a:blip r:embed="rId3"/>
            <a:stretch/>
          </p:blipFill>
          <p:spPr>
            <a:xfrm>
              <a:off x="7613640" y="1268280"/>
              <a:ext cx="1204920" cy="87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7" descr="ontwikkeling_8%"/>
            <p:cNvPicPr/>
            <p:nvPr/>
          </p:nvPicPr>
          <p:blipFill>
            <a:blip r:embed="rId4"/>
            <a:stretch/>
          </p:blipFill>
          <p:spPr>
            <a:xfrm>
              <a:off x="7615080" y="2305800"/>
              <a:ext cx="1204560" cy="95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8" descr="projectmanagement_8%"/>
            <p:cNvPicPr/>
            <p:nvPr/>
          </p:nvPicPr>
          <p:blipFill>
            <a:blip r:embed="rId5"/>
            <a:stretch/>
          </p:blipFill>
          <p:spPr>
            <a:xfrm>
              <a:off x="7615080" y="3498120"/>
              <a:ext cx="1204560" cy="76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9" descr="training_8%"/>
            <p:cNvPicPr/>
            <p:nvPr/>
          </p:nvPicPr>
          <p:blipFill>
            <a:blip r:embed="rId6"/>
            <a:stretch/>
          </p:blipFill>
          <p:spPr>
            <a:xfrm>
              <a:off x="7615080" y="4522320"/>
              <a:ext cx="1204560" cy="9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Line 21"/>
          <p:cNvSpPr/>
          <p:nvPr/>
        </p:nvSpPr>
        <p:spPr>
          <a:xfrm>
            <a:off x="7524720" y="5845320"/>
            <a:ext cx="0" cy="825480"/>
          </a:xfrm>
          <a:prstGeom prst="line">
            <a:avLst/>
          </a:prstGeom>
          <a:ln w="13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6840" y="27432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692316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2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3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4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17CF4-4A3B-4FAB-AD9C-EBF74A17BADE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Freeform 9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04" name="Freeform 10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6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142" name="Oval 7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4" name="Rectangle 9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cccc9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Caecilia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5CC67-B651-44C1-A482-09636632F2A1}" type="slidenum">
              <a:rPr b="0" lang="nl-NL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4572000" y="40464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292929"/>
                </a:solidFill>
                <a:latin typeface="Arial"/>
              </a:rPr>
              <a:t>Training digitale didactiek</a:t>
            </a:r>
            <a:endParaRPr b="0" lang="en-US" sz="24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4246560" y="472428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Caecilia Roman"/>
              </a:rPr>
              <a:t>    </a:t>
            </a:r>
            <a:endParaRPr b="0" lang="en-US" sz="4000" spc="-1" strike="noStrike">
              <a:solidFill>
                <a:srgbClr val="ffffff"/>
              </a:solidFill>
              <a:latin typeface="Caecilia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468360" y="5121360"/>
            <a:ext cx="8373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292929"/>
                </a:solidFill>
                <a:latin typeface="Arial"/>
              </a:rPr>
              <a:t>Effectieve inzet laptop</a:t>
            </a:r>
            <a:endParaRPr b="0" lang="en-US" sz="5400" spc="-1" strike="noStrike">
              <a:solidFill>
                <a:srgbClr val="ffffff"/>
              </a:solidFill>
              <a:latin typeface="Caecilia Roman"/>
            </a:endParaRPr>
          </a:p>
        </p:txBody>
      </p:sp>
      <p:pic>
        <p:nvPicPr>
          <p:cNvPr id="191" name="Picture 22" descr="gezamelijkevisie"/>
          <p:cNvPicPr/>
          <p:nvPr/>
        </p:nvPicPr>
        <p:blipFill>
          <a:blip r:embed="rId1"/>
          <a:stretch/>
        </p:blipFill>
        <p:spPr>
          <a:xfrm>
            <a:off x="3381480" y="2286000"/>
            <a:ext cx="23810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93760" y="264960"/>
            <a:ext cx="601992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Do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201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Wat is er nodig om laptop effectief in te kunnen zetten in de klas?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42840" y="237960"/>
            <a:ext cx="6019920" cy="1175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rogramm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leiding en programma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Brainstorm over mogelijke inz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Persoonsbeschrijvingen bespre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292929"/>
                </a:solidFill>
                <a:latin typeface="Arial"/>
              </a:rPr>
              <a:t>Actieplan’ make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-57276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fsluit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5727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15560" y="264960"/>
            <a:ext cx="7877160" cy="117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1 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Gebruiksmogelijkhed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7240" y="2268360"/>
            <a:ext cx="6770880" cy="36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826920" y="1708200"/>
            <a:ext cx="8099640" cy="36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Voor welk soort gebruik kun je ict of laptops in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buClr>
                <a:srgbClr val="29292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Noteer concrete toepassingen voor de verschillende gebruiksmogelijkheden. 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2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2  Wie ben jij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826920" y="1716120"/>
            <a:ext cx="7632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Bekijk de verschillende persoonbeschrijvingen. Welke persoon zou je, qua ict-gebruik, graag willen zij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15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27416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"/>
              </a:rPr>
              <a:t>Opdracht 3  Actie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826920" y="171612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292929"/>
                </a:solidFill>
                <a:latin typeface="Arial"/>
              </a:rPr>
              <a:t>Wat heb je nodig om in de toekomst ict goed in te kunnen zetten?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Tijd: 30 minuten</a:t>
            </a:r>
            <a:endParaRPr b="0" lang="en-US" sz="2800" spc="-1" strike="noStrike">
              <a:solidFill>
                <a:srgbClr val="ffffff"/>
              </a:solidFill>
              <a:latin typeface="Caecilia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Catherine van de Graaf</dc:creator>
  <dc:description/>
  <dc:language>en-US</dc:language>
  <cp:lastModifiedBy>Sandra Valk</cp:lastModifiedBy>
  <cp:lastPrinted>1999-12-08T22:23:44Z</cp:lastPrinted>
  <dcterms:modified xsi:type="dcterms:W3CDTF">2012-05-16T11:41:37Z</dcterms:modified>
  <cp:revision>143</cp:revision>
  <dc:subject/>
  <dc:title>C. van de Graaf &amp; Partners</dc:title>
</cp:coreProperties>
</file>