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16C87-D7D8-4435-B3F8-2650C653F6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18E3C-E937-4675-9C7D-B4F1C82313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FE58-AE34-4C00-A5F7-D969B962FF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1F031-7E93-41BC-A179-9E38319B2C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2EA8-160D-45E2-9A78-C5F5DED14C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E8CAD-D26E-4A60-A836-192F917B0F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52088-0214-44B5-AA4D-A63B250823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7E5B-9C17-4700-B8A0-7664AD4EC5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E8DD-73F5-432F-BD7C-145ECFC639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040DC-706E-49BA-A6C8-D870F9F341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DBA7C-F5AE-427B-89D4-322E6C70F1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D0DE1-03BA-4B9A-BB32-855BA4064D9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353E9E-4557-4C15-BB8F-973200F2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D18FC-5C5F-4E0C-A1D0-B38B15D8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B8354-9490-441C-9A2E-9E56E158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2B2077-7E25-4FC3-920B-E49FD10B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0C6297-DF4A-4DCB-9870-48E5346F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B0BEB-9DEC-41C3-AC0B-78E417CD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7336BA-B92F-4DFA-B754-5ECB3E55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57C17-6922-4F11-A599-862D83FE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9CCBA4-CC3D-4564-8F25-C166D4B2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ADEC42-F80D-4A44-BC5E-10A9F4F2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0FF99-76BC-456C-A9F1-E8EAF58F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EE642-4D37-4A97-929E-CCCB1427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261A2-B304-450B-866F-48C0C162E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F5883A-CB31-48E2-9484-3CF67058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617643-906A-4FA2-9F68-A96D5E67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29C978-762D-4309-9F70-3DF396ED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A59B2B-1746-45E8-A50D-26165D70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C6FCC2-FE6B-4B2A-BD13-4C4D8053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9BD263-57B3-4132-BE46-3A904BDD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90BABB-3169-4F12-ADE2-E1E1953C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DB6BDF-EE48-4C13-B40F-DEC4792E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A7C884-36D0-4829-98A7-31A8791B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FC9CB5-3BDF-4610-A21B-12F2B4611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3AE6A9-25A5-4E1C-A2A7-F1C025C8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09AF-53C6-4279-B4A8-9DDE5CB94A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ED35-A3E5-411D-BBCF-ED213BAEBDE3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FB85-841E-4216-9182-E028A874BA0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611280" y="5425920"/>
            <a:ext cx="78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92929"/>
                </a:solidFill>
                <a:latin typeface="Arial"/>
              </a:rPr>
              <a:t>Didactiek laptops in de klas</a:t>
            </a:r>
            <a:endParaRPr b="0" lang="en-US" sz="4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chooljaar 2011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8" descr="laptop-in-de-klas"/>
          <p:cNvPicPr/>
          <p:nvPr/>
        </p:nvPicPr>
        <p:blipFill>
          <a:blip r:embed="rId1"/>
          <a:stretch/>
        </p:blipFill>
        <p:spPr>
          <a:xfrm>
            <a:off x="3708360" y="170028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praken en regels maken wat betreft laptopgebruik in de kla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480" y="237960"/>
            <a:ext cx="686916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trodu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ventarisatie: wat gaat goed en wat gaat minder go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wisselen ervar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asebespr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oncrete afsprakenlijst samenste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15788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at gaat goed, wat kan be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68360" y="2205000"/>
            <a:ext cx="86756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hrijf op de geeltjes in Edistorm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goed gaa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minder goed gaan e/o beter kunn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Zo concreet mogelijk!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9" name="Picture 6" descr="Edistorm"/>
          <p:cNvPicPr/>
          <p:nvPr/>
        </p:nvPicPr>
        <p:blipFill>
          <a:blip r:embed="rId1"/>
          <a:stretch/>
        </p:blipFill>
        <p:spPr>
          <a:xfrm>
            <a:off x="3851280" y="5543640"/>
            <a:ext cx="1905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nzet van laptops/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50920" y="1716120"/>
            <a:ext cx="867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Bekijk de cases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eerst in duo’s: hoe zouden jullie dit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ploss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Plenaire besprek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3 Top vij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50920" y="1716120"/>
            <a:ext cx="86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tel een top 5 samen van de beste oplossingen, die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ruikbaar zijn in je eigen onderwijssituatie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4:44:43Z</dcterms:modified>
  <cp:revision>142</cp:revision>
  <dc:subject/>
  <dc:title>C. van de Graaf &amp; Partners</dc:title>
</cp:coreProperties>
</file>