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5.jpeg" ContentType="image/jpeg"/>
  <Override PartName="/ppt/media/image4.jpeg" ContentType="image/jpeg"/>
  <Override PartName="/ppt/media/image28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3.png" ContentType="image/png"/>
  <Override PartName="/ppt/media/image5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6.wmf" ContentType="image/x-wmf"/>
  <Override PartName="/ppt/media/image27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dt" idx="8"/>
          </p:nvPr>
        </p:nvSpPr>
        <p:spPr>
          <a:xfrm>
            <a:off x="3851280" y="-1440"/>
            <a:ext cx="2946240" cy="498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Img"/>
          </p:nvPr>
        </p:nvSpPr>
        <p:spPr>
          <a:xfrm>
            <a:off x="925200" y="750600"/>
            <a:ext cx="4946760" cy="37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906480" y="4713120"/>
            <a:ext cx="4984560" cy="44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ftr" idx="9"/>
          </p:nvPr>
        </p:nvSpPr>
        <p:spPr>
          <a:xfrm>
            <a:off x="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 type="sldNum" idx="10"/>
          </p:nvPr>
        </p:nvSpPr>
        <p:spPr>
          <a:xfrm>
            <a:off x="3851280" y="9427680"/>
            <a:ext cx="2946240" cy="4986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nl-NL" sz="10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54EB5-3AEB-41F7-B61E-5665A62201E9}" type="slidenum">
              <a:rPr b="0" i="1" lang="nl-NL" sz="10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65B9-C30F-4EA0-91D8-4C62A9A9BDBB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80960" y="693720"/>
            <a:ext cx="3538800" cy="2654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131480" y="3541680"/>
            <a:ext cx="4530600" cy="56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" spc="-1" strike="noStrike">
                <a:solidFill>
                  <a:srgbClr val="000000"/>
                </a:solidFill>
                <a:latin typeface="Arial"/>
              </a:rPr>
              <a:t>Toelichting dia: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0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ergelijk nu de blikken met leerobjecten, allebei zijn het objecten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ermateriaal opgedeeld in kleine onderdelen noemen we leerobjecten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1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Net zoals een soepblik is voorzien van labels, kan een leerobject ook worden voorzien van labels: bijvoorbeeld het trefwoord, soort leermateriaal, taal en bijvoorbeeld een inhoudelijke classificatie. Bijvoorbeeld bruikbaar in het opleiding van middenkaderfunctionaris Bouw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2)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ze labels gekoppeld aan de leerobjecten worden in de leertechnologie metadata genoemd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(Animatie 3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etadata zijn dus de labels van de leerobjecten die een beschrijving geven van het object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ook Antiqua"/>
              </a:rPr>
              <a:t>Stimuleer ontwikkeling en gebruik van open leermiddel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ook Antiqua"/>
              </a:rPr>
              <a:t>Verbeter de vindbaarheid en de toegang tot zowel open als “gesloten” leermiddel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Book Antiqua"/>
              </a:rPr>
              <a:t>Verhoog de kwaliteit van het onderwijs door flexibeler en up-to-date leermiddele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Ervaringen met open conte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Gratis schoolboeken” we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ept. 2008: advies Onderwijsraad: ‘Maak meer gebruik van open leermiddelen om onderwijs te innoveren’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2C9F-E97D-45BB-B62A-D0931D96EAEF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72C7-E978-43C3-8BB1-915F516A3F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F7523-ED3D-4AC5-AF14-C88CE717C8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F066-8806-45DF-8633-E938D2D3E0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D4C8-3852-43A3-8324-8695FE66B8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4642B-0222-4D06-97C5-88CE4D4188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961D-2DB2-48B8-8A44-2367C4C91C1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ED92F-AD58-42C7-A397-756D4BEF8DD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2533A-E704-4822-8B38-1EC72EA0BF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F272-3625-459F-B5DB-D77D166E27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B3609-B0BD-4284-87EE-C71F1D65AC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D6F44-5907-487F-81A6-B96191C0E3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BAF76-DF06-4E03-8A86-01DC703E10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3980D-AEA3-470D-A704-8ACD3CE9816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184BA-76BD-48AE-AE70-B9FEEBC7E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9D43D1-88D4-49E9-9EA3-2EFABF3C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3AAC3C-F085-4C31-804E-E79631523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8A3C2-278E-4BC7-A466-9E4280709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FED490-0DEF-4447-8F38-CB1E91C32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0C6CF9-E14D-4351-979A-09266D5D7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074934-06F0-48B6-BA7A-38483E48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59B496-BD65-4F48-9108-91D93325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85AE4-0D53-478D-BD5D-BB0D9A39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41230C-5E89-488B-AB62-4922EF31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B6F23-849A-48A5-93D8-468C07402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BF1FD-CAD2-4269-B15C-26B7C970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269CF8-2029-40A1-B95B-FB21BCC89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98F55F-27FB-44F7-9765-650A1C83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71F6B1-2A3F-4420-8A5B-6FA62A02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3ECB13-65AE-43E9-B91A-B1FC798E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8DEF36-81DC-4ADC-A182-2050DE5F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827FAD-8AD0-458D-8EA6-B5FD4DBC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C6C9B9-E98B-43FB-80FA-C874923D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5CEDBC-68D8-4DA4-9E4A-11B0CF03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43D13A-B671-4858-BA52-0AA1BDDB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66D471-F828-406F-A30A-B0703EB1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0A637E-DD3A-4054-94AF-DEFD7DE0D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A46E8B-CE25-4226-ADCA-58CC5D0E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76E8-0E20-43BB-A616-42BA79420F4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0014-4CF9-4F8C-AC58-89D78DA1B633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75A5-4D30-44D3-880D-C66FD5873315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rangeren.wikiwijs.nl/25111#sub639" TargetMode="External"/><Relationship Id="rId2" Type="http://schemas.openxmlformats.org/officeDocument/2006/relationships/hyperlink" Target="http://redactie.kennisnet.nl/attachments/2239362/snelstart-maken_1.0.pdf" TargetMode="External"/><Relationship Id="rId3" Type="http://schemas.openxmlformats.org/officeDocument/2006/relationships/hyperlink" Target="http://redactie.kennisnet.nl/attachments/2239362/snelstart-maken_1.0.pdf" TargetMode="External"/><Relationship Id="rId4" Type="http://schemas.openxmlformats.org/officeDocument/2006/relationships/hyperlink" Target="http://redactie.kennisnet.nl/attachments/2239362/snelstart-maken_1.0.pdf" TargetMode="External"/><Relationship Id="rId5" Type="http://schemas.openxmlformats.org/officeDocument/2006/relationships/hyperlink" Target="http://redactie.kennisnet.nl/attachments/2239362/snelstart-maken_1.0.pdf" TargetMode="External"/><Relationship Id="rId6" Type="http://schemas.openxmlformats.org/officeDocument/2006/relationships/hyperlink" Target="http://redactie.kennisnet.nl/attachments/2239362/snelstart-maken_1.0.pdf" TargetMode="External"/><Relationship Id="rId7" Type="http://schemas.openxmlformats.org/officeDocument/2006/relationships/hyperlink" Target="http://redactie.kennisnet.nl/attachments/2239362/snelstart-maken_1.0.pdf" TargetMode="External"/><Relationship Id="rId8" Type="http://schemas.openxmlformats.org/officeDocument/2006/relationships/hyperlink" Target="http://redactie.kennisnet.nl/attachments/2239362/snelstart-maken_1.0.pdf" TargetMode="External"/><Relationship Id="rId9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Arial"/>
              </a:rPr>
              <a:t>Arrangeren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28684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203640" y="-360"/>
            <a:ext cx="4330800" cy="126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bels = meta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5778360" y="1143000"/>
            <a:ext cx="2609640" cy="2133720"/>
            <a:chOff x="5778360" y="1143000"/>
            <a:chExt cx="2609640" cy="2133720"/>
          </a:xfrm>
        </p:grpSpPr>
        <p:sp>
          <p:nvSpPr>
            <p:cNvPr id="263" name="Rectangle 4"/>
            <p:cNvSpPr/>
            <p:nvPr/>
          </p:nvSpPr>
          <p:spPr>
            <a:xfrm>
              <a:off x="5778360" y="1143000"/>
              <a:ext cx="2609640" cy="2133720"/>
            </a:xfrm>
            <a:prstGeom prst="rect">
              <a:avLst/>
            </a:prstGeom>
            <a:solidFill>
              <a:srgbClr val="90d4f6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4" name="Text Box 5"/>
            <p:cNvSpPr/>
            <p:nvPr/>
          </p:nvSpPr>
          <p:spPr>
            <a:xfrm>
              <a:off x="5859360" y="1244880"/>
              <a:ext cx="2368440" cy="45900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Sleutelwoord</a:t>
              </a:r>
              <a:r>
                <a:rPr b="0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: staalconstructies</a:t>
              </a:r>
              <a:endParaRPr b="0" lang="en-US" sz="12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5" name="Text Box 6"/>
            <p:cNvSpPr/>
            <p:nvPr/>
          </p:nvSpPr>
          <p:spPr>
            <a:xfrm>
              <a:off x="5859360" y="1803600"/>
              <a:ext cx="2368440" cy="45900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Soort leermateriaal:</a:t>
              </a:r>
              <a:br>
                <a:rPr sz="1200"/>
              </a:br>
              <a:r>
                <a:rPr b="0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informatiebron</a:t>
              </a:r>
              <a:endParaRPr b="0" lang="en-US" sz="12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6" name="Text Box 7"/>
            <p:cNvSpPr/>
            <p:nvPr/>
          </p:nvSpPr>
          <p:spPr>
            <a:xfrm>
              <a:off x="5868720" y="2324160"/>
              <a:ext cx="1981080" cy="27648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Taal</a:t>
              </a:r>
              <a:r>
                <a:rPr b="0" lang="nl-NL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: nl</a:t>
              </a:r>
              <a:endParaRPr b="0" lang="en-US" sz="12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67" name="Text Box 8"/>
            <p:cNvSpPr/>
            <p:nvPr/>
          </p:nvSpPr>
          <p:spPr>
            <a:xfrm>
              <a:off x="5868720" y="2660760"/>
              <a:ext cx="2313000" cy="428760"/>
            </a:xfrm>
            <a:prstGeom prst="rect">
              <a:avLst/>
            </a:prstGeom>
            <a:solidFill>
              <a:srgbClr val="90d4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Classificatie</a:t>
              </a:r>
              <a:r>
                <a:rPr b="0" lang="en-US" sz="12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:</a:t>
              </a:r>
              <a:r>
                <a:rPr b="0" lang="en-US" sz="10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90261 Middenkaderfunctionaris Bouw</a:t>
              </a:r>
              <a:endParaRPr b="0" lang="en-US" sz="10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68" name="Group 9"/>
          <p:cNvGrpSpPr/>
          <p:nvPr/>
        </p:nvGrpSpPr>
        <p:grpSpPr>
          <a:xfrm>
            <a:off x="5778360" y="3282840"/>
            <a:ext cx="2609640" cy="2210040"/>
            <a:chOff x="5778360" y="3282840"/>
            <a:chExt cx="2609640" cy="2210040"/>
          </a:xfrm>
        </p:grpSpPr>
        <p:sp>
          <p:nvSpPr>
            <p:cNvPr id="269" name="Rectangle 10"/>
            <p:cNvSpPr/>
            <p:nvPr/>
          </p:nvSpPr>
          <p:spPr>
            <a:xfrm>
              <a:off x="5778360" y="3282840"/>
              <a:ext cx="2609640" cy="2210040"/>
            </a:xfrm>
            <a:prstGeom prst="rect">
              <a:avLst/>
            </a:prstGeom>
            <a:solidFill>
              <a:srgbClr val="00a5d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pic>
          <p:nvPicPr>
            <p:cNvPr id="270" name="Picture 11" descr="Informatie-object"/>
            <p:cNvPicPr/>
            <p:nvPr/>
          </p:nvPicPr>
          <p:blipFill>
            <a:blip r:embed="rId1"/>
            <a:stretch/>
          </p:blipFill>
          <p:spPr>
            <a:xfrm>
              <a:off x="6156000" y="3381480"/>
              <a:ext cx="1901880" cy="2016000"/>
            </a:xfrm>
            <a:prstGeom prst="rect">
              <a:avLst/>
            </a:prstGeom>
            <a:ln w="3240">
              <a:solidFill>
                <a:srgbClr val="292929"/>
              </a:solidFill>
              <a:miter/>
            </a:ln>
          </p:spPr>
        </p:pic>
      </p:grpSp>
      <p:grpSp>
        <p:nvGrpSpPr>
          <p:cNvPr id="271" name="Group 12"/>
          <p:cNvGrpSpPr/>
          <p:nvPr/>
        </p:nvGrpSpPr>
        <p:grpSpPr>
          <a:xfrm>
            <a:off x="3126960" y="3282840"/>
            <a:ext cx="2580120" cy="2210040"/>
            <a:chOff x="3126960" y="3282840"/>
            <a:chExt cx="2580120" cy="2210040"/>
          </a:xfrm>
        </p:grpSpPr>
        <p:sp>
          <p:nvSpPr>
            <p:cNvPr id="272" name="AutoShape 13"/>
            <p:cNvSpPr/>
            <p:nvPr/>
          </p:nvSpPr>
          <p:spPr>
            <a:xfrm>
              <a:off x="5113440" y="3282840"/>
              <a:ext cx="593640" cy="2210040"/>
            </a:xfrm>
            <a:custGeom>
              <a:avLst/>
              <a:gdLst>
                <a:gd name="textAreaLeft" fmla="*/ 379440 w 593640"/>
                <a:gd name="textAreaRight" fmla="*/ 594000 w 593640"/>
                <a:gd name="textAreaTop" fmla="*/ 57600 h 2210040"/>
                <a:gd name="textAreaBottom" fmla="*/ 2152440 h 221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3" name="Text Box 14"/>
            <p:cNvSpPr/>
            <p:nvPr/>
          </p:nvSpPr>
          <p:spPr>
            <a:xfrm>
              <a:off x="3559320" y="419724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 </a:t>
              </a:r>
              <a:r>
                <a:rPr b="0" lang="en-US" sz="16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(Leer)object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4" name="AutoShape 15"/>
            <p:cNvSpPr/>
            <p:nvPr/>
          </p:nvSpPr>
          <p:spPr>
            <a:xfrm flipH="1">
              <a:off x="3126600" y="3287880"/>
              <a:ext cx="574920" cy="2131920"/>
            </a:xfrm>
            <a:custGeom>
              <a:avLst/>
              <a:gdLst>
                <a:gd name="textAreaLeft" fmla="*/ 366840 w 574920"/>
                <a:gd name="textAreaRight" fmla="*/ 574920 w 574920"/>
                <a:gd name="textAreaTop" fmla="*/ 55440 h 2131920"/>
                <a:gd name="textAreaBottom" fmla="*/ 2076480 h 213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75" name="Group 16"/>
          <p:cNvGrpSpPr/>
          <p:nvPr/>
        </p:nvGrpSpPr>
        <p:grpSpPr>
          <a:xfrm>
            <a:off x="3158640" y="1149480"/>
            <a:ext cx="2548440" cy="2133360"/>
            <a:chOff x="3158640" y="1149480"/>
            <a:chExt cx="2548440" cy="2133360"/>
          </a:xfrm>
        </p:grpSpPr>
        <p:sp>
          <p:nvSpPr>
            <p:cNvPr id="276" name="AutoShape 17"/>
            <p:cNvSpPr/>
            <p:nvPr/>
          </p:nvSpPr>
          <p:spPr>
            <a:xfrm>
              <a:off x="5173560" y="1149480"/>
              <a:ext cx="533520" cy="213336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55440 h 2133360"/>
                <a:gd name="textAreaBottom" fmla="*/ 2077920 h 213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3801960" y="1987560"/>
              <a:ext cx="1143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292929"/>
                  </a:solidFill>
                  <a:latin typeface="Verdana"/>
                  <a:ea typeface="Arial"/>
                </a:rPr>
                <a:t>Metadata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278" name="AutoShape 19"/>
            <p:cNvSpPr/>
            <p:nvPr/>
          </p:nvSpPr>
          <p:spPr>
            <a:xfrm flipH="1">
              <a:off x="3158280" y="1166760"/>
              <a:ext cx="574920" cy="2109960"/>
            </a:xfrm>
            <a:custGeom>
              <a:avLst/>
              <a:gdLst>
                <a:gd name="textAreaLeft" fmla="*/ 366840 w 574920"/>
                <a:gd name="textAreaRight" fmla="*/ 574920 w 574920"/>
                <a:gd name="textAreaTop" fmla="*/ 54720 h 2109960"/>
                <a:gd name="textAreaBottom" fmla="*/ 2055240 h 2109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522360" y="1103400"/>
            <a:ext cx="2609640" cy="2133360"/>
            <a:chOff x="522360" y="1103400"/>
            <a:chExt cx="2609640" cy="2133360"/>
          </a:xfrm>
        </p:grpSpPr>
        <p:sp>
          <p:nvSpPr>
            <p:cNvPr id="280" name="Rectangle 21"/>
            <p:cNvSpPr/>
            <p:nvPr/>
          </p:nvSpPr>
          <p:spPr>
            <a:xfrm>
              <a:off x="522360" y="1103400"/>
              <a:ext cx="2609640" cy="2133360"/>
            </a:xfrm>
            <a:prstGeom prst="rect">
              <a:avLst/>
            </a:prstGeom>
            <a:solidFill>
              <a:srgbClr val="90d4f6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pic>
          <p:nvPicPr>
            <p:cNvPr id="281" name="Picture 22" descr=""/>
            <p:cNvPicPr/>
            <p:nvPr/>
          </p:nvPicPr>
          <p:blipFill>
            <a:blip r:embed="rId2"/>
            <a:stretch/>
          </p:blipFill>
          <p:spPr>
            <a:xfrm>
              <a:off x="755280" y="1384200"/>
              <a:ext cx="2160360" cy="1516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Group 23"/>
          <p:cNvGrpSpPr/>
          <p:nvPr/>
        </p:nvGrpSpPr>
        <p:grpSpPr>
          <a:xfrm>
            <a:off x="522360" y="3236760"/>
            <a:ext cx="2609640" cy="2210040"/>
            <a:chOff x="522360" y="3236760"/>
            <a:chExt cx="2609640" cy="2210040"/>
          </a:xfrm>
        </p:grpSpPr>
        <p:sp>
          <p:nvSpPr>
            <p:cNvPr id="283" name="Rectangle 24"/>
            <p:cNvSpPr/>
            <p:nvPr/>
          </p:nvSpPr>
          <p:spPr>
            <a:xfrm>
              <a:off x="522360" y="3236760"/>
              <a:ext cx="2609640" cy="2210040"/>
            </a:xfrm>
            <a:prstGeom prst="rect">
              <a:avLst/>
            </a:prstGeom>
            <a:solidFill>
              <a:srgbClr val="00a5d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pic>
          <p:nvPicPr>
            <p:cNvPr id="284" name="Picture 25" descr="&lt;i&gt;Campbell's Soup Can&lt;/i&gt; A. Warhol"/>
            <p:cNvPicPr/>
            <p:nvPr/>
          </p:nvPicPr>
          <p:blipFill>
            <a:blip r:embed="rId3"/>
            <a:stretch/>
          </p:blipFill>
          <p:spPr>
            <a:xfrm>
              <a:off x="1177560" y="3452760"/>
              <a:ext cx="1161720" cy="187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Rectangle 26"/>
          <p:cNvSpPr/>
          <p:nvPr/>
        </p:nvSpPr>
        <p:spPr>
          <a:xfrm>
            <a:off x="595440" y="5788080"/>
            <a:ext cx="71276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1c86"/>
                </a:solidFill>
                <a:latin typeface="Verdana"/>
                <a:ea typeface="Arial"/>
              </a:rPr>
              <a:t>Metadata: </a:t>
            </a:r>
            <a:r>
              <a:rPr b="0" lang="en-US" sz="1600" spc="-1" strike="noStrike">
                <a:solidFill>
                  <a:srgbClr val="2d1c86"/>
                </a:solidFill>
                <a:latin typeface="Verdana"/>
                <a:ea typeface="Arial"/>
              </a:rPr>
              <a:t>informatie over leerobjecten (bijvoorbeeld titel, soort leermateriaal, onderwijsniveau, bestandsformaat enz.).</a:t>
            </a:r>
            <a:endParaRPr b="0" lang="en-US" sz="16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86" name="Tijdelijke aanduiding voor dianummer 27"/>
          <p:cNvSpPr/>
          <p:nvPr/>
        </p:nvSpPr>
        <p:spPr>
          <a:xfrm>
            <a:off x="7885080" y="6356520"/>
            <a:ext cx="801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F9CE4-70F6-446B-8A59-9AD56CD088E5}" type="slidenum">
              <a:rPr b="0" lang="en-US" sz="1200" spc="-1" strike="noStrike">
                <a:solidFill>
                  <a:srgbClr val="8a89a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6922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lf een arrangement ma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Alle stappen zijn terug te vinden op 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arrangeren.wikiwijs.nl/25111#sub639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601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Zie voor de snelgids maken met Wikiwijs onderstaande link: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 http://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redactie.kennisnet.nl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/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attachments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/2239362/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snelstart-maken</a:t>
            </a:r>
            <a:r>
              <a:rPr b="0" lang="nl-NL" sz="24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_1.0.pdf</a:t>
            </a:r>
            <a:r>
              <a:rPr b="0" lang="nl-NL" sz="24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9" name="Tijdelijke aanduiding voor voettekst 3"/>
          <p:cNvSpPr/>
          <p:nvPr/>
        </p:nvSpPr>
        <p:spPr>
          <a:xfrm>
            <a:off x="1908000" y="6356520"/>
            <a:ext cx="525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15560" y="189000"/>
            <a:ext cx="787716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 Oefenen in Wikiwij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826920" y="1708200"/>
            <a:ext cx="8099640" cy="28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Oefen met de arrangeertool in Wikiwijs door de opdrachten uit de PowerPoint te maken.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4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042920" y="62064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2  Zelf arrange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4"/>
          <p:cNvSpPr/>
          <p:nvPr/>
        </p:nvSpPr>
        <p:spPr>
          <a:xfrm>
            <a:off x="826920" y="171612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aak van de meegenomen les een digitaal arrangement.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9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Leerarrangementen maken in de arrangeertool van Wikiwij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Oefen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Arranger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kstvak 1"/>
          <p:cNvSpPr/>
          <p:nvPr/>
        </p:nvSpPr>
        <p:spPr>
          <a:xfrm>
            <a:off x="324000" y="112536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Calibri"/>
                <a:ea typeface="Arial"/>
              </a:rPr>
              <a:t> </a:t>
            </a:r>
            <a:r>
              <a:rPr b="0" lang="en-US" sz="2400" spc="-1" strike="noStrike">
                <a:solidFill>
                  <a:srgbClr val="292929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03" name="Tijdelijke aanduiding voor inhoud 5" descr="ww_blok_kleurgrijs_rgb.jpg"/>
          <p:cNvPicPr/>
          <p:nvPr/>
        </p:nvPicPr>
        <p:blipFill>
          <a:blip r:embed="rId1"/>
          <a:stretch/>
        </p:blipFill>
        <p:spPr>
          <a:xfrm>
            <a:off x="1403280" y="1557360"/>
            <a:ext cx="5329440" cy="3995640"/>
          </a:xfrm>
          <a:prstGeom prst="rect">
            <a:avLst/>
          </a:prstGeom>
          <a:ln w="0">
            <a:noFill/>
          </a:ln>
        </p:spPr>
      </p:pic>
      <p:pic>
        <p:nvPicPr>
          <p:cNvPr id="204" name="Afbeelding 1" descr=""/>
          <p:cNvPicPr/>
          <p:nvPr/>
        </p:nvPicPr>
        <p:blipFill>
          <a:blip r:embed="rId2"/>
          <a:stretch/>
        </p:blipFill>
        <p:spPr>
          <a:xfrm>
            <a:off x="324000" y="5950080"/>
            <a:ext cx="3816360" cy="6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817272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at is het doel van Wikiwij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ep 6"/>
          <p:cNvGrpSpPr/>
          <p:nvPr/>
        </p:nvGrpSpPr>
        <p:grpSpPr>
          <a:xfrm>
            <a:off x="390600" y="2050920"/>
            <a:ext cx="4443480" cy="3348360"/>
            <a:chOff x="390600" y="2050920"/>
            <a:chExt cx="4443480" cy="3348360"/>
          </a:xfrm>
        </p:grpSpPr>
        <p:pic>
          <p:nvPicPr>
            <p:cNvPr id="207" name="Picture 2" descr="http://farm3.static.flickr.com/2359/2152048926_d60b8ea093_z.jpg?zz=1"/>
            <p:cNvPicPr/>
            <p:nvPr/>
          </p:nvPicPr>
          <p:blipFill>
            <a:blip r:embed="rId1"/>
            <a:stretch/>
          </p:blipFill>
          <p:spPr>
            <a:xfrm>
              <a:off x="390600" y="2050920"/>
              <a:ext cx="4443480" cy="32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Rechthoek 5"/>
            <p:cNvSpPr/>
            <p:nvPr/>
          </p:nvSpPr>
          <p:spPr>
            <a:xfrm>
              <a:off x="392400" y="5229360"/>
              <a:ext cx="1282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500" spc="-1" strike="noStrike">
                  <a:solidFill>
                    <a:srgbClr val="292929"/>
                  </a:solidFill>
                  <a:latin typeface="Calibri"/>
                  <a:ea typeface="Arial"/>
                </a:rPr>
                <a:t>http://www.flickr.com/photos/bostworld/</a:t>
              </a:r>
              <a:endParaRPr b="0" lang="en-US" sz="5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09" name="Rechthoek 7"/>
          <p:cNvGrpSpPr/>
          <p:nvPr/>
        </p:nvGrpSpPr>
        <p:grpSpPr>
          <a:xfrm>
            <a:off x="4243320" y="4968720"/>
            <a:ext cx="4522680" cy="925560"/>
            <a:chOff x="4243320" y="4968720"/>
            <a:chExt cx="4522680" cy="925560"/>
          </a:xfrm>
        </p:grpSpPr>
        <p:pic>
          <p:nvPicPr>
            <p:cNvPr id="210" name="Rechthoek 7" descr=""/>
            <p:cNvPicPr/>
            <p:nvPr/>
          </p:nvPicPr>
          <p:blipFill>
            <a:blip r:embed="rId2"/>
            <a:stretch/>
          </p:blipFill>
          <p:spPr>
            <a:xfrm>
              <a:off x="4243320" y="4968720"/>
              <a:ext cx="45226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4284720" y="5013360"/>
              <a:ext cx="43909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Versterk  &amp; benut de positie van docent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12" name="Rechthoek 8"/>
          <p:cNvGrpSpPr/>
          <p:nvPr/>
        </p:nvGrpSpPr>
        <p:grpSpPr>
          <a:xfrm>
            <a:off x="4243320" y="3097080"/>
            <a:ext cx="4522680" cy="925560"/>
            <a:chOff x="4243320" y="3097080"/>
            <a:chExt cx="4522680" cy="925560"/>
          </a:xfrm>
        </p:grpSpPr>
        <p:pic>
          <p:nvPicPr>
            <p:cNvPr id="213" name="Rechthoek 8" descr=""/>
            <p:cNvPicPr/>
            <p:nvPr/>
          </p:nvPicPr>
          <p:blipFill>
            <a:blip r:embed="rId3"/>
            <a:stretch/>
          </p:blipFill>
          <p:spPr>
            <a:xfrm>
              <a:off x="4243320" y="3097080"/>
              <a:ext cx="452268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4284720" y="3141720"/>
              <a:ext cx="439092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Stimuleer ontwikkeling en gebruik van open, digitale leermiddel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15" name="Rechthoek 9"/>
          <p:cNvGrpSpPr/>
          <p:nvPr/>
        </p:nvGrpSpPr>
        <p:grpSpPr>
          <a:xfrm>
            <a:off x="4243320" y="3943440"/>
            <a:ext cx="4522680" cy="1030320"/>
            <a:chOff x="4243320" y="3943440"/>
            <a:chExt cx="4522680" cy="1030320"/>
          </a:xfrm>
        </p:grpSpPr>
        <p:pic>
          <p:nvPicPr>
            <p:cNvPr id="216" name="Rechthoek 9" descr=""/>
            <p:cNvPicPr/>
            <p:nvPr/>
          </p:nvPicPr>
          <p:blipFill>
            <a:blip r:embed="rId4"/>
            <a:stretch/>
          </p:blipFill>
          <p:spPr>
            <a:xfrm>
              <a:off x="4243320" y="3943440"/>
              <a:ext cx="452268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284720" y="4076640"/>
              <a:ext cx="43909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Verhoog de kwaliteit van het onderwijs door flexibeler en up-to-date leermiddel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ep 15"/>
          <p:cNvGrpSpPr/>
          <p:nvPr/>
        </p:nvGrpSpPr>
        <p:grpSpPr>
          <a:xfrm>
            <a:off x="2987640" y="1260360"/>
            <a:ext cx="3247920" cy="5125680"/>
            <a:chOff x="2987640" y="1260360"/>
            <a:chExt cx="3247920" cy="5125680"/>
          </a:xfrm>
        </p:grpSpPr>
        <p:pic>
          <p:nvPicPr>
            <p:cNvPr id="219" name="Picture 3" descr="http://farm5.static.flickr.com/4062/4688281070_5360d12e12_b.jpg"/>
            <p:cNvPicPr/>
            <p:nvPr/>
          </p:nvPicPr>
          <p:blipFill>
            <a:blip r:embed="rId1"/>
            <a:stretch/>
          </p:blipFill>
          <p:spPr>
            <a:xfrm>
              <a:off x="2987640" y="1260360"/>
              <a:ext cx="3247920" cy="49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hthoek 14"/>
            <p:cNvSpPr/>
            <p:nvPr/>
          </p:nvSpPr>
          <p:spPr>
            <a:xfrm>
              <a:off x="3434400" y="6139800"/>
              <a:ext cx="27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292929"/>
                  </a:solidFill>
                  <a:latin typeface="Calibri"/>
                  <a:ea typeface="Arial"/>
                </a:rPr>
                <a:t>http://www.flickr.com/photos/neufneufneuf/</a:t>
              </a:r>
              <a:endParaRPr b="0" lang="en-US" sz="10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 kun je er als docent me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Ovaal 4"/>
          <p:cNvGrpSpPr/>
          <p:nvPr/>
        </p:nvGrpSpPr>
        <p:grpSpPr>
          <a:xfrm>
            <a:off x="768240" y="1450800"/>
            <a:ext cx="2779920" cy="901800"/>
            <a:chOff x="768240" y="1450800"/>
            <a:chExt cx="2779920" cy="901800"/>
          </a:xfrm>
        </p:grpSpPr>
        <p:pic>
          <p:nvPicPr>
            <p:cNvPr id="223" name="Ovaal 4" descr=""/>
            <p:cNvPicPr/>
            <p:nvPr/>
          </p:nvPicPr>
          <p:blipFill>
            <a:blip r:embed="rId2"/>
            <a:stretch/>
          </p:blipFill>
          <p:spPr>
            <a:xfrm>
              <a:off x="768240" y="1450800"/>
              <a:ext cx="27799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217520" y="1600200"/>
              <a:ext cx="188460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Zoeken &amp; Vind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25" name="Ovaal 5"/>
          <p:cNvGrpSpPr/>
          <p:nvPr/>
        </p:nvGrpSpPr>
        <p:grpSpPr>
          <a:xfrm>
            <a:off x="115920" y="2670120"/>
            <a:ext cx="2786040" cy="901800"/>
            <a:chOff x="115920" y="2670120"/>
            <a:chExt cx="2786040" cy="901800"/>
          </a:xfrm>
        </p:grpSpPr>
        <p:pic>
          <p:nvPicPr>
            <p:cNvPr id="226" name="Ovaal 5" descr=""/>
            <p:cNvPicPr/>
            <p:nvPr/>
          </p:nvPicPr>
          <p:blipFill>
            <a:blip r:embed="rId3"/>
            <a:stretch/>
          </p:blipFill>
          <p:spPr>
            <a:xfrm>
              <a:off x="115920" y="2670120"/>
              <a:ext cx="278604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569880" y="2824200"/>
              <a:ext cx="1884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ak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28" name="Ovaal 7"/>
          <p:cNvGrpSpPr/>
          <p:nvPr/>
        </p:nvGrpSpPr>
        <p:grpSpPr>
          <a:xfrm>
            <a:off x="334800" y="3754440"/>
            <a:ext cx="2779920" cy="896760"/>
            <a:chOff x="334800" y="3754440"/>
            <a:chExt cx="2779920" cy="896760"/>
          </a:xfrm>
        </p:grpSpPr>
        <p:pic>
          <p:nvPicPr>
            <p:cNvPr id="229" name="Ovaal 7" descr=""/>
            <p:cNvPicPr/>
            <p:nvPr/>
          </p:nvPicPr>
          <p:blipFill>
            <a:blip r:embed="rId4"/>
            <a:stretch/>
          </p:blipFill>
          <p:spPr>
            <a:xfrm>
              <a:off x="334800" y="3754440"/>
              <a:ext cx="2779920" cy="89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85880" y="3905280"/>
              <a:ext cx="1884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Del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31" name="Ovaal 8"/>
          <p:cNvGrpSpPr/>
          <p:nvPr/>
        </p:nvGrpSpPr>
        <p:grpSpPr>
          <a:xfrm>
            <a:off x="1341360" y="4973760"/>
            <a:ext cx="2779920" cy="903240"/>
            <a:chOff x="1341360" y="4973760"/>
            <a:chExt cx="2779920" cy="903240"/>
          </a:xfrm>
        </p:grpSpPr>
        <p:pic>
          <p:nvPicPr>
            <p:cNvPr id="232" name="Ovaal 8" descr=""/>
            <p:cNvPicPr/>
            <p:nvPr/>
          </p:nvPicPr>
          <p:blipFill>
            <a:blip r:embed="rId5"/>
            <a:stretch/>
          </p:blipFill>
          <p:spPr>
            <a:xfrm>
              <a:off x="1341360" y="4973760"/>
              <a:ext cx="27799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1793880" y="5129280"/>
              <a:ext cx="18842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Review, rating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34" name="Ovaal 9"/>
          <p:cNvGrpSpPr/>
          <p:nvPr/>
        </p:nvGrpSpPr>
        <p:grpSpPr>
          <a:xfrm>
            <a:off x="5084640" y="1378080"/>
            <a:ext cx="2784600" cy="901440"/>
            <a:chOff x="5084640" y="1378080"/>
            <a:chExt cx="2784600" cy="901440"/>
          </a:xfrm>
        </p:grpSpPr>
        <p:pic>
          <p:nvPicPr>
            <p:cNvPr id="235" name="Ovaal 9" descr=""/>
            <p:cNvPicPr/>
            <p:nvPr/>
          </p:nvPicPr>
          <p:blipFill>
            <a:blip r:embed="rId6"/>
            <a:stretch/>
          </p:blipFill>
          <p:spPr>
            <a:xfrm>
              <a:off x="5084640" y="1378080"/>
              <a:ext cx="278460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538960" y="1528920"/>
              <a:ext cx="1882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 Wikiwijs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37" name="Ovaal 10"/>
          <p:cNvGrpSpPr/>
          <p:nvPr/>
        </p:nvGrpSpPr>
        <p:grpSpPr>
          <a:xfrm>
            <a:off x="6168960" y="2382840"/>
            <a:ext cx="2779920" cy="903240"/>
            <a:chOff x="6168960" y="2382840"/>
            <a:chExt cx="2779920" cy="903240"/>
          </a:xfrm>
        </p:grpSpPr>
        <p:pic>
          <p:nvPicPr>
            <p:cNvPr id="238" name="Ovaal 10" descr=""/>
            <p:cNvPicPr/>
            <p:nvPr/>
          </p:nvPicPr>
          <p:blipFill>
            <a:blip r:embed="rId7"/>
            <a:stretch/>
          </p:blipFill>
          <p:spPr>
            <a:xfrm>
              <a:off x="6168960" y="2382840"/>
              <a:ext cx="27799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618240" y="2536920"/>
              <a:ext cx="18842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 Favorieten</a:t>
              </a:r>
              <a:endParaRPr b="0" lang="en-US" sz="18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40" name="Ovaal 11"/>
          <p:cNvGrpSpPr/>
          <p:nvPr/>
        </p:nvGrpSpPr>
        <p:grpSpPr>
          <a:xfrm>
            <a:off x="6308640" y="3608280"/>
            <a:ext cx="2779920" cy="903240"/>
            <a:chOff x="6308640" y="3608280"/>
            <a:chExt cx="2779920" cy="903240"/>
          </a:xfrm>
        </p:grpSpPr>
        <p:pic>
          <p:nvPicPr>
            <p:cNvPr id="241" name="Ovaal 11" descr=""/>
            <p:cNvPicPr/>
            <p:nvPr/>
          </p:nvPicPr>
          <p:blipFill>
            <a:blip r:embed="rId8"/>
            <a:stretch/>
          </p:blipFill>
          <p:spPr>
            <a:xfrm>
              <a:off x="6308640" y="3608280"/>
              <a:ext cx="27799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6762600" y="3760920"/>
              <a:ext cx="188460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 Zoekopdrachten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grpSp>
        <p:nvGrpSpPr>
          <p:cNvPr id="243" name="Ovaal 12"/>
          <p:cNvGrpSpPr/>
          <p:nvPr/>
        </p:nvGrpSpPr>
        <p:grpSpPr>
          <a:xfrm>
            <a:off x="4797360" y="4840200"/>
            <a:ext cx="2779920" cy="938160"/>
            <a:chOff x="4797360" y="4840200"/>
            <a:chExt cx="2779920" cy="938160"/>
          </a:xfrm>
        </p:grpSpPr>
        <p:pic>
          <p:nvPicPr>
            <p:cNvPr id="244" name="Ovaal 12" descr=""/>
            <p:cNvPicPr/>
            <p:nvPr/>
          </p:nvPicPr>
          <p:blipFill>
            <a:blip r:embed="rId9"/>
            <a:stretch/>
          </p:blipFill>
          <p:spPr>
            <a:xfrm>
              <a:off x="4797360" y="4840200"/>
              <a:ext cx="277992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5249880" y="4997520"/>
              <a:ext cx="18842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Mijn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Lucida Sans Unicode"/>
                  <a:ea typeface="Arial"/>
                </a:rPr>
                <a:t>Arrangementen</a:t>
              </a:r>
              <a:endParaRPr b="0" lang="en-US" sz="16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15824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oek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ijdelijke aanduiding voor voettekst 3"/>
          <p:cNvSpPr/>
          <p:nvPr/>
        </p:nvSpPr>
        <p:spPr>
          <a:xfrm>
            <a:off x="1908000" y="6356520"/>
            <a:ext cx="525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rcRect l="21372" t="14544" r="22378" b="3190"/>
          <a:stretch/>
        </p:blipFill>
        <p:spPr>
          <a:xfrm>
            <a:off x="611280" y="765000"/>
            <a:ext cx="676908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755640" y="1810800"/>
            <a:ext cx="273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Ann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ContentCorner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avindi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lessenV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school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fenc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FreudenthalInstituut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GroenKennisnet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KlasCementklikbase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Leermiddelen_Educathee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LesbankNL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NationaalArchief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Naturalis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ntwikkelcentrumSmaaklessen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VC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RepLab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amendelen_TLL_rw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amendelen_TLL_w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amenmaken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LO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maaklessen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eleblikLessenban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eleblik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cc99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0" name="Tijdelijke aanduiding voor inhoud 2"/>
          <p:cNvSpPr/>
          <p:nvPr/>
        </p:nvSpPr>
        <p:spPr>
          <a:xfrm>
            <a:off x="3276720" y="1628640"/>
            <a:ext cx="3614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atereducati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ella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SS_European_Repository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SS_Mobile_Repository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Museumkennis_Volkenkund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Museumkennis_Oudhed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KennisLink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ntwikkelcentrumDigitop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iskunde_Open_Leermiddelenbank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chooltv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ebmaker_webques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bordOpSchoo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Opmaa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CodenameFutur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acadi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StudioVO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ikiwijs_Repository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ikiwijs_Arranger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ETV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Leside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CQ2_tempCQ2_temp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Biodesk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51" name="Tijdelijke aanduiding voor inhoud 2"/>
          <p:cNvSpPr/>
          <p:nvPr/>
        </p:nvSpPr>
        <p:spPr>
          <a:xfrm>
            <a:off x="6013440" y="1571760"/>
            <a:ext cx="331164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ana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dac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master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Digitop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Eigenwijzer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KrantIndeKla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Math4Al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Podium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Tumul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4472"/>
                </a:solidFill>
                <a:latin typeface="Lucida Sans Unicode"/>
                <a:ea typeface="Arial"/>
              </a:rPr>
              <a:t>WebKwestie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00447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50760" y="69228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ke collectie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3564000" cy="242388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254" name="Picture 4" descr="https://www.surfgroepen.nl/sites/surflorenet/backup/Lorenet_Logo_244x143.jpg"/>
          <p:cNvPicPr/>
          <p:nvPr/>
        </p:nvPicPr>
        <p:blipFill>
          <a:blip r:embed="rId2"/>
          <a:stretch/>
        </p:blipFill>
        <p:spPr>
          <a:xfrm>
            <a:off x="8308800" y="3573360"/>
            <a:ext cx="835200" cy="48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42920" y="11556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schikbaar stelle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adater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ijdelijke aanduiding voor dianummer 4"/>
          <p:cNvSpPr/>
          <p:nvPr/>
        </p:nvSpPr>
        <p:spPr>
          <a:xfrm>
            <a:off x="1908000" y="6356520"/>
            <a:ext cx="5256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9A19-5018-4022-9ADF-889D3AE9B95B}" type="slidenum">
              <a:rPr b="0" lang="en-US" sz="1200" spc="-1" strike="noStrike">
                <a:solidFill>
                  <a:srgbClr val="8a89aa"/>
                </a:solidFill>
                <a:latin typeface="Verdan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663480" y="1714680"/>
            <a:ext cx="1976400" cy="23986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3394080" y="2868480"/>
            <a:ext cx="3992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800" spc="-1" strike="noStrike">
                <a:solidFill>
                  <a:srgbClr val="13007c"/>
                </a:solidFill>
                <a:latin typeface="AdobeCorpID MyriadPkg"/>
                <a:ea typeface="Arial"/>
              </a:rPr>
              <a:t>Is het hondenvoer, verf of soep?</a:t>
            </a:r>
            <a:endParaRPr b="0" lang="en-US" sz="18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4452840" y="3740040"/>
            <a:ext cx="2629080" cy="24606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2081160" y="481824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3007c"/>
                </a:solidFill>
                <a:latin typeface="Calibri"/>
                <a:ea typeface="Arial"/>
              </a:rPr>
              <a:t>Labels plakken</a:t>
            </a:r>
            <a:endParaRPr b="0" lang="en-US" sz="1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Preferred Customer</cp:lastModifiedBy>
  <cp:lastPrinted>1999-12-08T22:23:44Z</cp:lastPrinted>
  <dcterms:modified xsi:type="dcterms:W3CDTF">2011-10-25T10:01:39Z</dcterms:modified>
  <cp:revision>154</cp:revision>
  <dc:subject/>
  <dc:title>C. van de Graaf &amp; Partners</dc:title>
</cp:coreProperties>
</file>