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7AA04-31E8-497B-AC87-82C1FEFC0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BAFB5-BA13-4240-A2E2-1F89B5EAA2C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79499-654C-44F5-9DF5-79F22C77B1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B66F2-0862-4870-99B8-A9411274AA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BC79-D8CE-41CC-90E8-8098EB501C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18AA-59DB-4538-A9A5-29A34457495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81DFD-B0EB-466E-9801-E2545B0789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D4034-C7F9-4C83-8787-742988CB4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66E2E-53F0-491F-A88F-88259088C9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B36A-1E35-4D43-B90E-B6A1261E5CE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596E4-E2F3-4F3D-BCDC-EAF034CD1DF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55B9-92FB-4D07-B0A6-D34437D3D03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BCAA-AE96-48D0-9AA1-989BF421A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BF684-1693-443B-A7B5-3582133B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B3D6FF-D554-423E-BD1A-82C9E341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6A234-FC78-4D28-B0ED-FDE74A8F2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BC5ED-F518-4880-9323-413E4FD7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BFB98D-4267-45AC-85F2-46EA2A44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0784B-FC5A-4775-869F-365291E3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2043F-5478-4059-9B31-0ED99C13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8A8E1-B296-4217-A643-FDCF4294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D6BB8A-23F7-4BF9-AEAD-17D7C5FB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52705-725E-4F75-9C24-65A31F9AB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80C0B4-5BA3-44AC-9EA1-1E42D654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833CD4-B032-4267-9AD9-B339436CB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DC9B2-F727-4D91-BBEB-CC0FCDAC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4A7DE-DC29-4D5B-94EE-138C6E0B8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84AD0-B1A0-4646-A90C-5B3E3A95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4FB569-F097-44E5-A348-75BD439B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51D90A-706C-4F56-9594-12FF4C2E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52FDC-CAE0-4492-8109-66B2EAD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087505-EA53-436B-A9EC-6F5CC879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B7DED-13DD-45F1-9A80-4CD05CD9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DE09B0-966A-4C41-AD73-85390D8C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0DF15A-B594-4D9A-9171-B361CFD0B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A8422-7734-4394-83CA-3320ED36C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626B-2DEC-455D-B362-7C3E7DF1D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9E67-B382-45D5-9D28-2D6B31E86FCA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16060-524F-4BE3-B503-2CFB1C30A098}" type="slidenum">
              <a:rPr b="0" lang="en-US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5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ecilia Roman"/>
              </a:endParaRPr>
            </a:p>
          </p:txBody>
        </p:sp>
      </p:grp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ecilia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92929"/>
                </a:solidFill>
                <a:latin typeface="Arial"/>
              </a:rPr>
              <a:t>Beoordelen leermiddelen</a:t>
            </a:r>
            <a:endParaRPr b="0" lang="en-US" sz="5400" spc="-1" strike="noStrike">
              <a:solidFill>
                <a:srgbClr val="000000"/>
              </a:solidFill>
              <a:latin typeface="Caecilia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067280" y="1700280"/>
            <a:ext cx="3311280" cy="3311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95280" y="1916280"/>
            <a:ext cx="3095640" cy="30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Leermiddelen kunnen beoordelen op kwaliteit en geschiktheid voor inzet in eigen lesse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eoordelen bestaand materiaa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Gebruik checklist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Checklist aanvul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Eigen materiaal beoordel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-50580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0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oordelen bestaand materia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digitale leermiddelen globaal en…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noem het type leermiddel,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geef je mening over de kwaliteit met onderbouwing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5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2  Checkli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eoordeel de leermiddelen op geschiktheid en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kwaliteit met de checklijst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3  Checklist aanvul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ul de checklist aan, zodat het een bruikbare checklist wordt;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mist er no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buClr>
                <a:srgbClr val="29292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kan er weg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dracht 4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igen materiaal beoordel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826920" y="1716120"/>
            <a:ext cx="7632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oordeel met de checklist een eigen gemaakt of ontworpen leermiddel.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Waar ligt de kwaliteit van jouw leermiddel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&gt; Op welke gebieden kun je je eigen leermiddel verbeteren?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40 minuten</a:t>
            </a:r>
            <a:endParaRPr b="0" lang="en-US" sz="2800" spc="-1" strike="noStrike">
              <a:solidFill>
                <a:srgbClr val="000000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Preferred Customer</cp:lastModifiedBy>
  <cp:lastPrinted>1999-12-08T22:23:44Z</cp:lastPrinted>
  <dcterms:modified xsi:type="dcterms:W3CDTF">2011-09-20T11:58:36Z</dcterms:modified>
  <cp:revision>150</cp:revision>
  <dc:subject/>
  <dc:title>C. van de Graaf &amp; Partners</dc:title>
</cp:coreProperties>
</file>