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3B746-6572-4779-A982-B3740F7DA3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BB4C-05FA-40B6-9C19-CC59BCDBE7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4052-783E-4D13-97B2-1F4A5982C3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5C14-840F-4176-B2FB-32A928AED8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8C958-A299-4309-8541-0BC419CD9EF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7EAB-07CC-471E-95FB-62DDBA86EA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63AF-6F39-41C9-8F22-83BBAA1435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FD02F-B8DD-4905-B3CF-C911BF0D16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8ECD-5969-4CDD-9C98-838F3639F6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5151F-A809-45B8-9C74-BA20F33EB7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8CF53-9338-4E7A-86C7-96338A0AC4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771CC-0D52-4D29-9210-1CD503AD44C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66F31-7893-408A-B128-FB5956D5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C0ADA-AA40-4922-BA20-FFD8F54D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7979EA-CCCE-44D6-A04C-1E6F45EB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A05715-D981-4D66-A98E-FC2512B0E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ACEA6-9C52-4489-B647-363B93C5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64582A-A7FC-4578-8405-6FA33795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539D7-CC1E-4924-8274-BFEEB8A9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6BF4D-869F-4C27-842A-8646ED60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4D21D-8411-4369-B570-E7F509CA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B2B5A-0A44-4B5B-9218-2C1A1A6F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2F27D4-081C-48E8-ADF4-36A9B5C9E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46572-F03C-426E-9E12-77E6385A1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AD2C87-0D56-46BF-81D8-A80450837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60E1A-841C-4473-99A5-E9F4B230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5382BA-DB32-4DE0-B2B9-6D4B25AE8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1B8875-C20D-46C6-AE66-1B6A1EAFC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77DB1C-E8B1-4D52-8080-A2104480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3CAD05-ECFE-40A0-B57F-6CEFB3B7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3F455-7868-4F64-A282-7905E449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B25391-25F8-41FA-836D-0E60AD98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694EA7-59BF-4F5F-A5E6-88642218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262A41-E419-42BC-968D-87E62BFC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9C900B-9FDC-452B-81B0-2FC55EA6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3C598B-ECC7-4BE4-9DFD-2A45E97C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8E02-D6AC-419E-A6B1-03ED288296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57C7-736A-4B67-BF5D-A00DEB4F02B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2DD1-F7BA-4C72-AD33-39F2CBC899EF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9120" y="555300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Mediawijsheid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810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7632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Mediawijs worden en overbrengen aan leerlingen’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916360" y="3054240"/>
            <a:ext cx="581652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Discuss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ct-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Informatievaardighed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912000" y="3762360"/>
            <a:ext cx="22320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Josien</cp:lastModifiedBy>
  <cp:lastPrinted>1999-12-08T22:23:44Z</cp:lastPrinted>
  <dcterms:modified xsi:type="dcterms:W3CDTF">2011-10-05T09:14:16Z</dcterms:modified>
  <cp:revision>141</cp:revision>
  <dc:subject/>
  <dc:title>C. van de Graaf &amp; Partners</dc:title>
</cp:coreProperties>
</file>