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22710-ACC6-4142-AA88-90347E77F8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6A62A-2113-45F0-BB72-43D9B9C4BA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A3D1A-7258-417A-A524-D70B361F6E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DBD1-0B4A-407C-9DAA-3E7F8A0A59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5380E-5841-43EE-BDA1-60FEFCE1DD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EB76-6C3D-49B2-8286-29FC634A21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2678-D3B3-4CEE-ACA9-E7302EFF88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2F3A-E59A-4C0D-9D19-93D63C0B01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C4A8-5AAF-423F-B2C5-A247185531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A0D9A-6F89-4F6F-9ABA-A637A36B68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AE17-2A11-4161-AEDF-6EA6405D28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2C4C-67D4-4F86-BAC7-C15E15D398D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700B7-24E8-452C-A377-6DAB5AC0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21909B-7EC7-4DB3-B77D-CD06FB99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34EA73-631B-46C9-9AE1-E1E12D1C4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C2180D-E845-4D4A-9784-A61FCCC94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C9C95B-7787-406F-BAE5-344C9F60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C273C-0DC3-4216-AB7F-384D3AC2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415837-85D5-4DC8-AE71-1278590C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B36DB-4C24-43BB-AED2-E84AE2A3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795FE-897B-40D3-8E07-0BB0CE44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C09650-8561-4649-AEB2-71A8B363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B4985B-A2F1-4493-9106-A8C540E54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C136F-1FCE-43E1-8D83-25DCB16C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6A787A-22B7-4A6A-A2B7-9926C0C7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A669F0-CB0B-42B3-8CB6-3717F84E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A97723-90FC-4DF9-811C-A667DA6F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7493D7-1CF5-4BC0-BED4-0E8218F07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366D67-C5ED-4AB0-9FBC-84ED6CC5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089F31-103F-437B-9781-FB7FCDB3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E775C5-8818-4910-80BE-2E7EFC4DE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28C404-4790-4EC2-B6D5-021C73F5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D9E118-FFAC-4158-B4EC-65834A71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8708E5-4A6F-4EEE-A688-9174E22E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3FC588-9533-4725-BD91-5B93DAE2E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1E0558-3717-4DE3-831B-A3E95B361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ECC92-13D6-45FC-8C82-8C965DD95CD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C2A88-D4F5-44E7-ACED-6A8E96DD9081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4FFA-27C4-4BDE-8AFD-756FBD395108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Leermiddelenbel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515952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zicht krijgen in de rol van ict in het leermiddelenbeleid van de school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60344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Rol van ict in het leermiddelenbel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sscenario´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lesplann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084720" y="3789360"/>
            <a:ext cx="2392560" cy="23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07T11:56:50Z</dcterms:modified>
  <cp:revision>143</cp:revision>
  <dc:subject/>
  <dc:title>C. van de Graaf &amp; Partners</dc:title>
</cp:coreProperties>
</file>