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2066-4E97-4E35-8EA2-24D6592BE3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126F5-3646-4871-883C-83F139E55D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5D9D0-76C8-43FF-8359-B7ED1B57CF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0A99-FD3D-494B-B81A-D261F4B8F4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C907-B4AA-48F0-9EDE-E8E1949FEF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15AF-59F7-4F0D-8D2F-E6071D0F62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F9B2D-6D64-42E4-A4D5-9019D5177C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8CFC-A18E-4191-A8E8-501325FB3F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2427-3E6E-41C7-8340-A2C45EAB2C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5E0C-20B8-40E3-A77E-EAA417770B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6F59C-3AE7-4512-8BCE-5E3FE5061D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A613F-3385-4218-AEDD-FE57B4A216C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C8345-6C42-47F8-A8F8-FC5EC523E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33CF0F-BA27-499E-B85E-4321A90C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FAEDA5-1536-4718-BE53-6CCCA1E7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73014-EBA2-46A3-9006-EEAF7054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1383D4-C766-4D0D-89A2-53604CCB6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224FA-871B-4EB5-AC61-CACF9985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52B9C5-836A-481C-947F-9AC7E15A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E0C2A-B0E1-4164-99B5-556CC7B4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08C9F-828A-421C-93F1-F4CAF2B7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983CD3-B2DE-48A2-BA2B-DCF2705E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802F-8C3C-499C-A5C7-B3963291D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C4977-6ED0-419D-9392-D2A2521F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356BD8-3FCC-4E07-8F28-347CDBB5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3D120B-9820-4987-99E3-64067CB6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F51E3-3B93-48CF-A0A2-AFB6E595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C671BB-9654-477A-A8F6-52CE5650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4E832-0D45-4182-A0E2-A36E91B9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47D8CB-45ED-4F8A-BCCF-6839BAA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C695CD-5684-48FB-A8D8-13010B9D0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5F30A7-2CA6-4E0C-B047-B85E56C3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C7BCE-3AC9-49CD-AACF-BD5BDC6D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3BCB4C-E7FA-4DB3-BB40-CBB029C2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C2028F-4A29-465F-8FEB-C1DA6AFEC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438E8E-4FD1-4C54-B257-EC330298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2D8C-C9FE-404F-9958-C122A213EEE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5D55-85B2-454A-8258-3A1219B217DF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ECDD-C299-4D76-92FF-4ADEF20C34E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Didactische WEB 2.0 toepassing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9" descr="web20"/>
          <p:cNvPicPr/>
          <p:nvPr/>
        </p:nvPicPr>
        <p:blipFill>
          <a:blip r:embed="rId1"/>
          <a:stretch/>
        </p:blipFill>
        <p:spPr>
          <a:xfrm>
            <a:off x="2666880" y="1547640"/>
            <a:ext cx="381024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toepassingen maken met WEB 2.0 programma’s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 eerst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met WEB 2.0 programma’s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2:11:18Z</dcterms:modified>
  <cp:revision>140</cp:revision>
  <dc:subject/>
  <dc:title>C. van de Graaf &amp; Partners</dc:title>
</cp:coreProperties>
</file>