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2E0B7-7122-42E4-83BF-4DBE487694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B7DA9-D204-478E-9C65-1FBA33235D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2555D-EA34-4101-81D7-ADD9E3D2D4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EE24-3DE0-4970-B54A-0D1149D0BD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DE857-FABA-4BA8-9DFF-BE7DE26FBF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F52E-88DA-416A-AF31-104284F8DC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0F675-7D92-4632-BBF8-776418CCC0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60F82-6649-4DCC-AAB0-2143D42381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56D8-11C3-40E2-96CB-64F00AB801C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629A-1479-4851-9E41-7E2882B4D4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B375D-7CF1-4A25-86BB-AFB3E7A633F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259B1-D189-41A6-BB17-56E30E4DDD5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E994-F98A-4F9C-81F3-4B389F4C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6865FF-835D-4FDD-8813-5E368606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0ED98-5EF6-4DAF-A15B-8D212F5B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85F67-DF4F-4C11-8F4F-663C21CF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DEEC5-662B-485C-A0E0-B3EDF79A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F46A9-FBA5-4CB9-92DC-9508DAA2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1B911-583C-4C50-A9E4-39CC9338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811DD-0D66-4636-80F2-A0E707E0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B825E-6745-45E1-8688-7639843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0F8A4-6080-4426-AD10-2F146310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AE23A-D065-4B54-958C-A672E6F40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99B6E1-8E1A-4F36-BCE9-AC5AC00A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56045B-C549-43BA-BE54-BDC8D029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9E194-42D0-49D6-9A44-D55840E9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D1B6E3-A153-4E99-9252-D4C49AC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4069FD-7EFC-412F-B9F7-1F4F5307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E03709-FD49-4901-9815-E4338C8C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05A6A5-5FED-4130-8712-8B61D46E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F6312-653C-43C9-84DB-7E9AFB92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13EC9A-93FC-46B9-AF9D-5163EEB6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5512EA-902F-406C-810E-F2587CD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2328E5-8C8D-4FCE-BD45-156AE64C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280BC-CEB1-4916-91FD-534D63825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86EBCA-C114-439F-91AE-9D7397593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CC23-FC9C-4C22-A050-ACFFE1952E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22A3-320F-4633-B4A4-186F2A0A83D7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973-3ADD-4B12-9A59-95EEB6A4D8D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40160" y="1197000"/>
            <a:ext cx="5668920" cy="4251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4457880" cy="2971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Inleiding laptopdidactiek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Kennismaken met de drie pijlers van de laptopdidactiek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3311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dracht 1: stelling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houd: drie pijlers, Tpackmod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st practic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-420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20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08720" y="4653000"/>
            <a:ext cx="255276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dracht 1 Stellin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205000"/>
            <a:ext cx="8675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Reageer op de stelling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Op ieder scherm staat een andere stelling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egin iedere reactie met je initialen.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3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691920"/>
            <a:ext cx="692316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jle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000" y="2797200"/>
            <a:ext cx="72723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Maak afspraken en stel regels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Integreer ict in de werkvormen (T-Pack)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901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92929"/>
                </a:solidFill>
                <a:latin typeface="Arial"/>
              </a:rPr>
              <a:t>Bij eigen laptop: zet laptop veel en effectief in.</a:t>
            </a: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448000" cy="18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31680" y="549000"/>
            <a:ext cx="7157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T-PACK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560" y="2708280"/>
            <a:ext cx="4249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Didact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Vakinhoudelijk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24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Technologische kennis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572000" y="1628640"/>
            <a:ext cx="420696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4284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Eigen best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5280" y="220500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292929"/>
                </a:solidFill>
                <a:latin typeface="Calibri"/>
              </a:rPr>
              <a:t>Een voorbeeld</a:t>
            </a:r>
            <a:endParaRPr b="0" lang="en-US" sz="36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4211640" y="400536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09-14T14:38:46Z</dcterms:modified>
  <cp:revision>139</cp:revision>
  <dc:subject/>
  <dc:title>C. van de Graaf &amp; Partners</dc:title>
</cp:coreProperties>
</file>