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9EBB-4276-43C3-9280-A4E853766F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A14B-F855-4E7A-8770-C4CACCB378D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6D4A6-3A65-4BD6-A951-F61936E0AF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A4C9-1068-403C-9FFD-92936B584D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7E01F-9DE4-4F08-9046-ADB8C5CAB7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FFC4-EC0D-4FAF-9132-B98233864C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39CE-3D07-41A5-BA02-A1B9007EFE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1E770-8AA1-4711-9AAD-4987611C0F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28722-2C14-447F-9B2C-63C5725E57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B5AF1-57B1-4142-A758-6D0379DE54B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EB88-C1F6-4010-99EE-AE030ABEE9B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8B81-C6B2-44D4-B832-F9B1CEAA41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B2C22-4212-4281-B11B-6A1A798CC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1D61D-8665-4AD4-B7F0-E96F4357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5CAC9E-0048-46EF-B33F-EA6242187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B3C5A7-7BE3-480C-86DE-1D88F5495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61B411-EAAB-4B17-A0C8-BA0072AF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35879A-3EE4-4E23-96AF-62E8CF39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608F0-944E-4DD4-87BB-65A03179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C19103-D81F-47E2-8A13-28A2311C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6AC64-9D8E-4097-8431-81EAE59E5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7221F8-40BF-4925-A300-30671822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78729-963C-4DA5-83D2-F391BFA7E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B1974-642E-44D8-AA39-96E58D34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CDA0CC-3317-4280-BE3F-B25957468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F0454B-D24A-4029-980E-720B93A8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C4FFD0-2CB9-48E7-A333-F73A254B1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4AB56D-78C4-48BB-B49D-98AE5332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0F5235-12EF-438C-BC67-66A2F52A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52D0FF-88E6-4660-9E27-6C71355C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BC42C1-2D33-4513-AE59-10742933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84DEAA-345B-45E0-817E-814BAA84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24DB3B-CBE1-427D-A2C6-D6B35AE6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25BB40-5E22-455F-BC30-DCF31883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71E8F4-B419-4CD9-A0AC-34198F257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D9453-88B3-4D3E-8F88-B5220865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216B-AAD8-4077-9BA7-86731D6F42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D7A5-6D93-4019-B35F-CF65903DE07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C628-95FF-43FE-A980-ABE2F3AF6D74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Effectieve inzet laptop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22" descr="gezamelijkevisie"/>
          <p:cNvPicPr/>
          <p:nvPr/>
        </p:nvPicPr>
        <p:blipFill>
          <a:blip r:embed="rId1"/>
          <a:stretch/>
        </p:blipFill>
        <p:spPr>
          <a:xfrm>
            <a:off x="3381480" y="2286000"/>
            <a:ext cx="2381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at is er nodig om laptop effectief in te kunnen zetten in de kla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rainstorm over mogelijke inz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Persoonsbeschrijvingen bespre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ctieplan’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5560" y="26496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bruiksmogelijkh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Voor welk soort gebruik kun je ict of laptops inzett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Noteer concrete toepassingen voor de verschillende gebruiksmogelijkheden.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  Wie ben jij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kijk de verschillende persoonbeschrijvingen. Welke persoon zou je, qua ict-gebruik, graag willen zij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15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3  Actie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heb je nodig om in de toekomst ict goed in te kunnen zett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5-16T11:41:37Z</dcterms:modified>
  <cp:revision>143</cp:revision>
  <dc:subject/>
  <dc:title>C. van de Graaf &amp; Partners</dc:title>
</cp:coreProperties>
</file>