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16886-4F30-4438-824B-2AD9D61B8F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2C540-B27A-4F06-A984-359FAF5A97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4792F-666C-4ACA-A99A-026154B0FD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CE065-14ED-4B2B-89E0-3B05F14A19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14E35-D958-445A-A4CC-484359D5E8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7E7E9-9A52-408E-8391-F0A3E84276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4B0DF-765D-4C73-9689-3726B520D2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70C4D-6E04-4F82-8D88-F2578F55EE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D71D3-5BDD-4AAB-BF24-86FC1AC137D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1BFF2-7A15-4C62-9C5C-42B6BB6E5A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7845C-F340-4C28-AAB4-DE861AB090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7C8B4-52CE-4394-8576-9DD2715EB39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2EF7E-289B-4C9C-942D-FEACEBC91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AB3C5-68CE-47C0-86FF-80F892BF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8AC84-A648-42E0-A098-DA4BB2D5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94D01D-60D6-4DB9-82AB-622204CA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5ADE3-8FF4-429F-9E5B-62019BCB9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4F420-3446-4D44-9EF5-66DC6B89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8249B-CF94-4902-BCF0-D6E9DF1B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D53B7C-C01C-48D0-ACD5-F3539057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27210C-BACF-44E7-9BAC-8E4DF524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8858A7-7528-4AC0-ACA8-69A520F7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BA4F0-4509-43DF-955E-D2E5E3EF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B2C9B-872C-4FC5-80BF-241C94FD8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DFD2F6-52B1-472F-B24C-99B4E6CB7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D44D91-EF85-40B2-8AF5-8B5E3997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14D8B6-E713-4876-8AD0-D298B113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4B56AF-BE88-4763-A9BE-F86B41F1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342F63-E85C-4689-8D39-8BFC16C0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252661-1E09-47AD-84BA-6325EEA82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30EE2E-30F9-4031-9BB8-2B6C3DD5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DB5225-D6AD-4908-B75A-2EE29A29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7CFCE3-33BC-4B3A-BEFB-5CF2D1D9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0EAD21-803D-4342-9A2F-309227C4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B26DAA-F248-461E-9C8C-EF0261FE7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65D104-6976-41AD-BBBF-26324354B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0227-BD50-48CE-9169-133E3741288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D894-673C-41B0-B26D-D25F42CC4C08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4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2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8725-58B9-423E-91FE-063A4511FE18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611280" y="5425920"/>
            <a:ext cx="78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292929"/>
                </a:solidFill>
                <a:latin typeface="Arial"/>
              </a:rPr>
              <a:t>Didactiek laptops in de klas</a:t>
            </a:r>
            <a:endParaRPr b="0" lang="en-US" sz="44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schooljaar 2011</a:t>
            </a: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191" name="Picture 8" descr="laptop-in-de-klas"/>
          <p:cNvPicPr/>
          <p:nvPr/>
        </p:nvPicPr>
        <p:blipFill>
          <a:blip r:embed="rId1"/>
          <a:stretch/>
        </p:blipFill>
        <p:spPr>
          <a:xfrm>
            <a:off x="3708360" y="1700280"/>
            <a:ext cx="4680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praken en regels maken wat betreft laptopgebruik in de klas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480" y="237960"/>
            <a:ext cx="6869160" cy="117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9280" y="198108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402120" indent="-40212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Introducti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-40212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Inventarisatie: wat gaat goed en wat gaat minder goed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-40212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Uitwisselen ervaring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-40212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Casebespreking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-40212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Concrete afsprakenlijst samenstell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-40212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15788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1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Wat gaat goed, wat kan be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468360" y="2205000"/>
            <a:ext cx="867564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chrijf op de geeltjes in Edistorm: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3 dingen die goed gaa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3 dingen die minder goed gaan e/o beter kunn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Zo concreet mogelijk!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199" name="Picture 6" descr="Edistorm"/>
          <p:cNvPicPr/>
          <p:nvPr/>
        </p:nvPicPr>
        <p:blipFill>
          <a:blip r:embed="rId1"/>
          <a:stretch/>
        </p:blipFill>
        <p:spPr>
          <a:xfrm>
            <a:off x="3851280" y="5543640"/>
            <a:ext cx="19051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61560" y="33300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2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Inzet van laptops/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727236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250920" y="1716120"/>
            <a:ext cx="8675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Maak afspraken en stel regels……’ (pijler 1)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- Bekijk de cases 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denk eerst in duo’s: hoe zouden jullie dit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oplossen?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Plenaire bespreking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Tijd: 30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61560" y="33300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Opdracht 3 Top vij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7272360" cy="40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250920" y="1716120"/>
            <a:ext cx="867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Maak afspraken en stel regels……’ (pijler 1)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Stel een top 5 samen van de beste oplossingen, die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ruikbaar zijn in je eigen onderwijssituatie.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292929"/>
                </a:solidFill>
                <a:latin typeface="Arial"/>
              </a:rPr>
              <a:t>Tijd: 15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Sandra Valk</cp:lastModifiedBy>
  <cp:lastPrinted>1999-12-08T22:23:44Z</cp:lastPrinted>
  <dcterms:modified xsi:type="dcterms:W3CDTF">2012-02-29T14:44:43Z</dcterms:modified>
  <cp:revision>142</cp:revision>
  <dc:subject/>
  <dc:title>C. van de Graaf &amp; Partners</dc:title>
</cp:coreProperties>
</file>