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2832A-B7D0-4E56-9520-4BEBA1ABABA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CBB23-9F39-47A2-9F2F-9E61B7D545D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EA53C-8270-40B5-B589-356058EB418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19483-3DF1-4538-A41D-5FAB3CA398B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06B20-EAA2-4A48-AF40-9052B699C56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45928-B6BC-4DF0-9FFF-5C3993F4EB9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A62C4-338E-4C0B-A176-34D8DB0FD33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85D68-4D28-4524-9177-FC905BD1846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3814E-8DF4-46EE-B074-E303B2CF2B6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D3879-00B8-4529-9A7F-50521A11058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9D24C-C345-46C5-B497-210CFCDB8F3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CB759-1929-4A59-A08B-2B6FA5EC077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02EC59-2147-49A1-B882-333745C28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323C1D-2707-4835-AB80-1ED6A0534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3D9619-EFC2-4168-82E6-AA608A57C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E7CED8-A84E-40B8-927E-DD498D7CB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88DF4D-C751-4B9F-8FF8-277453A88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0E3AED-6C53-4A9B-B15D-0AAA998FE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ECEBFD-5105-4DEB-A6F6-4DA2C00A6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28E3EB-F7BD-4B5D-8512-CC370B22C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31ACDF-E8C2-46DC-8918-B098BC85C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C7C3CC-7A95-4B53-BEE0-EFB7FE0AA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5FC698-03D1-46E4-89C8-282F6CA41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238F5E-3995-4389-9FB2-C8913A172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A7CF0C9-FD92-4EA5-A913-FF967127E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4BBE69D-A811-47B7-B945-67076C0DA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B98ADE5-331A-4BE8-A424-22589A2AD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848051F-5BA6-4D09-B525-920D273BF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29CCFE2-F58A-4931-8F56-D67657F6A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F73339B-1E71-488F-B0AC-F84B64A2E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AC1EAD1-D49D-413B-9302-57A33A434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B749B8F-72BD-4D38-BA43-21E0804AD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B82BC75-8FF7-4603-A1E9-8F26FAD0D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3394BB3-AF38-4A67-AD4A-775BC45DB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4B45ECD-2B73-4761-881F-DD1448079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FD498E5-4252-47CD-8AA9-8B75769D4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Logo_mauve"/>
          <p:cNvPicPr/>
          <p:nvPr/>
        </p:nvPicPr>
        <p:blipFill>
          <a:blip r:embed="rId2"/>
          <a:stretch/>
        </p:blipFill>
        <p:spPr>
          <a:xfrm>
            <a:off x="2987640" y="5692680"/>
            <a:ext cx="2376360" cy="863640"/>
          </a:xfrm>
          <a:prstGeom prst="rect">
            <a:avLst/>
          </a:prstGeom>
          <a:ln w="0">
            <a:noFill/>
          </a:ln>
        </p:spPr>
      </p:pic>
      <p:sp>
        <p:nvSpPr>
          <p:cNvPr id="1" name="Line 13"/>
          <p:cNvSpPr/>
          <p:nvPr/>
        </p:nvSpPr>
        <p:spPr>
          <a:xfrm>
            <a:off x="5508720" y="5589720"/>
            <a:ext cx="0" cy="10396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2" name="Text Box 19"/>
          <p:cNvSpPr/>
          <p:nvPr/>
        </p:nvSpPr>
        <p:spPr>
          <a:xfrm>
            <a:off x="5581800" y="5667480"/>
            <a:ext cx="215892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Bankrashof 3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1183 NP Amstelveen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T +31 (0)20 3455550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F +31 (0)20 3455551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3" name="Text Box 32"/>
          <p:cNvSpPr/>
          <p:nvPr/>
        </p:nvSpPr>
        <p:spPr>
          <a:xfrm>
            <a:off x="7165800" y="5667480"/>
            <a:ext cx="215928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E info@cvdgraaf.nl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I www.cvdgraaf.nl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KvK Amsterdam 34116245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692316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" name="Group 27"/>
          <p:cNvGrpSpPr/>
          <p:nvPr/>
        </p:nvGrpSpPr>
        <p:grpSpPr>
          <a:xfrm>
            <a:off x="7613640" y="1268280"/>
            <a:ext cx="1206000" cy="4176360"/>
            <a:chOff x="7613640" y="1268280"/>
            <a:chExt cx="1206000" cy="4176360"/>
          </a:xfrm>
        </p:grpSpPr>
        <p:pic>
          <p:nvPicPr>
            <p:cNvPr id="7" name="Picture 16" descr="advies_8%"/>
            <p:cNvPicPr/>
            <p:nvPr/>
          </p:nvPicPr>
          <p:blipFill>
            <a:blip r:embed="rId3"/>
            <a:stretch/>
          </p:blipFill>
          <p:spPr>
            <a:xfrm>
              <a:off x="7613640" y="1268280"/>
              <a:ext cx="1204920" cy="87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" name="Picture 17" descr="ontwikkeling_8%"/>
            <p:cNvPicPr/>
            <p:nvPr/>
          </p:nvPicPr>
          <p:blipFill>
            <a:blip r:embed="rId4"/>
            <a:stretch/>
          </p:blipFill>
          <p:spPr>
            <a:xfrm>
              <a:off x="7615080" y="2305800"/>
              <a:ext cx="1204560" cy="95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" name="Picture 18" descr="projectmanagement_8%"/>
            <p:cNvPicPr/>
            <p:nvPr/>
          </p:nvPicPr>
          <p:blipFill>
            <a:blip r:embed="rId5"/>
            <a:stretch/>
          </p:blipFill>
          <p:spPr>
            <a:xfrm>
              <a:off x="7615080" y="3498120"/>
              <a:ext cx="1204560" cy="76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" name="Picture 19" descr="training_8%"/>
            <p:cNvPicPr/>
            <p:nvPr/>
          </p:nvPicPr>
          <p:blipFill>
            <a:blip r:embed="rId6"/>
            <a:stretch/>
          </p:blipFill>
          <p:spPr>
            <a:xfrm>
              <a:off x="7615080" y="4522320"/>
              <a:ext cx="1204560" cy="92232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Num" idx="1"/>
          </p:nvPr>
        </p:nvSpPr>
        <p:spPr>
          <a:xfrm>
            <a:off x="46800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65942-C744-44D8-B201-43D88B5C3A2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179280" y="3068640"/>
            <a:ext cx="2521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7574040" y="5805360"/>
            <a:ext cx="179856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Ontwikkeling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Advies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Projectmanagement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Training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</p:txBody>
      </p:sp>
      <p:pic>
        <p:nvPicPr>
          <p:cNvPr id="50" name="Picture 14" descr="Logo_mauve"/>
          <p:cNvPicPr/>
          <p:nvPr/>
        </p:nvPicPr>
        <p:blipFill>
          <a:blip r:embed="rId2"/>
          <a:stretch/>
        </p:blipFill>
        <p:spPr>
          <a:xfrm>
            <a:off x="5437080" y="5952960"/>
            <a:ext cx="1943280" cy="70668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5"/>
          <p:cNvSpPr/>
          <p:nvPr/>
        </p:nvSpPr>
        <p:spPr>
          <a:xfrm>
            <a:off x="179280" y="3068640"/>
            <a:ext cx="2521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grpSp>
        <p:nvGrpSpPr>
          <p:cNvPr id="52" name="Group 27"/>
          <p:cNvGrpSpPr/>
          <p:nvPr/>
        </p:nvGrpSpPr>
        <p:grpSpPr>
          <a:xfrm>
            <a:off x="7613640" y="1268280"/>
            <a:ext cx="1206000" cy="4176360"/>
            <a:chOff x="7613640" y="1268280"/>
            <a:chExt cx="1206000" cy="4176360"/>
          </a:xfrm>
        </p:grpSpPr>
        <p:pic>
          <p:nvPicPr>
            <p:cNvPr id="53" name="Picture 16" descr="advies_8%"/>
            <p:cNvPicPr/>
            <p:nvPr/>
          </p:nvPicPr>
          <p:blipFill>
            <a:blip r:embed="rId3"/>
            <a:stretch/>
          </p:blipFill>
          <p:spPr>
            <a:xfrm>
              <a:off x="7613640" y="1268280"/>
              <a:ext cx="1204920" cy="87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Picture 17" descr="ontwikkeling_8%"/>
            <p:cNvPicPr/>
            <p:nvPr/>
          </p:nvPicPr>
          <p:blipFill>
            <a:blip r:embed="rId4"/>
            <a:stretch/>
          </p:blipFill>
          <p:spPr>
            <a:xfrm>
              <a:off x="7615080" y="2305800"/>
              <a:ext cx="1204560" cy="95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Picture 18" descr="projectmanagement_8%"/>
            <p:cNvPicPr/>
            <p:nvPr/>
          </p:nvPicPr>
          <p:blipFill>
            <a:blip r:embed="rId5"/>
            <a:stretch/>
          </p:blipFill>
          <p:spPr>
            <a:xfrm>
              <a:off x="7615080" y="3498120"/>
              <a:ext cx="1204560" cy="76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19" descr="training_8%"/>
            <p:cNvPicPr/>
            <p:nvPr/>
          </p:nvPicPr>
          <p:blipFill>
            <a:blip r:embed="rId6"/>
            <a:stretch/>
          </p:blipFill>
          <p:spPr>
            <a:xfrm>
              <a:off x="7615080" y="4522320"/>
              <a:ext cx="1204560" cy="922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" name="Line 21"/>
          <p:cNvSpPr/>
          <p:nvPr/>
        </p:nvSpPr>
        <p:spPr>
          <a:xfrm>
            <a:off x="7524720" y="5845320"/>
            <a:ext cx="0" cy="825480"/>
          </a:xfrm>
          <a:prstGeom prst="line">
            <a:avLst/>
          </a:prstGeom>
          <a:ln w="13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body"/>
          </p:nvPr>
        </p:nvSpPr>
        <p:spPr>
          <a:xfrm>
            <a:off x="456840" y="1600200"/>
            <a:ext cx="692316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2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29292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3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4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5147E-10A0-4A61-981A-BFBDC3C7AC46}" type="slidenum">
              <a:rPr b="0" lang="nl-NL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Freeform 9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104" name="Freeform 10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Group 6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142" name="Oval 7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Caecilia Roman"/>
              </a:endParaRPr>
            </a:p>
          </p:txBody>
        </p:sp>
        <p:sp>
          <p:nvSpPr>
            <p:cNvPr id="143" name="Rectangle 8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Caecilia Roman"/>
              </a:endParaRPr>
            </a:p>
          </p:txBody>
        </p:sp>
        <p:sp>
          <p:nvSpPr>
            <p:cNvPr id="144" name="Rectangle 9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cccc9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Caecilia Roman"/>
              </a:endParaRPr>
            </a:p>
          </p:txBody>
        </p:sp>
        <p:sp>
          <p:nvSpPr>
            <p:cNvPr id="145" name="Freeform 10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Caecilia Roman"/>
              </a:endParaRPr>
            </a:p>
          </p:txBody>
        </p:sp>
        <p:sp>
          <p:nvSpPr>
            <p:cNvPr id="146" name="Freeform 11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Caecilia Roman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29292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75914-0951-4D3F-8106-DB943411D4BE}" type="slidenum">
              <a:rPr b="0" lang="nl-NL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4"/>
          <p:cNvSpPr/>
          <p:nvPr/>
        </p:nvSpPr>
        <p:spPr>
          <a:xfrm>
            <a:off x="4572000" y="40464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292929"/>
                </a:solidFill>
                <a:latin typeface="Arial"/>
              </a:rPr>
              <a:t>Training digitale didactiek</a:t>
            </a:r>
            <a:endParaRPr b="0" lang="en-US" sz="24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4246560" y="4724280"/>
            <a:ext cx="489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Caecilia Roman"/>
              </a:rPr>
              <a:t>    </a:t>
            </a:r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190" name="Text Box 6"/>
          <p:cNvSpPr/>
          <p:nvPr/>
        </p:nvSpPr>
        <p:spPr>
          <a:xfrm>
            <a:off x="468360" y="5121360"/>
            <a:ext cx="8373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292929"/>
                </a:solidFill>
                <a:latin typeface="Arial"/>
              </a:rPr>
              <a:t>Ict in werkvormen</a:t>
            </a:r>
            <a:endParaRPr b="0" lang="en-US" sz="5400" spc="-1" strike="noStrike">
              <a:solidFill>
                <a:srgbClr val="ffffff"/>
              </a:solidFill>
              <a:latin typeface="Caecilia Roman"/>
            </a:endParaRPr>
          </a:p>
        </p:txBody>
      </p:sp>
      <p:pic>
        <p:nvPicPr>
          <p:cNvPr id="191" name="Picture 20" descr="networkteacher"/>
          <p:cNvPicPr/>
          <p:nvPr/>
        </p:nvPicPr>
        <p:blipFill>
          <a:blip r:embed="rId1"/>
          <a:stretch/>
        </p:blipFill>
        <p:spPr>
          <a:xfrm>
            <a:off x="2700360" y="1989000"/>
            <a:ext cx="384012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93760" y="264960"/>
            <a:ext cx="6019920" cy="117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Do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201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‘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Ict toepassingen integreren in delen van een eigen les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42840" y="237960"/>
            <a:ext cx="6019920" cy="1175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Programm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Inleiding en programma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Mogelijkheden met ict inventariseren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Zelf werkvormen integreren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Afsluiting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6920" y="264960"/>
            <a:ext cx="7877520" cy="117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Opdracht 1 Ict toepassing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57240" y="2268360"/>
            <a:ext cx="6770880" cy="369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8" name="Rectangle 4"/>
          <p:cNvSpPr/>
          <p:nvPr/>
        </p:nvSpPr>
        <p:spPr>
          <a:xfrm>
            <a:off x="826920" y="1708200"/>
            <a:ext cx="8099640" cy="45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Bedenk (minimaal drie) ict toepassingen voor een van de volgende doelen:</a:t>
            </a: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Kennismaken van studenten met elkaar </a:t>
            </a: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Kennis/inzicht verwerven</a:t>
            </a: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-  Beroepshouding</a:t>
            </a: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-  Vaardigheden (sociaal of technisch)</a:t>
            </a: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-  Toetsing en/of evaluatie</a:t>
            </a: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92929"/>
                </a:solidFill>
                <a:latin typeface="Arial"/>
              </a:rPr>
              <a:t>Tijd: 20 minuten</a:t>
            </a: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42920" y="836280"/>
            <a:ext cx="7274160" cy="71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Opdracht 2</a:t>
            </a:r>
            <a:br>
              <a:rPr sz="3600"/>
            </a:b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ict werkvormen integrer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826920" y="1716120"/>
            <a:ext cx="7632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Bedenk (minimaal drie) ICT toepassingen voor de eigen les(sen) en werk ze voor zover mogelijk uit.</a:t>
            </a: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92929"/>
                </a:solidFill>
                <a:latin typeface="Arial"/>
              </a:rPr>
              <a:t>Tijd: 50 minuten</a:t>
            </a: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Catherine van de Graaf</dc:creator>
  <dc:description/>
  <dc:language>en-US</dc:language>
  <cp:lastModifiedBy>Sandra Valk</cp:lastModifiedBy>
  <cp:lastPrinted>1999-12-08T22:23:44Z</cp:lastPrinted>
  <dcterms:modified xsi:type="dcterms:W3CDTF">2012-05-16T09:58:53Z</dcterms:modified>
  <cp:revision>142</cp:revision>
  <dc:subject/>
  <dc:title>C. van de Graaf &amp; Partners</dc:title>
</cp:coreProperties>
</file>