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FDD4-F9CD-4E46-8ED1-4E42F55530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3CBC-DAC5-409B-A669-106DB3F904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75F93-A745-4D62-91BB-ED64E63BAEA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6C3E4-CDD1-42C9-9D03-82C2AB1FC65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0C33B-3B6B-46F9-B3E3-9E15914CA4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6BEA-6D2B-461D-AEDC-4562A25DA1A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B4B5-E0F9-47D3-89BB-0308A42157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16AF-B22F-45C7-8C5B-7FF4BBEF78C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7ACC-41AB-4F62-A990-785AE0F681B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8B1D3-C454-4398-8E77-A15ADD3914F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431A-46AE-46B0-83EC-606CE0D923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DF210-B796-4813-BC02-540823958B7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1AB508-A593-44A8-8879-FEE4273E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C1EB5-943E-4AC3-AD19-8A373744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3E7FD-9A9F-4EFD-BB05-E6353EFD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B167D-A462-4D61-9C8A-6AE8C3A9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1C8E73-6322-4906-B9F4-E52FE1CA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D0DDB-8C3F-4B8B-8F21-BF5CD70C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4EA03-F227-4BB2-A91C-483A3995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341A3-665F-4AA8-BAEE-58B7242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740AB-7F1A-440B-A11F-D63581A5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709BB-E705-421C-806D-79C84DE7C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D8397-49E5-4590-B2CA-BB9347E46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C3FC2-9668-45D0-A3BE-2B225FA87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6AF123-C8D5-4987-B3A4-44397A4A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13D502-4DE0-41BF-A517-6033E267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8A9453-5A88-492B-896D-CB0C66E8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1DEF6F-A7D8-49E5-A3B2-F545C4A1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254B42-2360-4185-A6A4-F36025B5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97A8E3-E084-45B9-86A0-CF1ABA2D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79F8C6-7EF1-485E-B170-CA55FDD5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FBC4E4-0BD6-4F9E-B985-F709B1AD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69B7C7-C389-4A35-A12C-E4E88931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89924E-4040-4BA8-881D-1A91A8AD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FF6810-A5CB-434D-B64B-51740520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21EED4-BE53-4091-85D5-79583EF72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8409-5B6D-44B3-BB4F-34190F582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650FC-040A-4559-B6EA-DBE7C4C637F0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2A45-5182-416A-87E0-46FE821F9049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Beoordelen leermiddel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09564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ermiddelen kunnen beoordelen op kwaliteit en geschiktheid voor inzet in eigen less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oordelen bestaand materia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 checklis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hecklist aanvu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materiaal beoorde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oordelen bestaand materi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digitale leermiddelen globaal en…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noem het type leermiddel,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geef je mening over de kwaliteit met onderbouwing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5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Check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oordeel de leermiddelen op geschiktheid en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waliteit met de checklij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3  Checklist aanvu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ul de checklist aan, zodat het een bruikbare checklist wordt;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mist er no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kan er we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4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en materiaal beoord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26920" y="171612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oordeel met de checklist een eigen gemaakt of ontworpen leermiddel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Waar ligt de kwaliteit van jouw leermiddel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Op welke gebieden kun je je eigen leermiddel verbeteren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09-20T11:58:36Z</dcterms:modified>
  <cp:revision>150</cp:revision>
  <dc:subject/>
  <dc:title>C. van de Graaf &amp; Partners</dc:title>
</cp:coreProperties>
</file>