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67F25-01E7-44D8-81C9-122F02C4EC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5154-5AF3-4BF4-BEE0-C01A549727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FB7B-3A55-49E7-9301-9877FC6590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6550-D893-48F0-AE7F-B3D0AD33B3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418AD-6A6D-4F5F-AE56-CC90AAEB1F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ADB7F-DB2C-47C8-83AD-8642226FC2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F137-1F90-41D8-B0F3-CCFE71C360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598F6-EB79-42CD-866C-C8AAACC6EE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6A0D-2291-43AC-841C-6485C5E076E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07D31-0ACF-4127-AD38-EF51CFD337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DE32-A527-45F5-AAED-160B190E75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8611F-81E0-4231-B44F-7567B2E0F93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6BAF0-95D6-44B2-B56F-33F5AE343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479CC3-F8F5-45A8-BBB8-2CE07D8E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AF6A91-119A-42AF-A6F1-BEBBA012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1748B0-B824-4919-B142-317C4A75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DDD07-1DAE-4DC7-90D6-07B19476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9A53F-5236-4CC1-8C61-72BA8AA8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BDB7D-F04D-491A-8C8D-028C28F4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74FBD-F46D-4860-BBC0-296AB3AC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3CA58-58C4-422F-83B0-B8B04EFC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3C72F-DE0D-40EB-921E-303385D2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D2C2D-6765-4D9F-A31D-5827E4A8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8096E3-B064-4588-85F7-1CD333CD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AC83075-339B-4378-95BE-EAE82657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C67585-A882-48F7-A3A1-6EEC5479E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BDF884-30DF-4397-9757-C8327075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17BEE9-74D4-4773-AD23-6C35518BF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7ECC96-2F70-4DC9-B312-965443A5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998E8A-41F4-40BE-94CF-88CC15C5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3EC676-E95B-4C0C-A727-A422A7BF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63898-56C7-48AF-AE4A-DB6B5CD2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A2971B-EE71-4D53-B761-C73521A9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1ABF75-6FD0-4B18-8EBB-9D7D8502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22B1C-1953-49CE-BA32-D105A3C35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D5257E-C24E-4330-8439-C3F58707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33F1-19F0-4DD6-9FE9-F3DA91DE602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E094-29DF-4FFB-B4EC-F8EAB0265243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AB33C-3CC2-4B56-89D0-96B0FBDF13A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Leermiddelenbel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595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zicht krijgen in de rol van ict in het leermiddelenbeleid van de schoo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603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Rol van ict in het leermiddelenbel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sscenario´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lespla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3925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07T11:56:50Z</dcterms:modified>
  <cp:revision>143</cp:revision>
  <dc:subject/>
  <dc:title>C. van de Graaf &amp; Partners</dc:title>
</cp:coreProperties>
</file>