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A5B8-FF6B-4504-BE89-57C4464FD0D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4188D-050D-441D-BF88-7B61179F7EB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E964-3D51-4DD4-B037-6A03428BD41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2FAB9-E1AA-44B5-B7D1-DB35439710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196A-F2DC-4118-A93A-3DE2F9251B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2CF07-A6B5-4095-AA28-6C8453B449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11733-ECF4-418F-8527-D687338D90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EE61A-794F-4398-A6A9-2D1B136289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4F38-1F19-4A51-8795-B54AB58D32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0A11-26FC-4E7A-8D2D-1C7B3923E7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AB916-99DA-4139-B7F5-C9CA6CC268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944FC-B41B-4999-8ED5-B20949920C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76A9F2-9808-4FDF-918B-F41AC388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E0D69-79FA-4E82-8214-1BFB7C04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1272E-7507-4F0A-B0D9-66261F0D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7AC116-72FD-45EC-9D70-75F3091F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CF795-C648-4592-80AF-4FD57F3B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EE79E6-03AC-42BA-930C-8B484730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8B6E22-00D4-47C7-8C4F-E8FAB6733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CDCD8-89BA-41E8-BE53-47280150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F7020-B35C-4B92-B0E2-6CB8B85C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9B227-500E-4449-9F8F-5B156EF8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17FC9-2B4D-4649-8E2A-9CF34962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3F4A7-987A-4748-B1C3-D16DFA84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237510-5BE3-49BE-993C-1BB7ABEE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33950-94AF-47D5-9FA6-3EB1DBFC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B2B29-47E2-4468-A14F-2A6577F4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D9EA7E-9A70-4939-B407-BF117E95C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F7E766-08E5-4593-B8C0-480F0460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70E806-5398-4EC5-9482-1EC2B5160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0BD010-E625-4CB9-A976-A5C1BFFA3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39708-8DD3-4346-B1AE-157E228D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77CBC4-57BF-4CFE-9C8E-F202228F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A6B51-CF90-4FDB-B587-FEBAA2DEF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8764B-67AA-44CA-83D6-B57B7B28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201493-7ACE-4E4B-8FBB-2A3F43671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DD3D-BBA1-4C82-ACA6-05B834E2D90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26E4-ABF9-4379-A2EB-0905A96482D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111D-AFBF-4685-B088-92DC703C3EFB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1"/>
          <a:stretch/>
        </p:blipFill>
        <p:spPr>
          <a:xfrm>
            <a:off x="6443640" y="2997360"/>
            <a:ext cx="2238480" cy="2238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PowerPoint"/>
          <p:cNvPicPr/>
          <p:nvPr/>
        </p:nvPicPr>
        <p:blipFill>
          <a:blip r:embed="rId2"/>
          <a:stretch/>
        </p:blipFill>
        <p:spPr>
          <a:xfrm>
            <a:off x="1332000" y="2708280"/>
            <a:ext cx="1155600" cy="1152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Word2007"/>
          <p:cNvPicPr/>
          <p:nvPr/>
        </p:nvPicPr>
        <p:blipFill>
          <a:blip r:embed="rId3"/>
          <a:stretch/>
        </p:blipFill>
        <p:spPr>
          <a:xfrm>
            <a:off x="2916360" y="2781360"/>
            <a:ext cx="1073160" cy="1081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7" descr="Excel2007Logo"/>
          <p:cNvPicPr/>
          <p:nvPr/>
        </p:nvPicPr>
        <p:blipFill>
          <a:blip r:embed="rId4"/>
          <a:stretch/>
        </p:blipFill>
        <p:spPr>
          <a:xfrm>
            <a:off x="4211640" y="2708280"/>
            <a:ext cx="107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Zelf ict-toepassingen maken met Word, PowerPoint en Exce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staande toepassing in Word, PP of Excel bekij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Uitleg toepassingen/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Zelf toepassing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-5180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18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6920" y="264960"/>
            <a:ext cx="78775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Bestaande toepassin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755640" y="2205000"/>
            <a:ext cx="7488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kijk de ict-toepassingen die gemaakt zijn in Word, PowerPoint en Excel. 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755640" y="220500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Calibri"/>
              </a:rPr>
              <a:t>Een demonstratie van hoe toepassingen gemaakt zijn.</a:t>
            </a:r>
            <a:endParaRPr b="0" lang="en-US" sz="36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000" y="691920"/>
            <a:ext cx="820908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: Zelf toepassing ma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561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Kies voor één van de aanwezige toepassing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aak deze toepassing na voor eigen gebruik;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-40320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aak hierbij gebruik van de aanwezige handleiding</a:t>
            </a:r>
            <a:r>
              <a:rPr b="0" lang="nl-NL" sz="36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1188720" y="5925960"/>
            <a:ext cx="30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2-29T10:39:41Z</dcterms:modified>
  <cp:revision>140</cp:revision>
  <dc:subject/>
  <dc:title>C. van de Graaf &amp; Partners</dc:title>
</cp:coreProperties>
</file>