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23A1A-5563-4DC1-8A3D-0F7AE485793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E3836-F374-48AC-99B4-9DC341CC95D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5834A-0C38-4B86-AB1B-D9E2C044783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C7B3C-FB14-4E9C-9785-2824359BBDB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25A51-6F2F-4ECD-AC25-9617406F331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731E7-BC91-412C-A0B7-831E423FB16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A9333-CD48-4C72-884D-F9D36ACAD47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92C09-4E7A-42B7-8093-412D452D651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4D4C8-8B2F-42FC-8397-B32B3483760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C7941-B168-4303-A40F-9EC544AE942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9F12A-2624-4BEA-9528-6B1208E258E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749A2-045A-4B1D-B069-01D13D9603F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079148-2B21-4F1B-84E3-48A5A44BB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8A2016-5459-4FA0-85B0-959821F71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967071-F31E-40E0-9C92-860E960B9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0FC1BC-695D-4DD4-A68B-CB975CF4A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885F32-FAAB-46EE-91B3-3AA791A14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B1ECA2-29B2-43DF-BDD1-0073F930E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F8227D-45EC-45CF-9E54-08C8F35AA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AFA3BE-9DA9-423E-953D-4F6EDA8AD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81D041-D504-437C-B738-666A0C55D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440307-AB3B-40A1-B6BE-07B226DF8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BC3976-E97B-4D89-B606-D6B1B5F9C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11106D-FB58-4724-805D-5BBAFBF4A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9FAC2BB-D79D-48FA-BB57-11023D20E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97626E3-9AE6-45C4-86E1-271559C7A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E35BE05-4687-4461-83E5-C429C9D87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A42ACFA-3C08-4BF7-9B67-82ADC8DE7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EB29D0B-A0CD-4CC3-A12B-5203B4598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EBE440F-11EB-4348-9FB2-F7BE1ED2E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0ADEC2B-550D-4AFC-8185-7425F81F4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E8C64D8-D424-44AC-A8F6-7EEACB8A3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2CBD67A-F38D-4D5E-B1CD-E052090D9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5151303-29CC-4C9B-B7CD-B9CE956CC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BDEFC89-57F2-4123-A99E-332A9F20D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D329A72-C7BC-42C0-8C74-0E4F2BEC0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Logo_mauve"/>
          <p:cNvPicPr/>
          <p:nvPr/>
        </p:nvPicPr>
        <p:blipFill>
          <a:blip r:embed="rId2"/>
          <a:stretch/>
        </p:blipFill>
        <p:spPr>
          <a:xfrm>
            <a:off x="2987640" y="5692680"/>
            <a:ext cx="2376360" cy="863640"/>
          </a:xfrm>
          <a:prstGeom prst="rect">
            <a:avLst/>
          </a:prstGeom>
          <a:ln w="0">
            <a:noFill/>
          </a:ln>
        </p:spPr>
      </p:pic>
      <p:sp>
        <p:nvSpPr>
          <p:cNvPr id="1" name="Line 13"/>
          <p:cNvSpPr/>
          <p:nvPr/>
        </p:nvSpPr>
        <p:spPr>
          <a:xfrm>
            <a:off x="5508720" y="5589720"/>
            <a:ext cx="0" cy="10396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2" name="Text Box 19"/>
          <p:cNvSpPr/>
          <p:nvPr/>
        </p:nvSpPr>
        <p:spPr>
          <a:xfrm>
            <a:off x="5581800" y="5667480"/>
            <a:ext cx="215892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Bankrashof 3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1183 NP Amstelveen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T +31 (0)20 3455550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F +31 (0)20 3455551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3" name="Text Box 32"/>
          <p:cNvSpPr/>
          <p:nvPr/>
        </p:nvSpPr>
        <p:spPr>
          <a:xfrm>
            <a:off x="7165800" y="5667480"/>
            <a:ext cx="215928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E info@cvdgraaf.nl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I www.cvdgraaf.nl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KvK Amsterdam 34116245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692316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" name="Group 27"/>
          <p:cNvGrpSpPr/>
          <p:nvPr/>
        </p:nvGrpSpPr>
        <p:grpSpPr>
          <a:xfrm>
            <a:off x="7613640" y="1268280"/>
            <a:ext cx="1206000" cy="4176360"/>
            <a:chOff x="7613640" y="1268280"/>
            <a:chExt cx="1206000" cy="4176360"/>
          </a:xfrm>
        </p:grpSpPr>
        <p:pic>
          <p:nvPicPr>
            <p:cNvPr id="7" name="Picture 16" descr="advies_8%"/>
            <p:cNvPicPr/>
            <p:nvPr/>
          </p:nvPicPr>
          <p:blipFill>
            <a:blip r:embed="rId3"/>
            <a:stretch/>
          </p:blipFill>
          <p:spPr>
            <a:xfrm>
              <a:off x="7613640" y="1268280"/>
              <a:ext cx="1204920" cy="87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" name="Picture 17" descr="ontwikkeling_8%"/>
            <p:cNvPicPr/>
            <p:nvPr/>
          </p:nvPicPr>
          <p:blipFill>
            <a:blip r:embed="rId4"/>
            <a:stretch/>
          </p:blipFill>
          <p:spPr>
            <a:xfrm>
              <a:off x="7615080" y="2305800"/>
              <a:ext cx="1204560" cy="95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" name="Picture 18" descr="projectmanagement_8%"/>
            <p:cNvPicPr/>
            <p:nvPr/>
          </p:nvPicPr>
          <p:blipFill>
            <a:blip r:embed="rId5"/>
            <a:stretch/>
          </p:blipFill>
          <p:spPr>
            <a:xfrm>
              <a:off x="7615080" y="3498120"/>
              <a:ext cx="1204560" cy="76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" name="Picture 19" descr="training_8%"/>
            <p:cNvPicPr/>
            <p:nvPr/>
          </p:nvPicPr>
          <p:blipFill>
            <a:blip r:embed="rId6"/>
            <a:stretch/>
          </p:blipFill>
          <p:spPr>
            <a:xfrm>
              <a:off x="7615080" y="4522320"/>
              <a:ext cx="1204560" cy="92232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Num" idx="1"/>
          </p:nvPr>
        </p:nvSpPr>
        <p:spPr>
          <a:xfrm>
            <a:off x="46800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81DB4-F8B8-4807-8E4B-1AAD0810ACF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179280" y="3068640"/>
            <a:ext cx="2521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7574040" y="5805360"/>
            <a:ext cx="179856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aecilia Roman"/>
              </a:rPr>
              <a:t>Ontwikkeling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aecilia Roman"/>
              </a:rPr>
              <a:t>Advies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aecilia Roman"/>
              </a:rPr>
              <a:t>Projectmanagement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aecilia Roman"/>
              </a:rPr>
              <a:t>Training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</p:txBody>
      </p:sp>
      <p:pic>
        <p:nvPicPr>
          <p:cNvPr id="50" name="Picture 14" descr="Logo_mauve"/>
          <p:cNvPicPr/>
          <p:nvPr/>
        </p:nvPicPr>
        <p:blipFill>
          <a:blip r:embed="rId2"/>
          <a:stretch/>
        </p:blipFill>
        <p:spPr>
          <a:xfrm>
            <a:off x="5437080" y="5952960"/>
            <a:ext cx="1943280" cy="70668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5"/>
          <p:cNvSpPr/>
          <p:nvPr/>
        </p:nvSpPr>
        <p:spPr>
          <a:xfrm>
            <a:off x="179280" y="3068640"/>
            <a:ext cx="2521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grpSp>
        <p:nvGrpSpPr>
          <p:cNvPr id="52" name="Group 27"/>
          <p:cNvGrpSpPr/>
          <p:nvPr/>
        </p:nvGrpSpPr>
        <p:grpSpPr>
          <a:xfrm>
            <a:off x="7613640" y="1268280"/>
            <a:ext cx="1206000" cy="4176360"/>
            <a:chOff x="7613640" y="1268280"/>
            <a:chExt cx="1206000" cy="4176360"/>
          </a:xfrm>
        </p:grpSpPr>
        <p:pic>
          <p:nvPicPr>
            <p:cNvPr id="53" name="Picture 16" descr="advies_8%"/>
            <p:cNvPicPr/>
            <p:nvPr/>
          </p:nvPicPr>
          <p:blipFill>
            <a:blip r:embed="rId3"/>
            <a:stretch/>
          </p:blipFill>
          <p:spPr>
            <a:xfrm>
              <a:off x="7613640" y="1268280"/>
              <a:ext cx="1204920" cy="87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Picture 17" descr="ontwikkeling_8%"/>
            <p:cNvPicPr/>
            <p:nvPr/>
          </p:nvPicPr>
          <p:blipFill>
            <a:blip r:embed="rId4"/>
            <a:stretch/>
          </p:blipFill>
          <p:spPr>
            <a:xfrm>
              <a:off x="7615080" y="2305800"/>
              <a:ext cx="1204560" cy="95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Picture 18" descr="projectmanagement_8%"/>
            <p:cNvPicPr/>
            <p:nvPr/>
          </p:nvPicPr>
          <p:blipFill>
            <a:blip r:embed="rId5"/>
            <a:stretch/>
          </p:blipFill>
          <p:spPr>
            <a:xfrm>
              <a:off x="7615080" y="3498120"/>
              <a:ext cx="1204560" cy="76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19" descr="training_8%"/>
            <p:cNvPicPr/>
            <p:nvPr/>
          </p:nvPicPr>
          <p:blipFill>
            <a:blip r:embed="rId6"/>
            <a:stretch/>
          </p:blipFill>
          <p:spPr>
            <a:xfrm>
              <a:off x="7615080" y="4522320"/>
              <a:ext cx="1204560" cy="922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" name="Line 21"/>
          <p:cNvSpPr/>
          <p:nvPr/>
        </p:nvSpPr>
        <p:spPr>
          <a:xfrm>
            <a:off x="7524720" y="5845320"/>
            <a:ext cx="0" cy="825480"/>
          </a:xfrm>
          <a:prstGeom prst="line">
            <a:avLst/>
          </a:prstGeom>
          <a:ln w="13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body"/>
          </p:nvPr>
        </p:nvSpPr>
        <p:spPr>
          <a:xfrm>
            <a:off x="456840" y="1600200"/>
            <a:ext cx="692316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2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29292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3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292929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4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D42DD-0D0B-4700-B117-F4A7D66E9C3E}" type="slidenum">
              <a:rPr b="0" lang="nl-NL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dt" idx="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29292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292929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sldNum" idx="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0C596-2E4D-4173-A220-8F2DDFE95DFE}" type="slidenum">
              <a:rPr b="0" lang="nl-NL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145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</p:grpSp>
      <p:sp>
        <p:nvSpPr>
          <p:cNvPr id="150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4572000" y="40464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292929"/>
                </a:solidFill>
                <a:latin typeface="Arial"/>
              </a:rPr>
              <a:t>Training digitale didactiek</a:t>
            </a:r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246560" y="4724280"/>
            <a:ext cx="489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ecilia Roman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19120" y="5553000"/>
            <a:ext cx="8373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292929"/>
                </a:solidFill>
                <a:latin typeface="Arial"/>
              </a:rPr>
              <a:t>Mediawijsheid</a:t>
            </a:r>
            <a:endParaRPr b="0" lang="en-US" sz="5400" spc="-1" strike="noStrike">
              <a:solidFill>
                <a:srgbClr val="000000"/>
              </a:solidFill>
              <a:latin typeface="Caecilia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2771640" y="2205000"/>
            <a:ext cx="3810240" cy="29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93760" y="264960"/>
            <a:ext cx="601992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95280" y="2204640"/>
            <a:ext cx="763272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‘</a:t>
            </a: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Mediawijs worden en overbrengen aan leerlingen’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916360" y="3054240"/>
            <a:ext cx="581652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42840" y="237960"/>
            <a:ext cx="6019920" cy="11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Programm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50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05800" indent="-50580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Inleiding en programma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05800" indent="-50580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Discussie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05800" indent="-50580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Ict-vaardigheden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05800" indent="-50580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Informatievaardigheden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05800" indent="-50580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Veiligheid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05800" indent="-50580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Afsluiting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0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0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0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6912000" y="3762360"/>
            <a:ext cx="223200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Catherine van de Graaf</dc:creator>
  <dc:description/>
  <dc:language>en-US</dc:language>
  <cp:lastModifiedBy>Josien</cp:lastModifiedBy>
  <cp:lastPrinted>1999-12-08T22:23:44Z</cp:lastPrinted>
  <dcterms:modified xsi:type="dcterms:W3CDTF">2011-10-05T09:14:16Z</dcterms:modified>
  <cp:revision>141</cp:revision>
  <dc:subject/>
  <dc:title>C. van de Graaf &amp; Partners</dc:title>
</cp:coreProperties>
</file>