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80BB-7781-40A7-B652-C71250AF9D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9841-1EB2-4AE6-8E1D-88FED7654F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6229-3ECC-4B93-B0BE-C391480CAA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CA80-B305-44BF-BDCE-068916D878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5761-89A0-4D1B-91B1-5ABAA9B79B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F182-988A-4347-B5DC-97CBCF98D4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45AE-D363-49A2-995B-8D710C9278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AE8F-ED0B-49B5-BF86-F1917BCFAA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5E54-A58E-4612-91CF-93A75A2C91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6858-D092-4E50-8CB5-EA42D24281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9A4F-E610-4D6E-ABA4-B41517D357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B0C3-F930-49FF-803F-1B310F9AD6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DC764-3664-4C30-AAE9-AC185515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88019-2944-43BF-9D66-F4164FF2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B724D-86EB-4B0F-9AD6-F2A362D3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C8A66-3DCC-478F-878C-311C43AE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F44EB-4D7B-4925-834C-7B08EDE0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02839-CCE3-4B2E-9C61-DF7D2164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7F006-45EE-4EFC-AD29-51E2EBA8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EEE43-8211-4988-B565-5113D0B4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910F7-4D55-4EB5-9B2F-A1117090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E6261-E3C1-4749-BD46-3BDAD76D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A0C36-AD59-4D77-93BE-92C7D2EA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7D935-5410-4A35-AA55-CE0B2294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4C7B17-B588-4C17-BE34-FEE19C6F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717404-2AA2-40CF-8946-EA22EB01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BA6675-3426-4582-976C-86165569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82FB74-40B3-4356-BFDE-C54F2F05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0EE56-6D3C-4304-BF02-CCD4045B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722C09-CFE8-4DAB-B692-F3E99672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37F0E0-1F1D-46EC-9F8F-E49A98D5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BD0169-A2BB-4BCF-8FE9-D9B1E52A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F0D7C4-484B-4C78-913F-E6B7DA97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70636-86AA-4C6C-A7B6-48283E80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D04BB-67E0-4C77-97F1-38CBFB0C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278CCF-7024-4C4C-B912-0DCA09CF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08C9-8158-45F9-A3DD-FD251E5D56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BD86-E575-43D7-B442-FD09C6E9D7D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41D7-A485-4AC4-8962-F5AD7CB2BFA0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Leermiddelenbel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1595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zicht krijgen in de rol van ict in het leermiddelenbeleid van de schoo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603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Rol van ict in het leermiddelenbel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sscenario´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lesplan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3925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07T11:56:50Z</dcterms:modified>
  <cp:revision>143</cp:revision>
  <dc:subject/>
  <dc:title>C. van de Graaf &amp; Partners</dc:title>
</cp:coreProperties>
</file>