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6CDA-6294-406D-B4ED-90A257094F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255B-4446-411F-B568-459243436D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DE09-365C-4E51-A5ED-5E165A8358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3490-7F84-44A8-85D9-EC1220F593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1F19-9F17-460F-A8F7-C48ACE2922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7DDA-9B43-42D2-8264-66B0DB8DFB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128E-D529-41F0-BD9A-B35CF90D55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D66D-5181-433A-AC66-E3852C8548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5A13-F3D0-4093-BAE3-D1C010679C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AA1B-484E-4440-A762-290D0F7ECA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9304-564A-4C11-95D3-4F6EA5C1D0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E3D7-0D97-41AE-AB2B-87DE6DE3D9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E17AA-ADFA-494B-8595-79623AA0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189F5-6EEF-42CB-94CB-6C3685E8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572CA-45C6-4F04-92D2-DE03D860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5D825-B6E5-47A6-B606-31C816AB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3BDE6-9254-4CC7-96B4-B2A816BD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FAE31-77C7-4096-8D68-C5DC946B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8750F-E823-4885-88BF-2E3A9B6A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6F487-8E17-4DC2-A41C-CF61C0CF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31811-472F-4A0F-B647-3056C1EB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E1CCD-4DA8-4389-9E7D-07DCEF59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F28BF-F041-4900-B6C3-543C56FB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0E6F0-3BBA-4B8E-909D-4BEA4405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B21D62-82F8-4CC6-9D76-C49CEDA7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51529D-B1DD-4D6B-9044-7958EE0B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181CB3-4FF3-4250-8EFE-DB4D3CA2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EBE95B-F68D-4D68-9059-BF091ABB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F15E30-E9A3-4141-9886-741AB0B9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A741FA-DED8-4F50-9843-87A79570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DBE65D-166B-43FB-B6B9-53D960F2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B03787-DFA3-4C0E-A8FF-830DE5E1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AD7703-569C-4313-AA96-1876D5AD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2CD72A-18E3-4B6D-B7F2-5AC6F3AD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100D71-B308-4473-948C-9F33647C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81E8D6-7705-4E1C-BF7B-D36B90BB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B047-7B3C-4F2F-8DBD-EF6077482A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D2CB-FC87-45E2-9464-D323209C62E2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1167-F31B-493D-9DCE-3D99FB2E64A7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Didactische WEB 2.0 toepassing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19" descr="web20"/>
          <p:cNvPicPr/>
          <p:nvPr/>
        </p:nvPicPr>
        <p:blipFill>
          <a:blip r:embed="rId1"/>
          <a:stretch/>
        </p:blipFill>
        <p:spPr>
          <a:xfrm>
            <a:off x="2666880" y="1547640"/>
            <a:ext cx="381024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Zelf toepassingen maken met WEB 2.0 programma’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 eerste d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staande toepassing bekij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leg toepassingen/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toepassing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Bestaande toepass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755640" y="2205000"/>
            <a:ext cx="7488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kijk de ict-toepassingen die gemaakt zijn met WEB 2.0 programma’s. 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55640" y="220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Calibri"/>
              </a:rPr>
              <a:t>Een demonstratie van hoe toepassingen gemaakt zijn.</a:t>
            </a:r>
            <a:endParaRPr b="0" lang="en-US" sz="36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0908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:  Zelf toepassing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ies voor één van de aanwezige toepassing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ak deze toepassing na voor eigen gebruik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aak hierbij gebruik van de aanwezige handleiding</a:t>
            </a:r>
            <a:r>
              <a:rPr b="0" lang="nl-NL" sz="3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1188720" y="5925960"/>
            <a:ext cx="30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2:11:18Z</dcterms:modified>
  <cp:revision>140</cp:revision>
  <dc:subject/>
  <dc:title>C. van de Graaf &amp; Partners</dc:title>
</cp:coreProperties>
</file>