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3F5C-325C-4307-8541-0D6A44FD43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0392-A100-42A2-B24D-A396BD2370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C7E8-51F7-4A8E-BAF2-AA8A654A8C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449D-A47E-410F-87FD-02233DD7D9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C00C-3A1C-4F7F-9DC8-9CAC0670DB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35D7-A851-41B8-9825-BEF86AE714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A47B-691E-4E49-83EB-B6990954AD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0C26-7AE7-453C-86AC-5F846FF5D4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1C27-2D0B-4C52-A521-E5570B1D6A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CB2A-465A-457F-8872-830344965C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857A-AC5B-49C0-9839-EAA0F1B1EC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9549-7D9C-4C0C-837F-BB37DA74BB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4BDCD-A244-4875-85E6-79BEC0E2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34EDA-5D86-4150-B7AD-B2028CB0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A9E3E-C2FE-470F-AEEB-742B16B6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4A240-F9AE-4A3C-8AAF-5E473A55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B1C45-F43E-45C9-838F-FA938189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153F2-CF97-4C8B-AF31-CF3CF7F5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03B53-29F5-418B-A6DB-ABEF08EF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1CECB-85BF-4FF5-9CCC-B87C11D9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94C9D-B312-47E4-862A-1C975CD5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44743-B2CF-44A5-BE91-00AFF135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6B562-1E07-4D30-99BB-83066479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E3AFA-114F-4FC0-9E08-76C21D47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CD680-5D68-40EB-8CE0-6C207C7C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027C97-6746-4D9E-909A-C85E1E43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64B41F-79B5-4567-9650-7BDB179C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941F06-243D-4257-A25F-A62F2C74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EA314-D2E0-437F-9FF5-F0539184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F430E4-3691-4F2B-8BCD-D5BF7E80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38D05F-9498-44B7-9EDD-49459EED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9C1204-BF46-4A17-9673-D92E2B33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7A2CE6-EE8B-4296-AD17-1DA98533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E80339-F582-4F65-9814-3FBAD9B9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A346FB-8B92-453F-A1B5-77D5984B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D48833-6A6D-4A2C-A9DA-443FC97A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6261-9366-4ABE-8004-F3416EF479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6250-6978-4681-BB55-96EC2C0BF3A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244E-7250-4EC4-843F-D1D569C486E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Leermiddelenbeleid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15952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zicht krijgen in de rol van ict in het leermiddelenbeleid van de school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16034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Rol van ict in het leermiddelenbelei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bruiksscenario´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Eigen lesplan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3925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10-07T11:56:50Z</dcterms:modified>
  <cp:revision>143</cp:revision>
  <dc:subject/>
  <dc:title>C. van de Graaf &amp; Partners</dc:title>
</cp:coreProperties>
</file>