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9B9C7-E250-47D3-9490-D364EF40A2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5FDD5-C3C9-4FB2-8AAC-C518CF2957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EE73C-E396-4F98-8EFB-72AA7575DB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46E15-5283-4EC8-B744-5273B95600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FD3F6-40AE-4707-9FA9-0989E9346C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F994E-AAA6-4CAB-81B6-9C9E8F7801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20380-E6AD-46F4-ADF7-8F4138DEA4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15FF4-20E5-4889-85AB-51BE584037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BE9D0-88CB-4A86-B00C-6DAAEAA1BC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F89AC-3940-48A3-AA2D-B0D6F9F574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F18A9-B46D-41AD-8DF6-0034C434E1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9220A-6661-45F8-8E7D-79DF8D6441D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0901D-BE43-4A22-8C74-F7CA80577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D4F85-1632-4E2C-B388-B1404BCC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8B92D-84C3-4571-8107-1584898F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7A5D22-5CA9-46D7-BDAE-35D50064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2298C-66F3-496D-A943-8A96A1B4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E8FDB-A2F4-4744-8BC7-2A3BF5FE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08C3DC-BEBB-484C-80F7-9C3A734C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11D7AE-D0AF-476E-8756-AA6C653F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65AAB-B712-4828-8C09-96B0A6AF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F97BEF-6D83-470F-8556-60BA6DD8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DE62A-2B8C-4C8A-BA1B-78DC409E6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5F1A6-6BF2-4813-8D27-27CF52B22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151C6C-734B-4388-8757-D59A5CE1C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6993CD-FC9E-468E-B078-F70A9E98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9E7CA3-5158-498A-B929-F5355260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4CD010-2099-4861-999A-C7A2B61F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7A0AA7-A94E-4055-BE1D-EAFA5789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1D992E-D429-4131-8AED-F9F78C8D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F37E23-79F5-4226-BCF3-69115C45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E9EA80-6299-4C66-AEAE-E42883ED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2EAF56-CA49-46B4-8F01-AB4CE6BD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695F7E-C3D0-4409-BAEC-AFA3F422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B0D6D6-1084-428F-8A53-5B032925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09B95E-01D5-492B-9971-EE4A004D7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05F8-92EA-426D-979B-57E07D17048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6290-89EF-4FAA-A531-D3A25E1F4D72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4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2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4AE6-1685-4CE8-93C2-D547841EB8A8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519120" y="555300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92929"/>
                </a:solidFill>
                <a:latin typeface="Arial"/>
              </a:rPr>
              <a:t>Informatievaardigheden</a:t>
            </a:r>
            <a:endParaRPr b="0" lang="en-US" sz="54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191" name="Picture 11" descr=""/>
          <p:cNvPicPr/>
          <p:nvPr/>
        </p:nvPicPr>
        <p:blipFill>
          <a:blip r:embed="rId1"/>
          <a:stretch/>
        </p:blipFill>
        <p:spPr>
          <a:xfrm>
            <a:off x="6443640" y="2997360"/>
            <a:ext cx="2238480" cy="2238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PowerPoint"/>
          <p:cNvPicPr/>
          <p:nvPr/>
        </p:nvPicPr>
        <p:blipFill>
          <a:blip r:embed="rId2"/>
          <a:stretch/>
        </p:blipFill>
        <p:spPr>
          <a:xfrm>
            <a:off x="1332000" y="2708280"/>
            <a:ext cx="1155600" cy="1152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Word2007"/>
          <p:cNvPicPr/>
          <p:nvPr/>
        </p:nvPicPr>
        <p:blipFill>
          <a:blip r:embed="rId3"/>
          <a:stretch/>
        </p:blipFill>
        <p:spPr>
          <a:xfrm>
            <a:off x="2916360" y="2781360"/>
            <a:ext cx="1073160" cy="1081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7" descr="Excel2007Logo"/>
          <p:cNvPicPr/>
          <p:nvPr/>
        </p:nvPicPr>
        <p:blipFill>
          <a:blip r:embed="rId4"/>
          <a:stretch/>
        </p:blipFill>
        <p:spPr>
          <a:xfrm>
            <a:off x="4211640" y="2708280"/>
            <a:ext cx="1079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7632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Zelf ict-toepassingen maken met Word, PowerPoint en Excel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’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Bestaande toepassing in Word, PP of Excel bekijk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Uitleg toepassingen/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Zelf toepassing mak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6920" y="264960"/>
            <a:ext cx="78775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1 Bestaande toepassi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755640" y="2205000"/>
            <a:ext cx="7488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ekijk de ict-toepassingen die gemaakt zijn in Word, PowerPoint en Excel. </a:t>
            </a: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4284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755640" y="2205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Calibri"/>
              </a:rPr>
              <a:t>Een demonstratie van hoe toepassingen gemaakt zijn.</a:t>
            </a:r>
            <a:endParaRPr b="0" lang="en-US" sz="36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0908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2: Zelf toepassing ma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7561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Kies voor één van de aanwezige toepassingen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aak deze toepassing na voor eigen gebruik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901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maak hierbij gebruik van de aanwezige handleiding</a:t>
            </a:r>
            <a:r>
              <a:rPr b="0" lang="nl-NL" sz="3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1188720" y="5925960"/>
            <a:ext cx="306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Sandra Valk</cp:lastModifiedBy>
  <cp:lastPrinted>1999-12-08T22:23:44Z</cp:lastPrinted>
  <dcterms:modified xsi:type="dcterms:W3CDTF">2012-02-29T10:39:41Z</dcterms:modified>
  <cp:revision>140</cp:revision>
  <dc:subject/>
  <dc:title>C. van de Graaf &amp; Partners</dc:title>
</cp:coreProperties>
</file>