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9755-4F09-41AD-8013-B6F3248294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FEF5-9E16-4900-A65A-9AE502D329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423D-56B9-4699-AD74-28D1F0B71E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EFBD-DF9C-4254-9F68-E8F8489DA7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AAA1-CDBC-440F-878C-9A9CE35AA4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DD30-D325-4211-8403-F54AEABF4B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8F7A-5EC3-4389-9D65-D1BAC0271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9C0A-B552-44AD-B4BF-91ACB506F2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5E77-BA59-45A6-98A7-7E514117C6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6A77-1F72-4486-9323-72B3E13716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510E-1FC9-4B8A-99DD-DD63B355C4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9F94-94A7-4D70-B753-5BE94B1119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9077E-17FF-4C70-A6B1-5CA17AEA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10C25-20FC-4985-AD1A-F2D71472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1F454-FD3B-4E52-B322-16B4F118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76F40-EDA0-47F2-99D2-07AFD66D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D00C5-3AF1-45DF-909E-46682706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520E7-B5EA-48A6-9C75-CEABA7F7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285B3-D84A-4478-A9FA-AF7C6523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45D2C-3DE0-48C2-AB8E-796E680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8BACA-DF86-4B54-BFEF-47D19EDA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EE196-4E83-4FAD-8A44-8497AEEF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B03DF-4F66-4701-9AE2-E2B80BAD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A8BD-47E1-469E-91C6-EC1057D9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65AE5-3C9A-4498-855F-FA745C23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F667EC-52BD-4CED-973E-3D847D19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FFE0FF-58AC-40CB-AF86-C3D51AAB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A1AED-EE1D-4455-9910-2543F147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B92D3-400D-4ADE-BC84-BBF07BF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A3980-0628-4575-96D4-35F623A9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908B1-FA97-4D67-B9F6-9B4DA4DE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CB067-BAF3-48AC-8EBE-4D23D3B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B646DD-1B62-4F8C-9CD4-2337C19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DFD9FF-3A63-4BC7-AE7A-6F2BC5BD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64D89-DC87-4AEF-A7FA-78B7DFD8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A6CCD-FEF1-4405-909B-5CCE0672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3A0-61DF-4A52-825B-039DBAFA47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7F82-D726-41EA-BB0A-A0B9C2692C52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E785-58C5-43B8-B234-FD94CD99B78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40160" y="1197000"/>
            <a:ext cx="5668920" cy="425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5788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leiding laptopdidactiek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Kennismaken met de drie pijlers van de laptopdidactiek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11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dracht 1: stell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houd: drie pijlers, Tpackmo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t prac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25527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dracht 1 Stell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05000"/>
            <a:ext cx="8675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geer op de stelling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 ieder scherm staat een andere stelling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gin iedere reactie met je initial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69231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jl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79720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Maak afspraken en stel regels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Integreer ict in de werkvormen (T-Pack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Bij eigen laptop: zet laptop veel en effectief in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-PACK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4249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Didact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Vakinhoudelijk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Technolog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06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gen best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205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Calibri"/>
              </a:rPr>
              <a:t>Een voorbeeld</a:t>
            </a:r>
            <a:endParaRPr b="0" lang="en-US" sz="36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09-14T14:38:46Z</dcterms:modified>
  <cp:revision>139</cp:revision>
  <dc:subject/>
  <dc:title>C. van de Graaf &amp; Partners</dc:title>
</cp:coreProperties>
</file>