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F7BA0-1CEB-4286-8A54-59013DBDB0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BD88F-79BA-406F-BA87-72FAFA757F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A54DA-E5EB-4EB5-BD06-90743B36C2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A9E33-5886-4E79-8B33-43DA4D05F6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ED8C1-72A7-46EB-932E-466B61B448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A5359-3807-4A5A-8F14-1106131FD5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D885A-CDD9-4387-B038-D372A9E4D6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04F91-C350-4A3E-A064-6D0160C923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E8DE6-AA4D-46C4-B105-C8FC7CACEB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03A8A-E1A7-44F5-8CC5-8DDCAD7E62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AF92A-A129-4A1C-9642-15B8958983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22012-F69A-4A55-8120-4354D904D6B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B1499A-C2FF-46E6-A08E-A29B90AA5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0A23A-CD1F-41A5-BB9B-B2B0653B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D28F5D-3B73-4453-9711-3127A297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655A52-D8A0-4553-BC14-7C6452F3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45191-2BDF-498E-BE12-C8E980E4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86BCD9-F17E-497F-A3A2-EAE09436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94209A-110F-4F1E-87C3-EA1FE7BD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C4B1B5-4703-4283-B85E-0C3B5950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F032A2-80BB-4957-8103-FF549D64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5E9A0-EF7A-4F73-A1F9-1BB0C12E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ACA71E-9F7A-4B1A-95CE-8ACA388D7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A5A6B-120E-4D6F-BB4D-3DEC4827E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1B4018-0B73-4CBB-86AD-4EA0FB26C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B0B5CB-2B33-41F6-9D22-D1426399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FB000F-D4FC-49B5-9EEC-101B071E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97F964-2662-42B5-9DC1-D8CDFED4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3B92F6-0E22-40B1-9286-123D0D1F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72F931-2754-48E7-864C-D2CD9F5F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85785D-94B6-4016-A2BD-C9DCD011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3EB673-5A2F-44F3-A646-2C4C9E0F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B561C5-EFC2-4818-8EFC-E216A689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E48C52-F72D-49EE-A54C-24BA010C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D9431A-A480-4946-9882-F89EF8794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44CA9E-A2AB-4B97-A514-57555D93F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5EED-6637-422A-9B8C-07392F7857F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DC80-E0F4-4E40-9EB4-DADD1E71DD95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4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2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5CFA-69ED-4F07-BFA6-61D83DA54914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611280" y="5425920"/>
            <a:ext cx="78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92929"/>
                </a:solidFill>
                <a:latin typeface="Arial"/>
              </a:rPr>
              <a:t>Didactiek laptops in de klas</a:t>
            </a:r>
            <a:endParaRPr b="0" lang="en-US" sz="44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schooljaar 2011</a:t>
            </a: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191" name="Picture 8" descr="laptop-in-de-klas"/>
          <p:cNvPicPr/>
          <p:nvPr/>
        </p:nvPicPr>
        <p:blipFill>
          <a:blip r:embed="rId1"/>
          <a:stretch/>
        </p:blipFill>
        <p:spPr>
          <a:xfrm>
            <a:off x="3708360" y="1700280"/>
            <a:ext cx="4680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7632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praken en regels maken wat betreft laptopgebruik in de klas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42480" y="237960"/>
            <a:ext cx="6869160" cy="117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9280" y="198108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402120" indent="-40212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Introducti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-40212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Inventarisatie: wat gaat goed en wat gaat minder goed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-40212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Uitwisselen ervaring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-40212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Casebespreking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-40212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Concrete afsprakenlijst samenstell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-40212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15788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1 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Wat gaat goed, wat kan bet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468360" y="2205000"/>
            <a:ext cx="867564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chrijf op de geeltjes in Edistorm: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3 dingen die goed gaa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3 dingen die minder goed gaan e/o beter kunn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Zo concreet mogelijk!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20 minut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199" name="Picture 6" descr="Edistorm"/>
          <p:cNvPicPr/>
          <p:nvPr/>
        </p:nvPicPr>
        <p:blipFill>
          <a:blip r:embed="rId1"/>
          <a:stretch/>
        </p:blipFill>
        <p:spPr>
          <a:xfrm>
            <a:off x="3851280" y="5543640"/>
            <a:ext cx="19051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61560" y="33300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2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nzet van laptops/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727236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250920" y="1716120"/>
            <a:ext cx="8675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Maak afspraken en stel regels……’ (pijler 1)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- Bekijk de cases 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edenk eerst in duo’s: hoe zouden jullie dit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oplossen?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Plenaire bespreking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Tijd: 30 minut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61560" y="33300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Opdracht 3 Top vij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727236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250920" y="1716120"/>
            <a:ext cx="8675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Maak afspraken en stel regels……’ (pijler 1)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Stel een top 5 samen van de beste oplossingen, die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ruikbaar zijn in je eigen onderwijssituatie.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Tijd: 15 minut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Sandra Valk</cp:lastModifiedBy>
  <cp:lastPrinted>1999-12-08T22:23:44Z</cp:lastPrinted>
  <dcterms:modified xsi:type="dcterms:W3CDTF">2012-02-29T14:44:43Z</dcterms:modified>
  <cp:revision>142</cp:revision>
  <dc:subject/>
  <dc:title>C. van de Graaf &amp; Partners</dc:title>
</cp:coreProperties>
</file>