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B0B6-B761-458A-850B-3D76AFB464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07F2-E7E9-415A-8467-6477A4F10D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4B12-0F27-4999-8904-4E2A5C0456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A00D-09A8-4DE9-BE6E-A032F42BF9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4289-863D-41E6-A679-04E098603F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BC64-A0DB-408D-B7B8-E3B289E304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0676-A25F-4180-B9FE-B7115A880D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9955-81E5-4275-9447-8E15FC08E2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589D-24FE-4E0F-9B46-6487C9EA29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7316-144D-4B03-8E88-9803E7E12A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BC8B-03C5-4C15-A0DA-0C406361D5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67F1-2900-465C-B7B1-724F4D5E7A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8B28E-8360-4317-9526-DBEDE786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15BED-1EDF-4654-844A-0B1ED8BA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7F319-919F-4BF1-A551-602B0B63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55E22-45B8-4B3E-BCF8-EE140304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276F9-4D9C-4038-8524-E3CC5197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35A72-736D-4924-8990-AB9E70B1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313FE-9A6D-4C09-9BCA-D49171D7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6BBEC-DBCF-41EF-BD2D-BFFF8471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32526-AF46-430E-B3B1-C09E3A07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B367D-86BE-4159-9FBD-DCC7D328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E7F77-8D4E-44B7-BA86-FA2BEF0B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321ED-449F-46DC-8458-663144AF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35E54-9EBD-4FA3-9C53-2B28271C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35C6F8-3BEA-49FD-A44A-4A8C56E4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47A3F4-BAE0-4308-A610-2E1AFF1C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BD088F-8251-4597-81F7-AE05E695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E7D793-1165-431E-878F-F92B3D01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A5115E-69A6-4D1E-A8E6-19ECF703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16C535-F173-4C1A-AB2D-963835D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F68D7B-26A3-41E9-9AC9-DBABB1AE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EDEA8A-7C0A-4C51-A6E6-E96B49D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2CFCB1-E75A-41EC-83A1-6318C9CE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060D5C-6AA6-4688-9C4C-9A80416E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74562-CE5F-45CC-87C1-28BAB698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2306-5817-4E22-866D-B99C5B0837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441F-AEAB-4443-B39E-BEC372F50CA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DB8A-997A-4521-92A6-2381A62EFE2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ct in werkvorm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0" descr="networkteacher"/>
          <p:cNvPicPr/>
          <p:nvPr/>
        </p:nvPicPr>
        <p:blipFill>
          <a:blip r:embed="rId1"/>
          <a:stretch/>
        </p:blipFill>
        <p:spPr>
          <a:xfrm>
            <a:off x="2700360" y="198900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ct toepassingen integreren in delen van een eigen 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ogelijkheden met ict inventaris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werkvormen integr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1 Ict toepass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een van de volgende doelen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maken van studenten met elkaar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/inzicht verwerv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Beroepshoud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Vaardigheden (sociaal of technisch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Toetsing en/of evaluatie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27416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ct werkvormen integr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de eigen les(sen) en werk ze voor zover mogelijk uit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5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09:58:53Z</dcterms:modified>
  <cp:revision>142</cp:revision>
  <dc:subject/>
  <dc:title>C. van de Graaf &amp; Partners</dc:title>
</cp:coreProperties>
</file>