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1E80B-7CC8-42DA-BAB8-D2AFF19C0F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6D762-3282-40C0-96FD-B3F0B4DF91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74F5E-80F1-48B0-A70E-6126AB7DCB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EA72E-F3F5-4D8A-979B-A5CEE07184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A98ED-9249-4DF1-B485-B3FF8C69E4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6D0A6-5330-4E85-BF44-5C935C1BB1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DE17B-C7CA-4410-A44F-CF4066F61B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C87E-8F8F-4651-B285-A2DEBB252D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05BC-3D42-4DBA-89B1-9C9932DCE3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D1510-0E31-4227-A2D7-02E3436CE2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86D0E-6060-48D4-A078-7E90BB23E3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9367F-CBB9-4559-A96D-A4193D4AC85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0BC35-50E1-4C7C-8FD0-2BE733F1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CC432-7DC8-45A8-8BCF-41EA62D1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94FA5-2319-4241-BF0A-5B6604CE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6B864-0946-404E-95D2-BDCA88D7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1E516-86B7-4BEB-84D1-C816D471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98EFE-0A3F-4399-A1C5-01D2F5FE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876BA-9A14-4883-AD33-BF98FE22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95DEA-3842-4A74-8ED2-C53E6E75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72E2A-C53B-496F-8377-00949A29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C6C40-EE1E-4D07-848F-1F3C7BE2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24512-2078-495E-88B8-9091A7CA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794A8-153A-4081-B2A9-ACA54EEA5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675914-F713-4BA9-86C8-54198B1A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B336BC-9ECD-4EBC-9AE0-A18EE2B3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8786E1-ABEA-499E-9084-0051BBF6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463F4C-B2D0-4DFD-85B6-3835C134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40C314-414C-44C2-9AD0-BABEAB8C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AD4C9A-1704-4AC8-93CF-6E24412C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16B189-9E29-49E2-A375-2F3AA772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637960-AEC5-464B-AD7D-CED1AC53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EA8FAD-F1C3-408C-9F9C-74FA7555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D0D17B-A471-4C3A-8B89-7A22EE87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6B65D0-433D-4335-A820-3A704F7A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8C2142-A57F-4C16-A594-248F4368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5DFB-0A3F-48F5-B8EB-0D6B8E63285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DCB6-77CF-45D1-84FD-95C20512C6FF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BD86-E7C8-4164-90D2-BE85E176DDD1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9120" y="555300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Mediawijsheid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3810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Mediawijs worden en overbrengen aan leerlingen’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916360" y="3054240"/>
            <a:ext cx="58165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Discussi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Ict-vaardighed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Informatievaardighed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912000" y="3762360"/>
            <a:ext cx="2232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Josien</cp:lastModifiedBy>
  <cp:lastPrinted>1999-12-08T22:23:44Z</cp:lastPrinted>
  <dcterms:modified xsi:type="dcterms:W3CDTF">2011-10-05T09:14:16Z</dcterms:modified>
  <cp:revision>141</cp:revision>
  <dc:subject/>
  <dc:title>C. van de Graaf &amp; Partners</dc:title>
</cp:coreProperties>
</file>