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E002-DB01-48E7-BD0B-BF3C0D0D7C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F630-D697-4991-9519-A7DDDCEB5E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0030-B3BF-4D81-BE5C-CA522A4C1C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470F-02C5-45F0-A6A3-42DFF7B3ED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FE5F-7ED4-44B5-9A04-BE07082274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2E5D-CB27-4C0F-9A0D-35AE565349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AAA7-B8D7-409D-953D-09C5DEAAA2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5052-CE0C-4005-B9B2-AC53AC5389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6CDD-3DAD-4C8D-99AE-33D2622B54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5369-E544-4E84-9022-5E81ED0159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F496-1FD9-4AB9-8CA3-57F49DC7E9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F47B-2BC4-4625-8495-D980FBD113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60EDB-AFC9-4EFA-8F6B-9126644D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C584E-D730-44FB-9471-5A43C4AD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3FABE-F5D3-46A2-9FF9-D0913E53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F3138-5951-4E14-9CE8-748BE86B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3D9DE-3D73-4D2A-8B08-D9675A0E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CAB7C-F57B-4930-BF01-8EA05D72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2299B-D530-49AD-82ED-EA94187A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FDBFF-608A-41CA-93AA-D90A92CA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543B2-5967-4471-AC36-161EDAAB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0D1D2-415D-41D5-9CCB-6E1063CE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7F84A-6CE2-4A1F-86CA-3A931D9F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0FB15-DB37-45C0-91A1-BE915407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29C4B-3D6A-4875-964D-CD701289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D59EE-9FB9-43BD-A3BC-5D79A349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75E7F8-54BB-46BB-A3D4-FA5407BD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6D045-B036-4F24-9F2A-F0FCB361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F49C6-13AC-41DC-8DA1-1B5B6C7C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AB641-A27B-4143-A03C-DDF30B6E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EE5C4-D0D2-4CC7-941F-AD665E11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2BBFB-BB98-4177-9FF1-733B0641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FBA7B-BEDF-42FF-8F53-4C49D54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886385-CBE3-41E8-A8D5-E39E2B20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B4F0A-4C67-487E-9FD5-9ED5BCA1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5C345-F865-4164-A498-35D0A365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CD8A-D7A4-49E6-875B-A8172AD1BF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C79F-BCF9-4BB5-8277-5D4974A4EAF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150A-88BC-4D82-AFAC-CFB50BF06FEB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40160" y="1197000"/>
            <a:ext cx="5668920" cy="425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457880" cy="297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leiding laptopdidactiek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Kennismaken met de drie pijlers van de laptopdidactiek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3311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dracht 1: stell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houd: drie pijlers, Tpackmo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t practi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25527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dracht 1 Stell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205000"/>
            <a:ext cx="8675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geer op de stelling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 ieder scherm staat een andere stelling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gin iedere reactie met je initial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69231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jl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279720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Maak afspraken en stel regels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Integreer ict in de werkvormen (T-Pack)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Bij eigen laptop: zet laptop veel en effectief in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1680" y="549000"/>
            <a:ext cx="715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-PACK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4249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Didact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Vakinhoudelijk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Technolog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069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igen best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205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Calibri"/>
              </a:rPr>
              <a:t>Een voorbeeld</a:t>
            </a:r>
            <a:endParaRPr b="0" lang="en-US" sz="36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09-14T14:38:46Z</dcterms:modified>
  <cp:revision>139</cp:revision>
  <dc:subject/>
  <dc:title>C. van de Graaf &amp; Partners</dc:title>
</cp:coreProperties>
</file>