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8BA2-5FD2-45B6-980C-FA24961E48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DECC-A29D-4E89-B385-3131BF1A29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88B7-9D58-4FDF-A999-E31FF756D2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27A3-6A5A-4121-B5DC-9D18120B41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1A62-8584-40FA-B724-89B08F445B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62CB-0164-4975-B6B2-32F50BE09C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AA00-3317-43E8-9486-B4AC45FCFF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AFC0-C6A9-4C06-92A0-DDF9CB8D62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9168-AEB7-487B-8912-54DD2475B6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6F70-D614-42E6-AC26-9F63497554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DA29-9300-4F44-8DA9-280E835208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E7F4-8D97-4FC7-8F3A-8D72F2A661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6F36B-3038-4327-B97F-26F557D7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9A8FD-EED3-488F-A4F1-0ACC2CFA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7E19C-6A34-4F76-9F81-2F626F8C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A5E6D-59EA-484F-B496-5A8F0635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2B05E-FA1A-4341-80CD-95D64123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A97EE-1882-4726-A348-412E75F6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B8923-592F-4DFC-80B2-7EFA6232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57EB6-1AC7-455A-801E-28E0371B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F7677-423D-4897-B561-8FD948DD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E24D0-38DE-4E17-A46C-43529C94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96F0B-0522-481F-BD6F-D31C8B31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FE909-20D8-4B7E-8B8D-7DA0AE5F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6E8468-EEC3-4D23-8AC7-E43D8450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8F0C31-E823-44DA-BBB8-FD2169EA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A17207-80BE-401A-8C08-6B0BCB44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9B9C83-5D7D-4BE0-899C-31785D92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A355D5-5A4F-4590-ADDB-ECEC356A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3E2246-8BEE-4B3B-A8EC-9212C28A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6C4756-1F77-441A-834A-4D26399A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0FA074-EBBA-48D4-A088-4AA12A0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996A26-7208-4FAD-A34C-D7FF05E7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2BBA1D-E892-46B3-AF85-6DF25B3E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3761C-4C42-4205-A236-3037B7A5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FAF0E3-9212-4D3E-AD50-1218F8AD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4825-FC5C-4388-98E1-A84D18992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CDBE-0783-451D-B40F-5BAB37F37C1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F499-C821-4FC9-BC38-0ADA52BC487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Beoordelen leermiddelen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67280" y="1700280"/>
            <a:ext cx="3311280" cy="3311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09564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ermiddelen kunnen beoordelen op kwaliteit en geschiktheid voor inzet in eigen less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oordelen bestaand materia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bruik checklist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hecklist aanvul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Eigen materiaal beoorde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5560" y="26496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oordelen bestaand materia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kijk de digitale leermiddelen globaal en…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noem het type leermiddel,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geef je mening over de kwaliteit met onderbouwing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5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2  Check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oordeel de leermiddelen op geschiktheid en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kwaliteit met de checklijs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3  Checklist aanvu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26920" y="171612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Vul de checklist aan, zodat het een bruikbare checklist wordt;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mist er nog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kan er weg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4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gen materiaal beoorde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826920" y="171612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oordeel met de checklist een eigen gemaakt of ontworpen leermiddel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&gt; Waar ligt de kwaliteit van jouw leermiddel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&gt; Op welke gebieden kun je je eigen leermiddel verbeteren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09-20T11:58:36Z</dcterms:modified>
  <cp:revision>150</cp:revision>
  <dc:subject/>
  <dc:title>C. van de Graaf &amp; Partners</dc:title>
</cp:coreProperties>
</file>