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F4B111-DB7E-4505-B349-DFF37B7A9A0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C47BDB-1606-4099-B3F9-9A747A503A6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1B8260-4EF3-4ED9-8C34-7C742B37670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14878F-2705-4690-AA75-53AB0851072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4E6BC6-81FC-4897-958C-7D85F7DF1C1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A7F7C5-4E6D-466F-AA0C-4FFBB654BBB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979CA-4E7F-44F2-AA4C-A0756A4F500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6D8054-79E5-472C-8B1A-7E7637EDA5C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8FEC51-FE93-4E7C-B960-E1218C10CCF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18771C-BE78-4DD0-A5CB-569B5FE743A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F2AB60-9F49-4E7C-9670-24D34476E2E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E883F0-0F38-48F8-9121-C517FF680540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10EB1E-038E-4548-8457-C310012B3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C73BFE-B8BB-42B3-87AD-A247F5104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300DED-BDBB-4535-A801-2D4D80873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6AFC00-3092-45C0-9996-54770F005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4F98A8-0034-421F-A562-181F59250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2508C5-C8AD-47D2-91DB-9F92D936D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59460C-236C-440F-870F-4012B7B77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DAE14A-DC0F-4F6B-AF18-1E9030E1D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6172B4-587E-4BEC-8613-755A29DA7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BABE1A-A5FF-4F99-86ED-E86059670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4FE516-3C76-4E92-A279-6959C1FAE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B65EEA-15CB-4F3C-A21A-8E38C4559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375490D-2AEC-4E46-9A88-F79BB7205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755F67A-7EFA-4858-86B7-3BCEB5993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20B1695-2787-42DF-B831-C6C1724F1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088FCFD-2CA5-4BF9-A643-83070CDD4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2B1714C-4349-4928-A381-1603DED3A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D2DBFC4-84E7-4FDE-9913-B3E3CA3C1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E846A73-E67A-4F67-9FD7-E1BB49185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94FBA3D-FCF8-4856-ABEE-9C31014EB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4FE7E83-5FBF-47E6-BEF0-967FD0BBB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E367708-9C79-43D5-8A33-607557050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CE38F0B-44D5-47CC-B1C6-BB9616A4F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FB918F9-24F9-4226-B0AF-1536C9C11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Logo_mauve"/>
          <p:cNvPicPr/>
          <p:nvPr/>
        </p:nvPicPr>
        <p:blipFill>
          <a:blip r:embed="rId2"/>
          <a:stretch/>
        </p:blipFill>
        <p:spPr>
          <a:xfrm>
            <a:off x="2987640" y="5692680"/>
            <a:ext cx="2376360" cy="863640"/>
          </a:xfrm>
          <a:prstGeom prst="rect">
            <a:avLst/>
          </a:prstGeom>
          <a:ln w="0">
            <a:noFill/>
          </a:ln>
        </p:spPr>
      </p:pic>
      <p:sp>
        <p:nvSpPr>
          <p:cNvPr id="1" name="Line 13"/>
          <p:cNvSpPr/>
          <p:nvPr/>
        </p:nvSpPr>
        <p:spPr>
          <a:xfrm>
            <a:off x="5508720" y="5589720"/>
            <a:ext cx="0" cy="10396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ecilia Roman"/>
            </a:endParaRPr>
          </a:p>
        </p:txBody>
      </p:sp>
      <p:sp>
        <p:nvSpPr>
          <p:cNvPr id="2" name="Text Box 19"/>
          <p:cNvSpPr/>
          <p:nvPr/>
        </p:nvSpPr>
        <p:spPr>
          <a:xfrm>
            <a:off x="5581800" y="5667480"/>
            <a:ext cx="215892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Bankrashof 3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1183 NP Amstelveen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T +31 (0)20 3455550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F +31 (0)20 3455551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</p:txBody>
      </p:sp>
      <p:sp>
        <p:nvSpPr>
          <p:cNvPr id="3" name="Text Box 32"/>
          <p:cNvSpPr/>
          <p:nvPr/>
        </p:nvSpPr>
        <p:spPr>
          <a:xfrm>
            <a:off x="7165800" y="5667480"/>
            <a:ext cx="215928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E info@cvdgraaf.nl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I www.cvdgraaf.nl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KvK Amsterdam 34116245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692316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" name="Group 27"/>
          <p:cNvGrpSpPr/>
          <p:nvPr/>
        </p:nvGrpSpPr>
        <p:grpSpPr>
          <a:xfrm>
            <a:off x="7613640" y="1268280"/>
            <a:ext cx="1206000" cy="4176360"/>
            <a:chOff x="7613640" y="1268280"/>
            <a:chExt cx="1206000" cy="4176360"/>
          </a:xfrm>
        </p:grpSpPr>
        <p:pic>
          <p:nvPicPr>
            <p:cNvPr id="7" name="Picture 16" descr="advies_8%"/>
            <p:cNvPicPr/>
            <p:nvPr/>
          </p:nvPicPr>
          <p:blipFill>
            <a:blip r:embed="rId3"/>
            <a:stretch/>
          </p:blipFill>
          <p:spPr>
            <a:xfrm>
              <a:off x="7613640" y="1268280"/>
              <a:ext cx="1204920" cy="87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" name="Picture 17" descr="ontwikkeling_8%"/>
            <p:cNvPicPr/>
            <p:nvPr/>
          </p:nvPicPr>
          <p:blipFill>
            <a:blip r:embed="rId4"/>
            <a:stretch/>
          </p:blipFill>
          <p:spPr>
            <a:xfrm>
              <a:off x="7615080" y="2305800"/>
              <a:ext cx="1204560" cy="95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" name="Picture 18" descr="projectmanagement_8%"/>
            <p:cNvPicPr/>
            <p:nvPr/>
          </p:nvPicPr>
          <p:blipFill>
            <a:blip r:embed="rId5"/>
            <a:stretch/>
          </p:blipFill>
          <p:spPr>
            <a:xfrm>
              <a:off x="7615080" y="3498120"/>
              <a:ext cx="1204560" cy="76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" name="Picture 19" descr="training_8%"/>
            <p:cNvPicPr/>
            <p:nvPr/>
          </p:nvPicPr>
          <p:blipFill>
            <a:blip r:embed="rId6"/>
            <a:stretch/>
          </p:blipFill>
          <p:spPr>
            <a:xfrm>
              <a:off x="7615080" y="4522320"/>
              <a:ext cx="1204560" cy="92232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Num" idx="1"/>
          </p:nvPr>
        </p:nvSpPr>
        <p:spPr>
          <a:xfrm>
            <a:off x="46800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2A34E-4410-4592-9533-F120D0EE47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7"/>
          <p:cNvSpPr/>
          <p:nvPr/>
        </p:nvSpPr>
        <p:spPr>
          <a:xfrm>
            <a:off x="179280" y="3068640"/>
            <a:ext cx="25210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ecilia Roman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7574040" y="5805360"/>
            <a:ext cx="179856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Caecilia Roman"/>
              </a:rPr>
              <a:t>Ontwikkeling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Caecilia Roman"/>
              </a:rPr>
              <a:t>Advies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Caecilia Roman"/>
              </a:rPr>
              <a:t>Projectmanagement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Caecilia Roman"/>
              </a:rPr>
              <a:t>Training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</p:txBody>
      </p:sp>
      <p:pic>
        <p:nvPicPr>
          <p:cNvPr id="50" name="Picture 14" descr="Logo_mauve"/>
          <p:cNvPicPr/>
          <p:nvPr/>
        </p:nvPicPr>
        <p:blipFill>
          <a:blip r:embed="rId2"/>
          <a:stretch/>
        </p:blipFill>
        <p:spPr>
          <a:xfrm>
            <a:off x="5437080" y="5952960"/>
            <a:ext cx="1943280" cy="706680"/>
          </a:xfrm>
          <a:prstGeom prst="rect">
            <a:avLst/>
          </a:prstGeom>
          <a:ln w="0">
            <a:noFill/>
          </a:ln>
        </p:spPr>
      </p:pic>
      <p:sp>
        <p:nvSpPr>
          <p:cNvPr id="51" name="Text Box 15"/>
          <p:cNvSpPr/>
          <p:nvPr/>
        </p:nvSpPr>
        <p:spPr>
          <a:xfrm>
            <a:off x="179280" y="3068640"/>
            <a:ext cx="25210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ecilia Roman"/>
            </a:endParaRPr>
          </a:p>
        </p:txBody>
      </p:sp>
      <p:grpSp>
        <p:nvGrpSpPr>
          <p:cNvPr id="52" name="Group 27"/>
          <p:cNvGrpSpPr/>
          <p:nvPr/>
        </p:nvGrpSpPr>
        <p:grpSpPr>
          <a:xfrm>
            <a:off x="7613640" y="1268280"/>
            <a:ext cx="1206000" cy="4176360"/>
            <a:chOff x="7613640" y="1268280"/>
            <a:chExt cx="1206000" cy="4176360"/>
          </a:xfrm>
        </p:grpSpPr>
        <p:pic>
          <p:nvPicPr>
            <p:cNvPr id="53" name="Picture 16" descr="advies_8%"/>
            <p:cNvPicPr/>
            <p:nvPr/>
          </p:nvPicPr>
          <p:blipFill>
            <a:blip r:embed="rId3"/>
            <a:stretch/>
          </p:blipFill>
          <p:spPr>
            <a:xfrm>
              <a:off x="7613640" y="1268280"/>
              <a:ext cx="1204920" cy="87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Picture 17" descr="ontwikkeling_8%"/>
            <p:cNvPicPr/>
            <p:nvPr/>
          </p:nvPicPr>
          <p:blipFill>
            <a:blip r:embed="rId4"/>
            <a:stretch/>
          </p:blipFill>
          <p:spPr>
            <a:xfrm>
              <a:off x="7615080" y="2305800"/>
              <a:ext cx="1204560" cy="95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Picture 18" descr="projectmanagement_8%"/>
            <p:cNvPicPr/>
            <p:nvPr/>
          </p:nvPicPr>
          <p:blipFill>
            <a:blip r:embed="rId5"/>
            <a:stretch/>
          </p:blipFill>
          <p:spPr>
            <a:xfrm>
              <a:off x="7615080" y="3498120"/>
              <a:ext cx="1204560" cy="76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Picture 19" descr="training_8%"/>
            <p:cNvPicPr/>
            <p:nvPr/>
          </p:nvPicPr>
          <p:blipFill>
            <a:blip r:embed="rId6"/>
            <a:stretch/>
          </p:blipFill>
          <p:spPr>
            <a:xfrm>
              <a:off x="7615080" y="4522320"/>
              <a:ext cx="1204560" cy="922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" name="Line 21"/>
          <p:cNvSpPr/>
          <p:nvPr/>
        </p:nvSpPr>
        <p:spPr>
          <a:xfrm>
            <a:off x="7524720" y="5845320"/>
            <a:ext cx="0" cy="825480"/>
          </a:xfrm>
          <a:prstGeom prst="line">
            <a:avLst/>
          </a:prstGeom>
          <a:ln w="13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ecilia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body"/>
          </p:nvPr>
        </p:nvSpPr>
        <p:spPr>
          <a:xfrm>
            <a:off x="456840" y="1600200"/>
            <a:ext cx="692316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ecilia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ecilia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2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3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4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7BF62-81FE-4B5C-98A9-07BADA546E9E}" type="slidenum">
              <a:rPr b="0" lang="en-US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38080" y="561960"/>
            <a:ext cx="152640" cy="10666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ecilia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263080" y="270000"/>
            <a:ext cx="152280" cy="10731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ecilia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dt" idx="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sldNum" idx="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04DA6-59A8-459F-8538-BCFF2E8036B3}" type="slidenum">
              <a:rPr b="0" lang="en-US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145" name="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ecilia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ecilia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ecilia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ecilia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ecilia Roman"/>
              </a:endParaRPr>
            </a:p>
          </p:txBody>
        </p:sp>
      </p:grpSp>
      <p:sp>
        <p:nvSpPr>
          <p:cNvPr id="150" name="PlaceHolder 4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4572000" y="404640"/>
            <a:ext cx="36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92929"/>
                </a:solidFill>
                <a:latin typeface="Arial"/>
              </a:rPr>
              <a:t>Training digitale didactiek</a:t>
            </a:r>
            <a:endParaRPr b="0" lang="en-US" sz="2400" spc="-1" strike="noStrike">
              <a:solidFill>
                <a:srgbClr val="000000"/>
              </a:solidFill>
              <a:latin typeface="Caecilia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246560" y="4724280"/>
            <a:ext cx="489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ecilia Roman"/>
              </a:rPr>
              <a:t>    </a:t>
            </a:r>
            <a:endParaRPr b="0" lang="en-US" sz="4000" spc="-1" strike="noStrike">
              <a:solidFill>
                <a:srgbClr val="000000"/>
              </a:solidFill>
              <a:latin typeface="Caecilia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68360" y="5121360"/>
            <a:ext cx="8373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92929"/>
                </a:solidFill>
                <a:latin typeface="Arial"/>
              </a:rPr>
              <a:t>Beoordelen leermiddelen</a:t>
            </a:r>
            <a:endParaRPr b="0" lang="en-US" sz="5400" spc="-1" strike="noStrike">
              <a:solidFill>
                <a:srgbClr val="000000"/>
              </a:solidFill>
              <a:latin typeface="Caecilia Roman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4067280" y="1700280"/>
            <a:ext cx="3311280" cy="331128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395280" y="1916280"/>
            <a:ext cx="3095640" cy="30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93760" y="264960"/>
            <a:ext cx="601992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o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72010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Leermiddelen kunnen beoordelen op kwaliteit en geschiktheid voor inzet in eigen lessen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42840" y="237960"/>
            <a:ext cx="6019920" cy="117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gramm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50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505800" indent="-50580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Inleiding en programma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505800" indent="-50580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292929"/>
                </a:solidFill>
                <a:latin typeface="Arial"/>
              </a:rPr>
              <a:t>Beoordelen bestaand materiaa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505800" indent="-50580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292929"/>
                </a:solidFill>
                <a:latin typeface="Arial"/>
              </a:rPr>
              <a:t>Gebruik checklist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505800" indent="-50580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292929"/>
                </a:solidFill>
                <a:latin typeface="Arial"/>
              </a:rPr>
              <a:t>Checklist aanvullen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505800" indent="-50580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292929"/>
                </a:solidFill>
                <a:latin typeface="Arial"/>
              </a:rPr>
              <a:t>Eigen materiaal beoordelen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505800" indent="-50580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Afsluiting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50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50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50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15560" y="264960"/>
            <a:ext cx="787716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pdracht 1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oordelen bestaand materia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57240" y="2268360"/>
            <a:ext cx="6770880" cy="36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8" name="Rectangle 4"/>
          <p:cNvSpPr/>
          <p:nvPr/>
        </p:nvSpPr>
        <p:spPr>
          <a:xfrm>
            <a:off x="826920" y="1708200"/>
            <a:ext cx="8099640" cy="368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ecilia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92929"/>
                </a:solidFill>
                <a:latin typeface="Arial"/>
              </a:rPr>
              <a:t>Bekijk de digitale leermiddelen globaal en…</a:t>
            </a:r>
            <a:endParaRPr b="0" lang="en-US" sz="2800" spc="-1" strike="noStrike">
              <a:solidFill>
                <a:srgbClr val="000000"/>
              </a:solidFill>
              <a:latin typeface="Caecilia Roman"/>
            </a:endParaRPr>
          </a:p>
          <a:p>
            <a:pPr marL="457200" indent="-457200">
              <a:lnSpc>
                <a:spcPct val="100000"/>
              </a:lnSpc>
              <a:buClr>
                <a:srgbClr val="29292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92929"/>
                </a:solidFill>
                <a:latin typeface="Arial"/>
              </a:rPr>
              <a:t>benoem het type leermiddel, </a:t>
            </a:r>
            <a:endParaRPr b="0" lang="en-US" sz="2800" spc="-1" strike="noStrike">
              <a:solidFill>
                <a:srgbClr val="000000"/>
              </a:solidFill>
              <a:latin typeface="Caecilia Roman"/>
            </a:endParaRPr>
          </a:p>
          <a:p>
            <a:pPr marL="457200" indent="-457200">
              <a:lnSpc>
                <a:spcPct val="100000"/>
              </a:lnSpc>
              <a:buClr>
                <a:srgbClr val="29292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92929"/>
                </a:solidFill>
                <a:latin typeface="Arial"/>
              </a:rPr>
              <a:t>geef je mening over de kwaliteit met onderbouwing.</a:t>
            </a:r>
            <a:endParaRPr b="0" lang="en-US" sz="2800" spc="-1" strike="noStrike">
              <a:solidFill>
                <a:srgbClr val="000000"/>
              </a:solidFill>
              <a:latin typeface="Caecilia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ecilia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ecilia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92929"/>
                </a:solidFill>
                <a:latin typeface="Arial"/>
              </a:rPr>
              <a:t>Tijd: 25 minuten</a:t>
            </a:r>
            <a:endParaRPr b="0" lang="en-US" sz="2800" spc="-1" strike="noStrike">
              <a:solidFill>
                <a:srgbClr val="000000"/>
              </a:solidFill>
              <a:latin typeface="Caecilia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042920" y="765000"/>
            <a:ext cx="7274160" cy="7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pdracht 2  Checkli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4"/>
          <p:cNvSpPr/>
          <p:nvPr/>
        </p:nvSpPr>
        <p:spPr>
          <a:xfrm>
            <a:off x="826920" y="1716120"/>
            <a:ext cx="7632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Beoordeel de leermiddelen op geschiktheid en </a:t>
            </a:r>
            <a:endParaRPr b="0" lang="en-US" sz="28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kwaliteit met de checklijst</a:t>
            </a:r>
            <a:r>
              <a:rPr b="0" lang="nl-NL" sz="2800" spc="-1" strike="noStrike">
                <a:solidFill>
                  <a:srgbClr val="292929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92929"/>
                </a:solidFill>
                <a:latin typeface="Arial"/>
              </a:rPr>
              <a:t>Tijd: 40 minuten</a:t>
            </a:r>
            <a:endParaRPr b="0" lang="en-US" sz="2800" spc="-1" strike="noStrike">
              <a:solidFill>
                <a:srgbClr val="000000"/>
              </a:solidFill>
              <a:latin typeface="Caecilia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042920" y="765000"/>
            <a:ext cx="7274160" cy="7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pdracht 3  Checklist aanvull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4"/>
          <p:cNvSpPr/>
          <p:nvPr/>
        </p:nvSpPr>
        <p:spPr>
          <a:xfrm>
            <a:off x="826920" y="1716120"/>
            <a:ext cx="76327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92929"/>
                </a:solidFill>
                <a:latin typeface="Arial"/>
              </a:rPr>
              <a:t>Vul de checklist aan, zodat het een bruikbare checklist wordt;</a:t>
            </a:r>
            <a:endParaRPr b="0" lang="en-US" sz="28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lnSpc>
                <a:spcPct val="100000"/>
              </a:lnSpc>
              <a:buClr>
                <a:srgbClr val="29292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nl-NL" sz="2800" spc="-1" strike="noStrike">
                <a:solidFill>
                  <a:srgbClr val="292929"/>
                </a:solidFill>
                <a:latin typeface="Arial"/>
              </a:rPr>
              <a:t>Wat mist er nog?</a:t>
            </a:r>
            <a:endParaRPr b="0" lang="en-US" sz="28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lnSpc>
                <a:spcPct val="100000"/>
              </a:lnSpc>
              <a:buClr>
                <a:srgbClr val="29292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nl-NL" sz="2800" spc="-1" strike="noStrike">
                <a:solidFill>
                  <a:srgbClr val="292929"/>
                </a:solidFill>
                <a:latin typeface="Arial"/>
              </a:rPr>
              <a:t>Wat kan er weg?</a:t>
            </a:r>
            <a:endParaRPr b="0" lang="en-US" sz="28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92929"/>
                </a:solidFill>
                <a:latin typeface="Arial"/>
              </a:rPr>
              <a:t>Tijd: 30 minuten</a:t>
            </a:r>
            <a:endParaRPr b="0" lang="en-US" sz="2800" spc="-1" strike="noStrike">
              <a:solidFill>
                <a:srgbClr val="000000"/>
              </a:solidFill>
              <a:latin typeface="Caecilia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042920" y="765000"/>
            <a:ext cx="7274160" cy="7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pdracht 4 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igen materiaal beoordel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4"/>
          <p:cNvSpPr/>
          <p:nvPr/>
        </p:nvSpPr>
        <p:spPr>
          <a:xfrm>
            <a:off x="826920" y="1716120"/>
            <a:ext cx="76327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92929"/>
                </a:solidFill>
                <a:latin typeface="Arial"/>
              </a:rPr>
              <a:t>Beoordeel met de checklist een eigen gemaakt of ontworpen leermiddel.</a:t>
            </a:r>
            <a:endParaRPr b="0" lang="en-US" sz="28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92929"/>
                </a:solidFill>
                <a:latin typeface="Arial"/>
              </a:rPr>
              <a:t>&gt; Waar ligt de kwaliteit van jouw leermiddel?</a:t>
            </a:r>
            <a:endParaRPr b="0" lang="en-US" sz="28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92929"/>
                </a:solidFill>
                <a:latin typeface="Arial"/>
              </a:rPr>
              <a:t>&gt; Op welke gebieden kun je je eigen leermiddel verbeteren?</a:t>
            </a:r>
            <a:endParaRPr b="0" lang="en-US" sz="28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92929"/>
                </a:solidFill>
                <a:latin typeface="Arial"/>
              </a:rPr>
              <a:t>Tijd: 40 minuten</a:t>
            </a:r>
            <a:endParaRPr b="0" lang="en-US" sz="2800" spc="-1" strike="noStrike">
              <a:solidFill>
                <a:srgbClr val="000000"/>
              </a:solidFill>
              <a:latin typeface="Caecilia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Catherine van de Graaf</dc:creator>
  <dc:description/>
  <dc:language>en-US</dc:language>
  <cp:lastModifiedBy>Preferred Customer</cp:lastModifiedBy>
  <cp:lastPrinted>1999-12-08T22:23:44Z</cp:lastPrinted>
  <dcterms:modified xsi:type="dcterms:W3CDTF">2011-09-20T11:58:36Z</dcterms:modified>
  <cp:revision>150</cp:revision>
  <dc:subject/>
  <dc:title>C. van de Graaf &amp; Partners</dc:title>
</cp:coreProperties>
</file>