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5ECD-42BB-4590-903C-B43F97D053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18C8-E2C1-4368-B880-3866CE861E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D0DD-6382-464D-AFC4-777C74945E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51F9-22F3-4442-A0DE-05B4EBB126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AA1B-02AC-40D7-B93E-B5BACA2DAE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6E2F-5984-44A4-B72F-736694F733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D57D-48B9-4B97-A80F-1E55A480F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D334-8D4F-4BFD-8C31-56274A76C8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B981-7FA7-4335-BCA4-0567F74E0D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739A-DB1E-4633-A37E-40E2E62B72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392A-0316-4F4A-972C-8DE258433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A849-10C5-43CA-A4DD-796A155529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D97C4-18E3-4FFC-B2D4-EFB78DE4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90A51-8B90-464C-8E95-2C8EDF91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08DFF-1444-48E8-87B2-28773E76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CE896-0E62-457F-A39E-9243E881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A39A4-47A9-4BF6-A261-8739A16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7F688-DD8E-445E-9F5E-32B42C52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DCC3E-7480-41F6-B510-98107638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2891E-18CD-49E6-AADD-FB4197C8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B98E3-0288-42C0-8F6D-018646D7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6BF7C-DFF4-4D5A-A5BF-09587B3A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93924-1497-4F57-80BD-8E738BF3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155E3-3E29-466F-BD49-852E3191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698FD-D015-4119-8A18-92E88852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02191-2158-45CB-8DD0-C8BA2A00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DB735-33C2-45BA-B676-ADADFF1C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7283F-48ED-4390-9755-594D778E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88D41-A5FF-408E-AF38-8BDD1D46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6A38B-9B29-4729-85C6-32A8A9D2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297ED-AA9E-41DD-9022-51D6FC0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1B97D-01EC-4B98-A69C-30AA804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0F6895-2EDE-44AB-87FA-8B9FB9B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5C7C8-7D5A-4DE9-9284-314BCA80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3ED5EE-D47B-4E07-9EB7-14F96FC6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B276C7-C543-4CE9-AE27-BC8D95B9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60A4-A2F5-43A4-8202-62F378AD2B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4144-FB73-464E-BAD1-A859EF3E7BB0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E1D8-0E49-4DDE-9F96-3DFDC0A4A19F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Mediawijsh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810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ediawijs worden en overbrengen aan leerlingen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16360" y="3054240"/>
            <a:ext cx="5816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Discuss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ct-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12000" y="376236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10-05T09:14:16Z</dcterms:modified>
  <cp:revision>141</cp:revision>
  <dc:subject/>
  <dc:title>C. van de Graaf &amp; Partners</dc:title>
</cp:coreProperties>
</file>