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5448-7C5E-47F5-BA31-1B1438D676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B726-CD01-460C-BC44-7FAD89BB20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5267-57CC-4084-9DD2-92D4FDE1E3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DF89-1839-43FA-AFF0-124C6D431B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ABED-2F9E-4800-8ED5-BD9C483A82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938E-FCBD-464D-8CBC-E7291D6CD1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A1F7-C6E4-4F7A-8C1A-EF9F988BEF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E7CA-BB4A-40DB-8F32-DD42A3332B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1357-70EA-41F2-A383-04E7571E57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A5AC-489C-41F2-BB2A-4BDBDBC59F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0AFB-CA66-4E04-8643-C980E256DA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73E4-6A7A-4F64-9964-FA4CA6353D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FFCFD-43B2-4249-862D-9E0580EC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09D64-E617-49F0-96E9-09C2916B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4D06E-140F-41B0-8834-FC163010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ECD0B-E454-49EC-AF09-8D6F1567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25627-8A73-4285-864B-03EDFF2D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59D86-7A58-4033-B782-6BB30DD5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C9ACE-6D74-4AA9-8253-AF9E051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E90B2-A414-4225-B1C6-7DD9351E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F7995-7EDE-4188-9661-D6979A43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8768E-F219-414B-97BA-F479C6E0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45086-03CE-40A3-80B0-683F118F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C372C-F7A7-4A82-A98A-9DDB381D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D51BEC-BEE3-44CB-8978-FFFD2363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6D069-2E33-4849-8423-7AC51E83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DBDB9-1A9E-4E73-A5DE-031435FB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1BD262-AE13-4B41-A0C6-6FA82229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7E45A-7893-4ABA-9C65-61C022DD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E7E3E-7AE3-4EE8-B9EA-931B45A2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5600C-0A66-4B79-A88C-E5FFB78C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FB189-8DAE-4232-9153-E98D0B9F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1C0FC4-CAF5-4CEA-8B15-DEEC52AE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092DE-41FE-4A21-9434-9FC9028C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404058-7834-452E-B4D9-3C31A434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9719E-A6BE-4EDB-B483-80E17D53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36C0-DD80-43BF-91C6-BDD8186841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42E5-CB67-49B5-A8C7-3C77A42908A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CFED-10B1-4BA1-8E4D-BF7AE2E6841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1"/>
          <a:stretch/>
        </p:blipFill>
        <p:spPr>
          <a:xfrm>
            <a:off x="6443640" y="2997360"/>
            <a:ext cx="2238480" cy="2238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PowerPoint"/>
          <p:cNvPicPr/>
          <p:nvPr/>
        </p:nvPicPr>
        <p:blipFill>
          <a:blip r:embed="rId2"/>
          <a:stretch/>
        </p:blipFill>
        <p:spPr>
          <a:xfrm>
            <a:off x="1332000" y="2708280"/>
            <a:ext cx="1155600" cy="115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Word2007"/>
          <p:cNvPicPr/>
          <p:nvPr/>
        </p:nvPicPr>
        <p:blipFill>
          <a:blip r:embed="rId3"/>
          <a:stretch/>
        </p:blipFill>
        <p:spPr>
          <a:xfrm>
            <a:off x="2916360" y="2781360"/>
            <a:ext cx="1073160" cy="10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Excel2007Logo"/>
          <p:cNvPicPr/>
          <p:nvPr/>
        </p:nvPicPr>
        <p:blipFill>
          <a:blip r:embed="rId4"/>
          <a:stretch/>
        </p:blipFill>
        <p:spPr>
          <a:xfrm>
            <a:off x="4211640" y="27082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ict-toepassingen maken met Word, PowerPoint en Exce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in Word, PP of Excel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in Word, PowerPoint en Excel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0:39:41Z</dcterms:modified>
  <cp:revision>140</cp:revision>
  <dc:subject/>
  <dc:title>C. van de Graaf &amp; Partners</dc:title>
</cp:coreProperties>
</file>