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182A-F082-4A99-9929-E9227E8DE6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3239-6CEF-49A2-B8C7-D07056DEF6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625A-ED0E-4587-B59D-6083CB32BD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0E34-7BE9-4ED2-80DB-FADAC1E04B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49E6-ACF3-4D09-A4D1-28837AA032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B454-07A4-4EF0-A79C-F9F5CF321F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2FDC-A501-4727-982F-56A90970B4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3243-B892-4BCE-B564-4AEA2A7F09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C525-CD50-48C2-BD80-2B84E2DF2C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5DA0-3956-4B8C-B699-01F89C045F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CE55-4153-4368-A7C9-EE46B5B798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57B2-AE66-4E86-BDCC-DCA0DC4319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DB6B4-E67D-444C-BB95-CCED7231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B4232-AAA7-4A7E-A082-5C7073C1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39DF5-BC86-4DA5-BCEC-9CD62A93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AEA90-2357-4BCC-A8AB-F88D168F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A8FCF-17F8-42F0-B770-5216DC10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146DF-8E2F-498A-A74F-5E2300F2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ED497-C361-4994-98CE-E30C5991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77294-A1B7-4C69-8A50-7D99441E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EF771-E2F6-432F-B5DF-AF4C71E8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D3BE7-F302-410E-8CA5-58F061D8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63919-193F-47A1-80D3-43B65A25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52EA4-8B32-4888-AA3D-5D110E66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15426F-21DA-4B79-9CB7-8CB02D8C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62923-6605-43FC-BEC4-6F53DC6C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AFCB8-B6C5-4D1F-A1D6-12A5DD41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FC1C9B-307D-411B-8EA4-CC09477C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F9D062-B7BE-43BD-B31B-D840371E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1227E-33F8-4B77-822A-3CD5AFA2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1E5828-6DB7-41DA-8732-CF1E9B32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4EE856-AF82-441D-B3C4-B3D55A56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F72161-ACD0-480E-9803-4F83C820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8C979B-B7CB-44EA-B3AD-D3D2E590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61DCC1-86AF-4159-8B08-5C029644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27F23-FAA3-4593-8BE9-B777E2F7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0F2E-8EB4-4F7E-B51E-B87DE32DC0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0919-26BB-4340-849C-C633AB8A9151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93A6-6490-45D3-8783-C8CEBED7F8AD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611280" y="5425920"/>
            <a:ext cx="78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92929"/>
                </a:solidFill>
                <a:latin typeface="Arial"/>
              </a:rPr>
              <a:t>Didactiek laptops in de klas</a:t>
            </a:r>
            <a:endParaRPr b="0" lang="en-US" sz="4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chooljaar 2011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8" descr="laptop-in-de-klas"/>
          <p:cNvPicPr/>
          <p:nvPr/>
        </p:nvPicPr>
        <p:blipFill>
          <a:blip r:embed="rId1"/>
          <a:stretch/>
        </p:blipFill>
        <p:spPr>
          <a:xfrm>
            <a:off x="3708360" y="170028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praken en regels maken wat betreft laptopgebruik in de kla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480" y="237960"/>
            <a:ext cx="686916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trodu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ventarisatie: wat gaat goed en wat gaat minder go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wisselen ervar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asebespr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oncrete afsprakenlijst samenste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15788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at gaat goed, wat kan be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68360" y="2205000"/>
            <a:ext cx="86756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hrijf op de geeltjes in Edistorm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goed gaa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minder goed gaan e/o beter kunn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Zo concreet mogelijk!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9" name="Picture 6" descr="Edistorm"/>
          <p:cNvPicPr/>
          <p:nvPr/>
        </p:nvPicPr>
        <p:blipFill>
          <a:blip r:embed="rId1"/>
          <a:stretch/>
        </p:blipFill>
        <p:spPr>
          <a:xfrm>
            <a:off x="3851280" y="5543640"/>
            <a:ext cx="1905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nzet van laptops/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50920" y="1716120"/>
            <a:ext cx="867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Bekijk de cases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eerst in duo’s: hoe zouden jullie dit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ploss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Plenaire besprek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3 Top vij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50920" y="1716120"/>
            <a:ext cx="86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tel een top 5 samen van de beste oplossingen, die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ruikbaar zijn in je eigen onderwijssituatie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4:44:43Z</dcterms:modified>
  <cp:revision>142</cp:revision>
  <dc:subject/>
  <dc:title>C. van de Graaf &amp; Partners</dc:title>
</cp:coreProperties>
</file>