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2B79-60CC-4570-B8A4-90E5B5E053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FFC8-C982-4DDA-8F63-8B417404C2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1018-905D-4942-A54B-B282F001A8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5913-8193-4094-8D34-8DA884F123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D0CAF-3D4A-4313-ADEF-36BB73BFAD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D685-9FC4-42E2-B18A-2D7EE5258B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2A46-4B2D-4798-8374-78330E3002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47553-608B-41CD-88CA-3DED57CB0E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8863-0514-439A-955A-AE16D0AAA1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2CBF-EFB5-4486-B839-7DB27262A5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1BDA-313F-4E2C-949E-3DCB350993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54579-5F1B-443E-9B79-8C8F9DD5B1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8D279-692F-4929-9951-63932AE4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B2D40-9EF1-4F1D-B9BE-8F98DAAF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E6B78-B4E9-4DC3-B145-A5B5AD43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9F56C-379B-469E-BB48-CD5B63B6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F7116-8685-4976-B25D-EC42552D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1FA8F-DD0E-4871-BB9F-C0F0EF89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16239-F975-4352-9794-A2116458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7833E-CC10-4417-951A-E4C2412D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DDBE1-780C-4B72-B523-CEBEF022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D1B9D-A517-486C-B9D7-C07A1FC3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B8F60-288D-4D89-AADF-2A752874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14031-309A-41C2-BB34-79239572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C8D3C8-00BA-4F9F-A84D-4E45B56D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4B8D31-B26C-44E0-84BF-76BA4990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26C997-0AA0-4A63-AF35-41228075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1C03B3-3CAF-40C8-B2D2-05C308C7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DE54DB-AC4F-4556-A0D3-87EDE077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6A94A5-2E96-4D85-91E3-A397F49D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77A507-080E-4FDF-A70D-290641BC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ACCDB5-A494-43D7-B345-7C36522C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38D3C4-859B-422F-A477-022A835A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634A0F-DC39-4899-A018-F0D61CCC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B9977-EA56-43D6-B330-D9D9AF3E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05955E-0F8C-4482-8A7E-EA94BCA4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C751-CA81-4A92-B08E-BE0DD19639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0F87-13AE-4F0F-9B39-0BC58A412BCB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79BF-0C9D-4B61-AA93-747F3F12346E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8360" y="5121360"/>
            <a:ext cx="837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Didactische WEB 2.0 toepassingen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19" descr="web20"/>
          <p:cNvPicPr/>
          <p:nvPr/>
        </p:nvPicPr>
        <p:blipFill>
          <a:blip r:embed="rId1"/>
          <a:stretch/>
        </p:blipFill>
        <p:spPr>
          <a:xfrm>
            <a:off x="2666880" y="1547640"/>
            <a:ext cx="381024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Zelf toepassingen maken met WEB 2.0 programma’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 eerste d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estaande toepassing bekij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Uitleg toepassingen/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Zelf toepassing ma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264960"/>
            <a:ext cx="78775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Bestaande toepass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755640" y="2205000"/>
            <a:ext cx="7488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kijk de ict-toepassingen die gemaakt zijn met WEB 2.0 programma’s. 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755640" y="220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Calibri"/>
              </a:rPr>
              <a:t>Een demonstratie van hoe toepassingen gemaakt zijn.</a:t>
            </a:r>
            <a:endParaRPr b="0" lang="en-US" sz="36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0908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:  Zelf toepassing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ies voor één van de aanwezige toepassing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ak deze toepassing na voor eigen gebruik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aak hierbij gebruik van de aanwezige handleiding</a:t>
            </a:r>
            <a:r>
              <a:rPr b="0" lang="nl-NL" sz="3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1188720" y="5925960"/>
            <a:ext cx="30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2-29T12:11:18Z</dcterms:modified>
  <cp:revision>140</cp:revision>
  <dc:subject/>
  <dc:title>C. van de Graaf &amp; Partners</dc:title>
</cp:coreProperties>
</file>