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1EF57-9A63-4F21-AA5C-60558A9E3F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36786-DDB0-4D8F-A729-C2E8CCB724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9AF8D-B343-472E-803D-EEE1AD8D04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8852D-30B1-4B05-A771-0823384519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5FD12-2032-4FFA-AF66-F0779C4FD8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D7375-E20D-4379-B3A2-679C6A10C22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88166-55D8-4726-BFAA-A26633797F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114C5-9269-4553-94E0-1A7458B74C0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82809-961F-4075-A30E-35D7BF8B28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F2D06-15E0-4EDE-88EA-0A2B747112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71D87-3515-4CFA-9762-51573391A6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2CE2A-B9BF-48D9-AC05-5E478DB18E2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92352-D96F-498B-9C40-B5C57CB67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B3DF03-AB95-49F1-A41B-22E92DF3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60A6FC-102D-4D7D-A69D-D0CB25D4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3CA7DF-45CA-4088-B1AA-09409179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408661-05AE-4403-9D6B-900A5F8B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25D1FF-46D1-4AE9-90AE-7A482761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38DBF1-3167-419E-8E97-06E1D28B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F6110-CD62-49C3-B2E9-FB89D8E9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04F916-C5CA-49BA-9F31-7B354324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7D364-8B3C-4510-A3A5-E97C59D0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FC28FA-41D5-4794-A5D1-426F17269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3580FB-1335-4DB3-A47D-5A909D649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FE9D09-BDA6-4FEA-A6E4-9EFB341C6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22D960-7A27-4FB4-A47A-CD9EF75F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6DB1FE-C695-443D-AF65-51C8A6BA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877FEF-DA32-450A-BFCF-DFDEE336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CCDEC2-8F4E-4E2D-9600-2D6B9110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D587C9-26BB-48EF-BE34-3C1F6DCA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018E49-95B5-453B-9744-E1964AB5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95821B-3BE4-44B4-A7B8-05B8BB02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FA90E1-0270-492C-A3DA-1F8EBEFF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CFB5B6-E4A1-4305-BAD6-A008DFDF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2298F5-F606-44F9-82B9-C1C7BCB0B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686E55-E219-4AFC-BD35-207A80518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25BF-9E91-429F-A246-390536D45CD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0BCB-827E-4D90-B065-0D1B2950AC46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4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2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0188-D823-4921-AA4F-84A54F9FFD74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468360" y="5121360"/>
            <a:ext cx="837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92929"/>
                </a:solidFill>
                <a:latin typeface="Arial"/>
              </a:rPr>
              <a:t>Ict in werkvormen</a:t>
            </a:r>
            <a:endParaRPr b="0" lang="en-US" sz="54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191" name="Picture 20" descr="networkteacher"/>
          <p:cNvPicPr/>
          <p:nvPr/>
        </p:nvPicPr>
        <p:blipFill>
          <a:blip r:embed="rId1"/>
          <a:stretch/>
        </p:blipFill>
        <p:spPr>
          <a:xfrm>
            <a:off x="2700360" y="1989000"/>
            <a:ext cx="38401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201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ct toepassingen integreren in delen van een eigen le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42840" y="237960"/>
            <a:ext cx="6019920" cy="117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leiding en 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Mogelijkheden met ict inventariser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Zelf werkvormen integrer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264960"/>
            <a:ext cx="78775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Opdracht 1 Ict toepassin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826920" y="1708200"/>
            <a:ext cx="809964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Bedenk (minimaal drie) ict toepassingen voor een van de volgende doelen: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Kennismaken van studenten met elkaar 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Kennis/inzicht verwerv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-  Beroepshouding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-  Vaardigheden (sociaal of technisch)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-  Toetsing en/of evaluatie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20 minut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42920" y="836280"/>
            <a:ext cx="727416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2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ct werkvormen integr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826920" y="1716120"/>
            <a:ext cx="763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Bedenk (minimaal drie) ICT toepassingen voor de eigen les(sen) en werk ze voor zover mogelijk uit.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50 minut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Sandra Valk</cp:lastModifiedBy>
  <cp:lastPrinted>1999-12-08T22:23:44Z</cp:lastPrinted>
  <dcterms:modified xsi:type="dcterms:W3CDTF">2012-05-16T09:58:53Z</dcterms:modified>
  <cp:revision>142</cp:revision>
  <dc:subject/>
  <dc:title>C. van de Graaf &amp; Partners</dc:title>
</cp:coreProperties>
</file>