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FB4A5-8062-49EC-9F66-600BDA2028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FA447-B8CD-429F-9405-48BB337643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F1E36-54A3-45E9-8F28-C8360FAFF2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469FD-05E1-42E3-984B-7E12DDE887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24863-07F8-4051-905A-EF49EB9E52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4A887-FCB6-4DAA-9273-C93110A8B3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6CBAA-D552-4C31-A44E-6035787790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27BFF-3D8F-48AB-A709-092D73A9D4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FE865-A356-4BE7-91AD-D3345299CF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7E382-1276-4BF3-B4FA-9F60CAB746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12F99-16DE-4090-BDC3-0E7DF69585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9F74A-4D25-42E9-BACC-B332D2EEAD4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AB86B-4375-4D2A-B3C3-1B5A5C3F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27400-655F-4217-9BB0-C92BCC4C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6EDE1-E96F-4E5D-9908-C92F9F87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4866C-2726-495F-B1FD-604380CC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D37C2-C586-499C-888C-1C52261F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DA4EA-3643-46BC-BC78-C303C0E4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14A89-60DA-4D18-BBDB-5C3433E8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41B1A-0274-4307-87FC-62296328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B34EF-D608-468A-822C-1E97F7FB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3A0AB-EB62-4302-8001-2F2088A4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B339B-616B-4636-BAE6-5215B08F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E2446-8B5B-430A-A3C2-5A218397D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505A30-69FC-4408-AA3A-B6EC3AED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D3CDF7-7639-4409-96E7-D3A6A68D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F3D2FC-5700-4105-B50B-76BBC30A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CA790E-CC69-4062-B4FD-E6E29C8A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7EDFDB-1D7B-4020-A029-139D6A75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6C73F3-6C6B-485A-B086-E0AD400E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5CC0C7-648B-4A07-9E3B-91A8CFA1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BE6296-6758-4780-96C4-AFEF5B08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9C69BC-A5AE-420E-BBF8-7C861D67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13E774-34F0-4097-8E7F-70E78EE8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2EEC31-D791-4D8B-BFE9-5BFDF8FD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470829-C026-4565-A3E1-8E8301B29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1AD8-7CB5-4AF5-A358-3153EF04D18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500D-6EA7-41BD-A9C1-72FAD0A537B5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4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2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AEBC-A235-4B98-B204-E9DCA8AF0622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68360" y="512136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Ict in werkvormen</a:t>
            </a:r>
            <a:endParaRPr b="0" lang="en-US" sz="54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191" name="Picture 20" descr="networkteacher"/>
          <p:cNvPicPr/>
          <p:nvPr/>
        </p:nvPicPr>
        <p:blipFill>
          <a:blip r:embed="rId1"/>
          <a:stretch/>
        </p:blipFill>
        <p:spPr>
          <a:xfrm>
            <a:off x="2700360" y="1989000"/>
            <a:ext cx="3840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201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ct toepassingen integreren in delen van een eigen le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Mogelijkheden met ict inventariser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Zelf werkvormen integrer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264960"/>
            <a:ext cx="78775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Opdracht 1 Ict toepass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826920" y="1708200"/>
            <a:ext cx="809964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denk (minimaal drie) ict toepassingen voor een van de volgende doelen: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Kennismaken van studenten met elkaar 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Kennis/inzicht verwerv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-  Beroepshouding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-  Vaardigheden (sociaal of technisch)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-  Toetsing en/of evaluatie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2920" y="836280"/>
            <a:ext cx="727416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ct werkvormen integr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826920" y="171612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denk (minimaal drie) ICT toepassingen voor de eigen les(sen) en werk ze voor zover mogelijk uit.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50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Sandra Valk</cp:lastModifiedBy>
  <cp:lastPrinted>1999-12-08T22:23:44Z</cp:lastPrinted>
  <dcterms:modified xsi:type="dcterms:W3CDTF">2012-05-16T09:58:53Z</dcterms:modified>
  <cp:revision>142</cp:revision>
  <dc:subject/>
  <dc:title>C. van de Graaf &amp; Partners</dc:title>
</cp:coreProperties>
</file>