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B840-E60F-4380-A3A2-85588D24F2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E515-7615-453C-AE43-71115282E9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8540-B393-4DB4-9177-1189A1D1F8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123D-DCE8-4F46-9836-0F42609B90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CE38-0555-4AA0-875F-43DD2C856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6323-147E-4655-B425-054E6F13A7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C690-0EE2-4669-B30C-504B08A832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44F1-DF1B-4695-B1B4-07A46C669E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6210-110A-46A0-9473-9929E759A3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C39F-8574-4F1C-B5F1-705806B2E6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06F0-D8D4-424C-905A-33D55A6480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6492-8F7D-47EE-BE78-6F93D3FC29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5FE2F-7512-4141-9294-E39E3456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54BCF-11DA-458D-8CE1-359E9F0A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6D56B-A369-48C9-B81B-91DD75F0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8C921-0E70-4B1A-A0C6-DE5D7B66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4D6BF-CB41-42AF-9AA2-93B70F8D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6A2AD-8DD9-48DC-A340-403D5A45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CF697-D1BA-4B91-9E42-EF2ABC7C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A62D9-ECA9-478F-B4C1-3911A0D9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42C04-DDF3-449E-81A7-F24BE2F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5B5EB-03CF-485A-A4A8-EC292259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F4DB1-97B3-4C4B-888D-097FD85C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7B631-6429-4945-9051-3004CD42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6A80C-4FAB-4995-A14D-A5BA0208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535B3A-8BB7-4A7F-9C88-9B8F9796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4A4DA-772D-4620-85FF-48D7EF95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5CF730-4AB7-4324-B5D4-6E698DC3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16317-AABE-483C-8A0D-476D9FBE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EE450-2659-45FA-A125-4CF4C369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82821B-9EC3-4E15-93A1-9429F468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FB97C-F81B-4C02-8398-814CC34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2F9F5-091C-4F92-BFC9-0AEA6996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76B66-E290-4895-A5CA-A317C8C0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EA539A-8A5F-46A7-8F9D-437FFBB6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1D3A1-ABAA-4233-84B4-B5A9F3CE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0064-A07F-441B-9E05-0ECFE0D8EF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77F8-7EA6-4068-A83B-71A81976E73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5AB1-9F21-47E1-A945-CF32B16E68FB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40160" y="1197000"/>
            <a:ext cx="5668920" cy="425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5788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leiding laptopdidactiek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Kennismaken met de drie pijlers van de laptopdidactiek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11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dracht 1: stell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houd: drie pijlers, Tpackmo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t prac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25527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dracht 1 Stell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05000"/>
            <a:ext cx="8675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geer op de stelling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 ieder scherm staat een andere stelling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gin iedere reactie met je initial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69231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jl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79720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Maak afspraken en stel regels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Integreer ict in de werkvormen (T-Pack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Bij eigen laptop: zet laptop veel en effectief in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-PACK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4249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Didact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Vakinhoudelijk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Technolog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06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gen best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205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Calibri"/>
              </a:rPr>
              <a:t>Een voorbeeld</a:t>
            </a:r>
            <a:endParaRPr b="0" lang="en-US" sz="36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09-14T14:38:46Z</dcterms:modified>
  <cp:revision>139</cp:revision>
  <dc:subject/>
  <dc:title>C. van de Graaf &amp; Partners</dc:title>
</cp:coreProperties>
</file>