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2600" cy="37213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3707-7AAD-47F9-8108-AF6DEC821A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1320"/>
          </a:xfrm>
          <a:prstGeom prst="rect">
            <a:avLst/>
          </a:prstGeom>
          <a:ln w="0">
            <a:noFill/>
          </a:ln>
        </p:spPr>
      </p:sp>
      <p:sp>
        <p:nvSpPr>
          <p:cNvPr id="1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07A0-36AA-4985-8919-3F376A07AB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1320"/>
          </a:xfrm>
          <a:prstGeom prst="rect">
            <a:avLst/>
          </a:prstGeom>
          <a:ln w="0">
            <a:noFill/>
          </a:ln>
        </p:spPr>
      </p:sp>
      <p:sp>
        <p:nvSpPr>
          <p:cNvPr id="139"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tweede in het ochtendprogramma zal Grietsje Hoekstra vertellen hoe bij CONO Kaasmakers met behulp van Koekompas op een praktische wijze boeren worden aangestuurd om hun bedrijf. CONO Kaasmakers is al jaren bezig om samen met boeren duurzaamheid handen en voeten te geven. CONO Kaasmakers mag de koploper op dit gebied genoemd worden onder de zuivelaars en zorgt ook voor een extra betaling hiervoor. Grietsje Hoekstra zal zichzelf verder introduceren. Grietsje,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bedankt voor jou presentatie. Wij mogen op de scholen gebruik maken van de scan Koekompas en hopen dat de komende jaren te blijven doen. Voor vanmorgen wil ik je bedanken met deze duurzame att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F928-DB0B-460D-820E-6775A5C375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1320"/>
          </a:xfrm>
          <a:prstGeom prst="rect">
            <a:avLst/>
          </a:prstGeom>
          <a:ln w="0">
            <a:noFill/>
          </a:ln>
        </p:spPr>
      </p:sp>
      <p:sp>
        <p:nvSpPr>
          <p:cNvPr id="142"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derde en laatste voor de middag wil ik Tjerk Hof uitnodigen. Tjerk heeft zelf een melkveebedrijf en is vanaf het begin betrokken geweest bij een groep veehouders in Friesland die hun bedrijf anders willen aansturen. Vanuit de gedachten van deze groep veehouders onder de naam Milq2 is CONO Kaasmakers verder gegaan met Koekompas. Van Tjerk zou je kunnen zeggen dat hij één van de grondleggers is van deze manier van denken maar dat kan hij beter zelf vertellen. Tjerk,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bedankt voor jouw presentatie. Ik hoop dat iedereen vanuit jou presentatie mee neemt dat je als veehouder veel meer vooraf de risico’s op het bedrijf in beeld krijgt. Cruciaal is daarna dat je de situatie op het bedrijf zodanig wijzigt dat het risico kleiner wordt en je dus achteraf minder hoeft te corrigeren. Ik noem het steeds vaker preventief management. Tjerk nogmaals bedankt en bij deze ook een attentie van 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2B47-60FE-43ED-9D27-DBBD2A86A5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1320"/>
          </a:xfrm>
          <a:prstGeom prst="rect">
            <a:avLst/>
          </a:prstGeom>
          <a:ln w="0">
            <a:noFill/>
          </a:ln>
        </p:spPr>
      </p:sp>
      <p:sp>
        <p:nvSpPr>
          <p:cNvPr id="145"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2</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inleiders in vergelijking met de informatie die leerlingen / studenten gehad hebb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un Vellinga i.p.v. Dick Starmans. Theun was eerst verhinderd maar kon alsno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né van den Oord komt i.p.v. Bert Philipsen die alsnog verhinderd 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geen centrale afsluiting om 15.20 dus bij deze wil ik de inleiders van vanmiddag alvast bedanken voor hu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k wil de inleiders wel vragen om na afloop nog heel even bij elkaar te komen om terug te kijken op het verloop van hun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gezien er een hele grote groep in de aula zit bij Joost van de Veer wil ik iedereen verzoeken om na afloop van zowel de 1</a:t>
            </a:r>
            <a:r>
              <a:rPr b="0" lang="nl-NL" sz="1200" spc="-1" strike="noStrike" baseline="30000">
                <a:solidFill>
                  <a:srgbClr val="000000"/>
                </a:solidFill>
                <a:latin typeface="Arial"/>
              </a:rPr>
              <a:t>e</a:t>
            </a:r>
            <a:r>
              <a:rPr b="0" lang="nl-NL" sz="1200" spc="-1" strike="noStrike">
                <a:solidFill>
                  <a:srgbClr val="000000"/>
                </a:solidFill>
                <a:latin typeface="Arial"/>
              </a:rPr>
              <a:t> als de 2</a:t>
            </a:r>
            <a:r>
              <a:rPr b="0" lang="nl-NL" sz="1200" spc="-1" strike="noStrike" baseline="30000">
                <a:solidFill>
                  <a:srgbClr val="000000"/>
                </a:solidFill>
                <a:latin typeface="Arial"/>
              </a:rPr>
              <a:t>e</a:t>
            </a:r>
            <a:r>
              <a:rPr b="0" lang="nl-NL" sz="1200" spc="-1" strike="noStrike">
                <a:solidFill>
                  <a:srgbClr val="000000"/>
                </a:solidFill>
                <a:latin typeface="Arial"/>
              </a:rPr>
              <a:t> workshop even te wachten met het binnenlopen van de aula tot Joost de Veer gestopt is.</a:t>
            </a:r>
            <a:endParaRPr b="0" lang="en-US" sz="1200" spc="-1" strike="noStrike">
              <a:solidFill>
                <a:srgbClr val="000000"/>
              </a:solidFill>
              <a:latin typeface="Arial"/>
            </a:endParaRPr>
          </a:p>
        </p:txBody>
      </p:sp>
      <p:sp>
        <p:nvSpPr>
          <p:cNvPr id="146"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EC83-F1C1-4B67-BA13-D82C3FD917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1320"/>
          </a:xfrm>
          <a:prstGeom prst="rect">
            <a:avLst/>
          </a:prstGeom>
          <a:ln w="0">
            <a:noFill/>
          </a:ln>
        </p:spPr>
      </p:sp>
      <p:sp>
        <p:nvSpPr>
          <p:cNvPr id="148"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3</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dedelinge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orkshops vanmiddag hier in aula en op de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n graag op tijd aanwezig in de lokal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15,20 is er hier in de aula nog gelegenheid om iets te drinken voordat men naar huis ga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rlingen van AOC Oost direct aansluitend om 15.20: iets drinken mee nemen naar de lokalen voor toelichting op AD- en Voltijds-opleiding in lokalen op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centrale afronding vanmiddag. Daarom wil ik iedereen bij deze alvast bedankt voor zijn / haar aanwezigheid en ik hoop dat jullie interessante workshops krij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op naar de soep en de brood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F5AA-9BBC-4E5D-B345-E84AD65BB0F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1320"/>
          </a:xfrm>
          <a:prstGeom prst="rect">
            <a:avLst/>
          </a:prstGeom>
          <a:ln w="0">
            <a:noFill/>
          </a:ln>
        </p:spPr>
      </p:sp>
      <p:sp>
        <p:nvSpPr>
          <p:cNvPr id="11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ia 2</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p:txBody>
      </p:sp>
      <p:sp>
        <p:nvSpPr>
          <p:cNvPr id="11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01C8-FEB5-4620-9538-249F8900400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1320"/>
          </a:xfrm>
          <a:prstGeom prst="rect">
            <a:avLst/>
          </a:prstGeom>
          <a:ln w="0">
            <a:noFill/>
          </a:ln>
        </p:spPr>
      </p:sp>
      <p:sp>
        <p:nvSpPr>
          <p:cNvPr id="11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iets meer over het project “License to produce voor melkveehouders” ga vertellen, laat ik allereerst nog even het programma zien. Als het goed is heeft iedereen dit overzicht gezien en hoef ik daar momenteel niets aan toe te voege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 Het ochtendprogramma gebeurt hier in de aula centraal, het middagprogramma gebeurt verspreid in dit gebouw in de verschillende lokalen. Julie hebben dit op de sticker staan die je ontvangen heb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 het eind van het ochtendprogramma zal ik nog kort even iets over het middagprogramma ver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jullie zien, zitten er regelmatig pauzes in het programma. Uiteraard zullen jullie dat wel prettig vinden maar het is er ook bewust ingepland. Uit voorgaande symposia die ik heb mee gemaakt, waarbij leerlingen / studenten van verschillende scholen aanwezig waren, weet ik er in de pauzes vaak gepraat wordt met leerlingen / studenten van andere scholen. Je hoort dan ook nog eens van een ander hoe het gaat en in voorgaande jaren konden onze leerlingen dat in ieder best waarderen. Ik zou zeggen: maak er gebruik van en praat met leerlingen / studenten van andere scholen.</a:t>
            </a:r>
            <a:endParaRPr b="0" lang="en-US" sz="1200" spc="-1" strike="noStrike">
              <a:solidFill>
                <a:srgbClr val="000000"/>
              </a:solidFill>
              <a:latin typeface="Arial"/>
            </a:endParaRPr>
          </a:p>
        </p:txBody>
      </p:sp>
      <p:sp>
        <p:nvSpPr>
          <p:cNvPr id="11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E393-6F31-4D46-A3C3-D2519DEFE2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2600" cy="3721320"/>
          </a:xfrm>
          <a:prstGeom prst="rect">
            <a:avLst/>
          </a:prstGeom>
          <a:ln w="0">
            <a:noFill/>
          </a:ln>
        </p:spPr>
      </p:sp>
      <p:sp>
        <p:nvSpPr>
          <p:cNvPr id="1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D55B-D72C-4298-BD1D-7992E0D079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0E89-1166-43D3-9205-148645681D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F63F-FA33-4CEE-8BD2-683356030B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19080" y="744480"/>
            <a:ext cx="4962600" cy="3721320"/>
          </a:xfrm>
          <a:prstGeom prst="rect">
            <a:avLst/>
          </a:prstGeom>
          <a:ln w="0">
            <a:noFill/>
          </a:ln>
        </p:spPr>
      </p:sp>
      <p:sp>
        <p:nvSpPr>
          <p:cNvPr id="12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1320"/>
          </a:xfrm>
          <a:prstGeom prst="rect">
            <a:avLst/>
          </a:prstGeom>
          <a:ln w="0">
            <a:noFill/>
          </a:ln>
        </p:spPr>
      </p:sp>
      <p:sp>
        <p:nvSpPr>
          <p:cNvPr id="1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F7B5-5539-453A-898A-20911A0CE0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B7C0-EBA7-4D5E-AF4C-C129C03121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2600" cy="3721320"/>
          </a:xfrm>
          <a:prstGeom prst="rect">
            <a:avLst/>
          </a:prstGeom>
          <a:ln w="0">
            <a:noFill/>
          </a:ln>
        </p:spPr>
      </p:sp>
      <p:sp>
        <p:nvSpPr>
          <p:cNvPr id="130"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zie je een voorbeeld van een scan van Koekompas. Dit zal verder ter sprake komen in de presentaties van Grietsje Hoekstra en / of Joost de Ve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lq2 heeft soortgelijke grafieken.</a:t>
            </a:r>
            <a:endParaRPr b="0" lang="en-US" sz="1200" spc="-1" strike="noStrike">
              <a:solidFill>
                <a:srgbClr val="000000"/>
              </a:solidFill>
              <a:latin typeface="Arial"/>
            </a:endParaRPr>
          </a:p>
        </p:txBody>
      </p:sp>
      <p:sp>
        <p:nvSpPr>
          <p:cNvPr id="13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7688-F6A7-492E-B8E6-8820E2987D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1320"/>
          </a:xfrm>
          <a:prstGeom prst="rect">
            <a:avLst/>
          </a:prstGeom>
          <a:ln w="0">
            <a:noFill/>
          </a:ln>
        </p:spPr>
      </p:sp>
      <p:sp>
        <p:nvSpPr>
          <p:cNvPr id="13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sultaten van dit project komen ter beschikking in Wikiwijs en Black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ndaag worden de presentaties op video vastgelegd en die komen ook daar beschik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ze dia zie je hoe het er op Wikiwijs komt uit te zien met alle 24 thema’s die bij CONO Kaasmakers en Milq2 zijn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merk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kiwijs is nu nog niet gepubliceerd, voor de zomer beschikba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n veel verwijzingen naar publicaties, soms naar andere leerarrangeme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erkwijze per school wordt uitgeleg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t een beperkt opdrachten in de werkwijze per school. Belangrijkste is echter niet de invulling van de scans maar de houding t.a.v. duurzaamheid in de toekomst en de integrale benadering daarvan. Ondernemers zullen meer preventieve management-maatregelen moeten nemen i.p.v. achteraf reageren</a:t>
            </a:r>
            <a:endParaRPr b="0" lang="en-US" sz="1200" spc="-1" strike="noStrike">
              <a:solidFill>
                <a:srgbClr val="000000"/>
              </a:solidFill>
              <a:latin typeface="Arial"/>
            </a:endParaRPr>
          </a:p>
        </p:txBody>
      </p:sp>
      <p:sp>
        <p:nvSpPr>
          <p:cNvPr id="13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E225-355F-452E-B6E6-1E96CC764F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1320"/>
          </a:xfrm>
          <a:prstGeom prst="rect">
            <a:avLst/>
          </a:prstGeom>
          <a:ln w="0">
            <a:noFill/>
          </a:ln>
        </p:spPr>
      </p:sp>
      <p:sp>
        <p:nvSpPr>
          <p:cNvPr id="13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zover mij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gaan we over naar de inle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erste Cees Romijn, voorzitter van LTO-visie. Hij zal zichzelf verder introduceren. Cees,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bedankt voor jou presentatie. De beste waardering zou zijn als de leerling / student een aantal van jouw opmerkingen thuis zou toepassen, maar dat kunnen we hier niet zien. Ik wil je bij deze in ieder geval bedanken met een attentie vanuit de sector z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3939-AF95-4678-9DE4-CC649E8E38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F6146-0A3F-4231-8C4F-4EF62BED2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2523E-E57A-4D7A-80EC-82704FEF8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B00C9-2A31-4E2E-ACF7-39F0EFC66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25801-7556-4FAD-9DAE-627DB1390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0F327-1D18-4502-8D91-980698A8B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A09EA-1DFC-4866-862B-158022442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A2354-8F21-4EBE-A7F8-A212C15BB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ABD87-85BD-4E7D-91B4-6B6AAC861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F1D45-6D80-43F2-8A0C-9FE28943A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84581-BF3D-47D2-A9E4-B63C15224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424AE-9F64-4B16-A4B5-FEA8B747D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1C7A4-1BFB-4E94-A466-9C606D6A1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6690-E794-44DD-9B7E-0901A774835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250920" y="1557000"/>
            <a:ext cx="8640720" cy="26622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Symposium 24-04-2012</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AH te Dront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p:txBody>
      </p:sp>
      <p:sp>
        <p:nvSpPr>
          <p:cNvPr id="5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rietsje Hoekstra</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ONO Kaasmak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Koekompas</a:t>
            </a:r>
            <a:endParaRPr b="0" lang="en-US" sz="3600" spc="-1" strike="noStrike">
              <a:solidFill>
                <a:srgbClr val="000000"/>
              </a:solidFill>
              <a:latin typeface="Arial"/>
            </a:endParaRPr>
          </a:p>
        </p:txBody>
      </p:sp>
      <p:sp>
        <p:nvSpPr>
          <p:cNvPr id="9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jerk Hof</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lkveehouder in Frieslan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komen van risico’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e stakeholders van veehouders</a:t>
            </a:r>
            <a:endParaRPr b="0" lang="en-US" sz="3600" spc="-1" strike="noStrike">
              <a:solidFill>
                <a:srgbClr val="000000"/>
              </a:solidFill>
              <a:latin typeface="Arial"/>
            </a:endParaRPr>
          </a:p>
        </p:txBody>
      </p:sp>
      <p:sp>
        <p:nvSpPr>
          <p:cNvPr id="98"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611280" y="177300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Middagprogramma</a:t>
            </a:r>
            <a:br>
              <a:rPr sz="6000"/>
            </a:br>
            <a:r>
              <a:rPr b="0" lang="nl-NL" sz="2800" spc="-1" strike="noStrike">
                <a:solidFill>
                  <a:srgbClr val="000000"/>
                </a:solidFill>
                <a:latin typeface="Arial"/>
              </a:rPr>
              <a:t>13.00 – 14.00 1</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r>
              <a:rPr b="0" lang="nl-NL" sz="2800" spc="-1" strike="noStrike">
                <a:solidFill>
                  <a:srgbClr val="000000"/>
                </a:solidFill>
                <a:latin typeface="Arial"/>
              </a:rPr>
              <a:t>14.00 – 14.20 pauze</a:t>
            </a:r>
            <a:br>
              <a:rPr sz="2800"/>
            </a:br>
            <a:r>
              <a:rPr b="0" lang="nl-NL" sz="2800" spc="-1" strike="noStrike">
                <a:solidFill>
                  <a:srgbClr val="000000"/>
                </a:solidFill>
                <a:latin typeface="Arial"/>
              </a:rPr>
              <a:t>14.20 – 15.20 2</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endParaRPr b="0" lang="en-US" sz="2800" spc="-1" strike="noStrike">
              <a:solidFill>
                <a:srgbClr val="000000"/>
              </a:solidFill>
              <a:latin typeface="Arial"/>
            </a:endParaRPr>
          </a:p>
        </p:txBody>
      </p:sp>
      <p:sp>
        <p:nvSpPr>
          <p:cNvPr id="102" name="PlaceHolder 2"/>
          <p:cNvSpPr>
            <a:spLocks noGrp="1"/>
          </p:cNvSpPr>
          <p:nvPr>
            <p:ph type="subTitle"/>
          </p:nvPr>
        </p:nvSpPr>
        <p:spPr>
          <a:xfrm>
            <a:off x="468360" y="3141720"/>
            <a:ext cx="8207280" cy="1752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on Sebek</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Emiss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oost de Vee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Dierziekte-incident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heun Velling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Carbon footprin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né van den Oord</a:t>
            </a:r>
            <a:r>
              <a:rPr b="0" lang="nl-NL" sz="2800" spc="-1" strike="noStrike">
                <a:solidFill>
                  <a:srgbClr val="000000"/>
                </a:solidFill>
                <a:latin typeface="Arial"/>
              </a:rPr>
              <a:t>	</a:t>
            </a:r>
            <a:r>
              <a:rPr b="0" lang="nl-NL" sz="2800" spc="-1" strike="noStrike">
                <a:solidFill>
                  <a:srgbClr val="000000"/>
                </a:solidFill>
                <a:latin typeface="Arial"/>
              </a:rPr>
              <a:t>Stichting weidega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ul Galam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Huisvest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elle Zijlstr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Arbeidsefficiëntie</a:t>
            </a:r>
            <a:endParaRPr b="0" lang="en-US" sz="2800" spc="-1" strike="noStrike">
              <a:solidFill>
                <a:srgbClr val="000000"/>
              </a:solidFill>
              <a:latin typeface="Arial"/>
            </a:endParaRPr>
          </a:p>
        </p:txBody>
      </p:sp>
      <p:sp>
        <p:nvSpPr>
          <p:cNvPr id="103"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subTitle"/>
          </p:nvPr>
        </p:nvSpPr>
        <p:spPr>
          <a:xfrm>
            <a:off x="0" y="2133720"/>
            <a:ext cx="9144000" cy="3743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dedelingen</a:t>
            </a:r>
            <a:endParaRPr b="0" lang="en-US" sz="36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rkshops vanmiddag in aula en op de 2</a:t>
            </a:r>
            <a:r>
              <a:rPr b="0" lang="nl-NL" sz="2800" spc="-1" strike="noStrike" baseline="30000">
                <a:solidFill>
                  <a:srgbClr val="000000"/>
                </a:solidFill>
                <a:latin typeface="Arial"/>
              </a:rPr>
              <a:t>e</a:t>
            </a:r>
            <a:r>
              <a:rPr b="0" lang="nl-NL" sz="2800" spc="-1" strike="noStrike">
                <a:solidFill>
                  <a:srgbClr val="000000"/>
                </a:solidFill>
                <a:latin typeface="Arial"/>
              </a:rPr>
              <a:t> verdieping</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n graag op tijd aanwezig in de lokalen</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m 15,20 hier in aula gelegenheid om iets te drinken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erlingen van AOC Oost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n centrale afronding vanmiddag</a:t>
            </a:r>
            <a:endParaRPr b="0" lang="en-US" sz="2800" spc="-1" strike="noStrike">
              <a:solidFill>
                <a:srgbClr val="000000"/>
              </a:solidFill>
              <a:latin typeface="Arial"/>
            </a:endParaRPr>
          </a:p>
        </p:txBody>
      </p:sp>
      <p:sp>
        <p:nvSpPr>
          <p:cNvPr id="107"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p:txBody>
      </p:sp>
      <p:sp>
        <p:nvSpPr>
          <p:cNvPr id="5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36360" y="0"/>
            <a:ext cx="9144000" cy="6858000"/>
          </a:xfrm>
          <a:prstGeom prst="rect">
            <a:avLst/>
          </a:prstGeom>
          <a:ln w="0">
            <a:noFill/>
          </a:ln>
        </p:spPr>
      </p:pic>
      <p:pic>
        <p:nvPicPr>
          <p:cNvPr id="57" name="Afbeelding 6" descr="CaringDairyLogo AW original.jpg"/>
          <p:cNvPicPr/>
          <p:nvPr/>
        </p:nvPicPr>
        <p:blipFill>
          <a:blip r:embed="rId2"/>
          <a:stretch/>
        </p:blipFill>
        <p:spPr>
          <a:xfrm>
            <a:off x="395280" y="333360"/>
            <a:ext cx="1224000" cy="1560600"/>
          </a:xfrm>
          <a:prstGeom prst="rect">
            <a:avLst/>
          </a:prstGeom>
          <a:ln w="0">
            <a:noFill/>
          </a:ln>
        </p:spPr>
      </p:pic>
      <p:graphicFrame>
        <p:nvGraphicFramePr>
          <p:cNvPr id="58" name=""/>
          <p:cNvGraphicFramePr/>
          <p:nvPr/>
        </p:nvGraphicFramePr>
        <p:xfrm>
          <a:off x="-36360" y="2133720"/>
          <a:ext cx="9180360" cy="5386320"/>
        </p:xfrm>
        <a:graphic>
          <a:graphicData uri="http://schemas.openxmlformats.org/drawingml/2006/table">
            <a:tbl>
              <a:tblPr/>
              <a:tblGrid>
                <a:gridCol w="1680840"/>
                <a:gridCol w="3395880"/>
                <a:gridCol w="2158920"/>
                <a:gridCol w="1944720"/>
              </a:tblGrid>
              <a:tr h="3650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09.30 - 10.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ntvangst + koffi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00 – 10.1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pening dagvoorzitt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nnie Storkhor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OC Oo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15 – 10.4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TO-visie ondernemerschap en duurzaamhei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ees Romijn</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orzitter LTO Noor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45 – 11.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05 – 11.3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 en Koekompa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ietsje Hoekstra</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35 – 12.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lq2</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jerk Hof</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lkveehoud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2.05 – 13.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3.00 – 14.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1</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00 – 14.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20 – 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2</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0522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gridSpan="3">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nde, eventueel nog iets drinken</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subTitle"/>
          </p:nvPr>
        </p:nvSpPr>
        <p:spPr>
          <a:xfrm>
            <a:off x="250920" y="2060640"/>
            <a:ext cx="8640720" cy="12240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Afbeelding 6" descr="CaringDairyLogo AW original.jpg"/>
          <p:cNvPicPr/>
          <p:nvPr/>
        </p:nvPicPr>
        <p:blipFill>
          <a:blip r:embed="rId2"/>
          <a:stretch/>
        </p:blipFill>
        <p:spPr>
          <a:xfrm>
            <a:off x="395280" y="333360"/>
            <a:ext cx="1224000" cy="1560600"/>
          </a:xfrm>
          <a:prstGeom prst="rect">
            <a:avLst/>
          </a:prstGeom>
          <a:ln w="0">
            <a:noFill/>
          </a:ln>
        </p:spPr>
      </p:pic>
      <p:sp>
        <p:nvSpPr>
          <p:cNvPr id="63" name="Rectangle 3"/>
          <p:cNvSpPr/>
          <p:nvPr/>
        </p:nvSpPr>
        <p:spPr>
          <a:xfrm>
            <a:off x="63360" y="3429000"/>
            <a:ext cx="8893440" cy="23972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Kwaliteitsmanagement op het melkveehouderijbedrijf</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Basis is de praktijk van CONO Kaasmakers en Milq2</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Aanvulling vanuit onderzoek: meest recente kenn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F9E4-80A0-4728-B53B-0AE79FD23F4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lke indicatoren zijn belangrijk voor Beemster?</a:t>
            </a:r>
            <a:endParaRPr b="0" lang="en-US" sz="4400" spc="-1" strike="noStrike">
              <a:solidFill>
                <a:srgbClr val="000000"/>
              </a:solidFill>
              <a:latin typeface="Arial"/>
            </a:endParaRPr>
          </a:p>
        </p:txBody>
      </p:sp>
      <p:grpSp>
        <p:nvGrpSpPr>
          <p:cNvPr id="66" name="Group 18"/>
          <p:cNvGrpSpPr/>
          <p:nvPr/>
        </p:nvGrpSpPr>
        <p:grpSpPr>
          <a:xfrm>
            <a:off x="826920" y="2060640"/>
            <a:ext cx="8076960" cy="3960360"/>
            <a:chOff x="826920" y="2060640"/>
            <a:chExt cx="8076960" cy="3960360"/>
          </a:xfrm>
        </p:grpSpPr>
        <p:sp>
          <p:nvSpPr>
            <p:cNvPr id="67" name="Rectangle 3"/>
            <p:cNvSpPr/>
            <p:nvPr/>
          </p:nvSpPr>
          <p:spPr>
            <a:xfrm>
              <a:off x="1831680" y="2087640"/>
              <a:ext cx="3200400" cy="393336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drijfs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eros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edingsstoffen</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wasbescherming</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andschap</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ierenwelzijn</a:t>
              </a:r>
              <a:endParaRPr b="0" lang="en-US" sz="2000" spc="-1" strike="noStrike">
                <a:solidFill>
                  <a:srgbClr val="000000"/>
                </a:solidFill>
                <a:latin typeface="Arial"/>
              </a:endParaRPr>
            </a:p>
          </p:txBody>
        </p:sp>
        <p:sp>
          <p:nvSpPr>
            <p:cNvPr id="68" name="Rectangle 4"/>
            <p:cNvSpPr/>
            <p:nvPr/>
          </p:nvSpPr>
          <p:spPr>
            <a:xfrm>
              <a:off x="5641560" y="2060640"/>
              <a:ext cx="3262320" cy="368748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vruchtbaarh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nergie / Klimaat</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ter</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b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cale 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val en hinder</a:t>
              </a:r>
              <a:endParaRPr b="0" lang="en-US" sz="2000" spc="-1" strike="noStrike">
                <a:solidFill>
                  <a:srgbClr val="000000"/>
                </a:solidFill>
                <a:latin typeface="Arial"/>
              </a:endParaRPr>
            </a:p>
          </p:txBody>
        </p:sp>
        <p:pic>
          <p:nvPicPr>
            <p:cNvPr id="69" name="Picture 5" descr="A_SoilFHblack"/>
            <p:cNvPicPr/>
            <p:nvPr/>
          </p:nvPicPr>
          <p:blipFill>
            <a:blip r:embed="rId1"/>
            <a:stretch/>
          </p:blipFill>
          <p:spPr>
            <a:xfrm>
              <a:off x="4911480" y="2338200"/>
              <a:ext cx="650880" cy="387000"/>
            </a:xfrm>
            <a:prstGeom prst="rect">
              <a:avLst/>
            </a:prstGeom>
            <a:ln w="0">
              <a:noFill/>
            </a:ln>
          </p:spPr>
        </p:pic>
        <p:pic>
          <p:nvPicPr>
            <p:cNvPr id="70" name="Picture 6" descr="F_Farmblack"/>
            <p:cNvPicPr/>
            <p:nvPr/>
          </p:nvPicPr>
          <p:blipFill>
            <a:blip r:embed="rId2"/>
            <a:stretch/>
          </p:blipFill>
          <p:spPr>
            <a:xfrm>
              <a:off x="826920" y="2338200"/>
              <a:ext cx="650880" cy="387000"/>
            </a:xfrm>
            <a:prstGeom prst="rect">
              <a:avLst/>
            </a:prstGeom>
            <a:ln w="0">
              <a:noFill/>
            </a:ln>
          </p:spPr>
        </p:pic>
        <p:pic>
          <p:nvPicPr>
            <p:cNvPr id="71" name="Picture 7" descr="B_SoilLossblack"/>
            <p:cNvPicPr/>
            <p:nvPr/>
          </p:nvPicPr>
          <p:blipFill>
            <a:blip r:embed="rId3"/>
            <a:stretch/>
          </p:blipFill>
          <p:spPr>
            <a:xfrm>
              <a:off x="826920" y="2963160"/>
              <a:ext cx="650880" cy="387000"/>
            </a:xfrm>
            <a:prstGeom prst="rect">
              <a:avLst/>
            </a:prstGeom>
            <a:ln w="0">
              <a:noFill/>
            </a:ln>
          </p:spPr>
        </p:pic>
        <p:pic>
          <p:nvPicPr>
            <p:cNvPr id="72" name="Picture 8" descr="C_Nutrientsblack"/>
            <p:cNvPicPr/>
            <p:nvPr/>
          </p:nvPicPr>
          <p:blipFill>
            <a:blip r:embed="rId4"/>
            <a:stretch/>
          </p:blipFill>
          <p:spPr>
            <a:xfrm>
              <a:off x="826920" y="3493440"/>
              <a:ext cx="650880" cy="387000"/>
            </a:xfrm>
            <a:prstGeom prst="rect">
              <a:avLst/>
            </a:prstGeom>
            <a:ln w="0">
              <a:noFill/>
            </a:ln>
          </p:spPr>
        </p:pic>
        <p:pic>
          <p:nvPicPr>
            <p:cNvPr id="73" name="Picture 9" descr="D_Pestblack"/>
            <p:cNvPicPr/>
            <p:nvPr/>
          </p:nvPicPr>
          <p:blipFill>
            <a:blip r:embed="rId5"/>
            <a:stretch/>
          </p:blipFill>
          <p:spPr>
            <a:xfrm>
              <a:off x="826920" y="4128480"/>
              <a:ext cx="650880" cy="386640"/>
            </a:xfrm>
            <a:prstGeom prst="rect">
              <a:avLst/>
            </a:prstGeom>
            <a:ln w="0">
              <a:noFill/>
            </a:ln>
          </p:spPr>
        </p:pic>
        <p:pic>
          <p:nvPicPr>
            <p:cNvPr id="74" name="Picture 10" descr="E_BioDivblack"/>
            <p:cNvPicPr/>
            <p:nvPr/>
          </p:nvPicPr>
          <p:blipFill>
            <a:blip r:embed="rId6"/>
            <a:stretch/>
          </p:blipFill>
          <p:spPr>
            <a:xfrm>
              <a:off x="826920" y="4682880"/>
              <a:ext cx="650880" cy="387000"/>
            </a:xfrm>
            <a:prstGeom prst="rect">
              <a:avLst/>
            </a:prstGeom>
            <a:ln w="0">
              <a:noFill/>
            </a:ln>
          </p:spPr>
        </p:pic>
        <p:pic>
          <p:nvPicPr>
            <p:cNvPr id="75" name="Picture 11" descr="G_Energyblack"/>
            <p:cNvPicPr/>
            <p:nvPr/>
          </p:nvPicPr>
          <p:blipFill>
            <a:blip r:embed="rId7"/>
            <a:stretch/>
          </p:blipFill>
          <p:spPr>
            <a:xfrm>
              <a:off x="4911480" y="2964240"/>
              <a:ext cx="650880" cy="386640"/>
            </a:xfrm>
            <a:prstGeom prst="rect">
              <a:avLst/>
            </a:prstGeom>
            <a:ln w="0">
              <a:noFill/>
            </a:ln>
          </p:spPr>
        </p:pic>
        <p:pic>
          <p:nvPicPr>
            <p:cNvPr id="76" name="Picture 12" descr="H_Waterblack"/>
            <p:cNvPicPr/>
            <p:nvPr/>
          </p:nvPicPr>
          <p:blipFill>
            <a:blip r:embed="rId8"/>
            <a:stretch/>
          </p:blipFill>
          <p:spPr>
            <a:xfrm>
              <a:off x="4911480" y="3494880"/>
              <a:ext cx="650880" cy="386640"/>
            </a:xfrm>
            <a:prstGeom prst="rect">
              <a:avLst/>
            </a:prstGeom>
            <a:ln w="0">
              <a:noFill/>
            </a:ln>
          </p:spPr>
        </p:pic>
        <p:pic>
          <p:nvPicPr>
            <p:cNvPr id="77" name="Picture 13" descr="I_Socialblack"/>
            <p:cNvPicPr/>
            <p:nvPr/>
          </p:nvPicPr>
          <p:blipFill>
            <a:blip r:embed="rId9"/>
            <a:stretch/>
          </p:blipFill>
          <p:spPr>
            <a:xfrm>
              <a:off x="4911480" y="4129560"/>
              <a:ext cx="650880" cy="387000"/>
            </a:xfrm>
            <a:prstGeom prst="rect">
              <a:avLst/>
            </a:prstGeom>
            <a:ln w="0">
              <a:noFill/>
            </a:ln>
          </p:spPr>
        </p:pic>
        <p:pic>
          <p:nvPicPr>
            <p:cNvPr id="78" name="Picture 14" descr="J_impactblack"/>
            <p:cNvPicPr/>
            <p:nvPr/>
          </p:nvPicPr>
          <p:blipFill>
            <a:blip r:embed="rId10"/>
            <a:stretch/>
          </p:blipFill>
          <p:spPr>
            <a:xfrm>
              <a:off x="4911480" y="4681800"/>
              <a:ext cx="650880" cy="386640"/>
            </a:xfrm>
            <a:prstGeom prst="rect">
              <a:avLst/>
            </a:prstGeom>
            <a:ln w="0">
              <a:noFill/>
            </a:ln>
          </p:spPr>
        </p:pic>
        <p:pic>
          <p:nvPicPr>
            <p:cNvPr id="79" name="Picture 15" descr="K_Animalblack"/>
            <p:cNvPicPr/>
            <p:nvPr/>
          </p:nvPicPr>
          <p:blipFill>
            <a:blip r:embed="rId11"/>
            <a:stretch/>
          </p:blipFill>
          <p:spPr>
            <a:xfrm>
              <a:off x="826920" y="5293080"/>
              <a:ext cx="650880" cy="386640"/>
            </a:xfrm>
            <a:prstGeom prst="rect">
              <a:avLst/>
            </a:prstGeom>
            <a:ln w="0">
              <a:noFill/>
            </a:ln>
          </p:spPr>
        </p:pic>
        <p:pic>
          <p:nvPicPr>
            <p:cNvPr id="80" name="Picture 16" descr="bin050"/>
            <p:cNvPicPr/>
            <p:nvPr/>
          </p:nvPicPr>
          <p:blipFill>
            <a:blip r:embed="rId12"/>
            <a:stretch/>
          </p:blipFill>
          <p:spPr>
            <a:xfrm>
              <a:off x="4965480" y="5302080"/>
              <a:ext cx="544320" cy="388080"/>
            </a:xfrm>
            <a:prstGeom prst="rect">
              <a:avLst/>
            </a:prstGeom>
            <a:ln w="0">
              <a:noFill/>
            </a:ln>
          </p:spPr>
        </p:pic>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8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dachtspunten Milq2</a:t>
            </a:r>
            <a:endParaRPr b="0" lang="en-US" sz="4400" spc="-1" strike="noStrike">
              <a:solidFill>
                <a:srgbClr val="000000"/>
              </a:solidFill>
              <a:latin typeface="Arial"/>
            </a:endParaRPr>
          </a:p>
        </p:txBody>
      </p:sp>
      <p:graphicFrame>
        <p:nvGraphicFramePr>
          <p:cNvPr id="82" name=""/>
          <p:cNvGraphicFramePr/>
          <p:nvPr/>
        </p:nvGraphicFramePr>
        <p:xfrm>
          <a:off x="0" y="1268280"/>
          <a:ext cx="9144000" cy="5256360"/>
        </p:xfrm>
        <a:graphic>
          <a:graphicData uri="http://schemas.openxmlformats.org/drawingml/2006/table">
            <a:tbl>
              <a:tblPr/>
              <a:tblGrid>
                <a:gridCol w="4427640"/>
                <a:gridCol w="4716360"/>
              </a:tblGrid>
              <a:tr h="2554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 Medewerkers / co-mak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andbouworganisatie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onbedrijv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rknemersorganisa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2. Klanten en lever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elkfabriek (Friesland Food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leesindustri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ductschap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erenartsen (KNMv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fnemers overige producten / diensten (CR-Delta)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2701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 Maatschappij</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Natuur- en dierorganisaties (Boer en natuur, Staatsbosbeheer, Dierenbescher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NWB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vincie, Gemeente, Waterschap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4. Bestuur en fin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Financiële instelli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VM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estuurlijke instellingen sector (LTO, LNV, VROM)</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Grafiek 3" descr=""/>
          <p:cNvPicPr/>
          <p:nvPr/>
        </p:nvPicPr>
        <p:blipFill>
          <a:blip r:embed="rId1"/>
          <a:stretch/>
        </p:blipFill>
        <p:spPr>
          <a:xfrm>
            <a:off x="-219240" y="-6480"/>
            <a:ext cx="9369720" cy="651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5544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kiwijs (en Blackboard)</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1413000"/>
            <a:ext cx="6400800" cy="4225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Afbeelding 3" descr=""/>
          <p:cNvPicPr/>
          <p:nvPr/>
        </p:nvPicPr>
        <p:blipFill>
          <a:blip r:embed="rId1"/>
          <a:srcRect l="8150" t="21705" r="8470" b="11740"/>
          <a:stretch/>
        </p:blipFill>
        <p:spPr>
          <a:xfrm>
            <a:off x="250920" y="752400"/>
            <a:ext cx="3960720" cy="5905440"/>
          </a:xfrm>
          <a:prstGeom prst="rect">
            <a:avLst/>
          </a:prstGeom>
          <a:ln w="0">
            <a:noFill/>
          </a:ln>
        </p:spPr>
      </p:pic>
      <p:pic>
        <p:nvPicPr>
          <p:cNvPr id="87" name="Afbeelding 4" descr=""/>
          <p:cNvPicPr/>
          <p:nvPr/>
        </p:nvPicPr>
        <p:blipFill>
          <a:blip r:embed="rId2"/>
          <a:srcRect l="6845" t="24575" r="8790" b="11356"/>
          <a:stretch/>
        </p:blipFill>
        <p:spPr>
          <a:xfrm>
            <a:off x="4572000" y="752400"/>
            <a:ext cx="4176720" cy="59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ees Romij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zitter LTO Noor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TO-visie ondernemerschap en duurzaamheid</a:t>
            </a:r>
            <a:endParaRPr b="0" lang="en-US" sz="3600" spc="-1" strike="noStrike">
              <a:solidFill>
                <a:srgbClr val="000000"/>
              </a:solidFill>
              <a:latin typeface="Arial"/>
            </a:endParaRPr>
          </a:p>
        </p:txBody>
      </p:sp>
      <p:sp>
        <p:nvSpPr>
          <p:cNvPr id="9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55:14Z</dcterms:created>
  <dc:creator>aocoost</dc:creator>
  <dc:description/>
  <dc:language>en-US</dc:language>
  <cp:lastModifiedBy>Gebruiker</cp:lastModifiedBy>
  <cp:lastPrinted>2012-04-23T08:04:13Z</cp:lastPrinted>
  <dcterms:modified xsi:type="dcterms:W3CDTF">2012-04-23T22:15:33Z</dcterms:modified>
  <cp:revision>39</cp:revision>
  <dc:subject/>
  <dc:title>Kwaliteitsmanagement op het melkveehouderijbedrijf</dc:title>
</cp:coreProperties>
</file>