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4500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move the slid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652F2E-0CA7-401F-9B4B-9B94809C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320" cy="6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7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EB548A-3601-47AE-9571-8ADAACADB37D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8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84849DC2-5491-4468-AD13-23F1031237A0}" type="datetime1">
              <a:rPr b="0" lang="en-GB" sz="1000" spc="-1" strike="noStrike">
                <a:solidFill>
                  <a:srgbClr val="000000"/>
                </a:solidFill>
                <a:latin typeface="News Gothic"/>
              </a:rPr>
              <a:t>29/07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9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defRPr b="0" lang="en-GB" sz="1000" spc="-1" strike="noStrike">
                <a:solidFill>
                  <a:srgbClr val="000000"/>
                </a:solidFill>
                <a:latin typeface="News Gothic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</a:pPr>
            <a:fld id="{418B5E82-9F70-4FE7-9B4A-DC00FAEB9138}" type="slidenum">
              <a:rPr b="0" lang="en-GB" sz="10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05040" y="4722840"/>
            <a:ext cx="498456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dt" idx="4"/>
          </p:nvPr>
        </p:nvSpPr>
        <p:spPr>
          <a:xfrm>
            <a:off x="3848760" y="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843111-3E48-4C31-AF79-855D38296841}" type="datetime1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Num" idx="5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FB5519-7A4B-4067-AC6C-7FCB0CEE4C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3680" cy="3723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0760" y="4717080"/>
            <a:ext cx="5432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7440"/>
            <a:ext cx="54352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6"/>
          </p:nvPr>
        </p:nvSpPr>
        <p:spPr>
          <a:xfrm>
            <a:off x="3848760" y="9433080"/>
            <a:ext cx="294408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BD7CF9-9689-44B0-9CDA-48405A95F57D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91760" y="230040"/>
            <a:ext cx="844236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1200" y="3971520"/>
            <a:ext cx="852084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640" y="183528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120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87640" y="3971520"/>
            <a:ext cx="415800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0228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83360" y="183528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2120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0228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83360" y="3971520"/>
            <a:ext cx="2743560" cy="19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664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30864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714560" y="3307680"/>
            <a:ext cx="2647440" cy="264744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120480" y="3307680"/>
            <a:ext cx="2647440" cy="2647440"/>
          </a:xfrm>
          <a:prstGeom prst="rect">
            <a:avLst/>
          </a:prstGeom>
          <a:solidFill>
            <a:srgbClr val="d5d2ca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Calibri"/>
              </a:rPr>
              <a:t>Klik op het pictogram als u een afbeelding wilt toevoegen</a:t>
            </a:r>
            <a:endParaRPr b="0" lang="nl-NL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6"/>
          <p:cNvSpPr>
            <a:spLocks noGrp="1"/>
          </p:cNvSpPr>
          <p:nvPr>
            <p:ph type="body"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Ondertit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7"/>
          <p:cNvSpPr>
            <a:spLocks noGrp="1"/>
          </p:cNvSpPr>
          <p:nvPr>
            <p:ph type="body"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atum, Auteursnaam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lik om de modelstijlen te bewerk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wee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2692440" indent="-36036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er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3405240" indent="-352440">
              <a:lnSpc>
                <a:spcPts val="2500"/>
              </a:lnSpc>
              <a:spcBef>
                <a:spcPts val="439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ijfde niveau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Line 45"/>
          <p:cNvSpPr/>
          <p:nvPr/>
        </p:nvSpPr>
        <p:spPr>
          <a:xfrm>
            <a:off x="-2880" y="5995800"/>
            <a:ext cx="9146880" cy="360"/>
          </a:xfrm>
          <a:prstGeom prst="line">
            <a:avLst/>
          </a:prstGeom>
          <a:ln w="1270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3" name="Picture 47" descr="WUR-beeldstrip_PPT-template"/>
          <p:cNvPicPr/>
          <p:nvPr/>
        </p:nvPicPr>
        <p:blipFill>
          <a:blip r:embed="rId4"/>
          <a:stretch/>
        </p:blipFill>
        <p:spPr>
          <a:xfrm>
            <a:off x="-1440" y="4286160"/>
            <a:ext cx="9145080" cy="1712520"/>
          </a:xfrm>
          <a:prstGeom prst="rect">
            <a:avLst/>
          </a:prstGeom>
          <a:ln w="0">
            <a:noFill/>
          </a:ln>
        </p:spPr>
      </p:pic>
      <p:sp>
        <p:nvSpPr>
          <p:cNvPr id="164" name="Line 5"/>
          <p:cNvSpPr/>
          <p:nvPr/>
        </p:nvSpPr>
        <p:spPr>
          <a:xfrm>
            <a:off x="-2880" y="1712880"/>
            <a:ext cx="9146880" cy="360"/>
          </a:xfrm>
          <a:prstGeom prst="line">
            <a:avLst/>
          </a:prstGeom>
          <a:ln w="12700">
            <a:solidFill>
              <a:srgbClr val="80ba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nl-NL" sz="1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165" name="Picture 64" descr="_LIVESTOCK"/>
          <p:cNvPicPr/>
          <p:nvPr/>
        </p:nvPicPr>
        <p:blipFill>
          <a:blip r:embed="rId5"/>
          <a:srcRect l="0" t="0" r="-56077" b="0"/>
          <a:stretch/>
        </p:blipFill>
        <p:spPr>
          <a:xfrm>
            <a:off x="0" y="5997600"/>
            <a:ext cx="9143640" cy="87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240" cy="184896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4400" spc="-1" strike="noStrike">
                <a:solidFill>
                  <a:schemeClr val="accent1"/>
                </a:solidFill>
                <a:latin typeface="Arial Unicode MS"/>
              </a:rPr>
              <a:t>Click to edit Master title style</a:t>
            </a:r>
            <a:endParaRPr b="0" lang="nl-NL" sz="44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3000" spc="-1" strike="noStrike">
                <a:solidFill>
                  <a:srgbClr val="005172"/>
                </a:solidFill>
                <a:latin typeface="Calibri"/>
              </a:rPr>
              <a:t>Click to edit the title text format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1001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ik om de stijl te bewerk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ts val="25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lnSpc>
                <a:spcPts val="25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lnSpc>
                <a:spcPts val="25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lnSpc>
                <a:spcPts val="25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lnSpc>
                <a:spcPts val="25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idenuitdeklei.nl/bestel-de-kalender/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Paul.galama@wur.nl" TargetMode="External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mgeving duurzame melkveehouderij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28" name="Tijdelijke aanduiding voor afbeelding 19"/>
          <p:cNvSpPr/>
          <p:nvPr/>
        </p:nvSpPr>
        <p:spPr>
          <a:xfrm>
            <a:off x="6334920" y="3960720"/>
            <a:ext cx="2647440" cy="264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jdelijke aanduiding voor afbeelding 15"/>
          <p:cNvSpPr/>
          <p:nvPr/>
        </p:nvSpPr>
        <p:spPr>
          <a:xfrm>
            <a:off x="2611080" y="3438360"/>
            <a:ext cx="2647440" cy="264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640" y="161640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Verdana"/>
              </a:rPr>
              <a:t>Nieuwe grenzen en nieuwe 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800" y="2262240"/>
            <a:ext cx="844668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36000" rIns="90000" anchor="t">
            <a:noAutofit/>
          </a:bodyPr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nderwijsdag, 24 april 2012, Paul Galama</a:t>
            </a:r>
            <a:br>
              <a:rPr sz="2200"/>
            </a:b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icture Placeholder 6"/>
          <p:cNvSpPr/>
          <p:nvPr/>
        </p:nvSpPr>
        <p:spPr>
          <a:xfrm>
            <a:off x="534600" y="2837160"/>
            <a:ext cx="2647440" cy="2647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icture Placeholder 2"/>
          <p:cNvSpPr/>
          <p:nvPr/>
        </p:nvSpPr>
        <p:spPr>
          <a:xfrm>
            <a:off x="4565160" y="3202920"/>
            <a:ext cx="2647440" cy="2647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arom regionale voercentra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21200" y="12996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tere kuilkwaliteit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sparing v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eropsla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rbeid en mechanisati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rachtvoerkosten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nder last van slechte verkavel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ouwblok benutten voor staluitbreid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Nade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eer transport,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  <a:tabLst>
                <a:tab algn="l" pos="0"/>
              </a:tabLst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Minder sturing rantsoen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ritische succesfactor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dichtheid en voeraanbod i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Juiste plek qua verkeersveilig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Economisch voordeel verschilt per bedrijf en regio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el wat fout kan gaa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Uitbouw naar regionaal nutriëntencentrum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Optimaliseren op gebiedsniveau !!</a:t>
            </a:r>
            <a:br>
              <a:rPr sz="2200"/>
            </a:b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(biomassa en meststromen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koe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Meer ruimte voor natuurlijk gedrag en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makkelijk kunnen liggen en opstaa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Zachte bodems voor minder klauwproblemen en goede beloopbaarheid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ust bij eten en drinken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Frisse lucht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een ingrepen, hoorns?</a:t>
            </a: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nl-NL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Wat wil de boer?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kost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ge invester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jaarlijkse kosten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inig werk en veel plezier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ange levensduur vee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zonde bodem (-vruchtbaarheid)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5533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Wat wil de omgeving?</a:t>
            </a:r>
            <a:br>
              <a:rPr sz="2800"/>
            </a:b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8557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en la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awaai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an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Lichtvervuiling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of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Uitzicht (nokhoogte, dakgoothoogte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l lust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Fraai in het landschap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ttractie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missies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mmoniak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roeikasgassen (lachgas en methaan)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18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inig energieverbruik</a:t>
            </a:r>
            <a:endParaRPr b="0" lang="nl-NL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Dilemma’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156200" y="1348560"/>
            <a:ext cx="1062000" cy="7754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erf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en-GB" sz="3000" spc="-1" strike="noStrike">
                <a:solidFill>
                  <a:srgbClr val="ffffff"/>
                </a:solidFill>
                <a:latin typeface="Verdana"/>
              </a:rPr>
              <a:t>Kengetallen erf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398" name="Table 2"/>
          <p:cNvGraphicFramePr/>
          <p:nvPr/>
        </p:nvGraphicFramePr>
        <p:xfrm>
          <a:off x="508320" y="1951200"/>
          <a:ext cx="8182440" cy="3222720"/>
        </p:xfrm>
        <a:graphic>
          <a:graphicData uri="http://schemas.openxmlformats.org/drawingml/2006/table">
            <a:tbl>
              <a:tblPr/>
              <a:tblGrid>
                <a:gridCol w="3103200"/>
                <a:gridCol w="1209960"/>
                <a:gridCol w="116640"/>
                <a:gridCol w="1214280"/>
                <a:gridCol w="1145160"/>
                <a:gridCol w="116640"/>
                <a:gridCol w="1275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Aantal koe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ype s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Lig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Vrijlo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okhoogte melkvee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9.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2.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2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gra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silo maï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Hoogte mests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aa8a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Nieuwe sta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GB" sz="1800" spc="-1" strike="noStrike">
                        <a:solidFill>
                          <a:srgbClr val="003d55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0,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4b2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Totaal e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3d55"/>
                          </a:solidFill>
                          <a:latin typeface="Verdana"/>
                        </a:rPr>
                        <a:t>1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6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85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4" descr="DOC091007-002"/>
          <p:cNvPicPr/>
          <p:nvPr/>
        </p:nvPicPr>
        <p:blipFill>
          <a:blip r:embed="rId1"/>
          <a:stretch/>
        </p:blipFill>
        <p:spPr>
          <a:xfrm>
            <a:off x="0" y="0"/>
            <a:ext cx="9143640" cy="616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905920" y="549360"/>
            <a:ext cx="21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5172"/>
                </a:solidFill>
                <a:latin typeface="Calibri"/>
              </a:rPr>
              <a:t>Nokhoogte bep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Picture 4" descr="3D ontwerp 5"/>
          <p:cNvPicPr/>
          <p:nvPr/>
        </p:nvPicPr>
        <p:blipFill>
          <a:blip r:embed="rId1"/>
          <a:stretch/>
        </p:blipFill>
        <p:spPr>
          <a:xfrm>
            <a:off x="-108000" y="0"/>
            <a:ext cx="9396000" cy="6014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6434280" y="5373720"/>
            <a:ext cx="2525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4c78"/>
                </a:solidFill>
                <a:latin typeface="Arial Unicode MS"/>
              </a:rPr>
              <a:t>Bron: DLV, Li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70080" y="4508640"/>
            <a:ext cx="389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iergevel rondom folie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1954800" y="1194120"/>
            <a:ext cx="5476680" cy="44881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3556080" y="2798640"/>
            <a:ext cx="2318040" cy="10040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M2 per koe</a:t>
            </a:r>
            <a:br>
              <a:rPr sz="2400"/>
            </a:b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nl-NL" sz="2400" spc="-1" strike="noStrike">
                <a:solidFill>
                  <a:srgbClr val="005172"/>
                </a:solidFill>
                <a:latin typeface="Verdana"/>
              </a:rPr>
              <a:t>aantal ko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1762920" y="2798640"/>
            <a:ext cx="5970600" cy="10040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6000" spc="-1" strike="noStrike">
                <a:solidFill>
                  <a:srgbClr val="005172"/>
                </a:solidFill>
                <a:latin typeface="Verdana"/>
              </a:rPr>
              <a:t>Dit is maatwer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meidenuitdeklei.nl/wp-content/uploads/2011/05/Meiden_uit_de_klei_kalend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03120"/>
            <a:ext cx="8857800" cy="47545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5473440" y="3788280"/>
            <a:ext cx="3670200" cy="30693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73440" y="4018680"/>
            <a:ext cx="3670200" cy="1865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.. en de 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stedeling niet....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15" name="Content Placeholder 5" descr=""/>
          <p:cNvPicPr/>
          <p:nvPr/>
        </p:nvPicPr>
        <p:blipFill>
          <a:blip r:embed="rId3"/>
          <a:stretch/>
        </p:blipFill>
        <p:spPr>
          <a:xfrm>
            <a:off x="4093560" y="0"/>
            <a:ext cx="5050080" cy="37875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9"/>
          <p:cNvSpPr/>
          <p:nvPr/>
        </p:nvSpPr>
        <p:spPr>
          <a:xfrm>
            <a:off x="0" y="0"/>
            <a:ext cx="4101480" cy="210276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7" name="Title 1"/>
          <p:cNvSpPr/>
          <p:nvPr/>
        </p:nvSpPr>
        <p:spPr>
          <a:xfrm>
            <a:off x="613800" y="576360"/>
            <a:ext cx="3670200" cy="1847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lIns="18000" tIns="0" bIns="324000" anchor="t">
            <a:spAutoFit/>
          </a:bodyPr>
          <a:p>
            <a:pPr algn="ctr">
              <a:lnSpc>
                <a:spcPts val="4000"/>
              </a:lnSpc>
            </a:pP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Vergeet de buurvrouw.....</a:t>
            </a:r>
            <a:br>
              <a:rPr sz="3000"/>
            </a:br>
            <a:r>
              <a:rPr b="0" lang="nl-NL" sz="3000" spc="-1" strike="noStrike">
                <a:solidFill>
                  <a:schemeClr val="accent1">
                    <a:lumMod val="50000"/>
                  </a:schemeClr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nderwerp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1200" y="183528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renzen en ontwikkelrichting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chaalvergrotin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gionale voercentra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t wil koe, boer en omgeving?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Vrijloopstall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Type bodems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c000"/>
                </a:solidFill>
                <a:latin typeface="Verdana"/>
              </a:rPr>
              <a:t>Perspectief duurzaamhei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Overzicht type bodems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9760" y="97452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rainerend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and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Kunststofvloer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Blaz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2" marL="1879560" indent="-318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Zuigen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Passieve beluchten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sorberen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FT compos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Compost snoeiafval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1600" spc="-1" strike="noStrike">
                <a:solidFill>
                  <a:srgbClr val="ffffff"/>
                </a:solidFill>
                <a:latin typeface="Verdana"/>
              </a:rPr>
              <a:t>Gedroogde bagger en riet </a:t>
            </a:r>
            <a:endParaRPr b="0" lang="nl-NL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Picture 4" descr="3-12-2009 215 (Small)"/>
          <p:cNvPicPr/>
          <p:nvPr/>
        </p:nvPicPr>
        <p:blipFill>
          <a:blip r:embed="rId1"/>
          <a:stretch/>
        </p:blipFill>
        <p:spPr>
          <a:xfrm>
            <a:off x="0" y="0"/>
            <a:ext cx="9143640" cy="68562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-69840" y="5445000"/>
            <a:ext cx="921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1100 m2 met halve meter houtsnippers en beluchtingssyst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4" descr="DSC01274"/>
          <p:cNvPicPr/>
          <p:nvPr/>
        </p:nvPicPr>
        <p:blipFill>
          <a:blip r:embed="rId1"/>
          <a:stretch/>
        </p:blipFill>
        <p:spPr>
          <a:xfrm>
            <a:off x="0" y="-28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3423960" y="4524480"/>
            <a:ext cx="39758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ctieve beluch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Niet te sterk belu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2"/>
          <p:cNvSpPr/>
          <p:nvPr/>
        </p:nvSpPr>
        <p:spPr>
          <a:xfrm>
            <a:off x="3660480" y="5334120"/>
            <a:ext cx="295020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uigen of bl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Picture 4" descr="DSC022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2807280" y="5240160"/>
            <a:ext cx="5440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Groenewegen in Kraggenburg (NOP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 Kom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8" name="Picture 4" descr="Havermans"/>
          <p:cNvPicPr/>
          <p:nvPr/>
        </p:nvPicPr>
        <p:blipFill>
          <a:blip r:embed="rId1"/>
          <a:stretch/>
        </p:blipFill>
        <p:spPr>
          <a:xfrm>
            <a:off x="-3060720" y="0"/>
            <a:ext cx="12204360" cy="6849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481320" y="4964040"/>
            <a:ext cx="491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nl-NL" sz="2400" spc="-1" strike="noStrike">
                <a:solidFill>
                  <a:srgbClr val="ffffff"/>
                </a:solidFill>
                <a:latin typeface="Arial Unicode MS"/>
              </a:rPr>
              <a:t>Havermans in Moerdijk (Brab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per m2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4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632360" cy="4343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422280" y="5178600"/>
            <a:ext cx="82976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396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766080" y="483480"/>
            <a:ext cx="784224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Wie stelt de grenzen aan de melkveehoude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2219400" y="4518360"/>
            <a:ext cx="162288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uurvrou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7400520" y="2833920"/>
            <a:ext cx="10177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Milie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569160" y="2351520"/>
            <a:ext cx="62460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Er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270360" y="5676840"/>
            <a:ext cx="1410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Stede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7450920" y="4218120"/>
            <a:ext cx="8942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Afz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453040" y="2203920"/>
            <a:ext cx="85932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Bo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4640400" y="4937040"/>
            <a:ext cx="744840" cy="318240"/>
          </a:xfrm>
          <a:prstGeom prst="rect">
            <a:avLst/>
          </a:prstGeom>
          <a:solidFill>
            <a:srgbClr val="ffffff"/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Ko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88920" y="3357720"/>
            <a:ext cx="4320720" cy="2592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1406520" y="-128520"/>
            <a:ext cx="23014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Calibri"/>
              </a:rPr>
              <a:t>Ligboxen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1403280" y="404640"/>
            <a:ext cx="5832000" cy="2595600"/>
            <a:chOff x="1403280" y="404640"/>
            <a:chExt cx="5832000" cy="2595600"/>
          </a:xfrm>
        </p:grpSpPr>
        <p:sp>
          <p:nvSpPr>
            <p:cNvPr id="446" name="Line 5"/>
            <p:cNvSpPr/>
            <p:nvPr/>
          </p:nvSpPr>
          <p:spPr>
            <a:xfrm>
              <a:off x="4354200" y="406080"/>
              <a:ext cx="360" cy="25941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grpSp>
          <p:nvGrpSpPr>
            <p:cNvPr id="447" name="Group 6"/>
            <p:cNvGrpSpPr/>
            <p:nvPr/>
          </p:nvGrpSpPr>
          <p:grpSpPr>
            <a:xfrm>
              <a:off x="1403280" y="404640"/>
              <a:ext cx="5832000" cy="2595600"/>
              <a:chOff x="1403280" y="404640"/>
              <a:chExt cx="5832000" cy="2595600"/>
            </a:xfrm>
          </p:grpSpPr>
          <p:sp>
            <p:nvSpPr>
              <p:cNvPr id="448" name="Text Box 7"/>
              <p:cNvSpPr/>
              <p:nvPr/>
            </p:nvSpPr>
            <p:spPr>
              <a:xfrm>
                <a:off x="5796000" y="1409760"/>
                <a:ext cx="1152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nl-NL" sz="1800" spc="-1" strike="noStrike">
                    <a:solidFill>
                      <a:srgbClr val="ffffff"/>
                    </a:solidFill>
                    <a:latin typeface="Arial"/>
                  </a:rPr>
                  <a:t>voerp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Group 8"/>
              <p:cNvGrpSpPr/>
              <p:nvPr/>
            </p:nvGrpSpPr>
            <p:grpSpPr>
              <a:xfrm>
                <a:off x="1403280" y="404640"/>
                <a:ext cx="5832000" cy="2595600"/>
                <a:chOff x="1403280" y="404640"/>
                <a:chExt cx="5832000" cy="2595600"/>
              </a:xfrm>
            </p:grpSpPr>
            <p:sp>
              <p:nvSpPr>
                <p:cNvPr id="450" name="Rectangle 9"/>
                <p:cNvSpPr/>
                <p:nvPr/>
              </p:nvSpPr>
              <p:spPr>
                <a:xfrm>
                  <a:off x="1403280" y="404640"/>
                  <a:ext cx="5832000" cy="2595240"/>
                </a:xfrm>
                <a:prstGeom prst="rect">
                  <a:avLst/>
                </a:prstGeom>
                <a:noFill/>
                <a:ln w="9525">
                  <a:solidFill>
                    <a:srgbClr val="0051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</a:pPr>
                  <a:endParaRPr b="0" lang="en-GB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1" name="Line 10"/>
                <p:cNvSpPr/>
                <p:nvPr/>
              </p:nvSpPr>
              <p:spPr>
                <a:xfrm>
                  <a:off x="5435280" y="404640"/>
                  <a:ext cx="180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2" name="Line 11"/>
                <p:cNvSpPr/>
                <p:nvPr/>
              </p:nvSpPr>
              <p:spPr>
                <a:xfrm>
                  <a:off x="2339640" y="407880"/>
                  <a:ext cx="360" cy="2592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3" name="Line 12"/>
                <p:cNvSpPr/>
                <p:nvPr/>
              </p:nvSpPr>
              <p:spPr>
                <a:xfrm>
                  <a:off x="3419280" y="404640"/>
                  <a:ext cx="1440" cy="259560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4" name="Line 13"/>
                <p:cNvSpPr/>
                <p:nvPr/>
              </p:nvSpPr>
              <p:spPr>
                <a:xfrm>
                  <a:off x="1403280" y="83808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5" name="Line 14"/>
                <p:cNvSpPr/>
                <p:nvPr/>
              </p:nvSpPr>
              <p:spPr>
                <a:xfrm>
                  <a:off x="1403280" y="1269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6" name="Line 15"/>
                <p:cNvSpPr/>
                <p:nvPr/>
              </p:nvSpPr>
              <p:spPr>
                <a:xfrm>
                  <a:off x="1403280" y="170172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7" name="Line 16"/>
                <p:cNvSpPr/>
                <p:nvPr/>
              </p:nvSpPr>
              <p:spPr>
                <a:xfrm>
                  <a:off x="1403280" y="2133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8" name="Line 17"/>
                <p:cNvSpPr/>
                <p:nvPr/>
              </p:nvSpPr>
              <p:spPr>
                <a:xfrm>
                  <a:off x="1403280" y="2565360"/>
                  <a:ext cx="93636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59" name="Line 18"/>
                <p:cNvSpPr/>
                <p:nvPr/>
              </p:nvSpPr>
              <p:spPr>
                <a:xfrm>
                  <a:off x="3419280" y="83808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0" name="Line 19"/>
                <p:cNvSpPr/>
                <p:nvPr/>
              </p:nvSpPr>
              <p:spPr>
                <a:xfrm>
                  <a:off x="3419280" y="1269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1" name="Line 20"/>
                <p:cNvSpPr/>
                <p:nvPr/>
              </p:nvSpPr>
              <p:spPr>
                <a:xfrm>
                  <a:off x="3419280" y="170172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2" name="Line 21"/>
                <p:cNvSpPr/>
                <p:nvPr/>
              </p:nvSpPr>
              <p:spPr>
                <a:xfrm>
                  <a:off x="3419280" y="2133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  <p:sp>
              <p:nvSpPr>
                <p:cNvPr id="463" name="Line 22"/>
                <p:cNvSpPr/>
                <p:nvPr/>
              </p:nvSpPr>
              <p:spPr>
                <a:xfrm>
                  <a:off x="3419280" y="2565360"/>
                  <a:ext cx="936720" cy="360"/>
                </a:xfrm>
                <a:prstGeom prst="line">
                  <a:avLst/>
                </a:prstGeom>
                <a:ln w="9525">
                  <a:solidFill>
                    <a:srgbClr val="0051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GB" sz="1800" spc="-1" strike="noStrike">
                    <a:solidFill>
                      <a:srgbClr val="005172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64" name="Rectangle 23"/>
          <p:cNvSpPr/>
          <p:nvPr/>
        </p:nvSpPr>
        <p:spPr>
          <a:xfrm>
            <a:off x="111240" y="2924280"/>
            <a:ext cx="17967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nl-NL" sz="1800" spc="-1" strike="noStrike">
                <a:solidFill>
                  <a:srgbClr val="ffffff"/>
                </a:solidFill>
                <a:latin typeface="News Gothic"/>
              </a:rPr>
              <a:t>Vrijloop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7337520" y="414972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12 = 1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88920" y="3357360"/>
            <a:ext cx="7200720" cy="2592360"/>
            <a:chOff x="88920" y="3357360"/>
            <a:chExt cx="7200720" cy="2592360"/>
          </a:xfrm>
        </p:grpSpPr>
        <p:sp>
          <p:nvSpPr>
            <p:cNvPr id="467" name="Rectangle 26"/>
            <p:cNvSpPr/>
            <p:nvPr/>
          </p:nvSpPr>
          <p:spPr>
            <a:xfrm>
              <a:off x="88920" y="3357720"/>
              <a:ext cx="7200720" cy="2592000"/>
            </a:xfrm>
            <a:prstGeom prst="rect">
              <a:avLst/>
            </a:prstGeom>
            <a:noFill/>
            <a:ln w="9525">
              <a:solidFill>
                <a:srgbClr val="0051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GB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5489280" y="3357360"/>
              <a:ext cx="1800" cy="259236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4410000" y="3357360"/>
              <a:ext cx="1440" cy="2590920"/>
            </a:xfrm>
            <a:prstGeom prst="line">
              <a:avLst/>
            </a:prstGeom>
            <a:ln w="9525">
              <a:solidFill>
                <a:srgbClr val="0051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GB" sz="1800" spc="-1" strike="noStrike">
                <a:solidFill>
                  <a:srgbClr val="005172"/>
                </a:solidFill>
                <a:latin typeface="Calibri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5850000" y="4430880"/>
              <a:ext cx="1152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voer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1457280" y="4229280"/>
              <a:ext cx="1368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g-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opruim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1"/>
          <p:cNvSpPr/>
          <p:nvPr/>
        </p:nvSpPr>
        <p:spPr>
          <a:xfrm>
            <a:off x="4356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2340000" y="404640"/>
            <a:ext cx="108072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0000" y="3357720"/>
            <a:ext cx="1079280" cy="2592000"/>
          </a:xfrm>
          <a:prstGeom prst="rect">
            <a:avLst/>
          </a:prstGeom>
          <a:pattFill prst="ltHorz">
            <a:fgClr>
              <a:srgbClr val="cccc00"/>
            </a:fgClr>
            <a:bgClr>
              <a:srgbClr val="5e5e00"/>
            </a:bgClr>
          </a:pattFill>
          <a:ln w="9525">
            <a:solidFill>
              <a:srgbClr val="005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nl-NL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7337520" y="1125360"/>
            <a:ext cx="1728360" cy="9126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 + 2 = 4 m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me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mmoniakemissie per dier (relatief tov ligbox)</a:t>
            </a:r>
            <a:endParaRPr b="0" lang="nl-NL" sz="28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4273200"/>
          </a:xfrm>
          <a:prstGeom prst="rect">
            <a:avLst/>
          </a:prstGeom>
          <a:ln w="0">
            <a:noFill/>
          </a:ln>
        </p:spPr>
      </p:pic>
      <p:sp>
        <p:nvSpPr>
          <p:cNvPr id="478" name="Tekstvak 4"/>
          <p:cNvSpPr/>
          <p:nvPr/>
        </p:nvSpPr>
        <p:spPr>
          <a:xfrm>
            <a:off x="200520" y="5229360"/>
            <a:ext cx="87066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Let op: referentie (ligbox) wordt lager uitgaande van 11 kg NH3 /koe/jr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0" lang="nl-NL" sz="2000" spc="-1" strike="noStrike">
                <a:solidFill>
                  <a:srgbClr val="ffff00"/>
                </a:solidFill>
                <a:latin typeface="Arial Unicode MS"/>
              </a:rPr>
              <a:t>namelijk daalt dan van 1200 naar 314 mg / hr/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mmoniakemissie vrijloop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m2 lager dan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er koe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Zand te hoog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lvl="1" marL="982800" indent="-285840">
              <a:lnSpc>
                <a:spcPts val="2500"/>
              </a:lnSpc>
              <a:spcBef>
                <a:spcPts val="1001"/>
              </a:spcBef>
              <a:buClr>
                <a:srgbClr val="ffffff"/>
              </a:buClr>
              <a:buSzPct val="115000"/>
              <a:buFont typeface="Verdana"/>
              <a:buChar char="●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Composteringsbodem en toemaak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gelijkbaar met ligboxen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Emissies in bedrijfsverband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52360" indent="-25236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Wingdings" charset="2"/>
              <a:buChar char=""/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 basis van analyses bodemmateriaal inschatten emissies buiten de stal</a:t>
            </a: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s: duurzaamheid stallen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graphicFrame>
        <p:nvGraphicFramePr>
          <p:cNvPr id="484" name="Group 35"/>
          <p:cNvGraphicFramePr/>
          <p:nvPr/>
        </p:nvGraphicFramePr>
        <p:xfrm>
          <a:off x="250920" y="1550880"/>
          <a:ext cx="8333640" cy="2932560"/>
        </p:xfrm>
        <a:graphic>
          <a:graphicData uri="http://schemas.openxmlformats.org/drawingml/2006/table">
            <a:tbl>
              <a:tblPr/>
              <a:tblGrid>
                <a:gridCol w="1791000"/>
                <a:gridCol w="1198440"/>
                <a:gridCol w="1118520"/>
                <a:gridCol w="1109520"/>
                <a:gridCol w="1482480"/>
                <a:gridCol w="1633320"/>
              </a:tblGrid>
              <a:tr h="72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5172"/>
                        </a:solidFill>
                        <a:latin typeface="News Gothic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Welzij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ili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M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Econo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News Gothic"/>
                        </a:rPr>
                        <a:t>Landsch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2808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Ligboxen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12240">
                      <a:solidFill>
                        <a:srgbClr val="005172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Vrijloops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+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1224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79"/>
                        </a:spcAft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News Gothic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5172"/>
                      </a:solidFill>
                    </a:lnL>
                    <a:lnR w="28080">
                      <a:solidFill>
                        <a:srgbClr val="005172"/>
                      </a:solidFill>
                    </a:lnR>
                    <a:lnT w="12240">
                      <a:solidFill>
                        <a:srgbClr val="005172"/>
                      </a:solidFill>
                    </a:lnT>
                    <a:lnB w="28080">
                      <a:solidFill>
                        <a:srgbClr val="0051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1"/>
          <p:cNvSpPr/>
          <p:nvPr/>
        </p:nvSpPr>
        <p:spPr>
          <a:xfrm>
            <a:off x="723600" y="4538160"/>
            <a:ext cx="756036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nl-NL" sz="2800" spc="-1" strike="noStrike">
                <a:solidFill>
                  <a:srgbClr val="005172"/>
                </a:solidFill>
                <a:latin typeface="Verdana"/>
              </a:rPr>
              <a:t>Voedselveiligheid: geen rotzooi in de b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2924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onclusie: regionale samenwerking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487" name="Picture 6" descr="DA2010p64-67-1"/>
          <p:cNvPicPr/>
          <p:nvPr/>
        </p:nvPicPr>
        <p:blipFill>
          <a:blip r:embed="rId1"/>
          <a:stretch/>
        </p:blipFill>
        <p:spPr>
          <a:xfrm>
            <a:off x="1274760" y="1371600"/>
            <a:ext cx="6594120" cy="4343040"/>
          </a:xfrm>
          <a:prstGeom prst="rect">
            <a:avLst/>
          </a:prstGeom>
          <a:ln w="0">
            <a:noFill/>
          </a:ln>
        </p:spPr>
      </p:pic>
      <p:sp>
        <p:nvSpPr>
          <p:cNvPr id="488" name="7-Point Star 4"/>
          <p:cNvSpPr/>
          <p:nvPr/>
        </p:nvSpPr>
        <p:spPr>
          <a:xfrm>
            <a:off x="1946520" y="1672200"/>
            <a:ext cx="5146560" cy="389232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k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chemeClr val="lt1"/>
                </a:solidFill>
                <a:latin typeface="Verdana"/>
              </a:rPr>
              <a:t>veel dremp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2520"/>
            <a:ext cx="9143640" cy="6858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3"/>
          <p:cNvSpPr/>
          <p:nvPr/>
        </p:nvSpPr>
        <p:spPr>
          <a:xfrm>
            <a:off x="2561040" y="1058040"/>
            <a:ext cx="4021560" cy="10040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Bedankt voor uw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</a:pPr>
            <a:r>
              <a:rPr b="0" lang="en-GB" sz="2400" spc="-1" strike="noStrike" u="sng">
                <a:solidFill>
                  <a:srgbClr val="00549f"/>
                </a:solidFill>
                <a:uFillTx/>
                <a:latin typeface="Verdana"/>
                <a:hlinkClick r:id="rId2"/>
              </a:rPr>
              <a:t>Paul.galama@wur.nl</a:t>
            </a: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"/>
          <p:cNvSpPr/>
          <p:nvPr/>
        </p:nvSpPr>
        <p:spPr>
          <a:xfrm>
            <a:off x="2813040" y="5878440"/>
            <a:ext cx="3930120" cy="54684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GB" sz="2400" spc="-1" strike="noStrike">
                <a:solidFill>
                  <a:srgbClr val="005172"/>
                </a:solidFill>
                <a:latin typeface="Verdana"/>
              </a:rPr>
              <a:t>www.vrijloopstallen.wur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 algn="ctr">
              <a:lnSpc>
                <a:spcPts val="4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Vraag</a:t>
            </a:r>
            <a:endParaRPr b="0" lang="nl-NL" sz="40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0920" y="1593360"/>
            <a:ext cx="732780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Wat is de grootste belemmering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Verdana"/>
              </a:rPr>
              <a:t>bij innovatie?</a:t>
            </a: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raditie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groepsdenken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intern gericht of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ts val="2500"/>
              </a:lnSpc>
              <a:spcBef>
                <a:spcPts val="1199"/>
              </a:spcBef>
              <a:buClr>
                <a:srgbClr val="ffffff"/>
              </a:buClr>
              <a:buSzPct val="140000"/>
              <a:buFont typeface="Verdana"/>
              <a:buAutoNum type="arabicPeriod"/>
              <a:tabLst>
                <a:tab algn="l" pos="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e risicovol of</a:t>
            </a: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br>
              <a:rPr sz="3200"/>
            </a:b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ts val="25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3494160" y="1382760"/>
            <a:ext cx="2674440" cy="318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Verbeeldingsk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:\PZ plan\sprecher\IMG_9363.jpg"/>
          <p:cNvPicPr/>
          <p:nvPr/>
        </p:nvPicPr>
        <p:blipFill>
          <a:blip r:embed="rId1"/>
          <a:stretch/>
        </p:blipFill>
        <p:spPr>
          <a:xfrm>
            <a:off x="0" y="-49320"/>
            <a:ext cx="9208800" cy="6906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2043360" y="762840"/>
            <a:ext cx="5489280" cy="19184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>
            <a:solidFill>
              <a:srgbClr val="005172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1" lang="nl-NL" sz="2000" spc="-1" strike="noStrike">
                <a:solidFill>
                  <a:schemeClr val="dk1"/>
                </a:solidFill>
                <a:latin typeface="Verdana"/>
              </a:rPr>
              <a:t>Hoe creëer je ontwikkelmogelijkh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Zorg dat het bedrijf technisch goed draait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(BEX, BEP, B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Volg eigen visie en strategie</a:t>
            </a:r>
            <a:br>
              <a:rPr sz="2000"/>
            </a:b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buClr>
                <a:srgbClr val="005172"/>
              </a:buClr>
              <a:buFont typeface="Arial"/>
              <a:buChar char="•"/>
            </a:pPr>
            <a:r>
              <a:rPr b="0" lang="nl-NL" sz="2000" spc="-1" strike="noStrike">
                <a:solidFill>
                  <a:schemeClr val="dk1"/>
                </a:solidFill>
                <a:latin typeface="Verdana"/>
              </a:rPr>
              <a:t>Communiceer tijdig met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1042920" y="4292640"/>
            <a:ext cx="338436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Jongveeopf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itie (droog-mel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oerop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topslag, mestbe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51640" y="4340160"/>
            <a:ext cx="3024000" cy="63828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werking tus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especialiseerde bedrij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47640" y="1341360"/>
            <a:ext cx="2304720" cy="146124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Zuivelverwe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eprodu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5651640" y="1413000"/>
            <a:ext cx="3024000" cy="1186920"/>
          </a:xfrm>
          <a:prstGeom prst="rect">
            <a:avLst/>
          </a:prstGeom>
          <a:solidFill>
            <a:srgbClr val="ffcc66">
              <a:alpha val="36000"/>
            </a:srgbClr>
          </a:solidFill>
          <a:ln w="127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io als ondern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men extra meerwaar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+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119120" y="6259680"/>
            <a:ext cx="30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ostprijsbehee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299840" y="789120"/>
            <a:ext cx="19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w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66400" y="3417480"/>
            <a:ext cx="1193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één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51640" y="3404520"/>
            <a:ext cx="152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meerdere loc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4984560" y="1250640"/>
            <a:ext cx="360" cy="500868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900000" y="3754080"/>
            <a:ext cx="8167680" cy="360"/>
          </a:xfrm>
          <a:prstGeom prst="line">
            <a:avLst/>
          </a:prstGeom>
          <a:ln w="31750">
            <a:solidFill>
              <a:srgbClr val="80008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00000" y="0"/>
            <a:ext cx="7887960" cy="577080"/>
          </a:xfrm>
          <a:prstGeom prst="rect">
            <a:avLst/>
          </a:prstGeom>
          <a:solidFill>
            <a:schemeClr val="bg1">
              <a:alpha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005172"/>
                </a:solidFill>
                <a:latin typeface="Calibri"/>
              </a:rPr>
              <a:t>Denkmodel ontwikkelings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179280" y="620640"/>
            <a:ext cx="8964720" cy="360"/>
          </a:xfrm>
          <a:prstGeom prst="line">
            <a:avLst/>
          </a:prstGeom>
          <a:ln w="1905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83952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6" descr="DA2010p64-67-1"/>
          <p:cNvPicPr/>
          <p:nvPr/>
        </p:nvPicPr>
        <p:blipFill>
          <a:blip r:embed="rId1"/>
          <a:stretch/>
        </p:blipFill>
        <p:spPr>
          <a:xfrm>
            <a:off x="0" y="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44520" y="4293720"/>
            <a:ext cx="345564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Alles op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één er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078240" y="621720"/>
            <a:ext cx="2651400" cy="1064160"/>
          </a:xfrm>
          <a:prstGeom prst="rect">
            <a:avLst/>
          </a:prstGeom>
          <a:solidFill>
            <a:srgbClr val="f89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regionale</a:t>
            </a:r>
            <a:br>
              <a:rPr sz="3200"/>
            </a:br>
            <a:r>
              <a:rPr b="1" lang="en-US" sz="3200" spc="-1" strike="noStrike">
                <a:solidFill>
                  <a:srgbClr val="005172"/>
                </a:solidFill>
                <a:latin typeface="Calibri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/>
          <p:cNvSpPr/>
          <p:nvPr/>
        </p:nvSpPr>
        <p:spPr>
          <a:xfrm rot="19478400">
            <a:off x="1979640" y="1555560"/>
            <a:ext cx="4392360" cy="2160360"/>
          </a:xfrm>
          <a:custGeom>
            <a:avLst/>
            <a:gdLst>
              <a:gd name="textAreaLeft" fmla="*/ 686160 w 4392360"/>
              <a:gd name="textAreaRight" fmla="*/ 3843360 w 4392360"/>
              <a:gd name="textAreaTop" fmla="*/ 540000 h 2160360"/>
              <a:gd name="textAreaBottom" fmla="*/ 1620360 h 21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5172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 rot="19442400">
            <a:off x="3583800" y="2277720"/>
            <a:ext cx="1131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5172"/>
                </a:solidFill>
                <a:latin typeface="Calibri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Alterra\OUD\overig\parma\fotos parma\DSC01389.JPG"/>
          <p:cNvPicPr/>
          <p:nvPr/>
        </p:nvPicPr>
        <p:blipFill>
          <a:blip r:embed="rId1"/>
          <a:stretch/>
        </p:blipFill>
        <p:spPr>
          <a:xfrm>
            <a:off x="0" y="4076640"/>
            <a:ext cx="4628880" cy="3095280"/>
          </a:xfrm>
          <a:prstGeom prst="rect">
            <a:avLst/>
          </a:prstGeom>
          <a:ln w="9525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7280" y="230040"/>
            <a:ext cx="8646840" cy="8398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lnSpc>
                <a:spcPts val="4000"/>
              </a:lnSpc>
              <a:buNone/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Samenwerking op meerdere fronten (Italië)   </a:t>
            </a:r>
            <a:endParaRPr b="0" lang="nl-NL" sz="3000" spc="-1" strike="noStrike">
              <a:solidFill>
                <a:srgbClr val="005172"/>
              </a:solidFill>
              <a:latin typeface="Calibri"/>
            </a:endParaRPr>
          </a:p>
        </p:txBody>
      </p:sp>
      <p:pic>
        <p:nvPicPr>
          <p:cNvPr id="370" name="Picture 1" descr="C:\ROM3D\0025_Dairyadventure\presentatie Valtelina Italie\Andossi11.jpg"/>
          <p:cNvPicPr/>
          <p:nvPr/>
        </p:nvPicPr>
        <p:blipFill>
          <a:blip r:embed="rId2"/>
          <a:stretch/>
        </p:blipFill>
        <p:spPr>
          <a:xfrm>
            <a:off x="4262400" y="826920"/>
            <a:ext cx="4881240" cy="2896920"/>
          </a:xfrm>
          <a:prstGeom prst="rect">
            <a:avLst/>
          </a:prstGeom>
          <a:ln w="9525">
            <a:noFill/>
          </a:ln>
        </p:spPr>
      </p:pic>
      <p:pic>
        <p:nvPicPr>
          <p:cNvPr id="371" name="Picture 2" descr="C:\ROM3D\0025_Dairyadventure\presentatie Valtelina Italie\CTCB1.jpg"/>
          <p:cNvPicPr/>
          <p:nvPr/>
        </p:nvPicPr>
        <p:blipFill>
          <a:blip r:embed="rId3"/>
          <a:stretch/>
        </p:blipFill>
        <p:spPr>
          <a:xfrm>
            <a:off x="4356000" y="3707640"/>
            <a:ext cx="4787640" cy="315000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2" descr="C:\ROM3D\0025_Dairyadventure\presentatie Valtelina Italie\2755022282_8dc2b61a76.jpg"/>
          <p:cNvPicPr/>
          <p:nvPr/>
        </p:nvPicPr>
        <p:blipFill>
          <a:blip r:embed="rId4"/>
          <a:stretch/>
        </p:blipFill>
        <p:spPr>
          <a:xfrm>
            <a:off x="0" y="836640"/>
            <a:ext cx="4355640" cy="3261240"/>
          </a:xfrm>
          <a:prstGeom prst="rect">
            <a:avLst/>
          </a:prstGeom>
          <a:ln w="9525">
            <a:noFill/>
          </a:ln>
        </p:spPr>
      </p:pic>
      <p:sp>
        <p:nvSpPr>
          <p:cNvPr id="373" name="Tekstvak 6"/>
          <p:cNvSpPr/>
          <p:nvPr/>
        </p:nvSpPr>
        <p:spPr>
          <a:xfrm>
            <a:off x="187920" y="907920"/>
            <a:ext cx="1567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agro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kstvak 7"/>
          <p:cNvSpPr/>
          <p:nvPr/>
        </p:nvSpPr>
        <p:spPr>
          <a:xfrm>
            <a:off x="4513680" y="981000"/>
            <a:ext cx="2232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Gezamenlijk beh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kstvak 8"/>
          <p:cNvSpPr/>
          <p:nvPr/>
        </p:nvSpPr>
        <p:spPr>
          <a:xfrm>
            <a:off x="4581360" y="3860640"/>
            <a:ext cx="14018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kaasmak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kstvak 9"/>
          <p:cNvSpPr/>
          <p:nvPr/>
        </p:nvSpPr>
        <p:spPr>
          <a:xfrm>
            <a:off x="1702080" y="4076640"/>
            <a:ext cx="9507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Win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1760" y="230040"/>
            <a:ext cx="8442360" cy="791280"/>
          </a:xfrm>
          <a:prstGeom prst="rect">
            <a:avLst/>
          </a:prstGeom>
          <a:noFill/>
          <a:ln w="0">
            <a:solidFill>
              <a:srgbClr val="ffffff">
                <a:alpha val="0"/>
              </a:srgbClr>
            </a:solidFill>
          </a:ln>
        </p:spPr>
        <p:txBody>
          <a:bodyPr numCol="1" spcCol="0" lIns="18000" tIns="0" bIns="324000" anchor="t">
            <a:noAutofit/>
          </a:bodyPr>
          <a:p>
            <a:pPr indent="0">
              <a:buNone/>
            </a:pPr>
            <a:endParaRPr b="0" lang="nl-NL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1200" y="1843200"/>
            <a:ext cx="8520840" cy="4089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500"/>
              </a:lnSpc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4" descr="VC 1 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"/>
          <p:cNvSpPr/>
          <p:nvPr/>
        </p:nvSpPr>
        <p:spPr>
          <a:xfrm>
            <a:off x="2502360" y="5199120"/>
            <a:ext cx="3692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Centrale opslag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Wageningen UR">
  <a:themeElements>
    <a:clrScheme name="Wageningen UR lichtblauwe achtergrond">
      <a:dk1>
        <a:srgbClr val="005172"/>
      </a:dk1>
      <a:lt1>
        <a:srgbClr val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19fd7"/>
      </a:dk2>
      <a:lt2>
        <a:srgbClr val="ffffff"/>
      </a:lt2>
      <a:accent1>
        <a:srgbClr val="34b233"/>
      </a:accent1>
      <a:accent2>
        <a:srgbClr val="005172"/>
      </a:accent2>
      <a:accent3>
        <a:srgbClr val="a59d95"/>
      </a:accent3>
      <a:accent4>
        <a:srgbClr val="d5d2ca"/>
      </a:accent4>
      <a:accent5>
        <a:srgbClr val="ff7900"/>
      </a:accent5>
      <a:accent6>
        <a:srgbClr val="00549f"/>
      </a:accent6>
      <a:hlink>
        <a:srgbClr val="00549f"/>
      </a:hlink>
      <a:folHlink>
        <a:srgbClr val="0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  <Words>545</Words>
  <Paragraphs>2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8:30:03Z</dcterms:created>
  <dc:creator>Martin Brinkman</dc:creator>
  <dc:description/>
  <dc:language>en-US</dc:language>
  <cp:lastModifiedBy>Galama, Paul</cp:lastModifiedBy>
  <cp:lastPrinted>2012-03-02T16:51:05Z</cp:lastPrinted>
  <dcterms:modified xsi:type="dcterms:W3CDTF">2012-04-24T06:04:17Z</dcterms:modified>
  <cp:revision>453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7</vt:r8>
  </property>
  <property fmtid="{D5CDD505-2E9C-101B-9397-08002B2CF9AE}" pid="5" name="do_Template">
    <vt:lpwstr>BLNL.pptx</vt:lpwstr>
  </property>
</Properties>
</file>