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063-6DE5-4A0B-ADBB-B04B8229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1FA-0B73-43E9-A584-E894A6ED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965-54D2-4A1E-B131-FBC425FB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DB1-B1AA-4B84-B4E3-1E42AEE3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9A1A-94C5-4687-8196-399C1443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4911-55F0-43DA-8C16-06758616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2A67-CA1F-403B-BC61-F08348C6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2E54-F8C1-4BAE-B987-D22F203E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07A0-E51F-447D-B935-079E9664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C025-C37D-43E3-8690-6DAE352F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FE84-B373-47D4-822E-323138A3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6CB-6445-4D6F-94D7-E87384DB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5638-B731-4772-9A0A-F3E37054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CBD6-D74D-4C25-98B2-3761B4E2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4553-8045-43CE-86BA-37192B99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CDCF-52A1-4541-93DF-088504BB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3160-B200-4CAF-B20C-F3C66619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455-89D0-46C5-AB7B-DDEA4111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CDB-954D-4CEF-9367-BD53ACFA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28D-6FFB-4209-AF8C-9238456F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80D-F7E8-4B06-8AC1-C6F16C55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FD5-1598-46ED-B757-D314E46C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93D-E60D-48AE-9084-B64346A7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065-AB8A-4F17-9EA9-04488D3F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E8BA-9B2D-49E1-A83D-E1B9F30E2FC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66AD-B03B-4746-9E7E-E5DCEBC6616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898989"/>
              </a:solidFill>
              <a:latin typeface="News Gothic MT"/>
            </a:endParaRPr>
          </a:p>
        </p:txBody>
      </p:sp>
      <p:pic>
        <p:nvPicPr>
          <p:cNvPr id="85" name="Afbeelding 3" descr="2904webapp8-940x7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3" name="Tijdelijke aanduiding voor inhoud 3" descr="m1ezq8ea9prb_396.jpg"/>
          <p:cNvPicPr/>
          <p:nvPr/>
        </p:nvPicPr>
        <p:blipFill>
          <a:blip r:embed="rId1"/>
          <a:srcRect l="0" t="11640" r="0" b="1164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5" name="Tijdelijke aanduiding voor inhoud 3" descr="m1ezqf2ahip1_396.jpg"/>
          <p:cNvPicPr/>
          <p:nvPr/>
        </p:nvPicPr>
        <p:blipFill>
          <a:blip r:embed="rId1"/>
          <a:srcRect l="0" t="11715" r="0" b="11715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7" name="Tijdelijke aanduiding voor inhoud 3" descr="mauro2.jpg"/>
          <p:cNvPicPr/>
          <p:nvPr/>
        </p:nvPicPr>
        <p:blipFill>
          <a:blip r:embed="rId1"/>
          <a:srcRect l="0" t="681" r="0" b="68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9" name="Tijdelijke aanduiding voor inhoud 3" descr="osama_binladen_1238702c.jpg"/>
          <p:cNvPicPr/>
          <p:nvPr/>
        </p:nvPicPr>
        <p:blipFill>
          <a:blip r:embed="rId1"/>
          <a:srcRect l="0" t="6870" r="0" b="687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1" name="Tijdelijke aanduiding voor inhoud 3" descr="ov_chipkaart_tegoed240408.jpg"/>
          <p:cNvPicPr/>
          <p:nvPr/>
        </p:nvPicPr>
        <p:blipFill>
          <a:blip r:embed="rId1"/>
          <a:srcRect l="0" t="12871" r="0" b="1287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3" name="Tijdelijke aanduiding voor inhoud 3" descr="pukkelpop-2011-letters.jpg"/>
          <p:cNvPicPr/>
          <p:nvPr/>
        </p:nvPicPr>
        <p:blipFill>
          <a:blip r:embed="rId1"/>
          <a:srcRect l="0" t="9524" r="0" b="952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5" name="Tijdelijke aanduiding voor inhoud 3" descr="Steve-Jobs-1955-2011.jpg"/>
          <p:cNvPicPr/>
          <p:nvPr/>
        </p:nvPicPr>
        <p:blipFill>
          <a:blip r:embed="rId1"/>
          <a:srcRect l="0" t="9895" r="0" b="9895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7" name="Tijdelijke aanduiding voor inhoud 3" descr="foto_14526_britt-dekker-wint-echte-meisjes-in-de-jungle.jpg"/>
          <p:cNvPicPr/>
          <p:nvPr/>
        </p:nvPicPr>
        <p:blipFill>
          <a:blip r:embed="rId1"/>
          <a:srcRect l="2109" t="0" r="2109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9" name="Tijdelijke aanduiding voor inhoud 3" descr="dedader5342.jpg"/>
          <p:cNvPicPr/>
          <p:nvPr/>
        </p:nvPicPr>
        <p:blipFill>
          <a:blip r:embed="rId1"/>
          <a:srcRect l="0" t="9644" r="0" b="964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1" name="Tijdelijke aanduiding voor inhoud 3" descr="m1azxpoaalle.jpg"/>
          <p:cNvPicPr/>
          <p:nvPr/>
        </p:nvPicPr>
        <p:blipFill>
          <a:blip r:embed="rId1"/>
          <a:stretch/>
        </p:blipFill>
        <p:spPr>
          <a:xfrm>
            <a:off x="317520" y="1311120"/>
            <a:ext cx="850896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7" name="Tijdelijke aanduiding voor inhoud 3" descr="3787702058.jpg"/>
          <p:cNvPicPr/>
          <p:nvPr/>
        </p:nvPicPr>
        <p:blipFill>
          <a:blip r:embed="rId1"/>
          <a:srcRect l="0" t="6406" r="0" b="6406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9" name="Tijdelijke aanduiding voor inhoud 3" descr="amy-winehouse.jpg"/>
          <p:cNvPicPr/>
          <p:nvPr/>
        </p:nvPicPr>
        <p:blipFill>
          <a:blip r:embed="rId1"/>
          <a:srcRect l="0" t="31676" r="0" b="31676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1" name="Tijdelijke aanduiding voor inhoud 3" descr="BOOTEX.jpg"/>
          <p:cNvPicPr/>
          <p:nvPr/>
        </p:nvPicPr>
        <p:blipFill>
          <a:blip r:embed="rId1"/>
          <a:srcRect l="0" t="13997" r="0" b="1399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3" name="Tijdelijke aanduiding voor inhoud 3" descr="breivik4-586x329.jpg"/>
          <p:cNvPicPr/>
          <p:nvPr/>
        </p:nvPicPr>
        <p:blipFill>
          <a:blip r:embed="rId1"/>
          <a:srcRect l="0" t="1907" r="0" b="190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5" name="Tijdelijke aanduiding voor inhoud 3" descr="ehec29mei_gr.jpg.crop_display.jpg"/>
          <p:cNvPicPr/>
          <p:nvPr/>
        </p:nvPicPr>
        <p:blipFill>
          <a:blip r:embed="rId1"/>
          <a:srcRect l="0" t="9497" r="0" b="949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7" name="Tijdelijke aanduiding voor inhoud 3" descr="geert-wilders.jpg"/>
          <p:cNvPicPr/>
          <p:nvPr/>
        </p:nvPicPr>
        <p:blipFill>
          <a:blip r:embed="rId1"/>
          <a:srcRect l="0" t="14283" r="0" b="14283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9" name="Tijdelijke aanduiding voor inhoud 3" descr="geld.jpg"/>
          <p:cNvPicPr/>
          <p:nvPr/>
        </p:nvPicPr>
        <p:blipFill>
          <a:blip r:embed="rId1"/>
          <a:srcRect l="0" t="9091" r="0" b="909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1" name="Tijdelijke aanduiding voor inhoud 7" descr="y7uq_twitter.jpg"/>
          <p:cNvPicPr/>
          <p:nvPr/>
        </p:nvPicPr>
        <p:blipFill>
          <a:blip r:embed="rId1"/>
          <a:srcRect l="0" t="3804" r="0" b="380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3:29:41Z</dcterms:created>
  <dc:creator>Andrea Meijer</dc:creator>
  <dc:description/>
  <dc:language>en-US</dc:language>
  <cp:lastModifiedBy>Andrea Meijer</cp:lastModifiedBy>
  <dcterms:modified xsi:type="dcterms:W3CDTF">2012-01-07T13:27:56Z</dcterms:modified>
  <cp:revision>3</cp:revision>
  <dc:subject/>
  <dc:title>PowerPoint-presentatie</dc:title>
</cp:coreProperties>
</file>