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161-E22E-4F82-913D-2CCED64F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71E-165F-4C34-8A3E-2BE4CB8C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6F0-76A6-45ED-9665-627A5727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9F1-EDD2-49A8-ABBB-A3165D37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33F5-9953-415B-A4A6-0434C065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DD7E-E8A3-4247-A458-44A2CE0D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A3B1-6636-4EE8-A267-D634BAB6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B9D4-93A9-40AD-9FA5-CD87E776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87E9-6842-457B-9581-D7B9C74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0F40-977D-4C3B-BD1A-63CB176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1925-3676-470D-9E75-1D9F9A5E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4D9-A709-4BE4-AB92-E4FB6BAA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7A91-0D56-43EB-8E26-442846D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8F82-868E-4A50-92E4-5929BAB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B5E-8938-4633-A7ED-88646AA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0054-8F84-42A0-846F-28F62F02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671D-173E-4D87-A711-1C739404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076-5146-492F-9E8B-565628B4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020-4D71-4850-B8E3-2C01F12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719-8E4E-4085-A1CF-F29D52EF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7C2-4165-41AE-B96B-E9188ABC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A5D-5C46-42FE-996A-9FDF1E2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6E9-91AD-4C9D-98F8-44698ADE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57F-2D95-4765-B0FF-BB127CE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9A1-8F6C-4B9A-8C38-A74852044CA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13E-371B-4614-A24E-3DEB026A116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Afbeelding 3" descr="2904webapp8-940x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Tijdelijke aanduiding voor inhoud 3" descr="m1ezq8ea9prb_396.jpg"/>
          <p:cNvPicPr/>
          <p:nvPr/>
        </p:nvPicPr>
        <p:blipFill>
          <a:blip r:embed="rId1"/>
          <a:srcRect l="0" t="11640" r="0" b="1164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Tijdelijke aanduiding voor inhoud 3" descr="m1ezqf2ahip1_396.jpg"/>
          <p:cNvPicPr/>
          <p:nvPr/>
        </p:nvPicPr>
        <p:blipFill>
          <a:blip r:embed="rId1"/>
          <a:srcRect l="0" t="11715" r="0" b="1171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Tijdelijke aanduiding voor inhoud 3" descr="mauro2.jpg"/>
          <p:cNvPicPr/>
          <p:nvPr/>
        </p:nvPicPr>
        <p:blipFill>
          <a:blip r:embed="rId1"/>
          <a:srcRect l="0" t="681" r="0" b="68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Tijdelijke aanduiding voor inhoud 3" descr="osama_binladen_1238702c.jpg"/>
          <p:cNvPicPr/>
          <p:nvPr/>
        </p:nvPicPr>
        <p:blipFill>
          <a:blip r:embed="rId1"/>
          <a:srcRect l="0" t="6870" r="0" b="687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Tijdelijke aanduiding voor inhoud 3" descr="ov_chipkaart_tegoed240408.jpg"/>
          <p:cNvPicPr/>
          <p:nvPr/>
        </p:nvPicPr>
        <p:blipFill>
          <a:blip r:embed="rId1"/>
          <a:srcRect l="0" t="12871" r="0" b="128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Tijdelijke aanduiding voor inhoud 3" descr="pukkelpop-2011-letters.jpg"/>
          <p:cNvPicPr/>
          <p:nvPr/>
        </p:nvPicPr>
        <p:blipFill>
          <a:blip r:embed="rId1"/>
          <a:srcRect l="0" t="9524" r="0" b="952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Tijdelijke aanduiding voor inhoud 3" descr="Steve-Jobs-1955-2011.jpg"/>
          <p:cNvPicPr/>
          <p:nvPr/>
        </p:nvPicPr>
        <p:blipFill>
          <a:blip r:embed="rId1"/>
          <a:srcRect l="0" t="9895" r="0" b="989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Tijdelijke aanduiding voor inhoud 3" descr="foto_14526_britt-dekker-wint-echte-meisjes-in-de-jungle.jpg"/>
          <p:cNvPicPr/>
          <p:nvPr/>
        </p:nvPicPr>
        <p:blipFill>
          <a:blip r:embed="rId1"/>
          <a:srcRect l="2109" t="0" r="2109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9" name="Tijdelijke aanduiding voor inhoud 3" descr="dedader5342.jpg"/>
          <p:cNvPicPr/>
          <p:nvPr/>
        </p:nvPicPr>
        <p:blipFill>
          <a:blip r:embed="rId1"/>
          <a:srcRect l="0" t="9644" r="0" b="964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Tijdelijke aanduiding voor inhoud 3" descr="m1azxpoaalle.jpg"/>
          <p:cNvPicPr/>
          <p:nvPr/>
        </p:nvPicPr>
        <p:blipFill>
          <a:blip r:embed="rId1"/>
          <a:stretch/>
        </p:blipFill>
        <p:spPr>
          <a:xfrm>
            <a:off x="317520" y="1311120"/>
            <a:ext cx="8508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Tijdelijke aanduiding voor inhoud 3" descr="3787702058.jpg"/>
          <p:cNvPicPr/>
          <p:nvPr/>
        </p:nvPicPr>
        <p:blipFill>
          <a:blip r:embed="rId1"/>
          <a:srcRect l="0" t="6406" r="0" b="640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9" name="Tijdelijke aanduiding voor inhoud 3" descr="amy-winehouse.jpg"/>
          <p:cNvPicPr/>
          <p:nvPr/>
        </p:nvPicPr>
        <p:blipFill>
          <a:blip r:embed="rId1"/>
          <a:srcRect l="0" t="31676" r="0" b="3167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Tijdelijke aanduiding voor inhoud 3" descr="BOOTEX.jpg"/>
          <p:cNvPicPr/>
          <p:nvPr/>
        </p:nvPicPr>
        <p:blipFill>
          <a:blip r:embed="rId1"/>
          <a:srcRect l="0" t="13997" r="0" b="139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3" name="Tijdelijke aanduiding voor inhoud 3" descr="breivik4-586x329.jpg"/>
          <p:cNvPicPr/>
          <p:nvPr/>
        </p:nvPicPr>
        <p:blipFill>
          <a:blip r:embed="rId1"/>
          <a:srcRect l="0" t="1907" r="0" b="190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Tijdelijke aanduiding voor inhoud 3" descr="ehec29mei_gr.jpg.crop_display.jpg"/>
          <p:cNvPicPr/>
          <p:nvPr/>
        </p:nvPicPr>
        <p:blipFill>
          <a:blip r:embed="rId1"/>
          <a:srcRect l="0" t="9497" r="0" b="94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Tijdelijke aanduiding voor inhoud 3" descr="geert-wilders.jpg"/>
          <p:cNvPicPr/>
          <p:nvPr/>
        </p:nvPicPr>
        <p:blipFill>
          <a:blip r:embed="rId1"/>
          <a:srcRect l="0" t="14283" r="0" b="14283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Tijdelijke aanduiding voor inhoud 3" descr="geld.jpg"/>
          <p:cNvPicPr/>
          <p:nvPr/>
        </p:nvPicPr>
        <p:blipFill>
          <a:blip r:embed="rId1"/>
          <a:srcRect l="0" t="9091" r="0" b="909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Tijdelijke aanduiding voor inhoud 7" descr="y7uq_twitter.jpg"/>
          <p:cNvPicPr/>
          <p:nvPr/>
        </p:nvPicPr>
        <p:blipFill>
          <a:blip r:embed="rId1"/>
          <a:srcRect l="0" t="3804" r="0" b="380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29:41Z</dcterms:created>
  <dc:creator>Andrea Meijer</dc:creator>
  <dc:description/>
  <dc:language>en-US</dc:language>
  <cp:lastModifiedBy>Andrea Meijer</cp:lastModifiedBy>
  <dcterms:modified xsi:type="dcterms:W3CDTF">2012-01-07T13:27:56Z</dcterms:modified>
  <cp:revision>3</cp:revision>
  <dc:subject/>
  <dc:title>PowerPoint-presentatie</dc:title>
</cp:coreProperties>
</file>