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54A-0007-49C3-93CF-911EFE7F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91D7-04FE-4F28-AE77-2BAB968D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244-5153-417E-9158-BEC70B03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4FB-FE05-4405-868A-6F7AB8AC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EE9B-D678-4B6D-BC42-A5DA0B0D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19CE-EA90-4033-B088-4B60FF4C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140A-4404-466B-9A52-2FA21FC9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EBF6-F0FE-487A-AED0-6D2F17AB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D1E3-FE79-43D1-B536-CC1EA24E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EA2B-D751-4FD9-BE54-624F30BE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A725-9306-4B60-B94C-96C09D4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87E-6F67-49CE-9736-ADB5D8E5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A380-064A-4E81-9447-0DAB1986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22C6-BC2B-4697-91F4-DCF88AF9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9431-A1C2-4A5B-8A6E-1C3A29EE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03E9-5EAD-41DD-B873-6D64ACF3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ED0A-AE5C-4DAC-B91A-01E1B5A54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4C7-1F93-44AC-ABFD-E29B7847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C55-0345-4239-9142-9EC14C39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388-5174-4DA7-9CEC-E9F38598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D0A-83DC-40AE-A284-8008F255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66A-A059-4688-A2BC-272D648C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78F-DC5E-4954-A919-75AA0683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389-D17D-48EB-8086-DF64927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24D4-576F-4918-A2BC-179FA982930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3F17-7EB5-48DA-BCB7-0EA49F4042D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898989"/>
              </a:solidFill>
              <a:latin typeface="News Gothic MT"/>
            </a:endParaRPr>
          </a:p>
        </p:txBody>
      </p:sp>
      <p:pic>
        <p:nvPicPr>
          <p:cNvPr id="85" name="Afbeelding 3" descr="2904webapp8-940x7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Tijdelijke aanduiding voor inhoud 3" descr="m1ezq8ea9prb_396.jpg"/>
          <p:cNvPicPr/>
          <p:nvPr/>
        </p:nvPicPr>
        <p:blipFill>
          <a:blip r:embed="rId1"/>
          <a:srcRect l="0" t="11640" r="0" b="1164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5" name="Tijdelijke aanduiding voor inhoud 3" descr="m1ezqf2ahip1_396.jpg"/>
          <p:cNvPicPr/>
          <p:nvPr/>
        </p:nvPicPr>
        <p:blipFill>
          <a:blip r:embed="rId1"/>
          <a:srcRect l="0" t="11715" r="0" b="1171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Tijdelijke aanduiding voor inhoud 3" descr="mauro2.jpg"/>
          <p:cNvPicPr/>
          <p:nvPr/>
        </p:nvPicPr>
        <p:blipFill>
          <a:blip r:embed="rId1"/>
          <a:srcRect l="0" t="681" r="0" b="68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Tijdelijke aanduiding voor inhoud 3" descr="osama_binladen_1238702c.jpg"/>
          <p:cNvPicPr/>
          <p:nvPr/>
        </p:nvPicPr>
        <p:blipFill>
          <a:blip r:embed="rId1"/>
          <a:srcRect l="0" t="6870" r="0" b="687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Tijdelijke aanduiding voor inhoud 3" descr="ov_chipkaart_tegoed240408.jpg"/>
          <p:cNvPicPr/>
          <p:nvPr/>
        </p:nvPicPr>
        <p:blipFill>
          <a:blip r:embed="rId1"/>
          <a:srcRect l="0" t="12871" r="0" b="128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Tijdelijke aanduiding voor inhoud 3" descr="pukkelpop-2011-letters.jpg"/>
          <p:cNvPicPr/>
          <p:nvPr/>
        </p:nvPicPr>
        <p:blipFill>
          <a:blip r:embed="rId1"/>
          <a:srcRect l="0" t="9524" r="0" b="952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Tijdelijke aanduiding voor inhoud 3" descr="Steve-Jobs-1955-2011.jpg"/>
          <p:cNvPicPr/>
          <p:nvPr/>
        </p:nvPicPr>
        <p:blipFill>
          <a:blip r:embed="rId1"/>
          <a:srcRect l="0" t="9895" r="0" b="9895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Tijdelijke aanduiding voor inhoud 3" descr="foto_14526_britt-dekker-wint-echte-meisjes-in-de-jungle.jpg"/>
          <p:cNvPicPr/>
          <p:nvPr/>
        </p:nvPicPr>
        <p:blipFill>
          <a:blip r:embed="rId1"/>
          <a:srcRect l="2109" t="0" r="2109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9" name="Tijdelijke aanduiding voor inhoud 3" descr="dedader5342.jpg"/>
          <p:cNvPicPr/>
          <p:nvPr/>
        </p:nvPicPr>
        <p:blipFill>
          <a:blip r:embed="rId1"/>
          <a:srcRect l="0" t="9644" r="0" b="964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1" name="Tijdelijke aanduiding voor inhoud 3" descr="m1azxpoaalle.jpg"/>
          <p:cNvPicPr/>
          <p:nvPr/>
        </p:nvPicPr>
        <p:blipFill>
          <a:blip r:embed="rId1"/>
          <a:stretch/>
        </p:blipFill>
        <p:spPr>
          <a:xfrm>
            <a:off x="317520" y="1311120"/>
            <a:ext cx="850896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7" name="Tijdelijke aanduiding voor inhoud 3" descr="3787702058.jpg"/>
          <p:cNvPicPr/>
          <p:nvPr/>
        </p:nvPicPr>
        <p:blipFill>
          <a:blip r:embed="rId1"/>
          <a:srcRect l="0" t="6406" r="0" b="640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9" name="Tijdelijke aanduiding voor inhoud 3" descr="amy-winehouse.jpg"/>
          <p:cNvPicPr/>
          <p:nvPr/>
        </p:nvPicPr>
        <p:blipFill>
          <a:blip r:embed="rId1"/>
          <a:srcRect l="0" t="31676" r="0" b="31676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1" name="Tijdelijke aanduiding voor inhoud 3" descr="BOOTEX.jpg"/>
          <p:cNvPicPr/>
          <p:nvPr/>
        </p:nvPicPr>
        <p:blipFill>
          <a:blip r:embed="rId1"/>
          <a:srcRect l="0" t="13997" r="0" b="139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3" name="Tijdelijke aanduiding voor inhoud 3" descr="breivik4-586x329.jpg"/>
          <p:cNvPicPr/>
          <p:nvPr/>
        </p:nvPicPr>
        <p:blipFill>
          <a:blip r:embed="rId1"/>
          <a:srcRect l="0" t="1907" r="0" b="190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5" name="Tijdelijke aanduiding voor inhoud 3" descr="ehec29mei_gr.jpg.crop_display.jpg"/>
          <p:cNvPicPr/>
          <p:nvPr/>
        </p:nvPicPr>
        <p:blipFill>
          <a:blip r:embed="rId1"/>
          <a:srcRect l="0" t="9497" r="0" b="9497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7" name="Tijdelijke aanduiding voor inhoud 3" descr="geert-wilders.jpg"/>
          <p:cNvPicPr/>
          <p:nvPr/>
        </p:nvPicPr>
        <p:blipFill>
          <a:blip r:embed="rId1"/>
          <a:srcRect l="0" t="14283" r="0" b="14283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9" name="Tijdelijke aanduiding voor inhoud 3" descr="geld.jpg"/>
          <p:cNvPicPr/>
          <p:nvPr/>
        </p:nvPicPr>
        <p:blipFill>
          <a:blip r:embed="rId1"/>
          <a:srcRect l="0" t="9091" r="0" b="909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1" name="Tijdelijke aanduiding voor inhoud 7" descr="y7uq_twitter.jpg"/>
          <p:cNvPicPr/>
          <p:nvPr/>
        </p:nvPicPr>
        <p:blipFill>
          <a:blip r:embed="rId1"/>
          <a:srcRect l="0" t="3804" r="0" b="3804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3:29:41Z</dcterms:created>
  <dc:creator>Andrea Meijer</dc:creator>
  <dc:description/>
  <dc:language>en-US</dc:language>
  <cp:lastModifiedBy>Andrea Meijer</cp:lastModifiedBy>
  <dcterms:modified xsi:type="dcterms:W3CDTF">2012-01-07T13:27:56Z</dcterms:modified>
  <cp:revision>3</cp:revision>
  <dc:subject/>
  <dc:title>PowerPoint-presentatie</dc:title>
</cp:coreProperties>
</file>