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C7E-BE41-4652-85E9-0C30B846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826-DDE8-4F48-9CEA-C806639A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7A5-82C2-48A5-9356-3D81A166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E25-E683-4B86-B1E6-719413C6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0B4C-03E0-4210-900E-89DE2570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5F44-B416-445C-BF3D-EFAD9B52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667B-86CC-4E04-9170-074B8EE6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38DB-5BDC-4806-93EB-16293ADB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841B-BBC6-49AB-B5F5-5E038F2B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C130-A6C1-4351-9F1E-AFB59D07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919F-BAE7-4167-8EF5-563181D3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EAD2-21F8-45BE-B6EB-D63F4CC3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1736-761C-4339-A24D-0A680A42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A8A7-4998-4719-9E71-BA3906C1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9213-231D-4649-B614-23F65B4F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B7E1-29E9-4452-A192-5BF14C4F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6EF2-2397-4C19-A54E-497B243A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928-62ED-4AD6-A854-90160F86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C06-3767-4C22-B560-9438D80A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DC4-906C-4D8A-8ECC-A737F12C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4A4-E03E-4EB3-92E4-0158111A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07F-771C-42C9-870D-B3573B99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DCB-B37E-483C-9FA6-5A66B26C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9DA-E9BE-4F2F-AA23-552CC132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E629-3799-43EF-B188-49E19DC7E06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8C28-C522-44C3-8886-AC056E83A40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898989"/>
              </a:solidFill>
              <a:latin typeface="News Gothic MT"/>
            </a:endParaRPr>
          </a:p>
        </p:txBody>
      </p:sp>
      <p:pic>
        <p:nvPicPr>
          <p:cNvPr id="85" name="Afbeelding 3" descr="2904webapp8-940x7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3" name="Tijdelijke aanduiding voor inhoud 3" descr="m1ezq8ea9prb_396.jpg"/>
          <p:cNvPicPr/>
          <p:nvPr/>
        </p:nvPicPr>
        <p:blipFill>
          <a:blip r:embed="rId1"/>
          <a:srcRect l="0" t="11640" r="0" b="1164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5" name="Tijdelijke aanduiding voor inhoud 3" descr="m1ezqf2ahip1_396.jpg"/>
          <p:cNvPicPr/>
          <p:nvPr/>
        </p:nvPicPr>
        <p:blipFill>
          <a:blip r:embed="rId1"/>
          <a:srcRect l="0" t="11715" r="0" b="11715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7" name="Tijdelijke aanduiding voor inhoud 3" descr="mauro2.jpg"/>
          <p:cNvPicPr/>
          <p:nvPr/>
        </p:nvPicPr>
        <p:blipFill>
          <a:blip r:embed="rId1"/>
          <a:srcRect l="0" t="681" r="0" b="68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9" name="Tijdelijke aanduiding voor inhoud 3" descr="osama_binladen_1238702c.jpg"/>
          <p:cNvPicPr/>
          <p:nvPr/>
        </p:nvPicPr>
        <p:blipFill>
          <a:blip r:embed="rId1"/>
          <a:srcRect l="0" t="6870" r="0" b="687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1" name="Tijdelijke aanduiding voor inhoud 3" descr="ov_chipkaart_tegoed240408.jpg"/>
          <p:cNvPicPr/>
          <p:nvPr/>
        </p:nvPicPr>
        <p:blipFill>
          <a:blip r:embed="rId1"/>
          <a:srcRect l="0" t="12871" r="0" b="1287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3" name="Tijdelijke aanduiding voor inhoud 3" descr="pukkelpop-2011-letters.jpg"/>
          <p:cNvPicPr/>
          <p:nvPr/>
        </p:nvPicPr>
        <p:blipFill>
          <a:blip r:embed="rId1"/>
          <a:srcRect l="0" t="9524" r="0" b="952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5" name="Tijdelijke aanduiding voor inhoud 3" descr="Steve-Jobs-1955-2011.jpg"/>
          <p:cNvPicPr/>
          <p:nvPr/>
        </p:nvPicPr>
        <p:blipFill>
          <a:blip r:embed="rId1"/>
          <a:srcRect l="0" t="9895" r="0" b="9895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7" name="Tijdelijke aanduiding voor inhoud 3" descr="foto_14526_britt-dekker-wint-echte-meisjes-in-de-jungle.jpg"/>
          <p:cNvPicPr/>
          <p:nvPr/>
        </p:nvPicPr>
        <p:blipFill>
          <a:blip r:embed="rId1"/>
          <a:srcRect l="2109" t="0" r="2109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9" name="Tijdelijke aanduiding voor inhoud 3" descr="dedader5342.jpg"/>
          <p:cNvPicPr/>
          <p:nvPr/>
        </p:nvPicPr>
        <p:blipFill>
          <a:blip r:embed="rId1"/>
          <a:srcRect l="0" t="9644" r="0" b="964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1" name="Tijdelijke aanduiding voor inhoud 3" descr="m1azxpoaalle.jpg"/>
          <p:cNvPicPr/>
          <p:nvPr/>
        </p:nvPicPr>
        <p:blipFill>
          <a:blip r:embed="rId1"/>
          <a:stretch/>
        </p:blipFill>
        <p:spPr>
          <a:xfrm>
            <a:off x="317520" y="1311120"/>
            <a:ext cx="850896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7" name="Tijdelijke aanduiding voor inhoud 3" descr="3787702058.jpg"/>
          <p:cNvPicPr/>
          <p:nvPr/>
        </p:nvPicPr>
        <p:blipFill>
          <a:blip r:embed="rId1"/>
          <a:srcRect l="0" t="6406" r="0" b="6406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9" name="Tijdelijke aanduiding voor inhoud 3" descr="amy-winehouse.jpg"/>
          <p:cNvPicPr/>
          <p:nvPr/>
        </p:nvPicPr>
        <p:blipFill>
          <a:blip r:embed="rId1"/>
          <a:srcRect l="0" t="31676" r="0" b="31676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1" name="Tijdelijke aanduiding voor inhoud 3" descr="BOOTEX.jpg"/>
          <p:cNvPicPr/>
          <p:nvPr/>
        </p:nvPicPr>
        <p:blipFill>
          <a:blip r:embed="rId1"/>
          <a:srcRect l="0" t="13997" r="0" b="1399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3" name="Tijdelijke aanduiding voor inhoud 3" descr="breivik4-586x329.jpg"/>
          <p:cNvPicPr/>
          <p:nvPr/>
        </p:nvPicPr>
        <p:blipFill>
          <a:blip r:embed="rId1"/>
          <a:srcRect l="0" t="1907" r="0" b="190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5" name="Tijdelijke aanduiding voor inhoud 3" descr="ehec29mei_gr.jpg.crop_display.jpg"/>
          <p:cNvPicPr/>
          <p:nvPr/>
        </p:nvPicPr>
        <p:blipFill>
          <a:blip r:embed="rId1"/>
          <a:srcRect l="0" t="9497" r="0" b="949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7" name="Tijdelijke aanduiding voor inhoud 3" descr="geert-wilders.jpg"/>
          <p:cNvPicPr/>
          <p:nvPr/>
        </p:nvPicPr>
        <p:blipFill>
          <a:blip r:embed="rId1"/>
          <a:srcRect l="0" t="14283" r="0" b="14283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9" name="Tijdelijke aanduiding voor inhoud 3" descr="geld.jpg"/>
          <p:cNvPicPr/>
          <p:nvPr/>
        </p:nvPicPr>
        <p:blipFill>
          <a:blip r:embed="rId1"/>
          <a:srcRect l="0" t="9091" r="0" b="909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1" name="Tijdelijke aanduiding voor inhoud 7" descr="y7uq_twitter.jpg"/>
          <p:cNvPicPr/>
          <p:nvPr/>
        </p:nvPicPr>
        <p:blipFill>
          <a:blip r:embed="rId1"/>
          <a:srcRect l="0" t="3804" r="0" b="380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3:29:41Z</dcterms:created>
  <dc:creator>Andrea Meijer</dc:creator>
  <dc:description/>
  <dc:language>en-US</dc:language>
  <cp:lastModifiedBy>Andrea Meijer</cp:lastModifiedBy>
  <dcterms:modified xsi:type="dcterms:W3CDTF">2012-01-07T13:27:56Z</dcterms:modified>
  <cp:revision>3</cp:revision>
  <dc:subject/>
  <dc:title>PowerPoint-presentatie</dc:title>
</cp:coreProperties>
</file>