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0E5-5275-43F2-B993-67604B5E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BEA-C321-43D4-B856-27D83C6E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992-F1BF-45F2-9AB4-8261572B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34C-A2AC-46EE-B5A1-F4715972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7A3D-7688-4563-B509-ED2A3C4F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530A-A8AD-4056-ABB2-D03562B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1DF7-7939-43F2-9E01-AA6346E3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FD24-927C-41AC-95AD-78F6FFE7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8194-AD5F-4EB4-B260-42A832BF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9D18-D0E1-4346-B1C5-639C8DEF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16CF-33BD-4C00-99B3-FE483AAC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D8D-54A3-405E-8E3A-032CF1A9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4CD-A4F5-4B71-A8B1-81762B74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A2C2-8DFD-4C2E-BA73-6BD50022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CE84-2061-4E66-9201-25ADF6DD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A73E-14D3-4790-A3E0-71EDB32C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27F9-E228-4225-B0FB-BEB0CE93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AFC-1170-44FB-8175-2D21BA6D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FF7-1C75-418F-A143-2022C29C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65D-E705-4601-947E-9F5D0FE9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672-2558-49B1-8C2E-9F65C7AC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21C-498D-463B-9DA9-EBAEDB5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775-9C11-4CFA-956E-C24BC985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A32-B3B1-4D43-B05F-D3F07E4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75E0-C0BD-43DF-9DE9-023CE2CA0A6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9D2D-FBD4-404F-A0D7-9E783D31B33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Afbeelding 3" descr="2904webapp8-940x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Tijdelijke aanduiding voor inhoud 3" descr="m1ezq8ea9prb_396.jpg"/>
          <p:cNvPicPr/>
          <p:nvPr/>
        </p:nvPicPr>
        <p:blipFill>
          <a:blip r:embed="rId1"/>
          <a:srcRect l="0" t="11640" r="0" b="1164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Tijdelijke aanduiding voor inhoud 3" descr="m1ezqf2ahip1_396.jpg"/>
          <p:cNvPicPr/>
          <p:nvPr/>
        </p:nvPicPr>
        <p:blipFill>
          <a:blip r:embed="rId1"/>
          <a:srcRect l="0" t="11715" r="0" b="1171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Tijdelijke aanduiding voor inhoud 3" descr="mauro2.jpg"/>
          <p:cNvPicPr/>
          <p:nvPr/>
        </p:nvPicPr>
        <p:blipFill>
          <a:blip r:embed="rId1"/>
          <a:srcRect l="0" t="681" r="0" b="68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Tijdelijke aanduiding voor inhoud 3" descr="osama_binladen_1238702c.jpg"/>
          <p:cNvPicPr/>
          <p:nvPr/>
        </p:nvPicPr>
        <p:blipFill>
          <a:blip r:embed="rId1"/>
          <a:srcRect l="0" t="6870" r="0" b="687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Tijdelijke aanduiding voor inhoud 3" descr="ov_chipkaart_tegoed240408.jpg"/>
          <p:cNvPicPr/>
          <p:nvPr/>
        </p:nvPicPr>
        <p:blipFill>
          <a:blip r:embed="rId1"/>
          <a:srcRect l="0" t="12871" r="0" b="128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Tijdelijke aanduiding voor inhoud 3" descr="pukkelpop-2011-letters.jpg"/>
          <p:cNvPicPr/>
          <p:nvPr/>
        </p:nvPicPr>
        <p:blipFill>
          <a:blip r:embed="rId1"/>
          <a:srcRect l="0" t="9524" r="0" b="952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Tijdelijke aanduiding voor inhoud 3" descr="Steve-Jobs-1955-2011.jpg"/>
          <p:cNvPicPr/>
          <p:nvPr/>
        </p:nvPicPr>
        <p:blipFill>
          <a:blip r:embed="rId1"/>
          <a:srcRect l="0" t="9895" r="0" b="989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Tijdelijke aanduiding voor inhoud 3" descr="foto_14526_britt-dekker-wint-echte-meisjes-in-de-jungle.jpg"/>
          <p:cNvPicPr/>
          <p:nvPr/>
        </p:nvPicPr>
        <p:blipFill>
          <a:blip r:embed="rId1"/>
          <a:srcRect l="2109" t="0" r="2109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9" name="Tijdelijke aanduiding voor inhoud 3" descr="dedader5342.jpg"/>
          <p:cNvPicPr/>
          <p:nvPr/>
        </p:nvPicPr>
        <p:blipFill>
          <a:blip r:embed="rId1"/>
          <a:srcRect l="0" t="9644" r="0" b="964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Tijdelijke aanduiding voor inhoud 3" descr="m1azxpoaalle.jpg"/>
          <p:cNvPicPr/>
          <p:nvPr/>
        </p:nvPicPr>
        <p:blipFill>
          <a:blip r:embed="rId1"/>
          <a:stretch/>
        </p:blipFill>
        <p:spPr>
          <a:xfrm>
            <a:off x="317520" y="1311120"/>
            <a:ext cx="8508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Tijdelijke aanduiding voor inhoud 3" descr="3787702058.jpg"/>
          <p:cNvPicPr/>
          <p:nvPr/>
        </p:nvPicPr>
        <p:blipFill>
          <a:blip r:embed="rId1"/>
          <a:srcRect l="0" t="6406" r="0" b="640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9" name="Tijdelijke aanduiding voor inhoud 3" descr="amy-winehouse.jpg"/>
          <p:cNvPicPr/>
          <p:nvPr/>
        </p:nvPicPr>
        <p:blipFill>
          <a:blip r:embed="rId1"/>
          <a:srcRect l="0" t="31676" r="0" b="3167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1" name="Tijdelijke aanduiding voor inhoud 3" descr="BOOTEX.jpg"/>
          <p:cNvPicPr/>
          <p:nvPr/>
        </p:nvPicPr>
        <p:blipFill>
          <a:blip r:embed="rId1"/>
          <a:srcRect l="0" t="13997" r="0" b="139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3" name="Tijdelijke aanduiding voor inhoud 3" descr="breivik4-586x329.jpg"/>
          <p:cNvPicPr/>
          <p:nvPr/>
        </p:nvPicPr>
        <p:blipFill>
          <a:blip r:embed="rId1"/>
          <a:srcRect l="0" t="1907" r="0" b="190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Tijdelijke aanduiding voor inhoud 3" descr="ehec29mei_gr.jpg.crop_display.jpg"/>
          <p:cNvPicPr/>
          <p:nvPr/>
        </p:nvPicPr>
        <p:blipFill>
          <a:blip r:embed="rId1"/>
          <a:srcRect l="0" t="9497" r="0" b="94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Tijdelijke aanduiding voor inhoud 3" descr="geert-wilders.jpg"/>
          <p:cNvPicPr/>
          <p:nvPr/>
        </p:nvPicPr>
        <p:blipFill>
          <a:blip r:embed="rId1"/>
          <a:srcRect l="0" t="14283" r="0" b="14283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Tijdelijke aanduiding voor inhoud 3" descr="geld.jpg"/>
          <p:cNvPicPr/>
          <p:nvPr/>
        </p:nvPicPr>
        <p:blipFill>
          <a:blip r:embed="rId1"/>
          <a:srcRect l="0" t="9091" r="0" b="909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Tijdelijke aanduiding voor inhoud 7" descr="y7uq_twitter.jpg"/>
          <p:cNvPicPr/>
          <p:nvPr/>
        </p:nvPicPr>
        <p:blipFill>
          <a:blip r:embed="rId1"/>
          <a:srcRect l="0" t="3804" r="0" b="380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29:41Z</dcterms:created>
  <dc:creator>Andrea Meijer</dc:creator>
  <dc:description/>
  <dc:language>en-US</dc:language>
  <cp:lastModifiedBy>Andrea Meijer</cp:lastModifiedBy>
  <dcterms:modified xsi:type="dcterms:W3CDTF">2012-01-07T13:27:56Z</dcterms:modified>
  <cp:revision>3</cp:revision>
  <dc:subject/>
  <dc:title>PowerPoint-presentatie</dc:title>
</cp:coreProperties>
</file>