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20A-0FB0-45BC-A32D-D98C55AF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1CB-D318-44F3-9512-31CA20D0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B9E-9A01-4CF8-9600-9C8365AF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646-CA78-469B-AD87-E39EC690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D5A-74DD-4429-841E-6FA3060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826-F083-4C61-AB63-39DAC932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F77-37F5-4CBA-BD55-93C4C2A7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27F7-8A6C-4A21-8C61-2AEA83FC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E00-95F8-4F33-979E-1C19B5E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718-A476-41C9-889C-AFF36CC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7AF-DE9A-488C-8041-E263AA38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0AE-C250-4D12-87C0-EB00E73C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4516-AFC4-4C66-91D5-8FB1BC50EC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ult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792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rt de volgende gewoonte bij een:</a:t>
            </a:r>
            <a:br>
              <a:rPr sz="3200"/>
            </a:b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- 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aat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ede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upload.wikimedia.org/wikipedia/commons/thumb/e/ec/Schaatser2008.JPG/275px-Schaatser2008.JPG"/>
          <p:cNvPicPr/>
          <p:nvPr/>
        </p:nvPicPr>
        <p:blipFill>
          <a:blip r:embed="rId1"/>
          <a:stretch/>
        </p:blipFill>
        <p:spPr>
          <a:xfrm>
            <a:off x="1465200" y="1042920"/>
            <a:ext cx="5972400" cy="4473720"/>
          </a:xfrm>
          <a:prstGeom prst="rect">
            <a:avLst/>
          </a:prstGeom>
          <a:ln w="0">
            <a:noFill/>
          </a:ln>
        </p:spPr>
      </p:pic>
      <p:sp>
        <p:nvSpPr>
          <p:cNvPr id="78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frituurde spinnen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47640" y="5732640"/>
            <a:ext cx="64008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Cambod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pbs.org/wgbh/nova/ants/images/bugs-08.jpg"/>
          <p:cNvPicPr/>
          <p:nvPr/>
        </p:nvPicPr>
        <p:blipFill>
          <a:blip r:embed="rId1"/>
          <a:stretch/>
        </p:blipFill>
        <p:spPr>
          <a:xfrm>
            <a:off x="1619280" y="1319040"/>
            <a:ext cx="567828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Ondertitel 2"/>
          <p:cNvSpPr/>
          <p:nvPr/>
        </p:nvSpPr>
        <p:spPr>
          <a:xfrm>
            <a:off x="1619280" y="61135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3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h oh Che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nltracks.nl/system/images/166518/original/oh_oh_cherso.jpg?1286438972"/>
          <p:cNvPicPr/>
          <p:nvPr/>
        </p:nvPicPr>
        <p:blipFill>
          <a:blip r:embed="rId1"/>
          <a:stretch/>
        </p:blipFill>
        <p:spPr>
          <a:xfrm>
            <a:off x="1730520" y="1079640"/>
            <a:ext cx="5473440" cy="409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5660640"/>
            <a:ext cx="6400800" cy="14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agenez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619280" y="612612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orden stukgooien na een feestm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00320" y="522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Grieken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servies.com/wp-content/uploads/grieksservies1-150x150.jpg"/>
          <p:cNvPicPr/>
          <p:nvPr/>
        </p:nvPicPr>
        <p:blipFill>
          <a:blip r:embed="rId1"/>
          <a:stretch/>
        </p:blipFill>
        <p:spPr>
          <a:xfrm>
            <a:off x="2771640" y="1484280"/>
            <a:ext cx="3456000" cy="3457440"/>
          </a:xfrm>
          <a:prstGeom prst="rect">
            <a:avLst/>
          </a:prstGeom>
          <a:ln w="0">
            <a:noFill/>
          </a:ln>
        </p:spPr>
      </p:pic>
      <p:sp>
        <p:nvSpPr>
          <p:cNvPr id="54" name="Ondertitel 2"/>
          <p:cNvSpPr/>
          <p:nvPr/>
        </p:nvSpPr>
        <p:spPr>
          <a:xfrm>
            <a:off x="1461960" y="5934240"/>
            <a:ext cx="640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chten bij een voetbalwedstrij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Hoolig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danweetjehetwel.nl/admin/articles/482/hooligans.jpg"/>
          <p:cNvPicPr/>
          <p:nvPr/>
        </p:nvPicPr>
        <p:blipFill>
          <a:blip r:embed="rId1"/>
          <a:stretch/>
        </p:blipFill>
        <p:spPr>
          <a:xfrm>
            <a:off x="1692360" y="1484280"/>
            <a:ext cx="5543640" cy="3575160"/>
          </a:xfrm>
          <a:prstGeom prst="rect">
            <a:avLst/>
          </a:prstGeom>
          <a:ln w="0">
            <a:noFill/>
          </a:ln>
        </p:spPr>
      </p:pic>
      <p:sp>
        <p:nvSpPr>
          <p:cNvPr id="58" name="Ondertitel 2"/>
          <p:cNvSpPr/>
          <p:nvPr/>
        </p:nvSpPr>
        <p:spPr>
          <a:xfrm>
            <a:off x="1476360" y="595008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87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ffie drinken onderwe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Amer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KB2-UfkVkGs/TP43N2ngT6I/AAAAAAAAACE/UXE2WGhpaDA/s1600/olsen2-thumb.jpg"/>
          <p:cNvPicPr/>
          <p:nvPr/>
        </p:nvPicPr>
        <p:blipFill>
          <a:blip r:embed="rId1"/>
          <a:stretch/>
        </p:blipFill>
        <p:spPr>
          <a:xfrm>
            <a:off x="250920" y="907920"/>
            <a:ext cx="2857320" cy="5667480"/>
          </a:xfrm>
          <a:prstGeom prst="rect">
            <a:avLst/>
          </a:prstGeom>
          <a:ln w="0">
            <a:noFill/>
          </a:ln>
        </p:spPr>
      </p:pic>
      <p:sp>
        <p:nvSpPr>
          <p:cNvPr id="62" name="Ondertitel 2"/>
          <p:cNvSpPr/>
          <p:nvPr/>
        </p:nvSpPr>
        <p:spPr>
          <a:xfrm>
            <a:off x="2050920" y="4653000"/>
            <a:ext cx="64008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ure kleren dra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Kak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www.schooltv.nl/eigenwijzer/mmbase/images/2093512"/>
          <p:cNvPicPr/>
          <p:nvPr/>
        </p:nvPicPr>
        <p:blipFill>
          <a:blip r:embed="rId1"/>
          <a:stretch/>
        </p:blipFill>
        <p:spPr>
          <a:xfrm>
            <a:off x="1258920" y="1089000"/>
            <a:ext cx="65530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ijn drink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76360" y="5018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rankr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frankrijk.blog.nl/files/2008/12/39-123-0203070953-wijn.jpg"/>
          <p:cNvPicPr/>
          <p:nvPr/>
        </p:nvPicPr>
        <p:blipFill>
          <a:blip r:embed="rId1"/>
          <a:stretch/>
        </p:blipFill>
        <p:spPr>
          <a:xfrm>
            <a:off x="2916360" y="1052640"/>
            <a:ext cx="2974680" cy="3965400"/>
          </a:xfrm>
          <a:prstGeom prst="rect">
            <a:avLst/>
          </a:prstGeom>
          <a:ln w="0">
            <a:noFill/>
          </a:ln>
        </p:spPr>
      </p:pic>
      <p:sp>
        <p:nvSpPr>
          <p:cNvPr id="70" name="Ondertitel 2"/>
          <p:cNvSpPr/>
          <p:nvPr/>
        </p:nvSpPr>
        <p:spPr>
          <a:xfrm>
            <a:off x="1692360" y="561024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ominante 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0" y="-171720"/>
            <a:ext cx="9396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ijkerbroek, leren jack en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zetten tegen volwass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54764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Noz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ndertitel 2"/>
          <p:cNvSpPr/>
          <p:nvPr/>
        </p:nvSpPr>
        <p:spPr>
          <a:xfrm>
            <a:off x="1692360" y="6237360"/>
            <a:ext cx="6400800" cy="14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ubcul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media.nu.nl/m/m1dz6xxagrs5_505x800.jpg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6:34:27Z</dcterms:created>
  <dc:creator>Gebruiker</dc:creator>
  <dc:description/>
  <dc:language>en-US</dc:language>
  <cp:lastModifiedBy>12vimeaa</cp:lastModifiedBy>
  <dcterms:modified xsi:type="dcterms:W3CDTF">2011-12-01T10:19:07Z</dcterms:modified>
  <cp:revision>10</cp:revision>
  <dc:subject/>
  <dc:title>Culturen</dc:title>
</cp:coreProperties>
</file>