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BF5F-D021-49EC-8BA0-9698054EF106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9539-A986-46A5-8367-4182B1AFDD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1669-85DF-48CE-AAEC-B3F4836A7A47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6819-6C77-4E91-B4E8-ECE8F93DAFE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995F-05D2-4EFB-9217-5A9C46E1DF4A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CA63-F1CA-4E29-8D09-421E2C02843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losbare eiwitten gaan het snel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– eiwit- stifstofverbindingen is hier een voorbeeld van:  vinasse en bietmelasse heeft er veel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nel groeiend gras of nat ingekuild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A338-7A91-4734-BFCA-F4684670E9CB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170-180D-4D23-A41F-FA1F13CD10A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ssage snelheid krachtvoer;  gemiddeld 6% per u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wvoer 4,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bestendig eiwit bron van stikstof voor de pens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kort beïnvloed de flora en de verwerkingscapaciteit van de 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hoogproductieve groep essenti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79C6-BA75-46EB-A02E-40DB6C98853D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08CA-CCA2-49D0-8D0F-44CDE8B65A1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REN  wordt beïnvloed door de N bemesting op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gere N gift beïnvloed de onbestendige eiwit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DEF9-B9D0-4409-9849-80064FDF2EF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17E5-9536-4CEA-800F-89AFE7E72D7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arme producten met veel FOS krijgen relatieve hoge DVE en sterk negatieve OEB  (bietenpulp  712 FOS, 104 dve –66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rijke producten met weinig FOS krijgen een relatief lage DVE en een sterke positieve OEB (nat ingekuild gras 521 FOS 59 dve 79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71C7-3EA0-4557-A903-4C871179DF2C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ABA0-929C-4925-A831-8AC74F3FFD9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91FC-38F4-4E05-9AD7-01C3F131982D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A8B7-E839-4012-A23A-177C7234B19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ewegende anim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CE68-6A22-45D2-9D73-E96C610075EA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B319-79AC-4604-8BA5-E77DA006CB6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otaal plaatje met links naar onderliggende d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1296-AF06-4384-AF10-C7289B964E92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E8E6-1C95-49B0-9577-1F310CD290C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CE5-DE4C-4323-8EB7-7D5234D6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0FD-C175-460B-A51B-594E3BD0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D1C-D555-4A10-9CEB-43DBECB6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0B7-9BEF-461E-B45E-D7F87400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ED27-E26B-464D-9509-A451B64F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C3FE-0B0D-4134-B623-EB244CE1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EB16-64D4-46EA-9F8E-25C47DEF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A9E5-288E-4F2E-9323-DF44AFC7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1FE5-7DCC-4A42-A6EC-5894937C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DF52-B079-4957-9B48-55270198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5BA7-E435-4F4F-8243-9DF64F2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0AD-43E1-4F16-8B1D-90B2E38C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574C-921A-4B71-B732-093B8FBF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FC4F-BD38-4CE6-878B-4C5411AA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70F4-F4A7-4D4E-A69A-B9E199B7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0CAF-9794-482D-AAEF-391FF47A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08D0-1CAA-4261-8FE9-E54B52B0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D44-4F28-4BAA-A61E-A1F8F9BC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45C-1A94-41CF-956A-CCBAB78A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5F9-884D-453E-A40E-2E061D7B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89E-D05D-476E-9264-BB9FEC7C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494-3ED8-47D1-B6E1-9CB74FDA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73B-CEAC-4924-AB7D-05A96718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027-40EB-4C0E-9CBF-1EC02B19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FCDA-B6B9-4080-97CD-601C59EEA29C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3182-F640-484C-A685-F105499EDF7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FDCC-E1AE-4B5D-87AF-9B9F9DB840CE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75D7-C5C0-40DB-B0BD-9CFA4C5B009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slide" Target="slide11.xml"/><Relationship Id="rId5" Type="http://schemas.openxmlformats.org/officeDocument/2006/relationships/slide" Target="slide21.xml"/><Relationship Id="rId6" Type="http://schemas.openxmlformats.org/officeDocument/2006/relationships/slide" Target="slide18.xml"/><Relationship Id="rId7" Type="http://schemas.openxmlformats.org/officeDocument/2006/relationships/slide" Target="slide27.xml"/><Relationship Id="rId8" Type="http://schemas.openxmlformats.org/officeDocument/2006/relationships/slide" Target="slide20.xml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 plantaardig eiwit naar dierlijk eiwi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9261-F602-468E-B737-9EE269DD910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norganische stof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5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staat uit mineralen en zan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ij een analyse is dit het vermelde R.A.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uw anorganische 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and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ax. 1 kg per d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emmerd de pens 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inera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dig voor levens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BDA8-458A-423C-BB44-197F20EAFC9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organische stof die naast de drie genoemde elementen ook nog beva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 = stik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 = fos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 = zwa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et ruw eiwit bevat 16% stik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ia Kjehldahl en kleurstof methode makkelijk N te bepalen , en via de eiwitfactor 6,25 terug te rekenen naar hoeveelheid eiwi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eiwit bestaat uit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amid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F2A7-41EB-43AF-A0E0-99BE4CFF62E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werkelijk eiw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belangrijkste deel van het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er ingewikkeld van samenstelling 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staat uit zeer grote molecule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ze zijn uit bouwstenen opgebouwd, de z.g. amino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or groei zijn er 10 aminozuren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odzakelijk = essentieel, een herkauwer kan een evt. tekort zelf aanma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angrijke aminozuren zijn:  lysine, methionine, cystine, tryptof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ianumm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EF57-6E8C-4988-A6AF-075EE784C9A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erschillende aminozu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1F03-42D6-415E-8316-0F5125BB92A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211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233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236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239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242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245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248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251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254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257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260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263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266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32F5-5D4B-4D09-8F4D-D80C3C96AE5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amide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les wat geen </a:t>
            </a: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w.e.</a:t>
            </a: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 is behoort tot de amid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plosbaar en zeer makkelijk te verte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380880" y="3048120"/>
            <a:ext cx="8458200" cy="2844720"/>
            <a:chOff x="380880" y="3048120"/>
            <a:chExt cx="8458200" cy="2844720"/>
          </a:xfrm>
        </p:grpSpPr>
        <p:sp>
          <p:nvSpPr>
            <p:cNvPr id="273" name="Text Box 6"/>
            <p:cNvSpPr/>
            <p:nvPr/>
          </p:nvSpPr>
          <p:spPr>
            <a:xfrm>
              <a:off x="380880" y="3048120"/>
              <a:ext cx="84582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Lagere en 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hogere amid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380880" y="3581280"/>
              <a:ext cx="403884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H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O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ureu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5334120" y="3581280"/>
              <a:ext cx="350496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olypeptid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epton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6998-17AB-4042-87CF-3999E33FD6B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lgemeen amiden</a:t>
            </a: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miden zijn afhankelijk van de plaats waar ze worden aangetroffen, eiwitten in opbouw of in afbraa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gehalte dierlijk lichaam 10- 20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maal werkelijk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eeste eiwit i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pieren, Haren, Wol, Ho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rens en Pe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8153280" y="533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8A0B-C818-424B-9DDB-82F9F6844D8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elen zonder 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tikstof vrije gedeelte bestaat uit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vet en Koolhydrat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AutoShape 1028"/>
          <p:cNvSpPr/>
          <p:nvPr/>
        </p:nvSpPr>
        <p:spPr>
          <a:xfrm>
            <a:off x="792468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FF18-9A54-4A3B-96C1-8EF90A2F9EF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V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gehalte wordt bepaalt door Ether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s wat in ether oplost noemen we ruw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: meestal ook nog wat resten bij i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leurstoffen, caroteen en chlorofy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uivere vet bestaat uit moleculen C,H,O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glycerol groep met daaraan 3 vetzuurmolecu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rd van het vetzuur bepaalt de hardhe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7876-614A-4957-8E85-39F991275C7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liezuur geeft zacht vet, palmitinezuur en stearinezuur geeft hard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 bij kamertemp. vloeibaar noemen we ol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ierlijklichaam 40-50%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fh. van diersoort, conditie, leeftijd d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vet in onderhuidsbindweefsel (speklaag var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en om de sp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eenme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uikhol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d en stevig vet rondom n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8077320" y="4572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091A-5076-40E7-AA56-CF3EFB350AA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ender analyse van een voeder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eiwit vertering in de koe (theorie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Pagina’s uit het boek vermeld indien van toepass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AutoShape 1028">
            <a:hlinkClick r:id="rId1" action="ppaction://hlinksldjump"/>
          </p:cNvPr>
          <p:cNvSpPr/>
          <p:nvPr/>
        </p:nvSpPr>
        <p:spPr>
          <a:xfrm>
            <a:off x="7162920" y="1981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C90B-CF34-44B1-8011-6F0DD2E36A7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Koolhydraten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6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root aantal verschillende stoff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C,H,O verbindin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ommige zeer makkelijk oplosbaar andere zeer moeilijk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anneer het koolhydraat na half koken met geconcentreerd zoutzuur en daarna half uur met loog nog niet oplost noemen we dit e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E CEL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7848720" y="5335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7185-0CE7-49AE-B716-69572EB999E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vezel of Ruwe cel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elwanden van plant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nderverdeling in :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ellu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( lign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urk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oe ouder de plant hoe meer RC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 stijgt vo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een RC in dierlijk lichaa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penswerk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herkauwen en vorming speeks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orming van azijnzuur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vering van energi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3F24-E9F0-4F3F-9A62-A5A6953E828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Nieuw SW systeem sinds 199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Unicode MS"/>
              </a:rPr>
              <a:t>Pagina 4 boek/ pagina 16-17 voedernormenboekj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Naam product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tructuurwaarde per kg d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Aardappelpersvezels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rboste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tenperspulp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C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4- 0,6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P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7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1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Hooi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20 – 3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kui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40 – 3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zaadstro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4,2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uzerne ingek.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3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Maïsglutenvoer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2,0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oederbie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oksoor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E06F-AF41-4B57-BDCB-94A3446A1D5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tructuurwaarde van het rantsoen voor een standaardkoe (25 kg melk, 1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,2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lactatie) moet minstens 1,00 bedra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wanneer het rantsoen krachtvoer twee maal daags gevoerd wordt verstrekt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Voor afwijkende situaties dienen een aantal correcties op de behoeftenorm te worden uitgevoerd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ze staan vermeld in volgende  tabel: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0955-1EB2-4A84-BEF9-82758F93794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ehoeftenormen voor de structuurwaarde van melkve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o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ructuurwaard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5 kg melk per da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1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2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 KV beurten per da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Courier New"/>
                <a:ea typeface="Times New Roman"/>
              </a:rPr>
              <a:t>Vleesvee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0,7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orrectie voor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ind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e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+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eeftijd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4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0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5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espreid KV-gif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BF82-C113-4156-833A-A7E22C6F1B3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berekening van de structuurwaarde (SW) van een rantsoen (per kg DS ) is als volg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=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(kg Ds ruwvoer x SW ruwvoer )  + Ds krachtvoer x SW krachtvoer 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otale DS opname in kg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7C18-5ADB-48E4-91C7-AAA6D56C063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behoef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W behoefte van een koe i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 </a:t>
            </a:r>
            <a:r>
              <a:rPr b="0" lang="nl-NL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koe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= 1,0 + (melkgift –25 ) x 0,00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(evt correcties toepassen)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beeld in Verkorte Tabel pagina 16-17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7772400" y="6094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3794" y="14403"/>
                </a:moveTo>
                <a:lnTo>
                  <a:pt x="17806" y="7396"/>
                </a:lnTo>
                <a:lnTo>
                  <a:pt x="17806" y="2140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1788-F97F-4EC5-B88A-A27834BB5B2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verige koolhydra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halte wordt niet rechtstreeks bepaald maar berekend uit de res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%OK = 100% - %water - %as - %re - %rv - %rc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ak hoog in voe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Levert daardoor meeste energ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rschillende OK zij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ui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tme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rganische 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1459-D199-4C30-9422-7FAF13EC595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In dierlijk lichaam erg laag 1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etmeel komt niet voo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l een zeker hoeveelheid glycogeen (=dierlijkzetmeel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etje glucose wordt aangetroffen in het bloed 0,1% en in de spier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langrijk bestanddeel van melk is melksuiker of lactos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8305920" y="457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73A7-F476-477D-B5AE-D494D04FFE2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af 1992 een nieuw eiwitwaarderingsystee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heen het VRE systeem, alleen gebaseerd op het verschil tussen opname en uitscheiding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amenvoeging van delen uit de systemen va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mer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Frankrij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candinavische lan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F418-12AF-4947-9138-A64FADCA150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Meet meth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mt uit het plaatsje Ween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methode in het laboratoriu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uurt 1-3 dagen voor hele analy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an ook via de NIRS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abij Infrarood Spectrograf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el ijken met lab meth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sneller, binnen enkele minu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9198-7047-4116-86F2-D72217F8152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C:\Mijn documenten\Algemene brieven en teksten\AOC zaken\Cursus\Voedingscursus 2000\kringloop eiw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175C-3710-42B4-B71C-E285F01C598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oeveelheid eiwit uier afh. van verteerbaar darm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leveranciers voor dunne darm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ensbacterië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ereiwit (=bestendig eiwit) in dunne darm afh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an bestendighe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blijfsduur pen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 hogere voeropname, kortere verblijfsduur dus minder afbra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 Microbieel eiwit afh van h.h.onbestendig eiwit en energie in rantso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E0E1-3590-4D48-BC33-015DD6D609E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Bestendigheid eiwitten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Verschil in afbraak snelheid in de pens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85800" y="1397160"/>
          <a:ext cx="7696080" cy="51512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% BRE bestendig ruw eiw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loed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en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almpitte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kos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atoen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hul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ij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ol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aisglutenvo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s g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upin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2015-3818-48FD-B5CF-AA90ED54806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2" descr="C:\Mijn documenten\Algemene brieven en teksten\AOC zaken\Cursus\Voedingscursus 2000\eiwit vertering in koe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C048-F779-4324-8D57-0E0F81A1537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19"/>
          <p:cNvGrpSpPr/>
          <p:nvPr/>
        </p:nvGrpSpPr>
        <p:grpSpPr>
          <a:xfrm>
            <a:off x="0" y="1828800"/>
            <a:ext cx="1676520" cy="4086720"/>
            <a:chOff x="0" y="1828800"/>
            <a:chExt cx="1676520" cy="4086720"/>
          </a:xfrm>
        </p:grpSpPr>
        <p:sp>
          <p:nvSpPr>
            <p:cNvPr id="334" name="Text Box 4"/>
            <p:cNvSpPr/>
            <p:nvPr/>
          </p:nvSpPr>
          <p:spPr>
            <a:xfrm>
              <a:off x="0" y="1828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0" y="4191120"/>
              <a:ext cx="167652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lebmaa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0" y="533412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20"/>
          <p:cNvGrpSpPr/>
          <p:nvPr/>
        </p:nvGrpSpPr>
        <p:grpSpPr>
          <a:xfrm>
            <a:off x="1905120" y="0"/>
            <a:ext cx="6324480" cy="1190880"/>
            <a:chOff x="1905120" y="0"/>
            <a:chExt cx="6324480" cy="1190880"/>
          </a:xfrm>
        </p:grpSpPr>
        <p:sp>
          <p:nvSpPr>
            <p:cNvPr id="338" name="Text Box 8"/>
            <p:cNvSpPr/>
            <p:nvPr/>
          </p:nvSpPr>
          <p:spPr>
            <a:xfrm>
              <a:off x="3809880" y="0"/>
              <a:ext cx="29718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Voer (ruw eiwit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Text Box 9"/>
            <p:cNvSpPr/>
            <p:nvPr/>
          </p:nvSpPr>
          <p:spPr>
            <a:xfrm>
              <a:off x="1905120" y="609480"/>
              <a:ext cx="36576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Werkelijk eiwi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6553080" y="609480"/>
              <a:ext cx="167652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amide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Group 46"/>
          <p:cNvGrpSpPr/>
          <p:nvPr/>
        </p:nvGrpSpPr>
        <p:grpSpPr>
          <a:xfrm>
            <a:off x="2895480" y="1143000"/>
            <a:ext cx="4191120" cy="1600200"/>
            <a:chOff x="2895480" y="1143000"/>
            <a:chExt cx="4191120" cy="1600200"/>
          </a:xfrm>
        </p:grpSpPr>
        <p:sp>
          <p:nvSpPr>
            <p:cNvPr id="342" name="AutoShape 21"/>
            <p:cNvSpPr/>
            <p:nvPr/>
          </p:nvSpPr>
          <p:spPr>
            <a:xfrm>
              <a:off x="2895480" y="1143000"/>
              <a:ext cx="152640" cy="838080"/>
            </a:xfrm>
            <a:prstGeom prst="downArrow">
              <a:avLst>
                <a:gd name="adj1" fmla="val 50000"/>
                <a:gd name="adj2" fmla="val 13726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25"/>
            <p:cNvSpPr/>
            <p:nvPr/>
          </p:nvSpPr>
          <p:spPr>
            <a:xfrm>
              <a:off x="6858000" y="1219320"/>
              <a:ext cx="228600" cy="1523880"/>
            </a:xfrm>
            <a:prstGeom prst="downArrow">
              <a:avLst>
                <a:gd name="adj1" fmla="val 50000"/>
                <a:gd name="adj2" fmla="val 166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AutoShape 26"/>
            <p:cNvSpPr/>
            <p:nvPr/>
          </p:nvSpPr>
          <p:spPr>
            <a:xfrm>
              <a:off x="5257800" y="114300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Group 48"/>
          <p:cNvGrpSpPr/>
          <p:nvPr/>
        </p:nvGrpSpPr>
        <p:grpSpPr>
          <a:xfrm>
            <a:off x="7391520" y="1981080"/>
            <a:ext cx="1752480" cy="4513680"/>
            <a:chOff x="7391520" y="1981080"/>
            <a:chExt cx="1752480" cy="4513680"/>
          </a:xfrm>
        </p:grpSpPr>
        <p:sp>
          <p:nvSpPr>
            <p:cNvPr id="346" name="Text Box 17"/>
            <p:cNvSpPr/>
            <p:nvPr/>
          </p:nvSpPr>
          <p:spPr>
            <a:xfrm>
              <a:off x="8153280" y="1981080"/>
              <a:ext cx="990720" cy="178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NH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ure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18"/>
            <p:cNvSpPr/>
            <p:nvPr/>
          </p:nvSpPr>
          <p:spPr>
            <a:xfrm>
              <a:off x="739152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ur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AutoShape 32"/>
            <p:cNvSpPr/>
            <p:nvPr/>
          </p:nvSpPr>
          <p:spPr>
            <a:xfrm rot="21532200">
              <a:off x="8613720" y="3733560"/>
              <a:ext cx="343080" cy="2361960"/>
            </a:xfrm>
            <a:prstGeom prst="downArrow">
              <a:avLst>
                <a:gd name="adj1" fmla="val 50000"/>
                <a:gd name="adj2" fmla="val 17211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AutoShape 33"/>
            <p:cNvSpPr/>
            <p:nvPr/>
          </p:nvSpPr>
          <p:spPr>
            <a:xfrm rot="21559200">
              <a:off x="8648280" y="2476440"/>
              <a:ext cx="152640" cy="838440"/>
            </a:xfrm>
            <a:prstGeom prst="downArrow">
              <a:avLst>
                <a:gd name="adj1" fmla="val 50000"/>
                <a:gd name="adj2" fmla="val 13732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1752480" y="5410080"/>
            <a:ext cx="6172200" cy="1465920"/>
            <a:chOff x="1752480" y="5410080"/>
            <a:chExt cx="6172200" cy="1465920"/>
          </a:xfrm>
        </p:grpSpPr>
        <p:sp>
          <p:nvSpPr>
            <p:cNvPr id="351" name="Line 34"/>
            <p:cNvSpPr/>
            <p:nvPr/>
          </p:nvSpPr>
          <p:spPr>
            <a:xfrm flipH="1">
              <a:off x="2819160" y="594360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" name="Group 51"/>
            <p:cNvGrpSpPr/>
            <p:nvPr/>
          </p:nvGrpSpPr>
          <p:grpSpPr>
            <a:xfrm>
              <a:off x="1752480" y="5410080"/>
              <a:ext cx="6172200" cy="1465920"/>
              <a:chOff x="1752480" y="5410080"/>
              <a:chExt cx="6172200" cy="1465920"/>
            </a:xfrm>
          </p:grpSpPr>
          <p:sp>
            <p:nvSpPr>
              <p:cNvPr id="353" name="Line 35"/>
              <p:cNvSpPr/>
              <p:nvPr/>
            </p:nvSpPr>
            <p:spPr>
              <a:xfrm>
                <a:off x="3352680" y="5791320"/>
                <a:ext cx="121932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Line 36"/>
              <p:cNvSpPr/>
              <p:nvPr/>
            </p:nvSpPr>
            <p:spPr>
              <a:xfrm>
                <a:off x="3581280" y="5791320"/>
                <a:ext cx="289584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5" name="Group 50"/>
              <p:cNvGrpSpPr/>
              <p:nvPr/>
            </p:nvGrpSpPr>
            <p:grpSpPr>
              <a:xfrm>
                <a:off x="1752480" y="5410080"/>
                <a:ext cx="6172200" cy="1465920"/>
                <a:chOff x="1752480" y="5410080"/>
                <a:chExt cx="6172200" cy="1465920"/>
              </a:xfrm>
            </p:grpSpPr>
            <p:sp>
              <p:nvSpPr>
                <p:cNvPr id="356" name="Text Box 13"/>
                <p:cNvSpPr/>
                <p:nvPr/>
              </p:nvSpPr>
              <p:spPr>
                <a:xfrm>
                  <a:off x="1981080" y="5638680"/>
                  <a:ext cx="5943600" cy="398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aminozu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Text Box 14"/>
                <p:cNvSpPr/>
                <p:nvPr/>
              </p:nvSpPr>
              <p:spPr>
                <a:xfrm>
                  <a:off x="1752480" y="6095880"/>
                  <a:ext cx="2819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melkeiw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Text Box 15"/>
                <p:cNvSpPr/>
                <p:nvPr/>
              </p:nvSpPr>
              <p:spPr>
                <a:xfrm>
                  <a:off x="4572000" y="60958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vle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24"/>
                <p:cNvSpPr/>
                <p:nvPr/>
              </p:nvSpPr>
              <p:spPr>
                <a:xfrm>
                  <a:off x="2666880" y="5410080"/>
                  <a:ext cx="457200" cy="3049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7"/>
                <p:cNvSpPr/>
                <p:nvPr/>
              </p:nvSpPr>
              <p:spPr>
                <a:xfrm>
                  <a:off x="3276720" y="647712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nergi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Line 38"/>
              <p:cNvSpPr/>
              <p:nvPr/>
            </p:nvSpPr>
            <p:spPr>
              <a:xfrm>
                <a:off x="3200400" y="5943600"/>
                <a:ext cx="4572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49"/>
          <p:cNvGrpSpPr/>
          <p:nvPr/>
        </p:nvGrpSpPr>
        <p:grpSpPr>
          <a:xfrm>
            <a:off x="1981080" y="4114800"/>
            <a:ext cx="6400800" cy="2379960"/>
            <a:chOff x="1981080" y="4114800"/>
            <a:chExt cx="6400800" cy="2379960"/>
          </a:xfrm>
        </p:grpSpPr>
        <p:sp>
          <p:nvSpPr>
            <p:cNvPr id="363" name="Text Box 12"/>
            <p:cNvSpPr/>
            <p:nvPr/>
          </p:nvSpPr>
          <p:spPr>
            <a:xfrm>
              <a:off x="1981080" y="4114800"/>
              <a:ext cx="5943600" cy="1326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62940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m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>
              <a:off x="2438280" y="4495680"/>
              <a:ext cx="304920" cy="457200"/>
            </a:xfrm>
            <a:prstGeom prst="downArrow">
              <a:avLst>
                <a:gd name="adj1" fmla="val 50000"/>
                <a:gd name="adj2" fmla="val 37485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2743200" y="4343400"/>
              <a:ext cx="4038480" cy="18288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44"/>
            <p:cNvSpPr/>
            <p:nvPr/>
          </p:nvSpPr>
          <p:spPr>
            <a:xfrm>
              <a:off x="3429000" y="5257800"/>
              <a:ext cx="3657600" cy="914400"/>
            </a:xfrm>
            <a:custGeom>
              <a:avLst/>
              <a:gdLst>
                <a:gd name="textAreaLeft" fmla="*/ 0 w 3657600"/>
                <a:gd name="textAreaRight" fmla="*/ 3657960 w 3657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Group 54"/>
          <p:cNvGrpSpPr/>
          <p:nvPr/>
        </p:nvGrpSpPr>
        <p:grpSpPr>
          <a:xfrm>
            <a:off x="1981080" y="1905120"/>
            <a:ext cx="6124680" cy="2361960"/>
            <a:chOff x="1981080" y="1905120"/>
            <a:chExt cx="6124680" cy="2361960"/>
          </a:xfrm>
        </p:grpSpPr>
        <p:grpSp>
          <p:nvGrpSpPr>
            <p:cNvPr id="369" name="Group 47"/>
            <p:cNvGrpSpPr/>
            <p:nvPr/>
          </p:nvGrpSpPr>
          <p:grpSpPr>
            <a:xfrm>
              <a:off x="1981080" y="1905120"/>
              <a:ext cx="6124680" cy="2361960"/>
              <a:chOff x="1981080" y="1905120"/>
              <a:chExt cx="6124680" cy="2361960"/>
            </a:xfrm>
          </p:grpSpPr>
          <p:sp>
            <p:nvSpPr>
              <p:cNvPr id="370" name="Text Box 11"/>
              <p:cNvSpPr/>
              <p:nvPr/>
            </p:nvSpPr>
            <p:spPr>
              <a:xfrm>
                <a:off x="1981080" y="1905120"/>
                <a:ext cx="5943600" cy="225360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Bestendig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onbestend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aminozu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NH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microbieel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eiwit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0000"/>
                    </a:solidFill>
                    <a:latin typeface="Times New Roman"/>
                  </a:rPr>
                  <a:t>energi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AutoShape 22"/>
              <p:cNvSpPr/>
              <p:nvPr/>
            </p:nvSpPr>
            <p:spPr>
              <a:xfrm>
                <a:off x="2362320" y="2362320"/>
                <a:ext cx="304560" cy="1904760"/>
              </a:xfrm>
              <a:prstGeom prst="downArrow">
                <a:avLst>
                  <a:gd name="adj1" fmla="val 50000"/>
                  <a:gd name="adj2" fmla="val 15635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AutoShape 27"/>
              <p:cNvSpPr/>
              <p:nvPr/>
            </p:nvSpPr>
            <p:spPr>
              <a:xfrm>
                <a:off x="5105520" y="2209680"/>
                <a:ext cx="457200" cy="3049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AutoShape 28"/>
              <p:cNvSpPr/>
              <p:nvPr/>
            </p:nvSpPr>
            <p:spPr>
              <a:xfrm>
                <a:off x="5257800" y="2743200"/>
                <a:ext cx="228600" cy="68580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AutoShape 29"/>
              <p:cNvSpPr/>
              <p:nvPr/>
            </p:nvSpPr>
            <p:spPr>
              <a:xfrm rot="17554200">
                <a:off x="6134040" y="247608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AutoShape 30"/>
              <p:cNvSpPr/>
              <p:nvPr/>
            </p:nvSpPr>
            <p:spPr>
              <a:xfrm rot="3566400">
                <a:off x="6210000" y="3009960"/>
                <a:ext cx="152640" cy="838440"/>
              </a:xfrm>
              <a:prstGeom prst="downArrow">
                <a:avLst>
                  <a:gd name="adj1" fmla="val 50000"/>
                  <a:gd name="adj2" fmla="val 13732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AutoShape 31"/>
              <p:cNvSpPr/>
              <p:nvPr/>
            </p:nvSpPr>
            <p:spPr>
              <a:xfrm rot="13825800">
                <a:off x="7657920" y="217116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7" name="AutoShape 53"/>
            <p:cNvSpPr/>
            <p:nvPr/>
          </p:nvSpPr>
          <p:spPr>
            <a:xfrm rot="522600">
              <a:off x="5638320" y="373356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VE systee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rte weergave systematisch zonder formul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F97A-FF8B-406D-8AC4-DB21619580C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84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382" name="Text Box 20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Text Box 22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Text Box 23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Group 31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387" name="Text Box 26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3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Group 82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391" name="Text Box 40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42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Group 68"/>
          <p:cNvGrpSpPr/>
          <p:nvPr/>
        </p:nvGrpSpPr>
        <p:grpSpPr>
          <a:xfrm>
            <a:off x="1905120" y="1371600"/>
            <a:ext cx="1447560" cy="2151720"/>
            <a:chOff x="1905120" y="1371600"/>
            <a:chExt cx="1447560" cy="2151720"/>
          </a:xfrm>
        </p:grpSpPr>
        <p:sp>
          <p:nvSpPr>
            <p:cNvPr id="395" name="Text Box 33"/>
            <p:cNvSpPr/>
            <p:nvPr/>
          </p:nvSpPr>
          <p:spPr>
            <a:xfrm>
              <a:off x="1905120" y="2819520"/>
              <a:ext cx="144756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Bestendig voer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AutoShape 49"/>
            <p:cNvSpPr/>
            <p:nvPr/>
          </p:nvSpPr>
          <p:spPr>
            <a:xfrm>
              <a:off x="2514600" y="1371600"/>
              <a:ext cx="304920" cy="1143000"/>
            </a:xfrm>
            <a:prstGeom prst="downArrow">
              <a:avLst>
                <a:gd name="adj1" fmla="val 50000"/>
                <a:gd name="adj2" fmla="val 93713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69"/>
          <p:cNvGrpSpPr/>
          <p:nvPr/>
        </p:nvGrpSpPr>
        <p:grpSpPr>
          <a:xfrm>
            <a:off x="1752480" y="3657600"/>
            <a:ext cx="2133720" cy="1541880"/>
            <a:chOff x="1752480" y="3657600"/>
            <a:chExt cx="2133720" cy="1541880"/>
          </a:xfrm>
        </p:grpSpPr>
        <p:sp>
          <p:nvSpPr>
            <p:cNvPr id="398" name="Text Box 34"/>
            <p:cNvSpPr/>
            <p:nvPr/>
          </p:nvSpPr>
          <p:spPr>
            <a:xfrm>
              <a:off x="175248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bestendig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AutoShape 50"/>
            <p:cNvSpPr/>
            <p:nvPr/>
          </p:nvSpPr>
          <p:spPr>
            <a:xfrm>
              <a:off x="2514600" y="3657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01" name="Text Box 3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AutoShape 51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70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04" name="Text Box 36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utoShape 52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Group 71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07" name="Text Box 39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utoShape 54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Group 74"/>
          <p:cNvGrpSpPr/>
          <p:nvPr/>
        </p:nvGrpSpPr>
        <p:grpSpPr>
          <a:xfrm>
            <a:off x="7620120" y="1371600"/>
            <a:ext cx="1523880" cy="2700000"/>
            <a:chOff x="7620120" y="1371600"/>
            <a:chExt cx="1523880" cy="2700000"/>
          </a:xfrm>
        </p:grpSpPr>
        <p:sp>
          <p:nvSpPr>
            <p:cNvPr id="410" name="AutoShape 53"/>
            <p:cNvSpPr/>
            <p:nvPr/>
          </p:nvSpPr>
          <p:spPr>
            <a:xfrm>
              <a:off x="8077320" y="1371600"/>
              <a:ext cx="304560" cy="2133720"/>
            </a:xfrm>
            <a:prstGeom prst="downArrow">
              <a:avLst>
                <a:gd name="adj1" fmla="val 50000"/>
                <a:gd name="adj2" fmla="val 175148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55"/>
            <p:cNvSpPr/>
            <p:nvPr/>
          </p:nvSpPr>
          <p:spPr>
            <a:xfrm>
              <a:off x="7620120" y="3429000"/>
              <a:ext cx="152388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Onverteer-bare 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" name="Group 75"/>
          <p:cNvGrpSpPr/>
          <p:nvPr/>
        </p:nvGrpSpPr>
        <p:grpSpPr>
          <a:xfrm>
            <a:off x="6477120" y="4038480"/>
            <a:ext cx="2438280" cy="1465920"/>
            <a:chOff x="6477120" y="4038480"/>
            <a:chExt cx="2438280" cy="1465920"/>
          </a:xfrm>
        </p:grpSpPr>
        <p:sp>
          <p:nvSpPr>
            <p:cNvPr id="413" name="Text Box 37"/>
            <p:cNvSpPr/>
            <p:nvPr/>
          </p:nvSpPr>
          <p:spPr>
            <a:xfrm>
              <a:off x="6477120" y="4495680"/>
              <a:ext cx="2438280" cy="10087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etabool faecaa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AutoShape 56"/>
            <p:cNvSpPr/>
            <p:nvPr/>
          </p:nvSpPr>
          <p:spPr>
            <a:xfrm>
              <a:off x="8001000" y="40384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Group 72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16" name="Text Box 38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AutoShape 5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83"/>
          <p:cNvGrpSpPr/>
          <p:nvPr/>
        </p:nvGrpSpPr>
        <p:grpSpPr>
          <a:xfrm>
            <a:off x="1219320" y="6095520"/>
            <a:ext cx="7619760" cy="763920"/>
            <a:chOff x="1219320" y="6095520"/>
            <a:chExt cx="7619760" cy="763920"/>
          </a:xfrm>
        </p:grpSpPr>
        <p:sp>
          <p:nvSpPr>
            <p:cNvPr id="419" name="Line 59"/>
            <p:cNvSpPr/>
            <p:nvPr/>
          </p:nvSpPr>
          <p:spPr>
            <a:xfrm flipV="1">
              <a:off x="2286000" y="609552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0" name="Group 64"/>
            <p:cNvGrpSpPr/>
            <p:nvPr/>
          </p:nvGrpSpPr>
          <p:grpSpPr>
            <a:xfrm>
              <a:off x="1219320" y="6095880"/>
              <a:ext cx="7619760" cy="763560"/>
              <a:chOff x="1219320" y="6095880"/>
              <a:chExt cx="7619760" cy="763560"/>
            </a:xfrm>
          </p:grpSpPr>
          <p:sp>
            <p:nvSpPr>
              <p:cNvPr id="421" name="Text Box 43"/>
              <p:cNvSpPr/>
              <p:nvPr/>
            </p:nvSpPr>
            <p:spPr>
              <a:xfrm>
                <a:off x="1219320" y="624852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eiwitmobilisa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44"/>
              <p:cNvSpPr/>
              <p:nvPr/>
            </p:nvSpPr>
            <p:spPr>
              <a:xfrm>
                <a:off x="2743200" y="649116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groe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45"/>
              <p:cNvSpPr/>
              <p:nvPr/>
            </p:nvSpPr>
            <p:spPr>
              <a:xfrm>
                <a:off x="3962520" y="649116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drach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46"/>
              <p:cNvSpPr/>
              <p:nvPr/>
            </p:nvSpPr>
            <p:spPr>
              <a:xfrm>
                <a:off x="5257800" y="649116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onderhou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Text Box 47"/>
              <p:cNvSpPr/>
              <p:nvPr/>
            </p:nvSpPr>
            <p:spPr>
              <a:xfrm>
                <a:off x="6934320" y="609588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produc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60"/>
              <p:cNvSpPr/>
              <p:nvPr/>
            </p:nvSpPr>
            <p:spPr>
              <a:xfrm flipH="1">
                <a:off x="327636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61"/>
              <p:cNvSpPr/>
              <p:nvPr/>
            </p:nvSpPr>
            <p:spPr>
              <a:xfrm>
                <a:off x="4419720" y="61722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Line 62"/>
              <p:cNvSpPr/>
              <p:nvPr/>
            </p:nvSpPr>
            <p:spPr>
              <a:xfrm>
                <a:off x="579132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Line 63"/>
              <p:cNvSpPr/>
              <p:nvPr/>
            </p:nvSpPr>
            <p:spPr>
              <a:xfrm>
                <a:off x="6477120" y="6095880"/>
                <a:ext cx="45720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Group 81"/>
          <p:cNvGrpSpPr/>
          <p:nvPr/>
        </p:nvGrpSpPr>
        <p:grpSpPr>
          <a:xfrm>
            <a:off x="2943720" y="5181480"/>
            <a:ext cx="942480" cy="642600"/>
            <a:chOff x="2943720" y="5181480"/>
            <a:chExt cx="942480" cy="642600"/>
          </a:xfrm>
        </p:grpSpPr>
        <p:sp>
          <p:nvSpPr>
            <p:cNvPr id="431" name="AutoShape 65"/>
            <p:cNvSpPr/>
            <p:nvPr/>
          </p:nvSpPr>
          <p:spPr>
            <a:xfrm rot="19159800">
              <a:off x="3123720" y="5181480"/>
              <a:ext cx="152640" cy="609840"/>
            </a:xfrm>
            <a:prstGeom prst="downArrow">
              <a:avLst>
                <a:gd name="adj1" fmla="val 50000"/>
                <a:gd name="adj2" fmla="val 9988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Text Box 76"/>
            <p:cNvSpPr/>
            <p:nvPr/>
          </p:nvSpPr>
          <p:spPr>
            <a:xfrm>
              <a:off x="3429000" y="5181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80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34" name="AutoShape 66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77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79"/>
          <p:cNvGrpSpPr/>
          <p:nvPr/>
        </p:nvGrpSpPr>
        <p:grpSpPr>
          <a:xfrm>
            <a:off x="6482520" y="5284440"/>
            <a:ext cx="909000" cy="768240"/>
            <a:chOff x="6482520" y="5284440"/>
            <a:chExt cx="909000" cy="768240"/>
          </a:xfrm>
        </p:grpSpPr>
        <p:sp>
          <p:nvSpPr>
            <p:cNvPr id="437" name="AutoShape 67"/>
            <p:cNvSpPr/>
            <p:nvPr/>
          </p:nvSpPr>
          <p:spPr>
            <a:xfrm rot="3239400">
              <a:off x="6743520" y="5219640"/>
              <a:ext cx="228600" cy="761760"/>
            </a:xfrm>
            <a:prstGeom prst="downArrow">
              <a:avLst>
                <a:gd name="adj1" fmla="val 50000"/>
                <a:gd name="adj2" fmla="val 8330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78"/>
            <p:cNvSpPr/>
            <p:nvPr/>
          </p:nvSpPr>
          <p:spPr>
            <a:xfrm>
              <a:off x="6934320" y="5410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3A08-7E0E-491B-B3EB-BB8644FBAF1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60"/>
          <p:cNvSpPr/>
          <p:nvPr/>
        </p:nvSpPr>
        <p:spPr>
          <a:xfrm>
            <a:off x="2819520" y="2362320"/>
            <a:ext cx="510516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2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442" name="Text Box 3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Text Box 4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5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Text Box 6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Group 7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447" name="Text Box 8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Text Box 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451" name="Text Box 12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3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21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55" name="Text Box 2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23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Group 24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58" name="Text Box 25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AutoShape 26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Group 27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61" name="Text Box 28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AutoShape 29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Group 36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64" name="Text Box 37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AutoShape 3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Group 54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67" name="AutoShape 55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56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EABB-10B6-4860-B88A-9C931B26E10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EB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ffect OEB op snijmais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838080"/>
          <a:ext cx="9144000" cy="6035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OEB niveau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3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70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Vem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V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EB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4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7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 g/kg d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7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1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e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3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iwi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3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reum mg/d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et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 benuttin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7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-verlies g/k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,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1DB4-940F-4A8F-881B-A8554AD8BF7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105520" y="5410080"/>
            <a:ext cx="2743200" cy="82548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29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27" name="Text Box 3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25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29" name="Line 14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15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Group 31"/>
          <p:cNvGrpSpPr/>
          <p:nvPr/>
        </p:nvGrpSpPr>
        <p:grpSpPr>
          <a:xfrm>
            <a:off x="1295280" y="2057400"/>
            <a:ext cx="2743200" cy="838080"/>
            <a:chOff x="1295280" y="2057400"/>
            <a:chExt cx="2743200" cy="838080"/>
          </a:xfrm>
        </p:grpSpPr>
        <p:sp>
          <p:nvSpPr>
            <p:cNvPr id="132" name="Text Box 7"/>
            <p:cNvSpPr/>
            <p:nvPr/>
          </p:nvSpPr>
          <p:spPr>
            <a:xfrm>
              <a:off x="1295280" y="205740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Drog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Group 30"/>
            <p:cNvGrpSpPr/>
            <p:nvPr/>
          </p:nvGrpSpPr>
          <p:grpSpPr>
            <a:xfrm>
              <a:off x="1676520" y="2514600"/>
              <a:ext cx="2057400" cy="380880"/>
              <a:chOff x="1676520" y="2514600"/>
              <a:chExt cx="2057400" cy="380880"/>
            </a:xfrm>
          </p:grpSpPr>
          <p:sp>
            <p:nvSpPr>
              <p:cNvPr id="134" name="Line 16"/>
              <p:cNvSpPr/>
              <p:nvPr/>
            </p:nvSpPr>
            <p:spPr>
              <a:xfrm flipH="1">
                <a:off x="16765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17"/>
              <p:cNvSpPr/>
              <p:nvPr/>
            </p:nvSpPr>
            <p:spPr>
              <a:xfrm>
                <a:off x="32767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Group 26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37" name="Text Box 8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27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41" name="Text Box 6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28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45" name="Text Box 11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D0AB-03B1-412C-B55C-2171D96FA08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Ureum gehalte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sinds 1998 tankmelk, pagina 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30 mg ureum per 100 ml mel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9BE5-66DD-4784-9E9E-6D7F1A92E75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Picture 2" descr="C:\Mijn documenten\Algemene brieven en teksten\AOC zaken\Cursus\Voedingscursus 2000\verdeling ureum rantsoen pensniveau.gif"/>
          <p:cNvPicPr/>
          <p:nvPr/>
        </p:nvPicPr>
        <p:blipFill>
          <a:blip r:embed="rId1"/>
          <a:srcRect l="10285" t="365" r="-1053" b="18896"/>
          <a:stretch/>
        </p:blipFill>
        <p:spPr>
          <a:xfrm>
            <a:off x="0" y="6890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5"/>
          <p:cNvSpPr/>
          <p:nvPr/>
        </p:nvSpPr>
        <p:spPr>
          <a:xfrm>
            <a:off x="2590920" y="60199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Ureumgehalte mg/100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0" y="2286000"/>
            <a:ext cx="457200" cy="194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D61D-0AE0-455F-BAB7-F3DAA44681B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0" y="612720"/>
          <a:ext cx="9144000" cy="581976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612720"/>
          <a:ext cx="9144000" cy="632304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612720"/>
          <a:ext cx="9144000" cy="637848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rijk ruw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deling verbet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OPTIMA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, 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i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lgende we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olhydraten verter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BD90-0CB6-43A6-BAA2-95DA8BE2A6E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 </a:t>
            </a:r>
            <a:r>
              <a:rPr b="1" lang="nl-NL" sz="18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1" action="ppaction://hlinksldjump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2" action="ppaction://hlinksldjump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95280" y="20574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Drog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105520" y="541008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10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58" name="Text Box 11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Group 12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60" name="Line 13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4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15"/>
          <p:cNvGrpSpPr/>
          <p:nvPr/>
        </p:nvGrpSpPr>
        <p:grpSpPr>
          <a:xfrm>
            <a:off x="1676520" y="2514600"/>
            <a:ext cx="2057400" cy="380880"/>
            <a:chOff x="1676520" y="2514600"/>
            <a:chExt cx="2057400" cy="380880"/>
          </a:xfrm>
        </p:grpSpPr>
        <p:sp>
          <p:nvSpPr>
            <p:cNvPr id="163" name="Line 16"/>
            <p:cNvSpPr/>
            <p:nvPr/>
          </p:nvSpPr>
          <p:spPr>
            <a:xfrm flipH="1">
              <a:off x="16765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7"/>
            <p:cNvSpPr/>
            <p:nvPr/>
          </p:nvSpPr>
          <p:spPr>
            <a:xfrm>
              <a:off x="32767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Group 18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66" name="Text Box 19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20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70" name="Text Box 23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24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26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74" name="Text Box 27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ffff99"/>
                  </a:solidFill>
                  <a:uFillTx/>
                  <a:latin typeface="Times New Roman"/>
                  <a:hlinkClick r:id="rId8" action="ppaction://hlinksldjump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AutoShape 30">
            <a:hlinkClick r:id="rId9" action="ppaction://hlinksldjump"/>
          </p:cNvPr>
          <p:cNvSpPr/>
          <p:nvPr/>
        </p:nvSpPr>
        <p:spPr>
          <a:xfrm>
            <a:off x="0" y="4495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AF1A-4297-415E-96A5-9C19EC3E51F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samenstelling van elke voer is het zelfde opgebouwd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r zitten verschillen in de onderde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ok na bewerkingen kunnen de onderdelen verschillen van het oorspronkelijke produc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7772400" y="457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7871-EFEF-4F79-8EE4-4CD09EEE4B3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roge stof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bruik D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pname door dieren afhankelijk  van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schil tussen producten zeer g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dingswaarde zit alleen in de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name ds afhankelijk van: </a:t>
            </a:r>
            <a:r>
              <a:rPr b="0" lang="nl-NL" sz="1800" spc="-1" strike="noStrike">
                <a:solidFill>
                  <a:srgbClr val="ffffff"/>
                </a:solidFill>
                <a:latin typeface="Arial Unicode MS"/>
              </a:rPr>
              <a:t>(pagina 5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ier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wicht, leeftijd, opfokmeth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waliteit van het 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raanb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houding ruwvoer/meng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tal keren vers voor het voerh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001000" y="533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52B4-10BB-4DAA-85E3-261D222A77D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Water 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rming bloed en cellen, lichaam en mel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nderhoud (10% van het Lichaamsgewic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roductie (per kg melk, 2 liter w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Transport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los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egelen van de temperatuu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fvoer van stoffen, via urine en zwe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78487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519C-8571-4F1B-94A4-2B92C6A5DCD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rganische 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vat alle belangrijke stoffen die we nodig hebben voor de vorming van de vetten en de eiwitte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enmerk organische stof : het bevat de element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  = kool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 = wate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 = zuu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10:05:27Z</dcterms:created>
  <dc:creator>Jeroen Lek</dc:creator>
  <dc:description>deel nog over samenstelling voer
verwijzingen naar paginas uit het stuk
Voeding het jaar rond</dc:description>
  <dc:language>en-US</dc:language>
  <cp:lastModifiedBy>aoc</cp:lastModifiedBy>
  <dcterms:modified xsi:type="dcterms:W3CDTF">2011-11-09T06:29:31Z</dcterms:modified>
  <cp:revision>23</cp:revision>
  <dc:subject/>
  <dc:title>Eiwitvertering </dc:title>
</cp:coreProperties>
</file>