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EE58-C90D-4664-B643-47C0B0D0045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43B7-1DE6-4627-A9DE-93D599B57C3A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FF96-A1F3-49A6-939D-DBB2D2A316A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95C9-FCC8-4A92-A0BE-EE95A906D05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B7BA-BFDF-4D0B-B01D-D8E12FD1127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FCE6-4107-434E-B1C1-8D3049CBCE1C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D48D-3C8A-49C6-99BF-F78EE592E0A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B0F-1D9D-43BA-BE3B-1700A8E4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EF9-0EFB-434E-95DC-5467376D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934-DE47-4C33-BBEF-A61B8655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B4C-5C43-4A7B-B797-FC115ED2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0980-B2B2-4F56-995E-4E73FDF0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CF39-298C-41AE-B78A-61AAF3B4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C02D-8A63-4389-A9E9-A19438E0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3A08-F1BF-474F-A906-F21E1265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9EA0-9FF5-4B8C-9EBE-1D7DB500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507A-8122-439A-8340-161CA2EF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DA93-2BE2-4265-B927-B8C01F91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AF8-D4FE-41B9-AB1B-140E96F9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8367-9579-4D56-94C2-E809581D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C628-C7C0-4F12-B244-41618F44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D8BA-AA66-4045-9C5A-4ADB27AB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4443-A70A-49FC-9C4A-80448E77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3245-15F9-40A8-A1DB-C891A1E5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27965-01BC-43E0-9916-2FC156AF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F6B0-A989-4022-A8AD-535D6439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C7A8-122D-4FCF-901B-694ED967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C8B16-7CAD-4266-9990-170616C8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90EB-F88B-4C77-A06A-22153837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3B4-B309-44D1-9987-831A5117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46864-4928-4E3C-8ABE-F1395D42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0491-2673-482A-A778-1E1236DC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C2E70-7C1B-4301-9C9C-9F12A99A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71940-9FB8-4B0D-A075-FB58E1A9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C959-87E0-47BD-A551-F402825E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5B18E-5A65-4C3A-933A-EAABE3DF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FFF1-F804-4E27-8421-B2B1F242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DFE63-7B50-4CAA-B286-AA09678F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1346-F8FB-4E7A-ADC7-F2D1EDF5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BD20B-99A3-4DDE-AF75-CA1C585A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CA0-237D-4F5E-ACCB-F6C2F5DA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D48F0-4E9B-4554-B70D-32EFC498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4E832-5637-4000-9D22-44B4E08C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0CADE-8AA5-4C2A-AACB-826F8A43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5B0ED-B7B6-4FBA-B85C-503E5CE8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70CF5-965F-4A72-A7AB-C76750F0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03831-2EC8-43F9-A184-2224B930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035F3-622F-4906-B097-68797992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97C8-E10B-45CB-9D58-1DD73D02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22751-5158-49C5-8E4C-DEE5C79D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6D0C0-15BF-4472-BAD8-A6217C32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CF1-4CBB-40C4-A387-85102D39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6ED79-2290-4FA6-A832-3DD0B981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406CB-B2CF-47F2-AF8D-E2A8EC9E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6CE20-2D2E-4B26-8F85-DA120E2B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8B261-5D3C-410D-BDCD-DF71D481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5F985-C4B5-4335-A14E-EB3F475D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61309-B03A-44B1-A53D-E050564B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0DDBB-BE0A-439B-B88A-EE7D897F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A76BA-2DC0-4CFA-B6D9-37D26EA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8287F-93A9-43BC-B15C-A9E8141E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7EE4F-8C00-43F6-8254-4F821B2B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B06-FEF3-4B98-8570-E4703D06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81804-B207-4320-83F2-A412C15E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E6DF1-7994-4FBB-97F1-2B024AA7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BE955-C99F-45AA-BCDF-F2EDD5C3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B0D5B-303A-42CB-BE47-DA44AC6B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803FF-FBF2-40B6-8F03-B1FF78CD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C268-5D4A-4F14-8B1B-51E51EAC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537CC-8ED3-403B-A23B-7119CC48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46EF8-266B-4BDC-8409-532C3534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73B7E-2576-4FF6-BA8F-6F48685A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E8DE1-811F-4B04-8735-8E344537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0CF-4647-41A0-985B-91C095A6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AC71B-9CB9-4CF9-B802-03485258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20E41-820A-4BCB-A6DD-ED70A9DF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53E72-01C1-45BE-B8FD-64DA8905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D6E-4448-456F-A8B4-CE386A87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4C1-5FED-4F3F-9DAD-D271EB41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2217-BF26-44DF-8631-3E0C6E190F8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F61A-6E84-47C2-910C-A26B11B82CEE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CEA4-F046-4C61-A3F7-0C7F38A62B2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DFA8-E93D-4291-ABF4-29FDE14582C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3942-21ED-47FB-A91F-FAFB7C27F3C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9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32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5531-5397-4EFC-BA43-3CF672BA1581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def5fa"/>
                </a:solidFill>
                <a:latin typeface="Lucida Sans Unicode"/>
              </a:rPr>
              <a:t>Het maagdarmstelsel van de koe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92160" y="731880"/>
            <a:ext cx="8150040" cy="17128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030320" y="2316240"/>
            <a:ext cx="70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FOS = VOS – RV – Best. RE – Best.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V = ruw v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RE = bestendig ruw eiw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Zetmeel = bestendig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deze zijn uit bouwstenen opgebouwd, de z.g. aminozure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angrijke aminozuren zijn:  lysine, methionine, cystine, tryptofaa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56A2-67B4-4552-9303-CAAE64DAB89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4" name="Tijdelijke aanduiding voor dianumm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7D67-5AFB-4B2C-B4AF-233C4F87715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5DD3-1167-4D95-BDE4-79E0E8B3BF6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7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348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69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370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2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373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5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376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8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379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1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382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4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385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7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388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0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391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3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394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6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397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400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2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403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5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 In rantsoen het liefst +200-300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1518-F81E-445B-A47F-0932CB980E4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11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F2EE-D0C9-478E-AC1B-408502EDA64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4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55F1-AFF0-48BB-95BF-B9D2B6A0318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25 mg ureum per 100 ml melk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7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42C3-0641-421C-8524-1A45206DF19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staat uit mineralen en zand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ij een analyse is dit het vermelde R.A.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Ruw anorganische 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Zand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Max. 1 kg per dag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emmerd de pens 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Mineralen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odig voor levens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2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8071-A8F9-41DA-91E5-924688CDD2E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Grassen en kruiden bestaan uit stevige celwanden en celinhoud. De celwanden bevatten voornamelijk koolhydraten (cellulose, hemicellulose, pectine), lignine. De celinhoud bevat ook koolhydraten (suikers, zetmeel), eiwitten en een beetje vet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Dik en moeilijk afbreekbaar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Celwanden bevatten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emi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ectin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Lignine (bij volgroeide planten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jdelijke aanduiding voor inhoud 3" descr="http://www.kennislink.nl/upload/193533_962_1205415925164-88313_962_1030625300843-celwand1-klein.jpg"/>
          <p:cNvPicPr/>
          <p:nvPr/>
        </p:nvPicPr>
        <p:blipFill>
          <a:blip r:embed="rId1"/>
          <a:stretch/>
        </p:blipFill>
        <p:spPr>
          <a:xfrm>
            <a:off x="2916360" y="119700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427" name="Titel 2" descr=""/>
          <p:cNvPicPr/>
          <p:nvPr/>
        </p:nvPicPr>
        <p:blipFill>
          <a:blip r:embed="rId2"/>
          <a:stretch/>
        </p:blipFill>
        <p:spPr>
          <a:xfrm>
            <a:off x="311040" y="0"/>
            <a:ext cx="8485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il_fi" descr="http://www.sigmaaldrich.com/etc/medialib/life-science/metabolomics/enzyme-explorer/enzymes-for-alternative/plant-cell-wall.Par.0001.Image.550.gif"/>
          <p:cNvPicPr/>
          <p:nvPr/>
        </p:nvPicPr>
        <p:blipFill>
          <a:blip r:embed="rId1"/>
          <a:stretch/>
        </p:blipFill>
        <p:spPr>
          <a:xfrm>
            <a:off x="1952640" y="2347920"/>
            <a:ext cx="5238720" cy="2790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http://www.schooltv.nl/nudn/mmbase/images/1408269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il_fi" descr="http://www.lhup.edu/smarvel/Seminar/FALL_2003/S_Beatty/rumen-bacteria.jpg"/>
          <p:cNvPicPr/>
          <p:nvPr/>
        </p:nvPicPr>
        <p:blipFill>
          <a:blip r:embed="rId1"/>
          <a:stretch/>
        </p:blipFill>
        <p:spPr>
          <a:xfrm>
            <a:off x="1281240" y="1481040"/>
            <a:ext cx="6581520" cy="4525920"/>
          </a:xfrm>
          <a:prstGeom prst="rect">
            <a:avLst/>
          </a:prstGeom>
          <a:ln w="0">
            <a:noFill/>
          </a:ln>
        </p:spPr>
      </p:pic>
      <p:pic>
        <p:nvPicPr>
          <p:cNvPr id="289" name="Titel 2" descr=""/>
          <p:cNvPicPr/>
          <p:nvPr/>
        </p:nvPicPr>
        <p:blipFill>
          <a:blip r:embed="rId2"/>
          <a:stretch/>
        </p:blipFill>
        <p:spPr>
          <a:xfrm>
            <a:off x="457200" y="128520"/>
            <a:ext cx="82296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l_fi" descr="http://digitalunion.osu.edu/r2/summer07/nskrinak/images/fistulatedsmall.jpg"/>
          <p:cNvPicPr/>
          <p:nvPr/>
        </p:nvPicPr>
        <p:blipFill>
          <a:blip r:embed="rId1"/>
          <a:stretch/>
        </p:blipFill>
        <p:spPr>
          <a:xfrm>
            <a:off x="2984400" y="2443320"/>
            <a:ext cx="3175200" cy="2603520"/>
          </a:xfrm>
          <a:prstGeom prst="rect">
            <a:avLst/>
          </a:prstGeom>
          <a:ln w="0">
            <a:noFill/>
          </a:ln>
        </p:spPr>
      </p:pic>
      <p:pic>
        <p:nvPicPr>
          <p:cNvPr id="291" name="Titel 2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kstvak 3"/>
          <p:cNvSpPr/>
          <p:nvPr/>
        </p:nvSpPr>
        <p:spPr>
          <a:xfrm>
            <a:off x="611280" y="836640"/>
            <a:ext cx="8137440" cy="9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dermid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c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organische stof (ras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rganische st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olhydraten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eiwi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e cel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uiker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etm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3" name="Rechte verbindingslijn met pijl 5"/>
          <p:cNvCxnSpPr/>
          <p:nvPr/>
        </p:nvCxnSpPr>
        <p:spPr>
          <a:xfrm>
            <a:off x="5796000" y="1268280"/>
            <a:ext cx="100872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4" name="Rechte verbindingslijn met pijl 8"/>
          <p:cNvCxnSpPr/>
          <p:nvPr/>
        </p:nvCxnSpPr>
        <p:spPr>
          <a:xfrm flipH="1">
            <a:off x="3202920" y="1268280"/>
            <a:ext cx="64836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5" name="Rechte verbindingslijn met pijl 13"/>
          <p:cNvCxnSpPr/>
          <p:nvPr/>
        </p:nvCxnSpPr>
        <p:spPr>
          <a:xfrm>
            <a:off x="3203640" y="1916280"/>
            <a:ext cx="1008720" cy="5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6" name="Rechte verbindingslijn met pijl 18"/>
          <p:cNvCxnSpPr/>
          <p:nvPr/>
        </p:nvCxnSpPr>
        <p:spPr>
          <a:xfrm flipH="1">
            <a:off x="1402920" y="206028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7" name="Rechte verbindingslijn met pijl 21"/>
          <p:cNvCxnSpPr/>
          <p:nvPr/>
        </p:nvCxnSpPr>
        <p:spPr>
          <a:xfrm flipH="1">
            <a:off x="3994920" y="2707920"/>
            <a:ext cx="361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8" name="Rechte verbindingslijn met pijl 25"/>
          <p:cNvCxnSpPr/>
          <p:nvPr/>
        </p:nvCxnSpPr>
        <p:spPr>
          <a:xfrm>
            <a:off x="5795640" y="2708280"/>
            <a:ext cx="108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9" name="Rechte verbindingslijn met pijl 28"/>
          <p:cNvCxnSpPr/>
          <p:nvPr/>
        </p:nvCxnSpPr>
        <p:spPr>
          <a:xfrm>
            <a:off x="6587640" y="2707920"/>
            <a:ext cx="86436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0" name="Rechte verbindingslijn met pijl 32"/>
          <p:cNvCxnSpPr/>
          <p:nvPr/>
        </p:nvCxnSpPr>
        <p:spPr>
          <a:xfrm flipH="1">
            <a:off x="1834560" y="3428640"/>
            <a:ext cx="6498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1" name="Rechte verbindingslijn met pijl 36"/>
          <p:cNvCxnSpPr/>
          <p:nvPr/>
        </p:nvCxnSpPr>
        <p:spPr>
          <a:xfrm>
            <a:off x="4211280" y="3428640"/>
            <a:ext cx="469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2" name="Rechte verbindingslijn met pijl 40"/>
          <p:cNvCxnSpPr/>
          <p:nvPr/>
        </p:nvCxnSpPr>
        <p:spPr>
          <a:xfrm flipH="1">
            <a:off x="3347640" y="4220640"/>
            <a:ext cx="5040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3" name="Rechte verbindingslijn met pijl 44"/>
          <p:cNvCxnSpPr/>
          <p:nvPr/>
        </p:nvCxnSpPr>
        <p:spPr>
          <a:xfrm>
            <a:off x="5003280" y="422064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5" name="Titel 47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vat alle belangrijke stoffen die we nodig hebben voor de vorming van de koolhydraten, vetten en de eiwitten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Kenmerk organische stof : het bevat de elementen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  = kool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 = wate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O = zuu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C668-FCE2-4B43-8524-B839706109B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Een organische stof die naast de drie genoemde elementen ook nog bevat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 = stik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 = fosf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S = zwave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Het ruw eiwit bevat 16% stikstof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Via Kjehldahl en kleurstof methode makkelijk N te bepalen , en via de eiwitfactor 6,25 terug te rekenen naar hoeveelheid eiwit.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12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557D-7F63-47C0-8278-6F0AD7FB31E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3"/>
          <p:cNvGrpSpPr/>
          <p:nvPr/>
        </p:nvGrpSpPr>
        <p:grpSpPr>
          <a:xfrm>
            <a:off x="1332000" y="1989000"/>
            <a:ext cx="9067320" cy="3812400"/>
            <a:chOff x="1332000" y="1989000"/>
            <a:chExt cx="9067320" cy="3812400"/>
          </a:xfrm>
        </p:grpSpPr>
        <p:sp>
          <p:nvSpPr>
            <p:cNvPr id="315" name="Text Box 4"/>
            <p:cNvSpPr/>
            <p:nvPr/>
          </p:nvSpPr>
          <p:spPr>
            <a:xfrm>
              <a:off x="2170080" y="198900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ruw eiwit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energie (FOS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1407960" y="2751120"/>
              <a:ext cx="80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095560"/>
                  <a:tab algn="l" pos="4572000"/>
                  <a:tab algn="l" pos="6858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on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NL" sz="2400" spc="-1" strike="noStrike">
                  <a:solidFill>
                    <a:srgbClr val="000000"/>
                  </a:solidFill>
                  <a:latin typeface="Arial"/>
                </a:rPr>
                <a:t>OEB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1332000" y="3512880"/>
              <a:ext cx="8686440" cy="7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 eiwit 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 eiwi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4379760" y="450360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Tahoma"/>
                </a:rPr>
                <a:t>DV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5903640" y="496080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onderhou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Text Box 9"/>
            <p:cNvSpPr/>
            <p:nvPr/>
          </p:nvSpPr>
          <p:spPr>
            <a:xfrm>
              <a:off x="1712520" y="488448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melkproduc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017440" y="53416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groei/mobilisa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Text Box 11"/>
            <p:cNvSpPr/>
            <p:nvPr/>
          </p:nvSpPr>
          <p:spPr>
            <a:xfrm>
              <a:off x="4836960" y="5341680"/>
              <a:ext cx="14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drach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Line 12"/>
            <p:cNvSpPr/>
            <p:nvPr/>
          </p:nvSpPr>
          <p:spPr>
            <a:xfrm flipH="1">
              <a:off x="2474280" y="2446200"/>
              <a:ext cx="228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Line 13"/>
            <p:cNvSpPr/>
            <p:nvPr/>
          </p:nvSpPr>
          <p:spPr>
            <a:xfrm>
              <a:off x="3465360" y="2446200"/>
              <a:ext cx="3045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Line 14"/>
            <p:cNvSpPr/>
            <p:nvPr/>
          </p:nvSpPr>
          <p:spPr>
            <a:xfrm>
              <a:off x="6437160" y="24462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15"/>
            <p:cNvSpPr/>
            <p:nvPr/>
          </p:nvSpPr>
          <p:spPr>
            <a:xfrm>
              <a:off x="239868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6"/>
            <p:cNvSpPr/>
            <p:nvPr/>
          </p:nvSpPr>
          <p:spPr>
            <a:xfrm>
              <a:off x="643716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7"/>
            <p:cNvSpPr/>
            <p:nvPr/>
          </p:nvSpPr>
          <p:spPr>
            <a:xfrm>
              <a:off x="5056560" y="297972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Line 18"/>
            <p:cNvSpPr/>
            <p:nvPr/>
          </p:nvSpPr>
          <p:spPr>
            <a:xfrm>
              <a:off x="7118640" y="2979720"/>
              <a:ext cx="609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Line 19"/>
            <p:cNvSpPr/>
            <p:nvPr/>
          </p:nvSpPr>
          <p:spPr>
            <a:xfrm flipH="1">
              <a:off x="5370120" y="4275000"/>
              <a:ext cx="5331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Line 20"/>
            <p:cNvSpPr/>
            <p:nvPr/>
          </p:nvSpPr>
          <p:spPr>
            <a:xfrm>
              <a:off x="3693960" y="4275000"/>
              <a:ext cx="53316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Line 21"/>
            <p:cNvSpPr/>
            <p:nvPr/>
          </p:nvSpPr>
          <p:spPr>
            <a:xfrm flipH="1">
              <a:off x="4227120" y="5037120"/>
              <a:ext cx="4572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Line 22"/>
            <p:cNvSpPr/>
            <p:nvPr/>
          </p:nvSpPr>
          <p:spPr>
            <a:xfrm>
              <a:off x="4913280" y="5037120"/>
              <a:ext cx="2286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Line 23"/>
            <p:cNvSpPr/>
            <p:nvPr/>
          </p:nvSpPr>
          <p:spPr>
            <a:xfrm>
              <a:off x="5217840" y="4884480"/>
              <a:ext cx="6858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Line 24"/>
            <p:cNvSpPr/>
            <p:nvPr/>
          </p:nvSpPr>
          <p:spPr>
            <a:xfrm flipH="1">
              <a:off x="3922200" y="4884480"/>
              <a:ext cx="53316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50:42Z</dcterms:created>
  <dc:creator>m</dc:creator>
  <dc:description/>
  <dc:language>en-US</dc:language>
  <cp:lastModifiedBy>Jan van Vliet</cp:lastModifiedBy>
  <dcterms:modified xsi:type="dcterms:W3CDTF">2012-02-22T14:53:19Z</dcterms:modified>
  <cp:revision>50</cp:revision>
  <dc:subject/>
  <dc:title>Spijsvertering van de koe</dc:title>
</cp:coreProperties>
</file>