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452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279D-8136-4C4C-8D89-AE77541355C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deze dia om (eventueel) uw eigen praktijk logo toe tevoege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laat zien waar die negatieve energiebalans vandaan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aste week voor het afkalven daalt de drogestof opname. Vlak voor het afkalven stort de drogestof opname helemaal in. Pas na het afklaven  komt de droge stof opnamen weer op niv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stippelde lijn toont de hoeveelheid NEFA’s in het blo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laaste 3 weken voorafgaand aan het afkalven moet de koe worden voorbereid op het afkalven en het opgang komen van de lactatie. De voederopnamecapaciteit is in die periode laag, maar de behoefte aan voedingsstoffen neemt toe.  Tijdens de droogstand neemt de omvang van de baarmoeder aanzienlijk toe, hierdoor neemt de opname capaciteit  voor ruwvoer af. In de “close –up“ periode van de droogstand  en vooral kort voor het afklaven is het belangrijk dat  het voeder een hoge energie dichtheid he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op de foto. Lever met normale kleur en consiten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hts een ernstig vervette lever. Te geel en te licht van kleur met bolle r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derzoek heeft aangetoont dat deze dieren een verhoogde kan op klinische mastitis hebben. Subklinische ketose is wat uiergezondheid betreft minstens zo gevaarlijk omdat het minder snel onderkent word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4400" y="744480"/>
            <a:ext cx="4965840" cy="3724200"/>
          </a:xfrm>
          <a:prstGeom prst="rect">
            <a:avLst/>
          </a:prstGeom>
          <a:ln w="0">
            <a:noFill/>
          </a:ln>
        </p:spPr>
      </p:sp>
      <p:sp>
        <p:nvSpPr>
          <p:cNvPr id="18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naast energie rond het afkalven er ook een tekort is van voor de weerstand  belangrijke vit.  en mineralen. Selenium, zink, koper, Vi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het op gang komen van de melkproductie is er indirect ook een tekort aan calci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direct: Se-,Zn-,Cu-,vit.- tek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op werking afweersysyteem van ko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indirect: melkzi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heeft negatief effect doordat koe minder voer opneemt en meer ligt. Met name subklinische melkziekte is gevaarlijk omdat het minder snel onderkent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weken voor afkalven neemt de voeropname af, door het grote volume van het kalf en onder invloed van een hogere oestrogenenspiegel. Hierdoor daalt ook de penspassage. Het resultaat is een lagere opname van energie en eiwit, én van essentiële voercomponenten: Ca, Mg, Se, vit E, essentiële aminozu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stofwisselingsziekten spelen in de transitie een belangrijke rol. Dieren met deze aandoeningen lopen meer risico op mastitis en hebben een slechtere start van de lacta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oeding speelt een hoofdrol bij het ontstaan van deze aandoeningen. De dia geeft per aandoening aan waar de (voedings) oorzaken gevonden moeten word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figuur toont aan dat koeien met melkziekte of subklinische melkziekte duidelijk minder droge stof opnemen  Dan dieren met een voldoende calcium gehalte in het blo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er droge stof opnamen </a:t>
            </a:r>
            <a:r>
              <a:rPr b="0" lang="en-US" sz="1200" spc="-1" strike="noStrike">
                <a:solidFill>
                  <a:srgbClr val="000000"/>
                </a:solidFill>
                <a:latin typeface="Arial"/>
                <a:ea typeface="Arial"/>
              </a:rPr>
              <a:t>→ minder weerstand →meer mastit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ok hier geld dat subklinische melkziekte minstens zo gevaarlijk is omdat het niet wordt onderk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4400" y="744480"/>
            <a:ext cx="4965840" cy="3724200"/>
          </a:xfrm>
          <a:prstGeom prst="rect">
            <a:avLst/>
          </a:prstGeom>
          <a:ln w="0">
            <a:noFill/>
          </a:ln>
        </p:spPr>
      </p:sp>
      <p:sp>
        <p:nvSpPr>
          <p:cNvPr id="19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is belangrijk dat  de kalf koe rond het afkalven contact houdt met de koppel. Hoe geisoleerder het dier komt te staan  hoe meer stress dit veroorza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rond het afkalven  is nooit helemaal te voorkomen. De dia geeft de redenen die de stress veroorz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leidelijke voerovergangen zijn belangrijk om de pens goed op het nieuwe rantsoen te laten aanpassen. Daarnaast is een plotselinge verandering van rantsoen  (krachtvoer begin lactatie) ook stressv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eel bedrijven komt een mate van overbezetting in de stal voor. Dit is voor de verse koeien en de vaarsen een  belangrijke rede voor stress. Deze dieren moeten moeten “knokken” voor hun plekje aan het voerhek en lig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en het kalf niet snel wordt weggehaalt hecht de koe zich aan het kalf. Als het kalf  een tijdje later wel weggehaalt wordt is dit stressvol voor de ko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ke melkveehouder is gebaat bij een goede transitie van zijn melkkoeien. Het heeft een positief effect op de uiergezondheid maar ook op heel veel andere ziekten/problemen. Dieren die een goed transitie doormaken zullen goed produceren. Het is ook belangrijk vanuit het gemak van de bedrijfsvoering. Goede transitie </a:t>
            </a:r>
            <a:r>
              <a:rPr b="0" lang="en-US" sz="1200" spc="-1" strike="noStrike">
                <a:solidFill>
                  <a:srgbClr val="000000"/>
                </a:solidFill>
                <a:latin typeface="Arial"/>
                <a:ea typeface="Arial"/>
              </a:rPr>
              <a:t>→ weinig problemen → scheelt veel werk/irri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geeft de doelen die nagestreeft zouden moeten worden. Niet tevreden zijn indien een  van deze streefwaarden niet gehaald wor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el melk met goede gehaltes; een goede transitie haalt het optimale uit de k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ing conditiescore begin lactatie (40 dg) mag niet meer dan een punt bedragen (t.o.v begin droogstan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 kunnen sucessen behaalt worden. De voeding in de far-off period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wilt zeer geleidelijke voerovergangen, met name vanwege adaptatie van de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lage kation-anionbalans zorgt dat de koe minder biest en melk maakt. Hierdoor heeft ze minder zucht (gunstig voor oa uiergezondheid, want betere doorbloeding, beter leegmelken en betere afsluiten slotgat) en heeft ze minder voedingstoffen nodig voor biest en me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ker als niet elke koe een vreetplaats heeft, treedt gemakkelijk selectie op. Vaarsjes delven dan het onderspit. Terwijl juist de vaarsjes al eerder, vanaf 4 weken voor afkalven, behoefte hebben aan het close up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st allerlei risico’s rondom het afkalven (risicofactoren) zijn er tegelijk ook succesfactoren. Deze dia toont aan dat een hogere voeropname van koeien rond het afkalven betekend dat de voeropname drie weken later ook hoger is. Een hoge droge stofopname betekend gezonde en goed producerende koeien. Bij een goede transitie is dus  ook veel te winnen kortom Vreten Mo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middag gaat over de weerstand van de koe en de transitie peri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werpen zijn niet voor niets aan elkaar gekoppeld. Tijdens de transitieperiode zijn er verschillende factoren die de weerstand van de dieren kunnen ondermij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 tegenoverstaat dat een goede en succesvolle transitie een gezonde/ sterke  en goed producerende koe opleverd. Er zijn dus valkuilen die tot een verminderde weerstand bij de dieren kunnen leiden en succesfactoren die zorgen voor een goede start  van de lac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presentatie zal  vooral gaan over de relatie tussen de transitieperiode  en de weerstand van de koe. De weerstand heeft weer veel invloed op de uiergezondheid. Voeding speelt een sleutelrol in deze re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het begin van de droogstand en het droogzetten zelf zullen kort aan bod komen.  Het begin van de droogstand behoort feitelijk niet tot de transitieperiode (drie weken voor tot drie weken na afkalven) maar  de eerste weken van de droogstand zijn wel van belang  voor een goede transitie. Zaken die hier fout gaan zijn in de overgangsperiode van droogstand naar lactatie moeilijk te corrig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zal worden aangegeven wat we  bij een goede transtie moeten voorstellen en wat zinvolle doelstellingen daarbij zijn.  Ook zal aangegeven worden hoe we dat kunnen bereiken. Om de transitieperiode te kunnen beoordelen zijn controle punten nodig. Die zullen ook aanbod k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boodschap:  wat gebruik jij als controlepunten? Iedere boer heeft zijn controlepunten. Sommige daarvan zijn slimmer en functioneler dan andere. Een essentiele vraag bij controles is de reactie: hoe vroeg zien ze dingen? hoe snel reageren ze? Hoe goed reageren 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lijst is lang genoeg om punt voor punt na te 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t: consistentie en vertering (verschillen wijzen op sel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kunt eventueel praten over urine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uur na voeren moet het voer niet warmer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t strohok, vlak bij de melkput, voorkomt vele problemen in de eerste dagen na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eventueel bespreek je hier het wel-niet direct weghalen van het kalf. Hou focus op voerop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taande koe heeft een lege pens. Het kan maar zo dat dit komt doordat ze voortdurend bij haar kalf blijft en niet vr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oeien in dit hok zijn zeer schoon. Het stro is schoon en droog. Stal oogt zeer open, met dus veel ventil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un je die hele praktische tips kwijt, zoals de koe direct lauw water laten drinken, vruchtwater over het voer, kalf direct weg (nadat-ie biest heeft gehad) in zo’n kalverkruiwagen met twee wieltj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stal kun je ook de arbeidsorganisatie en huisvesting beoordelen. Hoe heeft de boer zijn werk georganiseerd. Waar staat het verlosmateriaal, waar en hoe reinigt hij dit? Waar is de noodvoorraad biest? Verlichting? Hoe gemakkelijk kan hij kalfkoeien afzonderen, melken, behandelen? Idem kalf weghal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lf eraf, biest geven, koe water laten drinken, laten vre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koe heeft zojuist gekalfd. Het dier is alert, actief, staat aan het voerhek. Merk op dat haar pens diep is en redelijk gevuld. Leger wil je de pens niet hebben en leger hoeft de pens niet te worden. Hoe krijg je dit voor elk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ze dia kunt u de opdrachten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deelnemenrs eerst zelf vertellen waar ze op gelet hebben en waarom en wat hun bevindingen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een flip-over of een schoolbord om een en ander groepsgewijs te bespr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 kan de lijst van aandachtpunten doorgenomen worden en worden besp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4400" y="744480"/>
            <a:ext cx="4965840" cy="3724200"/>
          </a:xfrm>
          <a:prstGeom prst="rect">
            <a:avLst/>
          </a:prstGeom>
          <a:ln w="0">
            <a:noFill/>
          </a:ln>
        </p:spPr>
      </p:sp>
      <p:sp>
        <p:nvSpPr>
          <p:cNvPr id="17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e staat voor de overgangsperiode van droogstand naar lactatie. Voor een  goede start van de lactatie is een goede droogstand erg belangrijk. Niet alleen de twee of drie laatste weken van de droogstand maar voor een deel ook het begin van de droogstand. Dieren mogen in deze periode bijvoorbeeld niet vervetten. Om de droogstand goed te beginnen is een goed droogzet management van bel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ijn geheel kan de droogstand in drie perioden worden ingedeeld. (zie figu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gin van de droogstand wordt gekenmerkt door de involutie van het uierweefsel en de resorptie van restmelk. Belangrijk is het om te beseffen dat de keratineprop pas in de tweede week na het droogzeten is volto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verwege de droogstand verkeert het uierweefsel in een fysiologische rust f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im een week voor het afkalven lost de keratineprop weer op en komt de colostrum productie op 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kwartieren zijn het meest kwetsbaar in de perioden waar geen sprake is van een stabiele keratineprop. (Begin en ei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 aanloop naar de transitie periode (3 wk voor tot 3 wk na de partus) is het belangrijk dat de dieren  een goede droogstand periode doormaken. Een goede droogstand periode duurt minimaal 35 dagen. Optimaal is ongeveer 45-50 dagen. Een goede droogstand begint met een juiste methode van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iste tijdstip. Controleer hiervoor de laatse ki datum. Een tekorte droogstand geeft problemen met de droogzetter (wachttijden) en  er is dan ook te weinig tijd voor het uierweefsel om te herstellen van chronische infecties. Bij een te lange droogstand is er soms meer kans op vervetting maar dit is vooral afhankelijk van het rants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er  daarom de laatste KI datum om  de lengte van de droogstand goed in te  kunnen scha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elkproductie mag maximaal 15 liter bedragen maar het is  nog beter als de productie 10 liter of minder is. Krachtvoergift stoppen! Een maand voor droogzetten beginnen met afbouwen krachtvoer gi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grotere bedrijven kan een apartegroep dieren gemaakt worden die  binnenkort drooggezet dienen te worden. Via een aangepast rantsoen kan vervolgens bij deze groep de melkproductie omlaag gebracht wo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droogzetten dient in een keer te gebeuren. Niet eenmaal daags laten melken (=mismalen). Dit mismalen verhoogt de kans op een uierontste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liggen ook vaker de melk uit in de boxen een verhogen zo de infectiedruk. Sub-klinische uierontstekingen worden vaak klinisch bij deze d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bruik het bedrijfsbehandelplan voor het droogzetten. Controleer  het celgetal van de laatste drie melkuitsl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 zoveel mogelijk de stress rondom het droogzetten. Probeer de koeien groepsgewijs droog te zetten. Doe het bekappen een  week voor of na het droogze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akt altijd twee groepen. Far-off groep; structuurrijk laag energetisch randsoen. Geef droogstand minera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up- groep;   ruwvoerrantsoen van de melkkoeien. Minimaal 2 weken van te voren. Controleer ook of deze twee weken altijd worden geha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oede droogstand periode bestaat hoofdzakelijk uit twee delen. Een far-off periode en een close-up periode. Het belangrijkste verschil tussen deze twee perioden bestaat uit de vo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om dienen de droogstaaande dieren in twee groepen te worden gehuisvest. Soms is er in de stal onvoldoende ruimte voor twee groepen droogstaande dieren. De close-up groep kan dan bij de melkgevende dieren gehuisvest worden omdat ze hetzelfde ruwvoer rantsoen kunnen krij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belangrijkste nadeel hierbij is dat de droge koeien ruimte en tijd in nemen bij het mel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ieren in de far-off periode hebben behoefte aan veel structuurrijk ruwvoer met een lage energiedichtheid. Daarnaast is het van belang om droogstand mineralen te vo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close-up groep dient weer veel meer energie op nemen. Het rantsoen van de melkkoeien is hiervoor het beste gesch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de huisvesting van de droge koeien mag niet beknibbeld worden. Die dient schoon, droog, ruim, fris te zijn. Droge koeien liggen (ook) veel dus het ligcomfort moet goed zijn. Een te volle droogstand groep is funest voor de voeropname en het comfort. Er dient  voldoende ruimte te zijn voor enige beweging. Bij weidegang  krijgen de droge koeien veel beweging maar het risico op vervetten (te ruim voeding qua energie) is aanwezig. Een ligweide (comfort) met stalvoedering is misschien beter qua voer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isvesting: ruimte, ventilatie (vaak slecht), licht (vaak wein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2x daags boxen schoon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droge koeien moeten na het droogzetten niet uit het oog worden verloren. Het moet eenvoudig zijn om de droge dieren te controleren. Aan het begin en het einde van de droogstand is controle op mastitis  belangrij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4400" y="744480"/>
            <a:ext cx="4965840" cy="3724200"/>
          </a:xfrm>
          <a:prstGeom prst="rect">
            <a:avLst/>
          </a:prstGeom>
          <a:ln w="0">
            <a:noFill/>
          </a:ln>
        </p:spPr>
      </p:sp>
      <p:sp>
        <p:nvSpPr>
          <p:cNvPr id="1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gaan we het hebben over de transitie periode. De weerstand staat in deze periode al gauw onder dr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 van de transitieperiode is mogelijk en ook  wens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epunten: voer  en water opname rond afklaven. % stofwisselingsiekten. Pensvulling, conditieverloop ect 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t later in deze presentatie nog aan de or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een belangrijke rede waarom de weerstand tijdens de transitie minde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iguur toont de veranderingen in de effectivitieit van neutrophielen rondom het afkalven. Van 1 dag voor tot 3 dagen na het afklaven is onder invloed van hormonale veranderingen (gepaard met een verminderde drogestof opname) de “killing capacity” van deze witte bloedcellen sterk verminderd. De weerstand van de dieren is hierdoor verlaag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mastitis incidentie op een bedrijf aan te pakken is het absoluut noodzakelijk te focussen op de transitie periode en het begin van de lactatie. Deze figuur toont dat de meeste klinische mastitis piekt rondom het afkal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jd-as in w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gevolg van verminderde weerst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ke factoren zorgen nu voor die weerstand daling in de transitie peri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eding en stress vormen hierbij een centrale 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 de negatieve energie balans, een  (relatief) tekort aan  vit. en mineralen en ziekten (vooral stofwisselingsziekten) staat de weerstand van de koe onder dr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ren met stress eten minder goed en hebben een hogere cortisol spiegel met als gevolg een verlaagde we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63263-6EC6-4F51-9A5C-02CE38863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662E-2387-4C34-AFA2-625BEA05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C2A9E-663E-40E9-BBC0-07505500F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E0DA6-D999-45B3-A47F-6785C70AC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0145-9756-4097-9B7D-1333D4BA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6035F-371D-4EF5-8F5C-0E2AD815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3EB48-873D-42F2-AEBB-56422A09D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60E3-3B5B-49BD-8273-5AE31FCB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02F6C-95F5-497A-AEBA-58378C0DE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633E-4DD1-4ADA-9332-4C8F05F8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C3FE-29E1-4543-9CF3-547F187EE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C587-9EA5-4A10-82DD-A4E97E80C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34FB-67A8-4FE8-AABB-EB5F47037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2.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4760"/>
          </a:xfrm>
          <a:prstGeom prst="rect">
            <a:avLst/>
          </a:prstGeom>
          <a:ln w="0">
            <a:noFill/>
          </a:ln>
        </p:spPr>
      </p:pic>
      <p:sp>
        <p:nvSpPr>
          <p:cNvPr id="49" name=""/>
          <p:cNvSpPr/>
          <p:nvPr/>
        </p:nvSpPr>
        <p:spPr>
          <a:xfrm>
            <a:off x="2050920" y="2133720"/>
            <a:ext cx="676908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erstand en transiti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renartsenpraktij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4760"/>
          </a:xfrm>
          <a:prstGeom prst="rect">
            <a:avLst/>
          </a:prstGeom>
          <a:ln w="0">
            <a:noFill/>
          </a:ln>
        </p:spPr>
      </p:pic>
      <p:sp>
        <p:nvSpPr>
          <p:cNvPr id="85" name=""/>
          <p:cNvSpPr/>
          <p:nvPr/>
        </p:nvSpPr>
        <p:spPr>
          <a:xfrm>
            <a:off x="0" y="1125360"/>
            <a:ext cx="212400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86" name=""/>
          <p:cNvSpPr/>
          <p:nvPr/>
        </p:nvSpPr>
        <p:spPr>
          <a:xfrm>
            <a:off x="2411280" y="162000"/>
            <a:ext cx="49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eve energie balans</a:t>
            </a:r>
            <a:endParaRPr b="0" lang="en-US" sz="2800" spc="-1" strike="noStrike">
              <a:solidFill>
                <a:srgbClr val="000000"/>
              </a:solidFill>
              <a:latin typeface="Arial"/>
            </a:endParaRPr>
          </a:p>
        </p:txBody>
      </p:sp>
      <p:pic>
        <p:nvPicPr>
          <p:cNvPr id="87" name="" descr=""/>
          <p:cNvPicPr/>
          <p:nvPr/>
        </p:nvPicPr>
        <p:blipFill>
          <a:blip r:embed="rId2"/>
          <a:stretch/>
        </p:blipFill>
        <p:spPr>
          <a:xfrm>
            <a:off x="1763640" y="981000"/>
            <a:ext cx="7020000" cy="55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7404120"/>
          </a:xfrm>
          <a:prstGeom prst="rect">
            <a:avLst/>
          </a:prstGeom>
          <a:ln w="0">
            <a:noFill/>
          </a:ln>
        </p:spPr>
      </p:pic>
      <p:sp>
        <p:nvSpPr>
          <p:cNvPr id="89" name=""/>
          <p:cNvSpPr/>
          <p:nvPr/>
        </p:nvSpPr>
        <p:spPr>
          <a:xfrm>
            <a:off x="0" y="112536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0" name=""/>
          <p:cNvSpPr/>
          <p:nvPr/>
        </p:nvSpPr>
        <p:spPr>
          <a:xfrm>
            <a:off x="1908000" y="1125360"/>
            <a:ext cx="72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 door verlaging droge stof opn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teiging NEFA’s </a:t>
            </a:r>
            <a:r>
              <a:rPr b="0" lang="en-US" sz="2000" spc="-1" strike="noStrike">
                <a:solidFill>
                  <a:srgbClr val="000000"/>
                </a:solidFill>
                <a:latin typeface="Wingdings"/>
                <a:ea typeface="Wingdings"/>
              </a:rPr>
              <a:t></a:t>
            </a:r>
            <a:r>
              <a:rPr b="0" lang="en-US" sz="2000" spc="-1" strike="noStrike">
                <a:solidFill>
                  <a:srgbClr val="000000"/>
                </a:solidFill>
                <a:latin typeface="Arial"/>
              </a:rPr>
              <a:t> Leververvetting</a:t>
            </a:r>
            <a:endParaRPr b="0" lang="en-US" sz="2000" spc="-1" strike="noStrike">
              <a:solidFill>
                <a:srgbClr val="000000"/>
              </a:solidFill>
              <a:latin typeface="Arial"/>
            </a:endParaRPr>
          </a:p>
        </p:txBody>
      </p:sp>
      <p:sp>
        <p:nvSpPr>
          <p:cNvPr id="91" name=""/>
          <p:cNvSpPr/>
          <p:nvPr/>
        </p:nvSpPr>
        <p:spPr>
          <a:xfrm>
            <a:off x="1979640" y="5516640"/>
            <a:ext cx="69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et (subklinische) ket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klinische mastitis</a:t>
            </a:r>
            <a:endParaRPr b="0" lang="en-US" sz="20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eer kans verhoogd celgetal</a:t>
            </a:r>
            <a:endParaRPr b="0" lang="en-US" sz="2000" spc="-1" strike="noStrike">
              <a:solidFill>
                <a:srgbClr val="000000"/>
              </a:solidFill>
              <a:latin typeface="Arial"/>
            </a:endParaRPr>
          </a:p>
        </p:txBody>
      </p:sp>
      <p:pic>
        <p:nvPicPr>
          <p:cNvPr id="92" name="" descr=""/>
          <p:cNvPicPr/>
          <p:nvPr/>
        </p:nvPicPr>
        <p:blipFill>
          <a:blip r:embed="rId2"/>
          <a:stretch/>
        </p:blipFill>
        <p:spPr>
          <a:xfrm>
            <a:off x="2340000" y="2492280"/>
            <a:ext cx="446724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29360"/>
          </a:xfrm>
          <a:prstGeom prst="rect">
            <a:avLst/>
          </a:prstGeom>
          <a:ln w="0">
            <a:noFill/>
          </a:ln>
        </p:spPr>
      </p:pic>
      <p:graphicFrame>
        <p:nvGraphicFramePr>
          <p:cNvPr id="94" name=""/>
          <p:cNvGraphicFramePr/>
          <p:nvPr/>
        </p:nvGraphicFramePr>
        <p:xfrm>
          <a:off x="1979640" y="2205000"/>
          <a:ext cx="6985080" cy="4653000"/>
        </p:xfrm>
        <a:graphic>
          <a:graphicData uri="http://schemas.openxmlformats.org/presentationml/2006/ole">
            <p:oleObj progId="Excel.Sheet.12" r:id="rId2" spid="">
              <p:embed/>
              <p:pic>
                <p:nvPicPr>
                  <p:cNvPr id="95" name="" descr=""/>
                  <p:cNvPicPr/>
                  <p:nvPr/>
                </p:nvPicPr>
                <p:blipFill>
                  <a:blip r:embed="rId3"/>
                  <a:stretch/>
                </p:blipFill>
                <p:spPr>
                  <a:xfrm>
                    <a:off x="1979640" y="2205000"/>
                    <a:ext cx="6985080" cy="4653000"/>
                  </a:xfrm>
                  <a:prstGeom prst="rect">
                    <a:avLst/>
                  </a:prstGeom>
                  <a:ln w="0">
                    <a:noFill/>
                  </a:ln>
                </p:spPr>
              </p:pic>
            </p:oleObj>
          </a:graphicData>
        </a:graphic>
      </p:graphicFrame>
      <p:sp>
        <p:nvSpPr>
          <p:cNvPr id="96" name=""/>
          <p:cNvSpPr/>
          <p:nvPr/>
        </p:nvSpPr>
        <p:spPr>
          <a:xfrm>
            <a:off x="0" y="137484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97" name=""/>
          <p:cNvSpPr/>
          <p:nvPr/>
        </p:nvSpPr>
        <p:spPr>
          <a:xfrm>
            <a:off x="2259360" y="210960"/>
            <a:ext cx="45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kort essentiële voedingstoffen</a:t>
            </a:r>
            <a:endParaRPr b="0" lang="en-US" sz="2400" spc="-1" strike="noStrike">
              <a:solidFill>
                <a:srgbClr val="000000"/>
              </a:solidFill>
              <a:latin typeface="Arial"/>
            </a:endParaRPr>
          </a:p>
        </p:txBody>
      </p:sp>
      <p:sp>
        <p:nvSpPr>
          <p:cNvPr id="98" name=""/>
          <p:cNvSpPr/>
          <p:nvPr/>
        </p:nvSpPr>
        <p:spPr>
          <a:xfrm>
            <a:off x="2463840" y="10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9" name=""/>
          <p:cNvSpPr/>
          <p:nvPr/>
        </p:nvSpPr>
        <p:spPr>
          <a:xfrm>
            <a:off x="1994760" y="1270080"/>
            <a:ext cx="4699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nium, zink, koper, vitamine 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tekort door start melkproduct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4760"/>
          </a:xfrm>
          <a:prstGeom prst="rect">
            <a:avLst/>
          </a:prstGeom>
          <a:ln w="0">
            <a:noFill/>
          </a:ln>
        </p:spPr>
      </p:pic>
      <p:sp>
        <p:nvSpPr>
          <p:cNvPr id="101" name=""/>
          <p:cNvSpPr/>
          <p:nvPr/>
        </p:nvSpPr>
        <p:spPr>
          <a:xfrm>
            <a:off x="2519280" y="5241960"/>
            <a:ext cx="6624720" cy="396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2627280" y="260280"/>
            <a:ext cx="554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fwisselingsziekten &amp; voe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0" y="1374840"/>
            <a:ext cx="190800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2176560" y="1146240"/>
            <a:ext cx="6967440" cy="457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enbalans in droogstan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voorziening rond afkalve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pende melkziek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energie opname (prim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voldoende vreten (secundaire ket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vette dieren hebben meer ris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vervett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rijk in begin droogstand (far-off, verv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 energiearm voor afkalven (close-up, afbouw reserv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4760"/>
          </a:xfrm>
          <a:prstGeom prst="rect">
            <a:avLst/>
          </a:prstGeom>
          <a:ln w="0">
            <a:noFill/>
          </a:ln>
        </p:spPr>
      </p:pic>
      <p:sp>
        <p:nvSpPr>
          <p:cNvPr id="106" name=""/>
          <p:cNvSpPr/>
          <p:nvPr/>
        </p:nvSpPr>
        <p:spPr>
          <a:xfrm>
            <a:off x="0" y="1052640"/>
            <a:ext cx="1908000" cy="502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7" name=""/>
          <p:cNvGraphicFramePr/>
          <p:nvPr/>
        </p:nvGraphicFramePr>
        <p:xfrm>
          <a:off x="1476360" y="1628640"/>
          <a:ext cx="7488360" cy="4248360"/>
        </p:xfrm>
        <a:graphic>
          <a:graphicData uri="http://schemas.openxmlformats.org/presentationml/2006/ole">
            <p:oleObj r:id="rId2" spid="">
              <p:embed/>
              <p:pic>
                <p:nvPicPr>
                  <p:cNvPr id="108" name="" descr=""/>
                  <p:cNvPicPr/>
                  <p:nvPr/>
                </p:nvPicPr>
                <p:blipFill>
                  <a:blip r:embed="rId3"/>
                  <a:stretch/>
                </p:blipFill>
                <p:spPr>
                  <a:xfrm>
                    <a:off x="1476360" y="1628640"/>
                    <a:ext cx="7488360" cy="4248360"/>
                  </a:xfrm>
                  <a:prstGeom prst="rect">
                    <a:avLst/>
                  </a:prstGeom>
                  <a:ln w="0">
                    <a:noFill/>
                  </a:ln>
                </p:spPr>
              </p:pic>
            </p:oleObj>
          </a:graphicData>
        </a:graphic>
      </p:graphicFrame>
      <p:sp>
        <p:nvSpPr>
          <p:cNvPr id="109" name=""/>
          <p:cNvSpPr/>
          <p:nvPr/>
        </p:nvSpPr>
        <p:spPr>
          <a:xfrm>
            <a:off x="3924360" y="1596240"/>
            <a:ext cx="4824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ge stof opname rond het afkalve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0" name=""/>
          <p:cNvSpPr/>
          <p:nvPr/>
        </p:nvSpPr>
        <p:spPr>
          <a:xfrm>
            <a:off x="2050920" y="35388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calcium tekort op drogestof op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4760"/>
          </a:xfrm>
          <a:prstGeom prst="rect">
            <a:avLst/>
          </a:prstGeom>
          <a:ln w="0">
            <a:noFill/>
          </a:ln>
        </p:spPr>
      </p:pic>
      <p:sp>
        <p:nvSpPr>
          <p:cNvPr id="112" name=""/>
          <p:cNvSpPr/>
          <p:nvPr/>
        </p:nvSpPr>
        <p:spPr>
          <a:xfrm>
            <a:off x="0" y="1125360"/>
            <a:ext cx="1908000" cy="551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1908000" y="33336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factoren tijdens afkalfperiode</a:t>
            </a:r>
            <a:endParaRPr b="0" lang="en-US" sz="2800" spc="-1" strike="noStrike">
              <a:solidFill>
                <a:srgbClr val="000000"/>
              </a:solidFill>
              <a:latin typeface="Arial"/>
            </a:endParaRPr>
          </a:p>
        </p:txBody>
      </p:sp>
      <p:sp>
        <p:nvSpPr>
          <p:cNvPr id="114" name=""/>
          <p:cNvSpPr/>
          <p:nvPr/>
        </p:nvSpPr>
        <p:spPr>
          <a:xfrm>
            <a:off x="1908000" y="1125360"/>
            <a:ext cx="7236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cheiden afkalfruimte ruim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tsoen verande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lf niet direct weggehaal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bezetting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e van vaars in melkveekoppe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
          <p:cNvPicPr/>
          <p:nvPr/>
        </p:nvPicPr>
        <p:blipFill>
          <a:blip r:embed="rId2"/>
          <a:stretch/>
        </p:blipFill>
        <p:spPr>
          <a:xfrm>
            <a:off x="2411280" y="2852640"/>
            <a:ext cx="5505480" cy="37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4760"/>
          </a:xfrm>
          <a:prstGeom prst="rect">
            <a:avLst/>
          </a:prstGeom>
          <a:ln w="0">
            <a:noFill/>
          </a:ln>
        </p:spPr>
      </p:pic>
      <p:sp>
        <p:nvSpPr>
          <p:cNvPr id="117" name=""/>
          <p:cNvSpPr/>
          <p:nvPr/>
        </p:nvSpPr>
        <p:spPr>
          <a:xfrm>
            <a:off x="0" y="1052640"/>
            <a:ext cx="1908000" cy="563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835280" y="333360"/>
            <a:ext cx="8281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400" spc="-1" strike="noStrike">
                <a:solidFill>
                  <a:srgbClr val="000000"/>
                </a:solidFill>
                <a:latin typeface="Arial"/>
              </a:rPr>
              <a:t>Doelen transitiemanagement!</a:t>
            </a:r>
            <a:endParaRPr b="0" lang="en-US" sz="2400" spc="-1" strike="noStrike">
              <a:solidFill>
                <a:srgbClr val="000000"/>
              </a:solidFill>
              <a:latin typeface="Arial"/>
            </a:endParaRPr>
          </a:p>
        </p:txBody>
      </p:sp>
      <p:sp>
        <p:nvSpPr>
          <p:cNvPr id="119" name=""/>
          <p:cNvSpPr/>
          <p:nvPr/>
        </p:nvSpPr>
        <p:spPr>
          <a:xfrm>
            <a:off x="1908000" y="1125360"/>
            <a:ext cx="676764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l melk met goede gehal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ziekte: &lt; 10%</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pende melkziekte: &lt; 5%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itis eerste maand: &lt; 10%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bmaagdraaiing: &lt; 3%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 de nageboorte staan: &lt; 10 %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ing conditiescore: &lt; 1 pu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pensvuling, geen pensverzur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4760"/>
          </a:xfrm>
          <a:prstGeom prst="rect">
            <a:avLst/>
          </a:prstGeom>
          <a:ln w="0">
            <a:noFill/>
          </a:ln>
        </p:spPr>
      </p:pic>
      <p:sp>
        <p:nvSpPr>
          <p:cNvPr id="121" name=""/>
          <p:cNvSpPr/>
          <p:nvPr/>
        </p:nvSpPr>
        <p:spPr>
          <a:xfrm>
            <a:off x="0" y="1125360"/>
            <a:ext cx="1979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122" name=""/>
          <p:cNvSpPr/>
          <p:nvPr/>
        </p:nvSpPr>
        <p:spPr>
          <a:xfrm>
            <a:off x="3059280" y="4365720"/>
            <a:ext cx="5257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x daags vers vo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ogstandmineral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is bereken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op vers water beschikbaa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2752560" y="20808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en in droogstand; far-off</a:t>
            </a:r>
            <a:endParaRPr b="0" lang="en-US" sz="2400" spc="-1" strike="noStrike">
              <a:solidFill>
                <a:srgbClr val="000000"/>
              </a:solidFill>
              <a:latin typeface="Arial"/>
            </a:endParaRPr>
          </a:p>
        </p:txBody>
      </p:sp>
      <p:pic>
        <p:nvPicPr>
          <p:cNvPr id="124" name="" descr=""/>
          <p:cNvPicPr/>
          <p:nvPr/>
        </p:nvPicPr>
        <p:blipFill>
          <a:blip r:embed="rId2"/>
          <a:stretch/>
        </p:blipFill>
        <p:spPr>
          <a:xfrm>
            <a:off x="2340000" y="1052640"/>
            <a:ext cx="5400720" cy="331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4760"/>
          </a:xfrm>
          <a:prstGeom prst="rect">
            <a:avLst/>
          </a:prstGeom>
          <a:ln w="0">
            <a:noFill/>
          </a:ln>
        </p:spPr>
      </p:pic>
      <p:sp>
        <p:nvSpPr>
          <p:cNvPr id="126" name=""/>
          <p:cNvSpPr/>
          <p:nvPr/>
        </p:nvSpPr>
        <p:spPr>
          <a:xfrm>
            <a:off x="0" y="1052640"/>
            <a:ext cx="2050920" cy="59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oels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1898280" y="341280"/>
            <a:ext cx="50317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oeren in transitie periode: close-up !</a:t>
            </a:r>
            <a:endParaRPr b="0" lang="en-US" sz="2300" spc="-1" strike="noStrike">
              <a:solidFill>
                <a:srgbClr val="000000"/>
              </a:solidFill>
              <a:latin typeface="Arial"/>
            </a:endParaRPr>
          </a:p>
        </p:txBody>
      </p:sp>
      <p:sp>
        <p:nvSpPr>
          <p:cNvPr id="128" name=""/>
          <p:cNvSpPr/>
          <p:nvPr/>
        </p:nvSpPr>
        <p:spPr>
          <a:xfrm>
            <a:off x="1908000" y="1121760"/>
            <a:ext cx="6842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1979640" y="1052640"/>
            <a:ext cx="183960" cy="336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1979640" y="981000"/>
            <a:ext cx="7164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tsoen 2-3 weken voor afkalv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vat hetzelfde ruwvoer als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gere energiedichtheid, eiwit en essentiële  voedingstoffe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al 2 kg krachtvoe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ge kation-anionbalan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ijd volop, smakelijk en vers vo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eer restvo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moeten niet kunnen selectere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beperkt, schoon wa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eidelijke voerovergang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30">
                                            <p:txEl>
                                              <p:pRg st="8" end="8"/>
                                            </p:txEl>
                                          </p:spTgt>
                                        </p:tgtEl>
                                        <p:attrNameLst>
                                          <p:attrName>style.visibility</p:attrName>
                                        </p:attrNameLst>
                                      </p:cBhvr>
                                      <p:to>
                                        <p:strVal val="visible"/>
                                      </p:to>
                                    </p:set>
                                    <p:anim calcmode="lin" valueType="num">
                                      <p:cBhvr additive="base">
                                        <p:cTn id="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0">
                                            <p:txEl>
                                              <p:pRg st="9" end="9"/>
                                            </p:txEl>
                                          </p:spTgt>
                                        </p:tgtEl>
                                        <p:attrNameLst>
                                          <p:attrName>style.visibility</p:attrName>
                                        </p:attrNameLst>
                                      </p:cBhvr>
                                      <p:to>
                                        <p:strVal val="visible"/>
                                      </p:to>
                                    </p:set>
                                    <p:anim calcmode="lin" valueType="num">
                                      <p:cBhvr additive="base">
                                        <p:cTn id="1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1" end="11"/>
                                            </p:txEl>
                                          </p:spTgt>
                                        </p:tgtEl>
                                        <p:attrNameLst>
                                          <p:attrName>style.visibility</p:attrName>
                                        </p:attrNameLst>
                                      </p:cBhvr>
                                      <p:to>
                                        <p:strVal val="visible"/>
                                      </p:to>
                                    </p:set>
                                    <p:anim calcmode="lin" valueType="num">
                                      <p:cBhvr additive="base">
                                        <p:cTn id="15"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0">
                                            <p:txEl>
                                              <p:pRg st="13" end="13"/>
                                            </p:txEl>
                                          </p:spTgt>
                                        </p:tgtEl>
                                        <p:attrNameLst>
                                          <p:attrName>style.visibility</p:attrName>
                                        </p:attrNameLst>
                                      </p:cBhvr>
                                      <p:to>
                                        <p:strVal val="visible"/>
                                      </p:to>
                                    </p:set>
                                    <p:anim calcmode="lin" valueType="num">
                                      <p:cBhvr additive="base">
                                        <p:cTn id="19"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3" end="1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30">
                                            <p:txEl>
                                              <p:pRg st="15" end="15"/>
                                            </p:txEl>
                                          </p:spTgt>
                                        </p:tgtEl>
                                        <p:attrNameLst>
                                          <p:attrName>style.visibility</p:attrName>
                                        </p:attrNameLst>
                                      </p:cBhvr>
                                      <p:to>
                                        <p:strVal val="visible"/>
                                      </p:to>
                                    </p:set>
                                    <p:anim calcmode="lin" valueType="num">
                                      <p:cBhvr additive="base">
                                        <p:cTn id="23" dur="500" fill="hold"/>
                                        <p:tgtEl>
                                          <p:spTgt spid="130">
                                            <p:txEl>
                                              <p:pRg st="15" end="15"/>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30">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4760"/>
          </a:xfrm>
          <a:prstGeom prst="rect">
            <a:avLst/>
          </a:prstGeom>
          <a:ln w="0">
            <a:noFill/>
          </a:ln>
        </p:spPr>
      </p:pic>
      <p:pic>
        <p:nvPicPr>
          <p:cNvPr id="132" name="" descr=""/>
          <p:cNvPicPr/>
          <p:nvPr/>
        </p:nvPicPr>
        <p:blipFill>
          <a:blip r:embed="rId2"/>
          <a:stretch/>
        </p:blipFill>
        <p:spPr>
          <a:xfrm>
            <a:off x="1908000" y="1268280"/>
            <a:ext cx="6048720" cy="3313080"/>
          </a:xfrm>
          <a:prstGeom prst="rect">
            <a:avLst/>
          </a:prstGeom>
          <a:ln w="0">
            <a:noFill/>
          </a:ln>
        </p:spPr>
      </p:pic>
      <p:sp>
        <p:nvSpPr>
          <p:cNvPr id="133" name=""/>
          <p:cNvSpPr/>
          <p:nvPr/>
        </p:nvSpPr>
        <p:spPr>
          <a:xfrm>
            <a:off x="2484360" y="119700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21</a:t>
            </a:r>
            <a:endParaRPr b="0" lang="en-US" sz="1800" spc="-1" strike="noStrike">
              <a:solidFill>
                <a:srgbClr val="000000"/>
              </a:solidFill>
              <a:latin typeface="Arial"/>
            </a:endParaRPr>
          </a:p>
        </p:txBody>
      </p:sp>
      <p:sp>
        <p:nvSpPr>
          <p:cNvPr id="134" name=""/>
          <p:cNvSpPr/>
          <p:nvPr/>
        </p:nvSpPr>
        <p:spPr>
          <a:xfrm>
            <a:off x="5867280" y="436572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ge stof opname dag 1</a:t>
            </a:r>
            <a:endParaRPr b="0" lang="en-US" sz="1800" spc="-1" strike="noStrike">
              <a:solidFill>
                <a:srgbClr val="000000"/>
              </a:solidFill>
              <a:latin typeface="Arial"/>
            </a:endParaRPr>
          </a:p>
        </p:txBody>
      </p:sp>
      <p:sp>
        <p:nvSpPr>
          <p:cNvPr id="135" name=""/>
          <p:cNvSpPr/>
          <p:nvPr/>
        </p:nvSpPr>
        <p:spPr>
          <a:xfrm>
            <a:off x="2247840" y="5013360"/>
            <a:ext cx="2714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908000" y="5300640"/>
            <a:ext cx="7236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p bij afkalven moet kort duren en klein zij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voeropname dient de hele close-up hoog te blijven</a:t>
            </a:r>
            <a:endParaRPr b="0" lang="en-US" sz="2000" spc="-1" strike="noStrike">
              <a:solidFill>
                <a:srgbClr val="000000"/>
              </a:solidFill>
              <a:latin typeface="Arial"/>
            </a:endParaRPr>
          </a:p>
        </p:txBody>
      </p:sp>
      <p:sp>
        <p:nvSpPr>
          <p:cNvPr id="137" name=""/>
          <p:cNvSpPr/>
          <p:nvPr/>
        </p:nvSpPr>
        <p:spPr>
          <a:xfrm>
            <a:off x="3040920" y="108000"/>
            <a:ext cx="25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eten moet!</a:t>
            </a:r>
            <a:endParaRPr b="0" lang="en-US" sz="3200" spc="-1" strike="noStrike">
              <a:solidFill>
                <a:srgbClr val="000000"/>
              </a:solidFill>
              <a:latin typeface="Arial"/>
            </a:endParaRPr>
          </a:p>
        </p:txBody>
      </p:sp>
      <p:sp>
        <p:nvSpPr>
          <p:cNvPr id="138" name=""/>
          <p:cNvSpPr/>
          <p:nvPr/>
        </p:nvSpPr>
        <p:spPr>
          <a:xfrm>
            <a:off x="0" y="1125360"/>
            <a:ext cx="2050920" cy="50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4760"/>
          </a:xfrm>
          <a:prstGeom prst="rect">
            <a:avLst/>
          </a:prstGeom>
          <a:ln w="0">
            <a:noFill/>
          </a:ln>
        </p:spPr>
      </p:pic>
      <p:sp>
        <p:nvSpPr>
          <p:cNvPr id="51" name=""/>
          <p:cNvSpPr/>
          <p:nvPr/>
        </p:nvSpPr>
        <p:spPr>
          <a:xfrm>
            <a:off x="3496680" y="133200"/>
            <a:ext cx="3169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ze middag</a:t>
            </a:r>
            <a:endParaRPr b="0" lang="en-US" sz="4000" spc="-1" strike="noStrike">
              <a:solidFill>
                <a:srgbClr val="000000"/>
              </a:solidFill>
              <a:latin typeface="Arial"/>
            </a:endParaRPr>
          </a:p>
        </p:txBody>
      </p:sp>
      <p:sp>
        <p:nvSpPr>
          <p:cNvPr id="52" name=""/>
          <p:cNvSpPr/>
          <p:nvPr/>
        </p:nvSpPr>
        <p:spPr>
          <a:xfrm>
            <a:off x="2286000" y="1268280"/>
            <a:ext cx="6246720" cy="411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 droogzet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latie weerstand &amp; transitie en uiergezondhei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Wat is een goede transit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Controlepunten transi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0" y="1413000"/>
            <a:ext cx="212400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4760"/>
          </a:xfrm>
          <a:prstGeom prst="rect">
            <a:avLst/>
          </a:prstGeom>
          <a:ln w="0">
            <a:noFill/>
          </a:ln>
        </p:spPr>
      </p:pic>
      <p:sp>
        <p:nvSpPr>
          <p:cNvPr id="140"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1979640" y="189000"/>
            <a:ext cx="691344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epunten rantsoen &amp; voeropname </a:t>
            </a:r>
            <a:endParaRPr b="0" lang="en-US" sz="2300" spc="-1" strike="noStrike">
              <a:solidFill>
                <a:srgbClr val="000000"/>
              </a:solidFill>
              <a:latin typeface="Arial"/>
            </a:endParaRPr>
          </a:p>
        </p:txBody>
      </p:sp>
      <p:sp>
        <p:nvSpPr>
          <p:cNvPr id="142" name=""/>
          <p:cNvSpPr/>
          <p:nvPr/>
        </p:nvSpPr>
        <p:spPr>
          <a:xfrm>
            <a:off x="1908000" y="1052640"/>
            <a:ext cx="7236000" cy="6251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vull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tsamenstell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e moment; droogzetten, rond afkalven, 40 dagen na afkalv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en vervett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ing conditie score &lt; 1 pun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selec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stofwisselingsproblemen rondom en na afkalv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lkziekte, slepende melkziek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ntal overige aandoeningen rondom  en na afkal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titis, witvuilen, aan de nageboorte sta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kproductie en gehal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0" y="981000"/>
            <a:ext cx="190800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3240"/>
            <a:ext cx="9144000" cy="6854760"/>
          </a:xfrm>
          <a:prstGeom prst="rect">
            <a:avLst/>
          </a:prstGeom>
          <a:ln w="0">
            <a:noFill/>
          </a:ln>
        </p:spPr>
      </p:pic>
      <p:sp>
        <p:nvSpPr>
          <p:cNvPr id="145" name=""/>
          <p:cNvSpPr/>
          <p:nvPr/>
        </p:nvSpPr>
        <p:spPr>
          <a:xfrm>
            <a:off x="0" y="1374840"/>
            <a:ext cx="19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2050920" y="189000"/>
            <a:ext cx="669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dom afkalven</a:t>
            </a:r>
            <a:endParaRPr b="0" lang="en-US" sz="2800" spc="-1" strike="noStrike">
              <a:solidFill>
                <a:srgbClr val="000000"/>
              </a:solidFill>
              <a:latin typeface="Arial"/>
            </a:endParaRPr>
          </a:p>
        </p:txBody>
      </p:sp>
      <p:sp>
        <p:nvSpPr>
          <p:cNvPr id="147" name=""/>
          <p:cNvSpPr/>
          <p:nvPr/>
        </p:nvSpPr>
        <p:spPr>
          <a:xfrm>
            <a:off x="1908000" y="1125360"/>
            <a:ext cx="7236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2103480" y="5373720"/>
            <a:ext cx="131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2327760" y="5248440"/>
            <a:ext cx="6771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ne, droge en goed geventileerde omgev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ok na afklaven goed vreten en drinken</a:t>
            </a:r>
            <a:endParaRPr b="0" lang="en-US" sz="2400" spc="-1" strike="noStrike">
              <a:solidFill>
                <a:srgbClr val="000000"/>
              </a:solidFill>
              <a:latin typeface="Arial"/>
            </a:endParaRPr>
          </a:p>
        </p:txBody>
      </p:sp>
      <p:sp>
        <p:nvSpPr>
          <p:cNvPr id="150" name=""/>
          <p:cNvSpPr/>
          <p:nvPr/>
        </p:nvSpPr>
        <p:spPr>
          <a:xfrm>
            <a:off x="0" y="981000"/>
            <a:ext cx="1979640" cy="45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151" name="" descr=""/>
          <p:cNvPicPr/>
          <p:nvPr/>
        </p:nvPicPr>
        <p:blipFill>
          <a:blip r:embed="rId2"/>
          <a:stretch/>
        </p:blipFill>
        <p:spPr>
          <a:xfrm>
            <a:off x="3059280" y="1341360"/>
            <a:ext cx="482904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3240"/>
            <a:ext cx="9144000" cy="6854760"/>
          </a:xfrm>
          <a:prstGeom prst="rect">
            <a:avLst/>
          </a:prstGeom>
          <a:ln w="0">
            <a:noFill/>
          </a:ln>
        </p:spPr>
      </p:pic>
      <p:sp>
        <p:nvSpPr>
          <p:cNvPr id="153" name=""/>
          <p:cNvSpPr/>
          <p:nvPr/>
        </p:nvSpPr>
        <p:spPr>
          <a:xfrm>
            <a:off x="0" y="1052640"/>
            <a:ext cx="1908000" cy="582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
          <p:cNvSpPr/>
          <p:nvPr/>
        </p:nvSpPr>
        <p:spPr>
          <a:xfrm>
            <a:off x="1908000" y="260280"/>
            <a:ext cx="828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punten rondom afkalven</a:t>
            </a:r>
            <a:endParaRPr b="0" lang="en-US" sz="3200" spc="-1" strike="noStrike">
              <a:solidFill>
                <a:srgbClr val="000000"/>
              </a:solidFill>
              <a:latin typeface="Arial"/>
            </a:endParaRPr>
          </a:p>
        </p:txBody>
      </p:sp>
      <p:sp>
        <p:nvSpPr>
          <p:cNvPr id="155" name=""/>
          <p:cNvSpPr/>
          <p:nvPr/>
        </p:nvSpPr>
        <p:spPr>
          <a:xfrm>
            <a:off x="1908000" y="1125360"/>
            <a:ext cx="69850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ropname &amp; waterop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eit, alertheid, temperatuur,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proc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vuiling/hygië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omen nageboor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edwaarden m.b.t. energievoorziening, minera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2340000" y="5973840"/>
            <a:ext cx="165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ze koe heef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zojuist gekalfd</a:t>
            </a:r>
            <a:endParaRPr b="0" lang="en-US" sz="1600" spc="-1" strike="noStrike">
              <a:solidFill>
                <a:srgbClr val="000000"/>
              </a:solidFill>
              <a:latin typeface="Arial"/>
            </a:endParaRPr>
          </a:p>
        </p:txBody>
      </p:sp>
      <p:pic>
        <p:nvPicPr>
          <p:cNvPr id="157" name="" descr=""/>
          <p:cNvPicPr/>
          <p:nvPr/>
        </p:nvPicPr>
        <p:blipFill>
          <a:blip r:embed="rId2"/>
          <a:stretch/>
        </p:blipFill>
        <p:spPr>
          <a:xfrm>
            <a:off x="3851280" y="3068640"/>
            <a:ext cx="488628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0005840" cy="6854760"/>
          </a:xfrm>
          <a:prstGeom prst="rect">
            <a:avLst/>
          </a:prstGeom>
          <a:ln w="0">
            <a:noFill/>
          </a:ln>
        </p:spPr>
      </p:pic>
      <p:sp>
        <p:nvSpPr>
          <p:cNvPr id="159" name=""/>
          <p:cNvSpPr/>
          <p:nvPr/>
        </p:nvSpPr>
        <p:spPr>
          <a:xfrm>
            <a:off x="2411280" y="26028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1:</a:t>
            </a:r>
            <a:r>
              <a:rPr b="0" lang="en-US" sz="2800" spc="-1" strike="noStrike">
                <a:solidFill>
                  <a:srgbClr val="000000"/>
                </a:solidFill>
                <a:latin typeface="Arial"/>
              </a:rPr>
              <a:t>   Droogstand &amp; Afkalven</a:t>
            </a:r>
            <a:endParaRPr b="0" lang="en-US" sz="2800" spc="-1" strike="noStrike">
              <a:solidFill>
                <a:srgbClr val="000000"/>
              </a:solidFill>
              <a:latin typeface="Arial"/>
            </a:endParaRPr>
          </a:p>
        </p:txBody>
      </p:sp>
      <p:sp>
        <p:nvSpPr>
          <p:cNvPr id="160" name=""/>
          <p:cNvSpPr/>
          <p:nvPr/>
        </p:nvSpPr>
        <p:spPr>
          <a:xfrm>
            <a:off x="2124000" y="1413000"/>
            <a:ext cx="7272360" cy="3934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ogstand management &amp; 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zondheid droge koeien en kalfkoeie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kalfruimte (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inding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0" y="981000"/>
            <a:ext cx="205092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4760"/>
          </a:xfrm>
          <a:prstGeom prst="rect">
            <a:avLst/>
          </a:prstGeom>
          <a:ln w="0">
            <a:noFill/>
          </a:ln>
        </p:spPr>
      </p:pic>
      <p:sp>
        <p:nvSpPr>
          <p:cNvPr id="163" name=""/>
          <p:cNvSpPr/>
          <p:nvPr/>
        </p:nvSpPr>
        <p:spPr>
          <a:xfrm>
            <a:off x="2532240" y="2286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dracht 2:</a:t>
            </a:r>
            <a:r>
              <a:rPr b="0" lang="en-US" sz="2400" spc="-1" strike="noStrike">
                <a:solidFill>
                  <a:srgbClr val="000000"/>
                </a:solidFill>
                <a:latin typeface="Arial"/>
              </a:rPr>
              <a:t>   </a:t>
            </a:r>
            <a:r>
              <a:rPr b="0" lang="en-US" sz="2800" spc="-1" strike="noStrike">
                <a:solidFill>
                  <a:srgbClr val="000000"/>
                </a:solidFill>
                <a:latin typeface="Arial"/>
              </a:rPr>
              <a:t>Na afklaven</a:t>
            </a:r>
            <a:endParaRPr b="0" lang="en-US" sz="2800" spc="-1" strike="noStrike">
              <a:solidFill>
                <a:srgbClr val="000000"/>
              </a:solidFill>
              <a:latin typeface="Arial"/>
            </a:endParaRPr>
          </a:p>
        </p:txBody>
      </p:sp>
      <p:sp>
        <p:nvSpPr>
          <p:cNvPr id="164" name=""/>
          <p:cNvSpPr/>
          <p:nvPr/>
        </p:nvSpPr>
        <p:spPr>
          <a:xfrm>
            <a:off x="1979640" y="1503360"/>
            <a:ext cx="684036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r moet allemaal op gelet w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gevens management syste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gegeven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ed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isvestin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eien &amp; vaarse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vindingen?</a:t>
            </a:r>
            <a:endParaRPr b="0" lang="en-US" sz="2400" spc="-1" strike="noStrike">
              <a:solidFill>
                <a:srgbClr val="000000"/>
              </a:solidFill>
              <a:latin typeface="Arial"/>
            </a:endParaRPr>
          </a:p>
        </p:txBody>
      </p:sp>
      <p:sp>
        <p:nvSpPr>
          <p:cNvPr id="165" name=""/>
          <p:cNvSpPr/>
          <p:nvPr/>
        </p:nvSpPr>
        <p:spPr>
          <a:xfrm>
            <a:off x="0" y="981000"/>
            <a:ext cx="2195640" cy="46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30240"/>
            <a:ext cx="9144000" cy="6854760"/>
          </a:xfrm>
          <a:prstGeom prst="rect">
            <a:avLst/>
          </a:prstGeom>
          <a:ln w="0">
            <a:noFill/>
          </a:ln>
        </p:spPr>
      </p:pic>
      <p:sp>
        <p:nvSpPr>
          <p:cNvPr id="55" name=""/>
          <p:cNvSpPr/>
          <p:nvPr/>
        </p:nvSpPr>
        <p:spPr>
          <a:xfrm>
            <a:off x="0" y="1009800"/>
            <a:ext cx="2050920" cy="47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56" name=""/>
          <p:cNvSpPr/>
          <p:nvPr/>
        </p:nvSpPr>
        <p:spPr>
          <a:xfrm>
            <a:off x="1908000" y="1434960"/>
            <a:ext cx="72360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e = overgang droogstand naar lacta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periode legt basis voor goede transiti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ede droogstand begint met goed droogzet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2"/>
          <a:stretch/>
        </p:blipFill>
        <p:spPr>
          <a:xfrm>
            <a:off x="1905120" y="3543480"/>
            <a:ext cx="7238880" cy="33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0240"/>
            <a:ext cx="9144000" cy="6854760"/>
          </a:xfrm>
          <a:prstGeom prst="rect">
            <a:avLst/>
          </a:prstGeom>
          <a:ln w="0">
            <a:noFill/>
          </a:ln>
        </p:spPr>
      </p:pic>
      <p:sp>
        <p:nvSpPr>
          <p:cNvPr id="59" name=""/>
          <p:cNvSpPr/>
          <p:nvPr/>
        </p:nvSpPr>
        <p:spPr>
          <a:xfrm>
            <a:off x="2050920" y="2133720"/>
            <a:ext cx="1297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125360"/>
            <a:ext cx="2268360" cy="49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
        <p:nvSpPr>
          <p:cNvPr id="61" name=""/>
          <p:cNvSpPr/>
          <p:nvPr/>
        </p:nvSpPr>
        <p:spPr>
          <a:xfrm>
            <a:off x="1979640" y="981000"/>
            <a:ext cx="5688000" cy="58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iste tijdstip</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eer laatste ki datu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e &lt; 15 liter</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chtvoer afbouw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tsoen aanpasse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t mismal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hoogd kans op uierontstek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kuitligg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bruik behandelplan droogzett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getal laaste drie MPR uitslag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orkom stres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t groepsgewijs droo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kap ruim voor of na droogzette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35120" y="333360"/>
            <a:ext cx="527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Goed droogze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4760"/>
          </a:xfrm>
          <a:prstGeom prst="rect">
            <a:avLst/>
          </a:prstGeom>
          <a:ln w="0">
            <a:noFill/>
          </a:ln>
        </p:spPr>
      </p:pic>
      <p:sp>
        <p:nvSpPr>
          <p:cNvPr id="64" name=""/>
          <p:cNvSpPr/>
          <p:nvPr/>
        </p:nvSpPr>
        <p:spPr>
          <a:xfrm>
            <a:off x="2050920" y="2133720"/>
            <a:ext cx="338472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2031840" y="1052640"/>
            <a:ext cx="6356520" cy="67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wee groep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r-off; 3-4 wk; ruwvoer &amp; droogstand mineral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ose-up; 2-3 wk; rantsoen melkkoei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aarzen close-up 5 wk</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uisvesting: </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oon, droog, ruim, fri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comfort</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roleer de (pas) droogstaande dier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artieren</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ditie</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svulling</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824200" y="333360"/>
            <a:ext cx="376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oede droogstand</a:t>
            </a:r>
            <a:endParaRPr b="0" lang="en-US" sz="2400" spc="-1" strike="noStrike">
              <a:solidFill>
                <a:srgbClr val="000000"/>
              </a:solidFill>
              <a:latin typeface="Arial"/>
            </a:endParaRPr>
          </a:p>
        </p:txBody>
      </p:sp>
      <p:sp>
        <p:nvSpPr>
          <p:cNvPr id="67" name=""/>
          <p:cNvSpPr/>
          <p:nvPr/>
        </p:nvSpPr>
        <p:spPr>
          <a:xfrm>
            <a:off x="0" y="981000"/>
            <a:ext cx="1979640" cy="46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3240"/>
            <a:ext cx="9144000" cy="6854760"/>
          </a:xfrm>
          <a:prstGeom prst="rect">
            <a:avLst/>
          </a:prstGeom>
          <a:ln w="0">
            <a:noFill/>
          </a:ln>
        </p:spPr>
      </p:pic>
      <p:sp>
        <p:nvSpPr>
          <p:cNvPr id="69" name=""/>
          <p:cNvSpPr/>
          <p:nvPr/>
        </p:nvSpPr>
        <p:spPr>
          <a:xfrm>
            <a:off x="2586240" y="39060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nsitieperiode</a:t>
            </a:r>
            <a:endParaRPr b="0" lang="en-US" sz="2400" spc="-1" strike="noStrike">
              <a:solidFill>
                <a:srgbClr val="000000"/>
              </a:solidFill>
              <a:latin typeface="Arial"/>
            </a:endParaRPr>
          </a:p>
        </p:txBody>
      </p:sp>
      <p:sp>
        <p:nvSpPr>
          <p:cNvPr id="70" name=""/>
          <p:cNvSpPr/>
          <p:nvPr/>
        </p:nvSpPr>
        <p:spPr>
          <a:xfrm>
            <a:off x="1835280" y="1557360"/>
            <a:ext cx="709272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de periode tijdens welke de weerst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meest onder druk sta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daardoor grote relatie met mastiti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role mogelij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Loopt van 3 weken voor tot 3 weken n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0" y="1341360"/>
            <a:ext cx="1979640" cy="527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3240"/>
            <a:ext cx="9144000" cy="6854760"/>
          </a:xfrm>
          <a:prstGeom prst="rect">
            <a:avLst/>
          </a:prstGeom>
          <a:ln w="0">
            <a:noFill/>
          </a:ln>
        </p:spPr>
      </p:pic>
      <p:sp>
        <p:nvSpPr>
          <p:cNvPr id="73" name=""/>
          <p:cNvSpPr/>
          <p:nvPr/>
        </p:nvSpPr>
        <p:spPr>
          <a:xfrm>
            <a:off x="0" y="1268280"/>
            <a:ext cx="1908000" cy="54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 descr=""/>
          <p:cNvPicPr/>
          <p:nvPr/>
        </p:nvPicPr>
        <p:blipFill>
          <a:blip r:embed="rId2"/>
          <a:stretch/>
        </p:blipFill>
        <p:spPr>
          <a:xfrm>
            <a:off x="1332000" y="1773360"/>
            <a:ext cx="7812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468000" cy="6854760"/>
          </a:xfrm>
          <a:prstGeom prst="rect">
            <a:avLst/>
          </a:prstGeom>
          <a:ln w="0">
            <a:noFill/>
          </a:ln>
        </p:spPr>
      </p:pic>
      <p:sp>
        <p:nvSpPr>
          <p:cNvPr id="76" name=""/>
          <p:cNvSpPr/>
          <p:nvPr/>
        </p:nvSpPr>
        <p:spPr>
          <a:xfrm>
            <a:off x="0" y="981000"/>
            <a:ext cx="1908000" cy="457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00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drachten</a:t>
            </a:r>
            <a:endParaRPr b="0" lang="en-US" sz="2000" spc="-1" strike="noStrike">
              <a:solidFill>
                <a:srgbClr val="000000"/>
              </a:solidFill>
              <a:latin typeface="Arial"/>
            </a:endParaRPr>
          </a:p>
        </p:txBody>
      </p:sp>
      <p:pic>
        <p:nvPicPr>
          <p:cNvPr id="77" name="" descr=""/>
          <p:cNvPicPr/>
          <p:nvPr/>
        </p:nvPicPr>
        <p:blipFill>
          <a:blip r:embed="rId2"/>
          <a:stretch/>
        </p:blipFill>
        <p:spPr>
          <a:xfrm>
            <a:off x="2124000" y="1268280"/>
            <a:ext cx="7272360" cy="503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240"/>
            <a:ext cx="9144000" cy="6854760"/>
          </a:xfrm>
          <a:prstGeom prst="rect">
            <a:avLst/>
          </a:prstGeom>
          <a:ln w="0">
            <a:noFill/>
          </a:ln>
        </p:spPr>
      </p:pic>
      <p:sp>
        <p:nvSpPr>
          <p:cNvPr id="79" name=""/>
          <p:cNvSpPr/>
          <p:nvPr/>
        </p:nvSpPr>
        <p:spPr>
          <a:xfrm>
            <a:off x="3492360" y="25236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908000" y="18900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en van invloed op weerstand</a:t>
            </a:r>
            <a:endParaRPr b="0" lang="en-US" sz="3200" spc="-1" strike="noStrike">
              <a:solidFill>
                <a:srgbClr val="000000"/>
              </a:solidFill>
              <a:latin typeface="Arial"/>
            </a:endParaRPr>
          </a:p>
        </p:txBody>
      </p:sp>
      <p:sp>
        <p:nvSpPr>
          <p:cNvPr id="81" name=""/>
          <p:cNvSpPr/>
          <p:nvPr/>
        </p:nvSpPr>
        <p:spPr>
          <a:xfrm>
            <a:off x="1979640" y="1268280"/>
            <a:ext cx="638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ding</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eve energiebalans</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kort </a:t>
            </a:r>
            <a:r>
              <a:rPr b="0" lang="nl-NL" sz="2000" spc="-1" strike="noStrike">
                <a:solidFill>
                  <a:srgbClr val="000000"/>
                </a:solidFill>
                <a:latin typeface="Arial"/>
              </a:rPr>
              <a:t>essentiële</a:t>
            </a:r>
            <a:r>
              <a:rPr b="0" lang="en-US" sz="2000" spc="-1" strike="noStrike">
                <a:solidFill>
                  <a:srgbClr val="000000"/>
                </a:solidFill>
                <a:latin typeface="Arial"/>
              </a:rPr>
              <a:t> voedingstoffen</a:t>
            </a:r>
            <a:endParaRPr b="0" lang="en-US" sz="20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fwisselingsziek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e rond afkalven</a:t>
            </a:r>
            <a:endParaRPr b="0" lang="en-US" sz="2000" spc="-1" strike="noStrike">
              <a:solidFill>
                <a:srgbClr val="000000"/>
              </a:solidFill>
              <a:latin typeface="Arial"/>
            </a:endParaRPr>
          </a:p>
        </p:txBody>
      </p:sp>
      <p:sp>
        <p:nvSpPr>
          <p:cNvPr id="82" name=""/>
          <p:cNvSpPr/>
          <p:nvPr/>
        </p:nvSpPr>
        <p:spPr>
          <a:xfrm>
            <a:off x="0" y="1374840"/>
            <a:ext cx="2050920" cy="52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Inlei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Droogs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 droogzet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Goede droog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Transit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rPr>
              <a:t>Weerst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Voe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St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9cc00"/>
                </a:solidFill>
                <a:latin typeface="Arial"/>
              </a:rPr>
              <a:t>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elstellin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Voe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cc00"/>
                </a:solidFill>
                <a:latin typeface="Arial"/>
              </a:rPr>
              <a:t>Cont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pracht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p:cNvPicPr/>
          <p:nvPr/>
        </p:nvPicPr>
        <p:blipFill>
          <a:blip r:embed="rId2"/>
          <a:stretch/>
        </p:blipFill>
        <p:spPr>
          <a:xfrm>
            <a:off x="4932360" y="3645000"/>
            <a:ext cx="382896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3:22:02Z</dcterms:created>
  <dc:creator>©Jan Hulsen - vetvice 1 sept 2004</dc:creator>
  <dc:description/>
  <dc:language>en-US</dc:language>
  <cp:lastModifiedBy>thuiswerker</cp:lastModifiedBy>
  <dcterms:modified xsi:type="dcterms:W3CDTF">2010-08-13T13:20:56Z</dcterms:modified>
  <cp:revision>96</cp:revision>
  <dc:subject/>
  <dc:title>Weerstand tegen uierinfecties</dc:title>
</cp:coreProperties>
</file>