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4504-8EB1-49F2-B7FA-AC1F7D61D0B8}" type="datetime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6D3A-872D-4EFE-9D28-C152D432265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B5AE-9DEF-489C-90CB-08B0104AA0D1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486C-2E7D-4B65-8C79-2A7B2726894B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Aminozuur patroon van de voedingseiwitten van belang voor het bestendige deel van het vo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Niet voor het onbestendige de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Tov melkeiwit heeft sojaschroot een tekort aan methionine en mais een tekort aan lys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5E43-0421-4BEF-AE74-10E8C75B072B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78E1-2019-4E2C-840C-224121576FEC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Oplosbare eiwitten gaan het snel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Niet – eiwit- stifstofverbindingen is hier een voorbeeld van:  vinasse en bietmelasse heeft er veel v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nel groeiend gras of nat ingekuild g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1BFA-F11A-45D5-B966-E324E90B8A27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6591-15B4-4542-872E-BEDDE1943B9F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Passage snelheid krachtvoer;  gemiddeld 6% per u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Ruwvoer 4,5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Onbestendig eiwit bron van stikstof voor de pensfl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Tekort beïnvloed de flora en de verwerkingscapaciteit van de p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Bij hoogproductieve groep essentie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80FC-1B16-461B-83FD-B207A510DE37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EDC5-7239-4B03-BF36-323BC5270E2A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MREN  wordt beïnvloed door de N bemesting op g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ogere N gift beïnvloed de onbestendige eiwit de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E6A3-325E-45BC-A859-0F021CD0B900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39F0-996A-4467-8E1F-A15A720BDAF7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iwitarme producten met veel FOS krijgen relatieve hoge DVE en sterk negatieve OEB  (bietenpulp  712 FOS, 104 dve –66 OE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iwitrijke producten met weinig FOS krijgen een relatief lage DVE en een sterke positieve OEB (nat ingekuild gras 521 FOS 59 dve 79 OE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8D04-F156-49F4-9386-1CEEF07B95B7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FA39-1E50-46B0-B26B-E1AFE3AA4F1D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450B-FB0B-44C6-BA69-682ACD0F41E5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D169-CAF3-4607-9283-05D9F8BBBE10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Bewegende animat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EE2C-E9FD-402A-B154-B5B3CD483752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1F6E-DD6D-44A8-B287-F25EE3A732BD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en totaal plaatje met links naar onderliggende d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168A-122F-43B1-88C1-00082E879588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26BB-52D3-4691-8603-1E8979A2BE06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AB28-1831-4A39-87EA-7B096FCF7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0" y="37666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9267-0016-48E0-BA23-48882EA5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0" y="37666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85760" y="37666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713E-A028-4C80-993A-094F4D0D8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091680" y="12193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83360" y="12193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0" y="37666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091680" y="37666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83360" y="37666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AD84-7A52-40AD-9114-49E505611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FBF6-BB34-4947-8F89-C8C023813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FC810-76E7-4423-8663-68B4A8EF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3A01C-2D72-4945-A6FB-307786FB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AF594-D343-461C-93F7-32C5CCFB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84F1-5DC6-4E7E-ADD0-0EA211CB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7621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51A5-8BBF-4A12-BC55-3D6DF922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0" y="37666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946D-B2DF-4804-8217-268FCFA7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F6D9-3239-4D7C-B230-C305E5DE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5760" y="37666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0751-19B9-4F83-9473-0AA083A9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0" y="37666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F490-75F6-40FC-8996-8CF06487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0" y="37666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BBF8-1895-4594-A5F3-E571F107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0" y="37666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85760" y="37666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5653D-A7ED-4C93-98B6-0F614129F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091680" y="12193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183360" y="12193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0" y="37666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091680" y="37666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183360" y="37666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34A6-84AC-4714-B0BB-BAAB16287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1515-6925-4B8F-BD05-BB36017B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BD77-1A92-49BC-ABE1-05D18604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9436-1CD1-4884-AA43-81E53B00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621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2909-FE81-4B63-B9AC-BA6BCAC8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0" y="37666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07D3-B051-40C4-8F48-955B411A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5760" y="37666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28C7-7D3A-4E82-8B56-A855EE1E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37666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C5FF-82F3-4395-AB9E-A71E77F7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2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>
                <a:gd name="textAreaLeft" fmla="*/ 0 w 8164440"/>
                <a:gd name="textAreaRight" fmla="*/ 8164800 w 8164440"/>
                <a:gd name="textAreaTop" fmla="*/ 0 h 3019680"/>
                <a:gd name="textAreaBottom" fmla="*/ 3020040 h 3019680"/>
              </a:gdLst>
              <a:ahLst/>
              <a:rect l="textAreaLeft" t="textAreaTop" r="textAreaRight" b="textAreaBottom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3691080"/>
                <a:gd name="textAreaBottom" fmla="*/ 3691440 h 3691080"/>
              </a:gdLst>
              <a:ahLst/>
              <a:rect l="textAreaLeft" t="textAreaTop" r="textAreaRight" b="textAreaBottom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2497320"/>
                <a:gd name="textAreaBottom" fmla="*/ 2497680 h 2497320"/>
              </a:gdLst>
              <a:ahLst/>
              <a:rect l="textAreaLeft" t="textAreaTop" r="textAreaRight" b="textAreaBottom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539720"/>
                <a:gd name="textAreaBottom" fmla="*/ 1540080 h 1539720"/>
              </a:gdLst>
              <a:ahLst/>
              <a:rect l="textAreaLeft" t="textAreaTop" r="textAreaRight" b="textAreaBottom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682640"/>
                <a:gd name="textAreaBottom" fmla="*/ 1683000 h 1682640"/>
              </a:gdLst>
              <a:ahLst/>
              <a:rect l="textAreaLeft" t="textAreaTop" r="textAreaRight" b="textAreaBottom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>
                <a:gd name="textAreaLeft" fmla="*/ 0 w 8388360"/>
                <a:gd name="textAreaRight" fmla="*/ 8388720 w 8388360"/>
                <a:gd name="textAreaTop" fmla="*/ 0 h 1068120"/>
                <a:gd name="textAreaBottom" fmla="*/ 1068480 h 1068120"/>
              </a:gdLst>
              <a:ahLst/>
              <a:rect l="textAreaLeft" t="textAreaTop" r="textAreaRight" b="textAreaBottom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>
                <a:gd name="textAreaLeft" fmla="*/ 0 w 4578480"/>
                <a:gd name="textAreaRight" fmla="*/ 4578840 w 457848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07D4-9FC2-474D-9C7F-8C3E3CD46E08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526E-B957-486C-80CF-AD91ED8D17A6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8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2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3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4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>
                <a:gd name="textAreaLeft" fmla="*/ 0 w 8164440"/>
                <a:gd name="textAreaRight" fmla="*/ 8164800 w 8164440"/>
                <a:gd name="textAreaTop" fmla="*/ 0 h 3019680"/>
                <a:gd name="textAreaBottom" fmla="*/ 3020040 h 3019680"/>
              </a:gdLst>
              <a:ahLst/>
              <a:rect l="textAreaLeft" t="textAreaTop" r="textAreaRight" b="textAreaBottom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5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3691080"/>
                <a:gd name="textAreaBottom" fmla="*/ 3691440 h 3691080"/>
              </a:gdLst>
              <a:ahLst/>
              <a:rect l="textAreaLeft" t="textAreaTop" r="textAreaRight" b="textAreaBottom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6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2497320"/>
                <a:gd name="textAreaBottom" fmla="*/ 2497680 h 2497320"/>
              </a:gdLst>
              <a:ahLst/>
              <a:rect l="textAreaLeft" t="textAreaTop" r="textAreaRight" b="textAreaBottom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7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539720"/>
                <a:gd name="textAreaBottom" fmla="*/ 1540080 h 1539720"/>
              </a:gdLst>
              <a:ahLst/>
              <a:rect l="textAreaLeft" t="textAreaTop" r="textAreaRight" b="textAreaBottom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8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682640"/>
                <a:gd name="textAreaBottom" fmla="*/ 1683000 h 1682640"/>
              </a:gdLst>
              <a:ahLst/>
              <a:rect l="textAreaLeft" t="textAreaTop" r="textAreaRight" b="textAreaBottom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9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>
                <a:gd name="textAreaLeft" fmla="*/ 0 w 8388360"/>
                <a:gd name="textAreaRight" fmla="*/ 8388720 w 8388360"/>
                <a:gd name="textAreaTop" fmla="*/ 0 h 1068120"/>
                <a:gd name="textAreaBottom" fmla="*/ 1068480 h 1068120"/>
              </a:gdLst>
              <a:ahLst/>
              <a:rect l="textAreaLeft" t="textAreaTop" r="textAreaRight" b="textAreaBottom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0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>
                <a:gd name="textAreaLeft" fmla="*/ 0 w 4578480"/>
                <a:gd name="textAreaRight" fmla="*/ 4578840 w 457848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E923-C093-43BE-8C55-71A2B4D06130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5151-8755-4EF7-B8A5-2743A067A663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0.xml"/><Relationship Id="rId3" Type="http://schemas.openxmlformats.org/officeDocument/2006/relationships/slide" Target="slide7.xml"/><Relationship Id="rId4" Type="http://schemas.openxmlformats.org/officeDocument/2006/relationships/slide" Target="slide11.xml"/><Relationship Id="rId5" Type="http://schemas.openxmlformats.org/officeDocument/2006/relationships/slide" Target="slide21.xml"/><Relationship Id="rId6" Type="http://schemas.openxmlformats.org/officeDocument/2006/relationships/slide" Target="slide18.xml"/><Relationship Id="rId7" Type="http://schemas.openxmlformats.org/officeDocument/2006/relationships/slide" Target="slide27.xml"/><Relationship Id="rId8" Type="http://schemas.openxmlformats.org/officeDocument/2006/relationships/slide" Target="slide20.xml"/><Relationship Id="rId9" Type="http://schemas.openxmlformats.org/officeDocument/2006/relationships/slide" Target="slide29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Eiwitvertering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an plantaardig eiwit naar dierlijk eiwit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A660-B247-419F-84A9-C7450920FD83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Anorganische stof </a:t>
            </a:r>
            <a:r>
              <a:rPr b="0" lang="nl-NL" sz="1800" spc="-1" strike="noStrike">
                <a:solidFill>
                  <a:srgbClr val="ffcc66"/>
                </a:solidFill>
                <a:latin typeface="Times New Roman"/>
              </a:rPr>
              <a:t>pagina 5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Bestaat uit mineralen en zand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Bij een analyse is dit het vermelde R.A.S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Ruw anorganische st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Zand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Max. 1 kg per da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Belemmerd de pens func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Minerale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Nodig voor levensfunc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8305920" y="380880"/>
            <a:ext cx="533160" cy="60984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704">
                <a:moveTo>
                  <a:pt x="0" y="0"/>
                </a:moveTo>
                <a:lnTo>
                  <a:pt x="21600" y="0"/>
                </a:lnTo>
                <a:lnTo>
                  <a:pt x="21600" y="24704"/>
                </a:lnTo>
                <a:lnTo>
                  <a:pt x="0" y="24704"/>
                </a:lnTo>
                <a:close/>
              </a:path>
              <a:path fill="lightenLess" w="21600" h="247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04">
                <a:moveTo>
                  <a:pt x="21600" y="0"/>
                </a:moveTo>
                <a:lnTo>
                  <a:pt x="21600" y="24704"/>
                </a:lnTo>
                <a:lnTo>
                  <a:pt x="20200" y="23304"/>
                </a:lnTo>
                <a:lnTo>
                  <a:pt x="20200" y="1400"/>
                </a:lnTo>
                <a:close/>
              </a:path>
              <a:path fill="darkenLess" w="21600" h="24704">
                <a:moveTo>
                  <a:pt x="21600" y="24704"/>
                </a:moveTo>
                <a:lnTo>
                  <a:pt x="0" y="24704"/>
                </a:lnTo>
                <a:lnTo>
                  <a:pt x="1400" y="23304"/>
                </a:lnTo>
                <a:lnTo>
                  <a:pt x="20200" y="23304"/>
                </a:lnTo>
                <a:close/>
              </a:path>
              <a:path fill="lighten" w="21600" h="24704">
                <a:moveTo>
                  <a:pt x="0" y="247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04"/>
                </a:lnTo>
                <a:close/>
              </a:path>
              <a:path fill="darken" w="21600" h="24704">
                <a:moveTo>
                  <a:pt x="3794" y="12352"/>
                </a:moveTo>
                <a:lnTo>
                  <a:pt x="17806" y="5346"/>
                </a:lnTo>
                <a:lnTo>
                  <a:pt x="17806" y="1935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5F03-26E8-4624-9148-303BDCA768ED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Eiwitt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Een organische stof die naast de drie genoemde elementen ook nog bevat: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N = stikst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P = fosf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S = zwa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Het ruw eiwit bevat 16% stikstof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ia Kjehldahl en kleurstof methode makkelijk N te bepalen , en via de eiwitfactor 6,25 terug te rekenen naar hoeveelheid eiwi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Ruw eiwit bestaat uit </a:t>
            </a: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 Unicode MS"/>
              </a:rPr>
              <a:t>werkelijk eiwit</a:t>
            </a: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 en </a:t>
            </a: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 Unicode MS"/>
              </a:rPr>
              <a:t>amide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1C59-DEF1-4D86-B9CD-2894E5C18B90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Ruw eiwit, </a:t>
            </a:r>
            <a:r>
              <a:rPr b="0" lang="nl-NL" sz="3200" spc="-1" strike="noStrike">
                <a:solidFill>
                  <a:srgbClr val="ffcc66"/>
                </a:solidFill>
                <a:latin typeface="Times New Roman"/>
              </a:rPr>
              <a:t>werkelijk eiwi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ffff"/>
                </a:solidFill>
                <a:latin typeface="Arial Unicode MS"/>
              </a:rPr>
              <a:t>Werkelijk eiwit</a:t>
            </a: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 belangrijkste deel van het eiwi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zeer ingewikkeld van samenstelling e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bestaat uit zeer grote moleculen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deze zijn uit bouwstenen opgebouwd, de z.g. aminozu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oor groei zijn er 10 aminozuren </a:t>
            </a:r>
            <a:br>
              <a:rPr sz="2800"/>
            </a:b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noodzakelijk = essentieel, een herkauwer kan een evt. tekort zelf aanmak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Belangrijke aminozuren zijn:  lysine, methionine, cystine, tryptofa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ianumm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99F2C-C3E6-4E6E-BC47-7FF69FDF5C35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Verschillende aminozur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4267080" cy="4876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Argin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Histid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Iso-leuc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Leuc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Lys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Methion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Phenylalan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Threon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Tryptofaan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val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495680" cy="4876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Alan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Asparaginezuur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Citrull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Cyste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Cyst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Glutam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Glutaminezuur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Glyz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hydroxyprol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762120" y="10666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Essentieel   </a:t>
            </a: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Niet noodzakelij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6859-B59A-475E-A5A5-122B8ECBA1F1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Group 228"/>
          <p:cNvGrpSpPr/>
          <p:nvPr/>
        </p:nvGrpSpPr>
        <p:grpSpPr>
          <a:xfrm>
            <a:off x="0" y="1781280"/>
            <a:ext cx="9144000" cy="3724200"/>
            <a:chOff x="0" y="1781280"/>
            <a:chExt cx="9144000" cy="3724200"/>
          </a:xfrm>
        </p:grpSpPr>
        <p:sp>
          <p:nvSpPr>
            <p:cNvPr id="211" name="Rectangle 58"/>
            <p:cNvSpPr/>
            <p:nvPr/>
          </p:nvSpPr>
          <p:spPr>
            <a:xfrm>
              <a:off x="0" y="5076720"/>
              <a:ext cx="9144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Rectangle 115"/>
            <p:cNvSpPr/>
            <p:nvPr/>
          </p:nvSpPr>
          <p:spPr>
            <a:xfrm>
              <a:off x="0" y="5076720"/>
              <a:ext cx="9144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Rectangle 172"/>
            <p:cNvSpPr/>
            <p:nvPr/>
          </p:nvSpPr>
          <p:spPr>
            <a:xfrm>
              <a:off x="0" y="5076720"/>
              <a:ext cx="9144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Rectangle 179"/>
            <p:cNvSpPr/>
            <p:nvPr/>
          </p:nvSpPr>
          <p:spPr>
            <a:xfrm>
              <a:off x="1042920" y="2575080"/>
              <a:ext cx="16398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Lysi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Rectangle 180"/>
            <p:cNvSpPr/>
            <p:nvPr/>
          </p:nvSpPr>
          <p:spPr>
            <a:xfrm>
              <a:off x="2682720" y="2575080"/>
              <a:ext cx="77472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8,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Rectangle 181"/>
            <p:cNvSpPr/>
            <p:nvPr/>
          </p:nvSpPr>
          <p:spPr>
            <a:xfrm>
              <a:off x="3809880" y="2590920"/>
              <a:ext cx="9702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6,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Rectangle 182"/>
            <p:cNvSpPr/>
            <p:nvPr/>
          </p:nvSpPr>
          <p:spPr>
            <a:xfrm>
              <a:off x="4876920" y="2590920"/>
              <a:ext cx="8776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,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Rectangle 183"/>
            <p:cNvSpPr/>
            <p:nvPr/>
          </p:nvSpPr>
          <p:spPr>
            <a:xfrm>
              <a:off x="5943600" y="2590920"/>
              <a:ext cx="7714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7,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Rectangle 184"/>
            <p:cNvSpPr/>
            <p:nvPr/>
          </p:nvSpPr>
          <p:spPr>
            <a:xfrm>
              <a:off x="6858000" y="2590920"/>
              <a:ext cx="12636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8,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Rectangle 185"/>
            <p:cNvSpPr/>
            <p:nvPr/>
          </p:nvSpPr>
          <p:spPr>
            <a:xfrm>
              <a:off x="1042920" y="3200400"/>
              <a:ext cx="16398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thioni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Rectangle 186"/>
            <p:cNvSpPr/>
            <p:nvPr/>
          </p:nvSpPr>
          <p:spPr>
            <a:xfrm>
              <a:off x="2682720" y="3200400"/>
              <a:ext cx="77472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2,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Rectangle 187"/>
            <p:cNvSpPr/>
            <p:nvPr/>
          </p:nvSpPr>
          <p:spPr>
            <a:xfrm>
              <a:off x="3809880" y="3200400"/>
              <a:ext cx="9702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,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Rectangle 188"/>
            <p:cNvSpPr/>
            <p:nvPr/>
          </p:nvSpPr>
          <p:spPr>
            <a:xfrm>
              <a:off x="4800600" y="3200400"/>
              <a:ext cx="8780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0,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Rectangle 189"/>
            <p:cNvSpPr/>
            <p:nvPr/>
          </p:nvSpPr>
          <p:spPr>
            <a:xfrm>
              <a:off x="5943600" y="3200400"/>
              <a:ext cx="7714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2,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Rectangle 190"/>
            <p:cNvSpPr/>
            <p:nvPr/>
          </p:nvSpPr>
          <p:spPr>
            <a:xfrm>
              <a:off x="6858000" y="3200400"/>
              <a:ext cx="12636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2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Rectangle 191"/>
            <p:cNvSpPr/>
            <p:nvPr/>
          </p:nvSpPr>
          <p:spPr>
            <a:xfrm>
              <a:off x="1042920" y="3825720"/>
              <a:ext cx="163980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reoni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Rectangle 192"/>
            <p:cNvSpPr/>
            <p:nvPr/>
          </p:nvSpPr>
          <p:spPr>
            <a:xfrm>
              <a:off x="2682720" y="3825720"/>
              <a:ext cx="77472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,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Rectangle 193"/>
            <p:cNvSpPr/>
            <p:nvPr/>
          </p:nvSpPr>
          <p:spPr>
            <a:xfrm>
              <a:off x="3809880" y="3809880"/>
              <a:ext cx="97020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,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Rectangle 194"/>
            <p:cNvSpPr/>
            <p:nvPr/>
          </p:nvSpPr>
          <p:spPr>
            <a:xfrm>
              <a:off x="4800600" y="3733920"/>
              <a:ext cx="8780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,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Rectangle 195"/>
            <p:cNvSpPr/>
            <p:nvPr/>
          </p:nvSpPr>
          <p:spPr>
            <a:xfrm>
              <a:off x="5943600" y="3809880"/>
              <a:ext cx="77148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,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Rectangle 196"/>
            <p:cNvSpPr/>
            <p:nvPr/>
          </p:nvSpPr>
          <p:spPr>
            <a:xfrm>
              <a:off x="6934320" y="3733920"/>
              <a:ext cx="12636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5,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2" name="Group 204"/>
            <p:cNvGrpSpPr/>
            <p:nvPr/>
          </p:nvGrpSpPr>
          <p:grpSpPr>
            <a:xfrm>
              <a:off x="966960" y="1781280"/>
              <a:ext cx="1792080" cy="793800"/>
              <a:chOff x="966960" y="1781280"/>
              <a:chExt cx="1792080" cy="793800"/>
            </a:xfrm>
          </p:grpSpPr>
          <p:sp>
            <p:nvSpPr>
              <p:cNvPr id="233" name="Rectangle 173"/>
              <p:cNvSpPr/>
              <p:nvPr/>
            </p:nvSpPr>
            <p:spPr>
              <a:xfrm>
                <a:off x="1042920" y="1781280"/>
                <a:ext cx="163944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oduct 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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minozuur  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Rectangle 203"/>
              <p:cNvSpPr/>
              <p:nvPr/>
            </p:nvSpPr>
            <p:spPr>
              <a:xfrm>
                <a:off x="966960" y="1781280"/>
                <a:ext cx="179208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Group 206"/>
            <p:cNvGrpSpPr/>
            <p:nvPr/>
          </p:nvGrpSpPr>
          <p:grpSpPr>
            <a:xfrm>
              <a:off x="2759040" y="1781280"/>
              <a:ext cx="927000" cy="793800"/>
              <a:chOff x="2759040" y="1781280"/>
              <a:chExt cx="927000" cy="793800"/>
            </a:xfrm>
          </p:grpSpPr>
          <p:sp>
            <p:nvSpPr>
              <p:cNvPr id="236" name="Rectangle 174"/>
              <p:cNvSpPr/>
              <p:nvPr/>
            </p:nvSpPr>
            <p:spPr>
              <a:xfrm>
                <a:off x="2835000" y="1781280"/>
                <a:ext cx="77472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el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Rectangle 205"/>
              <p:cNvSpPr/>
              <p:nvPr/>
            </p:nvSpPr>
            <p:spPr>
              <a:xfrm>
                <a:off x="2759040" y="1781280"/>
                <a:ext cx="92700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Group 208"/>
            <p:cNvGrpSpPr/>
            <p:nvPr/>
          </p:nvGrpSpPr>
          <p:grpSpPr>
            <a:xfrm>
              <a:off x="3686040" y="1781280"/>
              <a:ext cx="1122480" cy="793800"/>
              <a:chOff x="3686040" y="1781280"/>
              <a:chExt cx="1122480" cy="793800"/>
            </a:xfrm>
          </p:grpSpPr>
          <p:sp>
            <p:nvSpPr>
              <p:cNvPr id="239" name="Rectangle 175"/>
              <p:cNvSpPr/>
              <p:nvPr/>
            </p:nvSpPr>
            <p:spPr>
              <a:xfrm>
                <a:off x="3762360" y="1781280"/>
                <a:ext cx="96984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oja-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chroo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Rectangle 207"/>
              <p:cNvSpPr/>
              <p:nvPr/>
            </p:nvSpPr>
            <p:spPr>
              <a:xfrm>
                <a:off x="3686040" y="1781280"/>
                <a:ext cx="112248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Group 210"/>
            <p:cNvGrpSpPr/>
            <p:nvPr/>
          </p:nvGrpSpPr>
          <p:grpSpPr>
            <a:xfrm>
              <a:off x="4808520" y="1781280"/>
              <a:ext cx="1029960" cy="793800"/>
              <a:chOff x="4808520" y="1781280"/>
              <a:chExt cx="1029960" cy="793800"/>
            </a:xfrm>
          </p:grpSpPr>
          <p:sp>
            <p:nvSpPr>
              <p:cNvPr id="242" name="Rectangle 176"/>
              <p:cNvSpPr/>
              <p:nvPr/>
            </p:nvSpPr>
            <p:spPr>
              <a:xfrm>
                <a:off x="4884480" y="1781280"/>
                <a:ext cx="87804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Veren­mee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Rectangle 209"/>
              <p:cNvSpPr/>
              <p:nvPr/>
            </p:nvSpPr>
            <p:spPr>
              <a:xfrm>
                <a:off x="4808520" y="1781280"/>
                <a:ext cx="102996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Group 212"/>
            <p:cNvGrpSpPr/>
            <p:nvPr/>
          </p:nvGrpSpPr>
          <p:grpSpPr>
            <a:xfrm>
              <a:off x="5838840" y="1781280"/>
              <a:ext cx="923760" cy="793800"/>
              <a:chOff x="5838840" y="1781280"/>
              <a:chExt cx="923760" cy="793800"/>
            </a:xfrm>
          </p:grpSpPr>
          <p:sp>
            <p:nvSpPr>
              <p:cNvPr id="245" name="Rectangle 177"/>
              <p:cNvSpPr/>
              <p:nvPr/>
            </p:nvSpPr>
            <p:spPr>
              <a:xfrm>
                <a:off x="5914800" y="1781280"/>
                <a:ext cx="77112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Vis-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ee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Rectangle 211"/>
              <p:cNvSpPr/>
              <p:nvPr/>
            </p:nvSpPr>
            <p:spPr>
              <a:xfrm>
                <a:off x="5838840" y="1781280"/>
                <a:ext cx="92376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Group 214"/>
            <p:cNvGrpSpPr/>
            <p:nvPr/>
          </p:nvGrpSpPr>
          <p:grpSpPr>
            <a:xfrm>
              <a:off x="6762600" y="1781280"/>
              <a:ext cx="1415880" cy="793800"/>
              <a:chOff x="6762600" y="1781280"/>
              <a:chExt cx="1415880" cy="793800"/>
            </a:xfrm>
          </p:grpSpPr>
          <p:sp>
            <p:nvSpPr>
              <p:cNvPr id="248" name="Rectangle 178"/>
              <p:cNvSpPr/>
              <p:nvPr/>
            </p:nvSpPr>
            <p:spPr>
              <a:xfrm>
                <a:off x="6838920" y="1781280"/>
                <a:ext cx="126360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icro-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bieeleiwi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Rectangle 213"/>
              <p:cNvSpPr/>
              <p:nvPr/>
            </p:nvSpPr>
            <p:spPr>
              <a:xfrm>
                <a:off x="6762600" y="1781280"/>
                <a:ext cx="141588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Group 216"/>
            <p:cNvGrpSpPr/>
            <p:nvPr/>
          </p:nvGrpSpPr>
          <p:grpSpPr>
            <a:xfrm>
              <a:off x="966960" y="4451400"/>
              <a:ext cx="1792080" cy="625320"/>
              <a:chOff x="966960" y="4451400"/>
              <a:chExt cx="1792080" cy="625320"/>
            </a:xfrm>
          </p:grpSpPr>
          <p:sp>
            <p:nvSpPr>
              <p:cNvPr id="251" name="Rectangle 197"/>
              <p:cNvSpPr/>
              <p:nvPr/>
            </p:nvSpPr>
            <p:spPr>
              <a:xfrm>
                <a:off x="1042920" y="4451400"/>
                <a:ext cx="163944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ryptofaa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Rectangle 215"/>
              <p:cNvSpPr/>
              <p:nvPr/>
            </p:nvSpPr>
            <p:spPr>
              <a:xfrm>
                <a:off x="966960" y="4451400"/>
                <a:ext cx="179208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Group 218"/>
            <p:cNvGrpSpPr/>
            <p:nvPr/>
          </p:nvGrpSpPr>
          <p:grpSpPr>
            <a:xfrm>
              <a:off x="2759040" y="4451400"/>
              <a:ext cx="927000" cy="625320"/>
              <a:chOff x="2759040" y="4451400"/>
              <a:chExt cx="927000" cy="625320"/>
            </a:xfrm>
          </p:grpSpPr>
          <p:sp>
            <p:nvSpPr>
              <p:cNvPr id="254" name="Rectangle 198"/>
              <p:cNvSpPr/>
              <p:nvPr/>
            </p:nvSpPr>
            <p:spPr>
              <a:xfrm>
                <a:off x="2835000" y="4451400"/>
                <a:ext cx="77472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,3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Rectangle 217"/>
              <p:cNvSpPr/>
              <p:nvPr/>
            </p:nvSpPr>
            <p:spPr>
              <a:xfrm>
                <a:off x="2759040" y="4451400"/>
                <a:ext cx="92700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Group 220"/>
            <p:cNvGrpSpPr/>
            <p:nvPr/>
          </p:nvGrpSpPr>
          <p:grpSpPr>
            <a:xfrm>
              <a:off x="3686040" y="4451400"/>
              <a:ext cx="1122480" cy="625320"/>
              <a:chOff x="3686040" y="4451400"/>
              <a:chExt cx="1122480" cy="625320"/>
            </a:xfrm>
          </p:grpSpPr>
          <p:sp>
            <p:nvSpPr>
              <p:cNvPr id="257" name="Rectangle 199"/>
              <p:cNvSpPr/>
              <p:nvPr/>
            </p:nvSpPr>
            <p:spPr>
              <a:xfrm>
                <a:off x="3762360" y="4451400"/>
                <a:ext cx="96984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,3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Rectangle 219"/>
              <p:cNvSpPr/>
              <p:nvPr/>
            </p:nvSpPr>
            <p:spPr>
              <a:xfrm>
                <a:off x="3686040" y="4451400"/>
                <a:ext cx="112248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Group 222"/>
            <p:cNvGrpSpPr/>
            <p:nvPr/>
          </p:nvGrpSpPr>
          <p:grpSpPr>
            <a:xfrm>
              <a:off x="4808520" y="4451400"/>
              <a:ext cx="1029960" cy="625320"/>
              <a:chOff x="4808520" y="4451400"/>
              <a:chExt cx="1029960" cy="625320"/>
            </a:xfrm>
          </p:grpSpPr>
          <p:sp>
            <p:nvSpPr>
              <p:cNvPr id="260" name="Rectangle 200"/>
              <p:cNvSpPr/>
              <p:nvPr/>
            </p:nvSpPr>
            <p:spPr>
              <a:xfrm>
                <a:off x="4884480" y="4451400"/>
                <a:ext cx="87804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,6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Rectangle 221"/>
              <p:cNvSpPr/>
              <p:nvPr/>
            </p:nvSpPr>
            <p:spPr>
              <a:xfrm>
                <a:off x="4808520" y="4451400"/>
                <a:ext cx="102996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Group 224"/>
            <p:cNvGrpSpPr/>
            <p:nvPr/>
          </p:nvGrpSpPr>
          <p:grpSpPr>
            <a:xfrm>
              <a:off x="5838840" y="4451400"/>
              <a:ext cx="923760" cy="625320"/>
              <a:chOff x="5838840" y="4451400"/>
              <a:chExt cx="923760" cy="625320"/>
            </a:xfrm>
          </p:grpSpPr>
          <p:sp>
            <p:nvSpPr>
              <p:cNvPr id="263" name="Rectangle 201"/>
              <p:cNvSpPr/>
              <p:nvPr/>
            </p:nvSpPr>
            <p:spPr>
              <a:xfrm>
                <a:off x="5914800" y="4451400"/>
                <a:ext cx="77112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,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Rectangle 223"/>
              <p:cNvSpPr/>
              <p:nvPr/>
            </p:nvSpPr>
            <p:spPr>
              <a:xfrm>
                <a:off x="5838840" y="4451400"/>
                <a:ext cx="92376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Group 226"/>
            <p:cNvGrpSpPr/>
            <p:nvPr/>
          </p:nvGrpSpPr>
          <p:grpSpPr>
            <a:xfrm>
              <a:off x="6762600" y="4451400"/>
              <a:ext cx="1415880" cy="625320"/>
              <a:chOff x="6762600" y="4451400"/>
              <a:chExt cx="1415880" cy="625320"/>
            </a:xfrm>
          </p:grpSpPr>
          <p:sp>
            <p:nvSpPr>
              <p:cNvPr id="266" name="Rectangle 202"/>
              <p:cNvSpPr/>
              <p:nvPr/>
            </p:nvSpPr>
            <p:spPr>
              <a:xfrm>
                <a:off x="6838920" y="4451400"/>
                <a:ext cx="126360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 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,7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Rectangle 225"/>
              <p:cNvSpPr/>
              <p:nvPr/>
            </p:nvSpPr>
            <p:spPr>
              <a:xfrm>
                <a:off x="6762600" y="4451400"/>
                <a:ext cx="141588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8" name="Text Box 229"/>
          <p:cNvSpPr/>
          <p:nvPr/>
        </p:nvSpPr>
        <p:spPr>
          <a:xfrm>
            <a:off x="1143000" y="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Gehalte aminozuren in grammen per 100 gram eiwi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D6F4-25F8-46E9-9ECB-A61D4C23F47B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Ruw eiwit, </a:t>
            </a:r>
            <a:r>
              <a:rPr b="0" lang="nl-NL" sz="3200" spc="-1" strike="noStrike">
                <a:solidFill>
                  <a:srgbClr val="ffcc66"/>
                </a:solidFill>
                <a:latin typeface="Times New Roman"/>
              </a:rPr>
              <a:t>amiden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Alles wat geen </a:t>
            </a:r>
            <a:r>
              <a:rPr b="0" lang="nl-NL" sz="3600" spc="-1" strike="noStrike">
                <a:solidFill>
                  <a:srgbClr val="ffffff"/>
                </a:solidFill>
                <a:latin typeface="Arial Unicode MS"/>
              </a:rPr>
              <a:t>w.e.</a:t>
            </a: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 is behoort tot de amiden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Oplosbaar en zeer makkelijk te verteren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grpSp>
        <p:nvGrpSpPr>
          <p:cNvPr id="272" name="Group 9"/>
          <p:cNvGrpSpPr/>
          <p:nvPr/>
        </p:nvGrpSpPr>
        <p:grpSpPr>
          <a:xfrm>
            <a:off x="380880" y="3048120"/>
            <a:ext cx="8458200" cy="2844720"/>
            <a:chOff x="380880" y="3048120"/>
            <a:chExt cx="8458200" cy="2844720"/>
          </a:xfrm>
        </p:grpSpPr>
        <p:sp>
          <p:nvSpPr>
            <p:cNvPr id="273" name="Text Box 6"/>
            <p:cNvSpPr/>
            <p:nvPr/>
          </p:nvSpPr>
          <p:spPr>
            <a:xfrm>
              <a:off x="380880" y="3048120"/>
              <a:ext cx="8458200" cy="52056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ffffff"/>
                  </a:solidFill>
                  <a:latin typeface="Arial Unicode MS"/>
                </a:rPr>
                <a:t>Lagere en </a:t>
              </a:r>
              <a:r>
                <a:rPr b="0" lang="nl-NL" sz="2800" spc="-1" strike="noStrike">
                  <a:solidFill>
                    <a:srgbClr val="ffffff"/>
                  </a:solidFill>
                  <a:latin typeface="Arial Unicode MS"/>
                </a:rPr>
                <a:t>	</a:t>
              </a:r>
              <a:r>
                <a:rPr b="0" lang="nl-NL" sz="2800" spc="-1" strike="noStrike">
                  <a:solidFill>
                    <a:srgbClr val="ffffff"/>
                  </a:solidFill>
                  <a:latin typeface="Arial Unicode MS"/>
                </a:rPr>
                <a:t>	</a:t>
              </a:r>
              <a:r>
                <a:rPr b="0" lang="nl-NL" sz="2800" spc="-1" strike="noStrike">
                  <a:solidFill>
                    <a:srgbClr val="ffffff"/>
                  </a:solidFill>
                  <a:latin typeface="Arial Unicode MS"/>
                </a:rPr>
                <a:t>	</a:t>
              </a:r>
              <a:r>
                <a:rPr b="0" lang="nl-NL" sz="2800" spc="-1" strike="noStrike">
                  <a:solidFill>
                    <a:srgbClr val="ffffff"/>
                  </a:solidFill>
                  <a:latin typeface="Arial Unicode MS"/>
                </a:rPr>
                <a:t>	</a:t>
              </a:r>
              <a:r>
                <a:rPr b="0" lang="nl-NL" sz="2800" spc="-1" strike="noStrike">
                  <a:solidFill>
                    <a:srgbClr val="ffffff"/>
                  </a:solidFill>
                  <a:latin typeface="Arial Unicode MS"/>
                </a:rPr>
                <a:t>	</a:t>
              </a:r>
              <a:r>
                <a:rPr b="0" lang="nl-NL" sz="2800" spc="-1" strike="noStrike">
                  <a:solidFill>
                    <a:srgbClr val="ffffff"/>
                  </a:solidFill>
                  <a:latin typeface="Arial Unicode MS"/>
                </a:rPr>
                <a:t>hogere amide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Text Box 7"/>
            <p:cNvSpPr/>
            <p:nvPr/>
          </p:nvSpPr>
          <p:spPr>
            <a:xfrm>
              <a:off x="380880" y="3581280"/>
              <a:ext cx="4038840" cy="231156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NH3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NO3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ureum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Text Box 8"/>
            <p:cNvSpPr/>
            <p:nvPr/>
          </p:nvSpPr>
          <p:spPr>
            <a:xfrm>
              <a:off x="5334120" y="3581280"/>
              <a:ext cx="3504960" cy="231156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Aminozuren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Polypeptiden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peptonen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CC4E-B263-4836-8800-7EE64FD0BD8D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Algemeen amiden</a:t>
            </a: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Amiden zijn afhankelijk van de plaats waar ze worden aangetroffen, eiwitten in opbouw of in afbraak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Eiwitgehalte dierlijk lichaam 10- 20%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Allemaal werkelijk eiwi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Meeste eiwit in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Spieren, Haren, Wol, Hoev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Horens en Pez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8153280" y="5335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90EB-A3CD-4E7E-8594-36CDE03F7557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Delen zonder 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Stikstof vrije gedeelte bestaat uit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Ruw vet en Koolhydrate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3" name="AutoShape 1028"/>
          <p:cNvSpPr/>
          <p:nvPr/>
        </p:nvSpPr>
        <p:spPr>
          <a:xfrm>
            <a:off x="7924680" y="4572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12337"/>
                </a:moveTo>
                <a:lnTo>
                  <a:pt x="17806" y="5330"/>
                </a:lnTo>
                <a:lnTo>
                  <a:pt x="17806" y="1934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6245-1D46-477A-BD42-DE9C619F0275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Ruw Ve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etgehalte wordt bepaalt door Ether methode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Alles wat in ether oplost noemen we ruw ve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Ruw : meestal ook nog wat resten bij i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Hars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Wass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Kleurstoffen, caroteen en chlorofy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Zuivere vet bestaat uit moleculen C,H,O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Een glycerol groep met daaraan 3 vetzuurmolecul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Aard van het vetzuur bepaalt de hardhe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2665-6E70-4635-8696-538423756210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Oliezuur geeft zacht vet, palmitinezuur en stearinezuur geeft hard ve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et bij kamertemp. vloeibaar noemen we olie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Dierlijklichaam 40-50% ve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Afh. van diersoort, conditie, leeftijd d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eel vet in onderhuidsbindweefsel (speklaag vark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In en om de spie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In beenme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In buikhol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Hard en stevig vet rondom nie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8077320" y="45720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12345"/>
                </a:moveTo>
                <a:lnTo>
                  <a:pt x="17806" y="5338"/>
                </a:lnTo>
                <a:lnTo>
                  <a:pt x="17806" y="19351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1D2E-91A9-4E27-82FD-9052BE08A0A3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Onderwerpen van vandaa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Weender analyse van een voedermidd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De eiwit vertering in de koe (theorie)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Pagina’s uit het boek vermeld indien van toepassing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4" name="AutoShape 1028">
            <a:hlinkClick r:id="rId1" action="ppaction://hlinksldjump"/>
          </p:cNvPr>
          <p:cNvSpPr/>
          <p:nvPr/>
        </p:nvSpPr>
        <p:spPr>
          <a:xfrm>
            <a:off x="7162920" y="19810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7B6D-E557-4012-B39A-A420FE3B7D9D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Koolhydraten </a:t>
            </a:r>
            <a:r>
              <a:rPr b="0" lang="nl-NL" sz="1800" spc="-1" strike="noStrike">
                <a:solidFill>
                  <a:srgbClr val="ffcc66"/>
                </a:solidFill>
                <a:latin typeface="Times New Roman"/>
              </a:rPr>
              <a:t>pagina 6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Groot aantal verschillende stoffe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De C,H,O verbindinge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Sommige zeer makkelijk oplosbaar andere zeer moeilijk,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Wanneer het koolhydraat na half koken met geconcentreerd zoutzuur en daarna half uur met loog nog niet oplost noemen we dit een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RUWE CELSTOF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4" name="AutoShape 4"/>
          <p:cNvSpPr/>
          <p:nvPr/>
        </p:nvSpPr>
        <p:spPr>
          <a:xfrm>
            <a:off x="7848720" y="5335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12345"/>
                </a:moveTo>
                <a:lnTo>
                  <a:pt x="17806" y="5338"/>
                </a:lnTo>
                <a:lnTo>
                  <a:pt x="17806" y="19351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FCFD-E6D0-448C-83B5-6127BD605885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Ruwvezel of Ruwe celstof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Celwanden van planten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Onderverdeling in :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Cellulo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utstof( lignin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Kurkst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Hoe ouder de plant hoe meer RC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utstof stijgt voo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Geen RC in dierlijk lichaam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Stimuleert penswerking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Stimuleert herkauwen en vorming speeksel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Vorming van azijnzuur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Levering van energi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DC3B-9484-48E3-B57D-A33387D4D574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Nieuw SW systeem sinds 1998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 Unicode MS"/>
              </a:rPr>
              <a:t>Pagina 4 boek/ pagina 16-17 voedernormenboekje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Naam product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Structuurwaarde per kg ds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Aardappelpersvezels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0,8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Bierbostel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1,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Bietenperspulp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1,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CCM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0,4- 0,6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GPS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2,7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Gras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1,40 – 1,8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Hooi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3,20 – 3,8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Graskuil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2,40 – 3,1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Graszaadstro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4,2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Luzerne ingek.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3,35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Maïsglutenvoer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1,40 – 2,0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Voederbiet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1,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Broksoorten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0,3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DBE9-6833-4BC2-B919-E42BE864ECE0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De structuurwaarde van het rantsoen voor een standaardkoe (25 kg melk, 1</a:t>
            </a:r>
            <a:r>
              <a:rPr b="0" lang="nl-NL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 ,2</a:t>
            </a:r>
            <a:r>
              <a:rPr b="0" lang="nl-NL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 of 3</a:t>
            </a:r>
            <a:r>
              <a:rPr b="0" lang="nl-NL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 lactatie) moet minstens 1,00 bedrage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wanneer het rantsoen krachtvoer twee maal daags gevoerd wordt verstrekt.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Voor afwijkende situaties dienen een aantal correcties op de behoeftenorm te worden uitgevoerd.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Deze staan vermeld in volgende  tabel:</a:t>
            </a: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73B2-71B3-4130-8114-C53945144A3E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Behoeftenormen voor de structuurwaarde van melkvee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Koe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tructuurwaarde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25 kg melk per dag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SW rantsoen &gt; 1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nl-NL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 of 2</a:t>
            </a:r>
            <a:r>
              <a:rPr b="0" lang="nl-NL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 of 3</a:t>
            </a:r>
            <a:r>
              <a:rPr b="0" lang="nl-NL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 lactatie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 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2 KV beurten per dag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ffffff"/>
                </a:solidFill>
                <a:uFillTx/>
                <a:latin typeface="Courier New"/>
                <a:ea typeface="Times New Roman"/>
              </a:rPr>
              <a:t>Vleesvee</a:t>
            </a: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SW rantsoen &gt; 0,75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Correctie voor: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 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-  per kg M minder dan 25 kg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- 0,008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-  per kg M meer dan 25 kg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+ 0,008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Leeftijd: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 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- 4</a:t>
            </a:r>
            <a:r>
              <a:rPr b="0" lang="nl-NL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 lactatie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-0,05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- 5</a:t>
            </a:r>
            <a:r>
              <a:rPr b="0" lang="nl-NL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 lactatie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-0,13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Gespreid KV-gift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-0,1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7EFD-DC4A-45C3-AC87-F75C7C8FD9DB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SW rantso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De berekening van de structuurwaarde (SW) van een rantsoen (per kg DS ) is als volgt: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SW=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 baseline="30000">
                <a:solidFill>
                  <a:srgbClr val="ffffff"/>
                </a:solidFill>
                <a:uFillTx/>
                <a:latin typeface="Arial"/>
                <a:ea typeface="Arial"/>
              </a:rPr>
              <a:t>(kg Ds ruwvoer x SW ruwvoer )  + Ds krachtvoer x SW krachtvoer )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Totale DS opname in kg</a:t>
            </a: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C7A7-DEDA-4399-883F-E4271688DC4F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SW behoef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De SW behoefte van een koe is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SW </a:t>
            </a:r>
            <a:r>
              <a:rPr b="0" lang="nl-NL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koe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= 1,0 + (melkgift –25 ) x 0,008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(evt correcties toepassen)</a:t>
            </a: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oorbeeld in Verkorte Tabel pagina 16-17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1" name="AutoShape 4"/>
          <p:cNvSpPr/>
          <p:nvPr/>
        </p:nvSpPr>
        <p:spPr>
          <a:xfrm>
            <a:off x="7772400" y="609480"/>
            <a:ext cx="457200" cy="6098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840"/>
              <a:gd name="textAreaBottom" fmla="*/ 580320 h 609840"/>
            </a:gdLst>
            <a:ahLst/>
            <a:rect l="textAreaLeft" t="textAreaTop" r="textAreaRight" b="textAreaBottom"/>
            <a:pathLst>
              <a:path w="21600" h="28806">
                <a:moveTo>
                  <a:pt x="0" y="0"/>
                </a:moveTo>
                <a:lnTo>
                  <a:pt x="21600" y="0"/>
                </a:lnTo>
                <a:lnTo>
                  <a:pt x="21600" y="28806"/>
                </a:lnTo>
                <a:lnTo>
                  <a:pt x="0" y="28806"/>
                </a:lnTo>
                <a:close/>
              </a:path>
              <a:path fill="lightenLess" w="21600" h="288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6">
                <a:moveTo>
                  <a:pt x="21600" y="0"/>
                </a:moveTo>
                <a:lnTo>
                  <a:pt x="21600" y="28806"/>
                </a:lnTo>
                <a:lnTo>
                  <a:pt x="20200" y="27406"/>
                </a:lnTo>
                <a:lnTo>
                  <a:pt x="20200" y="1400"/>
                </a:lnTo>
                <a:close/>
              </a:path>
              <a:path fill="darkenLess" w="21600" h="28806">
                <a:moveTo>
                  <a:pt x="21600" y="28806"/>
                </a:moveTo>
                <a:lnTo>
                  <a:pt x="0" y="28806"/>
                </a:lnTo>
                <a:lnTo>
                  <a:pt x="1400" y="27406"/>
                </a:lnTo>
                <a:lnTo>
                  <a:pt x="20200" y="27406"/>
                </a:lnTo>
                <a:close/>
              </a:path>
              <a:path fill="lighten" w="21600" h="28806">
                <a:moveTo>
                  <a:pt x="0" y="288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6"/>
                </a:lnTo>
                <a:close/>
              </a:path>
              <a:path fill="darken" w="21600" h="28806">
                <a:moveTo>
                  <a:pt x="3794" y="14403"/>
                </a:moveTo>
                <a:lnTo>
                  <a:pt x="17806" y="7396"/>
                </a:lnTo>
                <a:lnTo>
                  <a:pt x="17806" y="2140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B709-AA3E-47B5-9EEB-0EB180F30971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Overige koolhydrat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Gehalte wordt niet rechtstreeks bepaald maar berekend uit de res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%OK = 100% - %water - %as - %re - %rv - %rc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aak hoog in voer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Levert daardoor meeste energie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erschillende OK zijn: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Suik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Zetme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Organische zu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7BA3-25D1-4342-A3E1-87BE1356E31F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In dierlijk lichaam erg laag 1%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Zetmeel komt niet voor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Wel een zeker hoeveelheid glycogeen (=dierlijkzetmeel)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Een beetje glucose wordt aangetroffen in het bloed 0,1% en in de spiere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Een belangrijk bestanddeel van melk is melksuiker of lactose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8" name="AutoShape 4"/>
          <p:cNvSpPr/>
          <p:nvPr/>
        </p:nvSpPr>
        <p:spPr>
          <a:xfrm>
            <a:off x="8305920" y="4572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349A-8EE0-4043-A519-F53916865024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Eiwitverter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anaf 1992 een nieuw eiwitwaarderingsysteem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oorheen het VRE systeem, alleen gebaseerd op het verschil tussen opname en uitscheiding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Samenvoeging van delen uit de systemen van: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Amer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Frankrijk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Scandinavische land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9004-E51B-473A-8021-CDE959EBC194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Meet metho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Komt uit het plaatsje Weende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Een methode in het laboratorium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Duurt 1-3 dagen voor hele analy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Kan ook via de NIRS methode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Nabij Infrarood Spectrograf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Wel ijken met lab meth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eel sneller, binnen enkele minu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19C6-E0A5-47C4-8E2F-F5AE299AB7CB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Picture 2" descr="C:\Mijn documenten\Algemene brieven en teksten\AOC zaken\Cursus\Voedingscursus 2000\kringloop eiwi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6742-85E9-46FD-B199-15B7EF430F98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Eiwitverter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Hoeveelheid eiwit uier afh. van verteerbaar darm eiwi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Eiwitleveranciers voor dunne darm: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Pensbacterië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oereiwit (=bestendig eiwit) in dunne darm afh.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an bestendighei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erblijfsduur pens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1. hogere voeropname, kortere verblijfsduur dus minder afbraa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2. Microbieel eiwit afh van h.h.onbestendig eiwit en energie in rantso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EC39-9000-4ED6-8188-C2C91B31FD4A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cc66"/>
                </a:solidFill>
                <a:latin typeface="Times New Roman"/>
              </a:rPr>
              <a:t>Bestendigheid eiwitten</a:t>
            </a:r>
            <a:br>
              <a:rPr sz="2800"/>
            </a:br>
            <a:r>
              <a:rPr b="0" lang="nl-NL" sz="2800" spc="-1" strike="noStrike">
                <a:solidFill>
                  <a:srgbClr val="ffcc66"/>
                </a:solidFill>
                <a:latin typeface="Times New Roman"/>
              </a:rPr>
              <a:t>Verschil in afbraak snelheid in de pens</a:t>
            </a:r>
            <a:br>
              <a:rPr sz="2800"/>
            </a:br>
            <a:r>
              <a:rPr b="0" lang="nl-NL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685800" y="1397160"/>
          <a:ext cx="7696080" cy="515124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rodu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% BRE bestendig ruw eiw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Bloedme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erenme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6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almpittenschilf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Kokosschilf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Katoenzaadschroo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Sojahull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Lijnschilf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Sojaschroo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Koolzaadschroo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Maisglutenvo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ers gr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lupin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2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A062-B7B6-4169-8631-3F2EB6AB041B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1" name="Picture 2" descr="C:\Mijn documenten\Algemene brieven en teksten\AOC zaken\Cursus\Voedingscursus 2000\eiwit vertering in koe.JPG"/>
          <p:cNvPicPr/>
          <p:nvPr/>
        </p:nvPicPr>
        <p:blipFill>
          <a:blip r:embed="rId1"/>
          <a:stretch/>
        </p:blipFill>
        <p:spPr>
          <a:xfrm>
            <a:off x="0" y="254160"/>
            <a:ext cx="9144000" cy="61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19EA-64D5-4B62-9F7A-BBDF92AFA2C9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3" name="Group 19"/>
          <p:cNvGrpSpPr/>
          <p:nvPr/>
        </p:nvGrpSpPr>
        <p:grpSpPr>
          <a:xfrm>
            <a:off x="0" y="1828800"/>
            <a:ext cx="1676520" cy="4086720"/>
            <a:chOff x="0" y="1828800"/>
            <a:chExt cx="1676520" cy="4086720"/>
          </a:xfrm>
        </p:grpSpPr>
        <p:sp>
          <p:nvSpPr>
            <p:cNvPr id="334" name="Text Box 4"/>
            <p:cNvSpPr/>
            <p:nvPr/>
          </p:nvSpPr>
          <p:spPr>
            <a:xfrm>
              <a:off x="0" y="1828800"/>
              <a:ext cx="106668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Pen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Text Box 5"/>
            <p:cNvSpPr/>
            <p:nvPr/>
          </p:nvSpPr>
          <p:spPr>
            <a:xfrm>
              <a:off x="0" y="4191120"/>
              <a:ext cx="167652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lebmaa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Text Box 6"/>
            <p:cNvSpPr/>
            <p:nvPr/>
          </p:nvSpPr>
          <p:spPr>
            <a:xfrm>
              <a:off x="0" y="5334120"/>
              <a:ext cx="106668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dar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7" name="Group 20"/>
          <p:cNvGrpSpPr/>
          <p:nvPr/>
        </p:nvGrpSpPr>
        <p:grpSpPr>
          <a:xfrm>
            <a:off x="1905120" y="0"/>
            <a:ext cx="6324480" cy="1190880"/>
            <a:chOff x="1905120" y="0"/>
            <a:chExt cx="6324480" cy="1190880"/>
          </a:xfrm>
        </p:grpSpPr>
        <p:sp>
          <p:nvSpPr>
            <p:cNvPr id="338" name="Text Box 8"/>
            <p:cNvSpPr/>
            <p:nvPr/>
          </p:nvSpPr>
          <p:spPr>
            <a:xfrm>
              <a:off x="3809880" y="0"/>
              <a:ext cx="2971800" cy="581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Times New Roman"/>
                </a:rPr>
                <a:t>Voer (ruw eiwit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Text Box 9"/>
            <p:cNvSpPr/>
            <p:nvPr/>
          </p:nvSpPr>
          <p:spPr>
            <a:xfrm>
              <a:off x="1905120" y="609480"/>
              <a:ext cx="3657600" cy="581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Times New Roman"/>
                </a:rPr>
                <a:t>Werkelijk eiwi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Text Box 10"/>
            <p:cNvSpPr/>
            <p:nvPr/>
          </p:nvSpPr>
          <p:spPr>
            <a:xfrm>
              <a:off x="6553080" y="609480"/>
              <a:ext cx="1676520" cy="581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Times New Roman"/>
                </a:rPr>
                <a:t>amiden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1" name="Group 46"/>
          <p:cNvGrpSpPr/>
          <p:nvPr/>
        </p:nvGrpSpPr>
        <p:grpSpPr>
          <a:xfrm>
            <a:off x="2895480" y="1143000"/>
            <a:ext cx="4191120" cy="1600200"/>
            <a:chOff x="2895480" y="1143000"/>
            <a:chExt cx="4191120" cy="1600200"/>
          </a:xfrm>
        </p:grpSpPr>
        <p:sp>
          <p:nvSpPr>
            <p:cNvPr id="342" name="AutoShape 21"/>
            <p:cNvSpPr/>
            <p:nvPr/>
          </p:nvSpPr>
          <p:spPr>
            <a:xfrm>
              <a:off x="2895480" y="1143000"/>
              <a:ext cx="152640" cy="838080"/>
            </a:xfrm>
            <a:prstGeom prst="downArrow">
              <a:avLst>
                <a:gd name="adj1" fmla="val 50000"/>
                <a:gd name="adj2" fmla="val 137264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AutoShape 25"/>
            <p:cNvSpPr/>
            <p:nvPr/>
          </p:nvSpPr>
          <p:spPr>
            <a:xfrm>
              <a:off x="6858000" y="1219320"/>
              <a:ext cx="228600" cy="1523880"/>
            </a:xfrm>
            <a:prstGeom prst="downArrow">
              <a:avLst>
                <a:gd name="adj1" fmla="val 50000"/>
                <a:gd name="adj2" fmla="val 166654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AutoShape 26"/>
            <p:cNvSpPr/>
            <p:nvPr/>
          </p:nvSpPr>
          <p:spPr>
            <a:xfrm>
              <a:off x="5257800" y="1143000"/>
              <a:ext cx="228600" cy="838080"/>
            </a:xfrm>
            <a:prstGeom prst="downArrow">
              <a:avLst>
                <a:gd name="adj1" fmla="val 50000"/>
                <a:gd name="adj2" fmla="val 91654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5" name="Group 48"/>
          <p:cNvGrpSpPr/>
          <p:nvPr/>
        </p:nvGrpSpPr>
        <p:grpSpPr>
          <a:xfrm>
            <a:off x="7391520" y="1981080"/>
            <a:ext cx="1752480" cy="4513680"/>
            <a:chOff x="7391520" y="1981080"/>
            <a:chExt cx="1752480" cy="4513680"/>
          </a:xfrm>
        </p:grpSpPr>
        <p:sp>
          <p:nvSpPr>
            <p:cNvPr id="346" name="Text Box 17"/>
            <p:cNvSpPr/>
            <p:nvPr/>
          </p:nvSpPr>
          <p:spPr>
            <a:xfrm>
              <a:off x="8153280" y="1981080"/>
              <a:ext cx="990720" cy="1789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000000"/>
                  </a:solidFill>
                  <a:latin typeface="Times New Roman"/>
                </a:rPr>
                <a:t>NH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000000"/>
                  </a:solidFill>
                  <a:latin typeface="Times New Roman"/>
                </a:rPr>
                <a:t>ureu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Text Box 18"/>
            <p:cNvSpPr/>
            <p:nvPr/>
          </p:nvSpPr>
          <p:spPr>
            <a:xfrm>
              <a:off x="7391520" y="6095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ffffff"/>
                  </a:solidFill>
                  <a:latin typeface="Times New Roman"/>
                </a:rPr>
                <a:t>uri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AutoShape 32"/>
            <p:cNvSpPr/>
            <p:nvPr/>
          </p:nvSpPr>
          <p:spPr>
            <a:xfrm rot="21532200">
              <a:off x="8613720" y="3733560"/>
              <a:ext cx="343080" cy="2361960"/>
            </a:xfrm>
            <a:prstGeom prst="downArrow">
              <a:avLst>
                <a:gd name="adj1" fmla="val 50000"/>
                <a:gd name="adj2" fmla="val 172114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AutoShape 33"/>
            <p:cNvSpPr/>
            <p:nvPr/>
          </p:nvSpPr>
          <p:spPr>
            <a:xfrm rot="21559200">
              <a:off x="8648280" y="2476440"/>
              <a:ext cx="152640" cy="838440"/>
            </a:xfrm>
            <a:prstGeom prst="downArrow">
              <a:avLst>
                <a:gd name="adj1" fmla="val 50000"/>
                <a:gd name="adj2" fmla="val 137323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0" name="Group 52"/>
          <p:cNvGrpSpPr/>
          <p:nvPr/>
        </p:nvGrpSpPr>
        <p:grpSpPr>
          <a:xfrm>
            <a:off x="1752480" y="5410080"/>
            <a:ext cx="6172200" cy="1465920"/>
            <a:chOff x="1752480" y="5410080"/>
            <a:chExt cx="6172200" cy="1465920"/>
          </a:xfrm>
        </p:grpSpPr>
        <p:sp>
          <p:nvSpPr>
            <p:cNvPr id="351" name="Line 34"/>
            <p:cNvSpPr/>
            <p:nvPr/>
          </p:nvSpPr>
          <p:spPr>
            <a:xfrm flipH="1">
              <a:off x="2819160" y="5943600"/>
              <a:ext cx="15228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2" name="Group 51"/>
            <p:cNvGrpSpPr/>
            <p:nvPr/>
          </p:nvGrpSpPr>
          <p:grpSpPr>
            <a:xfrm>
              <a:off x="1752480" y="5410080"/>
              <a:ext cx="6172200" cy="1465920"/>
              <a:chOff x="1752480" y="5410080"/>
              <a:chExt cx="6172200" cy="1465920"/>
            </a:xfrm>
          </p:grpSpPr>
          <p:sp>
            <p:nvSpPr>
              <p:cNvPr id="353" name="Line 35"/>
              <p:cNvSpPr/>
              <p:nvPr/>
            </p:nvSpPr>
            <p:spPr>
              <a:xfrm>
                <a:off x="3352680" y="5791320"/>
                <a:ext cx="1219320" cy="533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Line 36"/>
              <p:cNvSpPr/>
              <p:nvPr/>
            </p:nvSpPr>
            <p:spPr>
              <a:xfrm>
                <a:off x="3581280" y="5791320"/>
                <a:ext cx="2895840" cy="457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55" name="Group 50"/>
              <p:cNvGrpSpPr/>
              <p:nvPr/>
            </p:nvGrpSpPr>
            <p:grpSpPr>
              <a:xfrm>
                <a:off x="1752480" y="5410080"/>
                <a:ext cx="6172200" cy="1465920"/>
                <a:chOff x="1752480" y="5410080"/>
                <a:chExt cx="6172200" cy="1465920"/>
              </a:xfrm>
            </p:grpSpPr>
            <p:sp>
              <p:nvSpPr>
                <p:cNvPr id="356" name="Text Box 13"/>
                <p:cNvSpPr/>
                <p:nvPr/>
              </p:nvSpPr>
              <p:spPr>
                <a:xfrm>
                  <a:off x="1981080" y="5638680"/>
                  <a:ext cx="5943600" cy="398880"/>
                </a:xfrm>
                <a:prstGeom prst="rect">
                  <a:avLst/>
                </a:prstGeom>
                <a:noFill/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0" spc="-1" strike="noStrike">
                      <a:solidFill>
                        <a:srgbClr val="ffffff"/>
                      </a:solidFill>
                      <a:latin typeface="Times New Roman"/>
                    </a:rPr>
                    <a:t>aminozuren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Text Box 14"/>
                <p:cNvSpPr/>
                <p:nvPr/>
              </p:nvSpPr>
              <p:spPr>
                <a:xfrm>
                  <a:off x="1752480" y="6095880"/>
                  <a:ext cx="2819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0" spc="-1" strike="noStrike">
                      <a:solidFill>
                        <a:srgbClr val="ffffff"/>
                      </a:solidFill>
                      <a:latin typeface="Times New Roman"/>
                    </a:rPr>
                    <a:t>melkeiwit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Text Box 15"/>
                <p:cNvSpPr/>
                <p:nvPr/>
              </p:nvSpPr>
              <p:spPr>
                <a:xfrm>
                  <a:off x="4572000" y="6095880"/>
                  <a:ext cx="175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0" spc="-1" strike="noStrike">
                      <a:solidFill>
                        <a:srgbClr val="ffffff"/>
                      </a:solidFill>
                      <a:latin typeface="Times New Roman"/>
                    </a:rPr>
                    <a:t>vle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AutoShape 24"/>
                <p:cNvSpPr/>
                <p:nvPr/>
              </p:nvSpPr>
              <p:spPr>
                <a:xfrm>
                  <a:off x="2666880" y="5410080"/>
                  <a:ext cx="457200" cy="3049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Text Box 37"/>
                <p:cNvSpPr/>
                <p:nvPr/>
              </p:nvSpPr>
              <p:spPr>
                <a:xfrm>
                  <a:off x="3276720" y="6477120"/>
                  <a:ext cx="1295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0" spc="-1" strike="noStrike">
                      <a:solidFill>
                        <a:srgbClr val="ffffff"/>
                      </a:solidFill>
                      <a:latin typeface="Times New Roman"/>
                    </a:rPr>
                    <a:t>energi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1" name="Line 38"/>
              <p:cNvSpPr/>
              <p:nvPr/>
            </p:nvSpPr>
            <p:spPr>
              <a:xfrm>
                <a:off x="3200400" y="5943600"/>
                <a:ext cx="457200" cy="533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2" name="Group 49"/>
          <p:cNvGrpSpPr/>
          <p:nvPr/>
        </p:nvGrpSpPr>
        <p:grpSpPr>
          <a:xfrm>
            <a:off x="1981080" y="4114800"/>
            <a:ext cx="6400800" cy="2379960"/>
            <a:chOff x="1981080" y="4114800"/>
            <a:chExt cx="6400800" cy="2379960"/>
          </a:xfrm>
        </p:grpSpPr>
        <p:sp>
          <p:nvSpPr>
            <p:cNvPr id="363" name="Text Box 12"/>
            <p:cNvSpPr/>
            <p:nvPr/>
          </p:nvSpPr>
          <p:spPr>
            <a:xfrm>
              <a:off x="1981080" y="4114800"/>
              <a:ext cx="5943600" cy="132624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ffffff"/>
                  </a:solidFill>
                  <a:latin typeface="Times New Roman"/>
                </a:rPr>
                <a:t>Eiw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ffffff"/>
                  </a:solidFill>
                  <a:latin typeface="Times New Roman"/>
                </a:rPr>
                <a:t>aminozur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6629400" y="6095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ffffff"/>
                  </a:solidFill>
                  <a:latin typeface="Times New Roman"/>
                </a:rPr>
                <a:t>mes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AutoShape 23"/>
            <p:cNvSpPr/>
            <p:nvPr/>
          </p:nvSpPr>
          <p:spPr>
            <a:xfrm>
              <a:off x="2438280" y="4495680"/>
              <a:ext cx="304920" cy="457200"/>
            </a:xfrm>
            <a:prstGeom prst="downArrow">
              <a:avLst>
                <a:gd name="adj1" fmla="val 50000"/>
                <a:gd name="adj2" fmla="val 37485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Freeform 40"/>
            <p:cNvSpPr/>
            <p:nvPr/>
          </p:nvSpPr>
          <p:spPr>
            <a:xfrm>
              <a:off x="2743200" y="4343400"/>
              <a:ext cx="4038480" cy="1828800"/>
            </a:xfrm>
            <a:custGeom>
              <a:avLst/>
              <a:gdLst>
                <a:gd name="textAreaLeft" fmla="*/ 0 w 4038480"/>
                <a:gd name="textAreaRight" fmla="*/ 4038840 w 403848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2400" h="1152">
                  <a:moveTo>
                    <a:pt x="0" y="0"/>
                  </a:moveTo>
                  <a:lnTo>
                    <a:pt x="528" y="0"/>
                  </a:lnTo>
                  <a:lnTo>
                    <a:pt x="2400" y="0"/>
                  </a:lnTo>
                  <a:lnTo>
                    <a:pt x="2400" y="115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Freeform 44"/>
            <p:cNvSpPr/>
            <p:nvPr/>
          </p:nvSpPr>
          <p:spPr>
            <a:xfrm>
              <a:off x="3429000" y="5257800"/>
              <a:ext cx="3657600" cy="914400"/>
            </a:xfrm>
            <a:custGeom>
              <a:avLst/>
              <a:gdLst>
                <a:gd name="textAreaLeft" fmla="*/ 0 w 3657600"/>
                <a:gd name="textAreaRight" fmla="*/ 3657960 w 36576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400" h="1152">
                  <a:moveTo>
                    <a:pt x="0" y="0"/>
                  </a:moveTo>
                  <a:lnTo>
                    <a:pt x="528" y="0"/>
                  </a:lnTo>
                  <a:lnTo>
                    <a:pt x="2400" y="0"/>
                  </a:lnTo>
                  <a:lnTo>
                    <a:pt x="2400" y="115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8" name="Group 54"/>
          <p:cNvGrpSpPr/>
          <p:nvPr/>
        </p:nvGrpSpPr>
        <p:grpSpPr>
          <a:xfrm>
            <a:off x="1981080" y="1905120"/>
            <a:ext cx="6124680" cy="2361960"/>
            <a:chOff x="1981080" y="1905120"/>
            <a:chExt cx="6124680" cy="2361960"/>
          </a:xfrm>
        </p:grpSpPr>
        <p:grpSp>
          <p:nvGrpSpPr>
            <p:cNvPr id="369" name="Group 47"/>
            <p:cNvGrpSpPr/>
            <p:nvPr/>
          </p:nvGrpSpPr>
          <p:grpSpPr>
            <a:xfrm>
              <a:off x="1981080" y="1905120"/>
              <a:ext cx="6124680" cy="2361960"/>
              <a:chOff x="1981080" y="1905120"/>
              <a:chExt cx="6124680" cy="2361960"/>
            </a:xfrm>
          </p:grpSpPr>
          <p:sp>
            <p:nvSpPr>
              <p:cNvPr id="370" name="Text Box 11"/>
              <p:cNvSpPr/>
              <p:nvPr/>
            </p:nvSpPr>
            <p:spPr>
              <a:xfrm>
                <a:off x="1981080" y="1905120"/>
                <a:ext cx="5943600" cy="2253600"/>
              </a:xfrm>
              <a:prstGeom prst="rect">
                <a:avLst/>
              </a:prstGeom>
              <a:noFill/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Bestendig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onbestendig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aminozure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NH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microbieel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eiwit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0000"/>
                    </a:solidFill>
                    <a:latin typeface="Times New Roman"/>
                  </a:rPr>
                  <a:t>energi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AutoShape 22"/>
              <p:cNvSpPr/>
              <p:nvPr/>
            </p:nvSpPr>
            <p:spPr>
              <a:xfrm>
                <a:off x="2362320" y="2362320"/>
                <a:ext cx="304560" cy="1904760"/>
              </a:xfrm>
              <a:prstGeom prst="downArrow">
                <a:avLst>
                  <a:gd name="adj1" fmla="val 50000"/>
                  <a:gd name="adj2" fmla="val 156353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AutoShape 27"/>
              <p:cNvSpPr/>
              <p:nvPr/>
            </p:nvSpPr>
            <p:spPr>
              <a:xfrm>
                <a:off x="5105520" y="2209680"/>
                <a:ext cx="457200" cy="30492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AutoShape 28"/>
              <p:cNvSpPr/>
              <p:nvPr/>
            </p:nvSpPr>
            <p:spPr>
              <a:xfrm>
                <a:off x="5257800" y="2743200"/>
                <a:ext cx="228600" cy="685800"/>
              </a:xfrm>
              <a:prstGeom prst="downArrow">
                <a:avLst>
                  <a:gd name="adj1" fmla="val 50000"/>
                  <a:gd name="adj2" fmla="val 7500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AutoShape 29"/>
              <p:cNvSpPr/>
              <p:nvPr/>
            </p:nvSpPr>
            <p:spPr>
              <a:xfrm rot="17554200">
                <a:off x="6134040" y="2476080"/>
                <a:ext cx="152280" cy="838080"/>
              </a:xfrm>
              <a:prstGeom prst="downArrow">
                <a:avLst>
                  <a:gd name="adj1" fmla="val 50000"/>
                  <a:gd name="adj2" fmla="val 137589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AutoShape 30"/>
              <p:cNvSpPr/>
              <p:nvPr/>
            </p:nvSpPr>
            <p:spPr>
              <a:xfrm rot="3566400">
                <a:off x="6210000" y="3009960"/>
                <a:ext cx="152640" cy="838440"/>
              </a:xfrm>
              <a:prstGeom prst="downArrow">
                <a:avLst>
                  <a:gd name="adj1" fmla="val 50000"/>
                  <a:gd name="adj2" fmla="val 137323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AutoShape 31"/>
              <p:cNvSpPr/>
              <p:nvPr/>
            </p:nvSpPr>
            <p:spPr>
              <a:xfrm rot="13825800">
                <a:off x="7657920" y="2171160"/>
                <a:ext cx="152280" cy="838080"/>
              </a:xfrm>
              <a:prstGeom prst="downArrow">
                <a:avLst>
                  <a:gd name="adj1" fmla="val 50000"/>
                  <a:gd name="adj2" fmla="val 137589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7" name="AutoShape 53"/>
            <p:cNvSpPr/>
            <p:nvPr/>
          </p:nvSpPr>
          <p:spPr>
            <a:xfrm rot="522600">
              <a:off x="5638320" y="3733560"/>
              <a:ext cx="838440" cy="152280"/>
            </a:xfrm>
            <a:prstGeom prst="leftArrow">
              <a:avLst>
                <a:gd name="adj1" fmla="val 50000"/>
                <a:gd name="adj2" fmla="val 137648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DVE systeem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Korte weergave systematisch zonder formule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DA7F-1BD7-4307-A417-FCFFF77F7859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1" name="Group 84"/>
          <p:cNvGrpSpPr/>
          <p:nvPr/>
        </p:nvGrpSpPr>
        <p:grpSpPr>
          <a:xfrm>
            <a:off x="0" y="609480"/>
            <a:ext cx="1066680" cy="6007320"/>
            <a:chOff x="0" y="609480"/>
            <a:chExt cx="1066680" cy="6007320"/>
          </a:xfrm>
        </p:grpSpPr>
        <p:sp>
          <p:nvSpPr>
            <p:cNvPr id="382" name="Text Box 20"/>
            <p:cNvSpPr/>
            <p:nvPr/>
          </p:nvSpPr>
          <p:spPr>
            <a:xfrm>
              <a:off x="0" y="609480"/>
              <a:ext cx="106668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voe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Text Box 21"/>
            <p:cNvSpPr/>
            <p:nvPr/>
          </p:nvSpPr>
          <p:spPr>
            <a:xfrm>
              <a:off x="0" y="2971800"/>
              <a:ext cx="106668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pen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Text Box 22"/>
            <p:cNvSpPr/>
            <p:nvPr/>
          </p:nvSpPr>
          <p:spPr>
            <a:xfrm>
              <a:off x="0" y="4495680"/>
              <a:ext cx="106668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dar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Text Box 23"/>
            <p:cNvSpPr/>
            <p:nvPr/>
          </p:nvSpPr>
          <p:spPr>
            <a:xfrm>
              <a:off x="0" y="5791320"/>
              <a:ext cx="1066680" cy="8254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Weef-sel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6" name="Group 31"/>
          <p:cNvGrpSpPr/>
          <p:nvPr/>
        </p:nvGrpSpPr>
        <p:grpSpPr>
          <a:xfrm>
            <a:off x="1981080" y="533520"/>
            <a:ext cx="6477120" cy="642600"/>
            <a:chOff x="1981080" y="533520"/>
            <a:chExt cx="6477120" cy="642600"/>
          </a:xfrm>
        </p:grpSpPr>
        <p:sp>
          <p:nvSpPr>
            <p:cNvPr id="387" name="Text Box 26"/>
            <p:cNvSpPr/>
            <p:nvPr/>
          </p:nvSpPr>
          <p:spPr>
            <a:xfrm>
              <a:off x="1981080" y="533520"/>
              <a:ext cx="1828800" cy="6426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Eiwit re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Text Box 29"/>
            <p:cNvSpPr/>
            <p:nvPr/>
          </p:nvSpPr>
          <p:spPr>
            <a:xfrm>
              <a:off x="4343400" y="533520"/>
              <a:ext cx="1828800" cy="52056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ffffff"/>
                  </a:solidFill>
                  <a:latin typeface="Times New Roman"/>
                </a:rPr>
                <a:t>Energie o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Text Box 30"/>
            <p:cNvSpPr/>
            <p:nvPr/>
          </p:nvSpPr>
          <p:spPr>
            <a:xfrm>
              <a:off x="6629400" y="533520"/>
              <a:ext cx="182880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drogestof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0" name="Group 82"/>
          <p:cNvGrpSpPr/>
          <p:nvPr/>
        </p:nvGrpSpPr>
        <p:grpSpPr>
          <a:xfrm>
            <a:off x="4876920" y="2895480"/>
            <a:ext cx="2743200" cy="642600"/>
            <a:chOff x="4876920" y="2895480"/>
            <a:chExt cx="2743200" cy="642600"/>
          </a:xfrm>
        </p:grpSpPr>
        <p:sp>
          <p:nvSpPr>
            <p:cNvPr id="391" name="Text Box 40"/>
            <p:cNvSpPr/>
            <p:nvPr/>
          </p:nvSpPr>
          <p:spPr>
            <a:xfrm>
              <a:off x="4876920" y="2895480"/>
              <a:ext cx="30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Text Box 41"/>
            <p:cNvSpPr/>
            <p:nvPr/>
          </p:nvSpPr>
          <p:spPr>
            <a:xfrm>
              <a:off x="6705720" y="30481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ffffff"/>
                  </a:solidFill>
                  <a:latin typeface="Times New Roman"/>
                </a:rPr>
                <a:t>= O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3" name="Text Box 42"/>
          <p:cNvSpPr/>
          <p:nvPr/>
        </p:nvSpPr>
        <p:spPr>
          <a:xfrm>
            <a:off x="2590920" y="5715000"/>
            <a:ext cx="426708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Darmverteerbaar eiwit D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4" name="Group 68"/>
          <p:cNvGrpSpPr/>
          <p:nvPr/>
        </p:nvGrpSpPr>
        <p:grpSpPr>
          <a:xfrm>
            <a:off x="1905120" y="1371600"/>
            <a:ext cx="1447560" cy="2151720"/>
            <a:chOff x="1905120" y="1371600"/>
            <a:chExt cx="1447560" cy="2151720"/>
          </a:xfrm>
        </p:grpSpPr>
        <p:sp>
          <p:nvSpPr>
            <p:cNvPr id="395" name="Text Box 33"/>
            <p:cNvSpPr/>
            <p:nvPr/>
          </p:nvSpPr>
          <p:spPr>
            <a:xfrm>
              <a:off x="1905120" y="2819520"/>
              <a:ext cx="1447560" cy="7038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000" spc="-1" strike="noStrike">
                  <a:solidFill>
                    <a:srgbClr val="ffffff"/>
                  </a:solidFill>
                  <a:latin typeface="Times New Roman"/>
                </a:rPr>
                <a:t>Bestendig voereiw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AutoShape 49"/>
            <p:cNvSpPr/>
            <p:nvPr/>
          </p:nvSpPr>
          <p:spPr>
            <a:xfrm>
              <a:off x="2514600" y="1371600"/>
              <a:ext cx="304920" cy="1143000"/>
            </a:xfrm>
            <a:prstGeom prst="downArrow">
              <a:avLst>
                <a:gd name="adj1" fmla="val 50000"/>
                <a:gd name="adj2" fmla="val 93713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Group 69"/>
          <p:cNvGrpSpPr/>
          <p:nvPr/>
        </p:nvGrpSpPr>
        <p:grpSpPr>
          <a:xfrm>
            <a:off x="1752480" y="3657600"/>
            <a:ext cx="2133720" cy="1541880"/>
            <a:chOff x="1752480" y="3657600"/>
            <a:chExt cx="2133720" cy="1541880"/>
          </a:xfrm>
        </p:grpSpPr>
        <p:sp>
          <p:nvSpPr>
            <p:cNvPr id="398" name="Text Box 34"/>
            <p:cNvSpPr/>
            <p:nvPr/>
          </p:nvSpPr>
          <p:spPr>
            <a:xfrm>
              <a:off x="1752480" y="4495680"/>
              <a:ext cx="2133720" cy="7038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000" spc="-1" strike="noStrike">
                  <a:solidFill>
                    <a:srgbClr val="ffffff"/>
                  </a:solidFill>
                  <a:latin typeface="Times New Roman"/>
                </a:rPr>
                <a:t>Darmverteerbaar bestendig eiw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AutoShape 50"/>
            <p:cNvSpPr/>
            <p:nvPr/>
          </p:nvSpPr>
          <p:spPr>
            <a:xfrm>
              <a:off x="2514600" y="3657600"/>
              <a:ext cx="304920" cy="914400"/>
            </a:xfrm>
            <a:prstGeom prst="downArrow">
              <a:avLst>
                <a:gd name="adj1" fmla="val 50000"/>
                <a:gd name="adj2" fmla="val 74970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0" name="Group 73"/>
          <p:cNvGrpSpPr/>
          <p:nvPr/>
        </p:nvGrpSpPr>
        <p:grpSpPr>
          <a:xfrm>
            <a:off x="4038480" y="1219320"/>
            <a:ext cx="2210040" cy="1084680"/>
            <a:chOff x="4038480" y="1219320"/>
            <a:chExt cx="2210040" cy="1084680"/>
          </a:xfrm>
        </p:grpSpPr>
        <p:sp>
          <p:nvSpPr>
            <p:cNvPr id="401" name="Text Box 32"/>
            <p:cNvSpPr/>
            <p:nvPr/>
          </p:nvSpPr>
          <p:spPr>
            <a:xfrm>
              <a:off x="4038480" y="1600200"/>
              <a:ext cx="2210040" cy="7038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000" spc="-1" strike="noStrike">
                  <a:solidFill>
                    <a:srgbClr val="ffffff"/>
                  </a:solidFill>
                  <a:latin typeface="Times New Roman"/>
                </a:rPr>
                <a:t>Fermenteerbare org.stof F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AutoShape 51"/>
            <p:cNvSpPr/>
            <p:nvPr/>
          </p:nvSpPr>
          <p:spPr>
            <a:xfrm>
              <a:off x="5562720" y="1219320"/>
              <a:ext cx="228600" cy="4572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3" name="Group 70"/>
          <p:cNvGrpSpPr/>
          <p:nvPr/>
        </p:nvGrpSpPr>
        <p:grpSpPr>
          <a:xfrm>
            <a:off x="4343400" y="3809880"/>
            <a:ext cx="2133720" cy="1389600"/>
            <a:chOff x="4343400" y="3809880"/>
            <a:chExt cx="2133720" cy="1389600"/>
          </a:xfrm>
        </p:grpSpPr>
        <p:sp>
          <p:nvSpPr>
            <p:cNvPr id="404" name="Text Box 36"/>
            <p:cNvSpPr/>
            <p:nvPr/>
          </p:nvSpPr>
          <p:spPr>
            <a:xfrm>
              <a:off x="4343400" y="4495680"/>
              <a:ext cx="2133720" cy="7038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000" spc="-1" strike="noStrike">
                  <a:solidFill>
                    <a:srgbClr val="ffffff"/>
                  </a:solidFill>
                  <a:latin typeface="Times New Roman"/>
                </a:rPr>
                <a:t>Darmverteerbaar microbieel eiw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AutoShape 52"/>
            <p:cNvSpPr/>
            <p:nvPr/>
          </p:nvSpPr>
          <p:spPr>
            <a:xfrm>
              <a:off x="5486400" y="3809880"/>
              <a:ext cx="228600" cy="762120"/>
            </a:xfrm>
            <a:prstGeom prst="downArrow">
              <a:avLst>
                <a:gd name="adj1" fmla="val 50000"/>
                <a:gd name="adj2" fmla="val 83346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6" name="Group 71"/>
          <p:cNvGrpSpPr/>
          <p:nvPr/>
        </p:nvGrpSpPr>
        <p:grpSpPr>
          <a:xfrm>
            <a:off x="5181480" y="2133720"/>
            <a:ext cx="1600200" cy="1602720"/>
            <a:chOff x="5181480" y="2133720"/>
            <a:chExt cx="1600200" cy="1602720"/>
          </a:xfrm>
        </p:grpSpPr>
        <p:sp>
          <p:nvSpPr>
            <p:cNvPr id="407" name="Text Box 39"/>
            <p:cNvSpPr/>
            <p:nvPr/>
          </p:nvSpPr>
          <p:spPr>
            <a:xfrm>
              <a:off x="5181480" y="2819520"/>
              <a:ext cx="1600200" cy="91692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ffffff"/>
                  </a:solidFill>
                  <a:latin typeface="Times New Roman"/>
                </a:rPr>
                <a:t>Microbieel eiwit op energiebas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AutoShape 54"/>
            <p:cNvSpPr/>
            <p:nvPr/>
          </p:nvSpPr>
          <p:spPr>
            <a:xfrm>
              <a:off x="5562720" y="2133720"/>
              <a:ext cx="304560" cy="685800"/>
            </a:xfrm>
            <a:prstGeom prst="downArrow">
              <a:avLst>
                <a:gd name="adj1" fmla="val 50000"/>
                <a:gd name="adj2" fmla="val 56294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9" name="Group 74"/>
          <p:cNvGrpSpPr/>
          <p:nvPr/>
        </p:nvGrpSpPr>
        <p:grpSpPr>
          <a:xfrm>
            <a:off x="7620120" y="1371600"/>
            <a:ext cx="1523880" cy="2700000"/>
            <a:chOff x="7620120" y="1371600"/>
            <a:chExt cx="1523880" cy="2700000"/>
          </a:xfrm>
        </p:grpSpPr>
        <p:sp>
          <p:nvSpPr>
            <p:cNvPr id="410" name="AutoShape 53"/>
            <p:cNvSpPr/>
            <p:nvPr/>
          </p:nvSpPr>
          <p:spPr>
            <a:xfrm>
              <a:off x="8077320" y="1371600"/>
              <a:ext cx="304560" cy="2133720"/>
            </a:xfrm>
            <a:prstGeom prst="downArrow">
              <a:avLst>
                <a:gd name="adj1" fmla="val 50000"/>
                <a:gd name="adj2" fmla="val 175148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Text Box 55"/>
            <p:cNvSpPr/>
            <p:nvPr/>
          </p:nvSpPr>
          <p:spPr>
            <a:xfrm>
              <a:off x="7620120" y="3429000"/>
              <a:ext cx="1523880" cy="6426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ffffff"/>
                  </a:solidFill>
                  <a:latin typeface="Times New Roman"/>
                </a:rPr>
                <a:t>Onverteer-bare d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2" name="Group 75"/>
          <p:cNvGrpSpPr/>
          <p:nvPr/>
        </p:nvGrpSpPr>
        <p:grpSpPr>
          <a:xfrm>
            <a:off x="6477120" y="4038480"/>
            <a:ext cx="2438280" cy="1465920"/>
            <a:chOff x="6477120" y="4038480"/>
            <a:chExt cx="2438280" cy="1465920"/>
          </a:xfrm>
        </p:grpSpPr>
        <p:sp>
          <p:nvSpPr>
            <p:cNvPr id="413" name="Text Box 37"/>
            <p:cNvSpPr/>
            <p:nvPr/>
          </p:nvSpPr>
          <p:spPr>
            <a:xfrm>
              <a:off x="6477120" y="4495680"/>
              <a:ext cx="2438280" cy="100872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000" spc="-1" strike="noStrike">
                  <a:solidFill>
                    <a:srgbClr val="ffffff"/>
                  </a:solidFill>
                  <a:latin typeface="Times New Roman"/>
                </a:rPr>
                <a:t>Darmverteerbaar metabool faecaal eiw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AutoShape 56"/>
            <p:cNvSpPr/>
            <p:nvPr/>
          </p:nvSpPr>
          <p:spPr>
            <a:xfrm>
              <a:off x="8001000" y="4038480"/>
              <a:ext cx="228600" cy="533520"/>
            </a:xfrm>
            <a:prstGeom prst="downArrow">
              <a:avLst>
                <a:gd name="adj1" fmla="val 50000"/>
                <a:gd name="adj2" fmla="val 58346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5" name="Group 72"/>
          <p:cNvGrpSpPr/>
          <p:nvPr/>
        </p:nvGrpSpPr>
        <p:grpSpPr>
          <a:xfrm>
            <a:off x="2939040" y="1310760"/>
            <a:ext cx="1937880" cy="2425680"/>
            <a:chOff x="2939040" y="1310760"/>
            <a:chExt cx="1937880" cy="2425680"/>
          </a:xfrm>
        </p:grpSpPr>
        <p:sp>
          <p:nvSpPr>
            <p:cNvPr id="416" name="Text Box 38"/>
            <p:cNvSpPr/>
            <p:nvPr/>
          </p:nvSpPr>
          <p:spPr>
            <a:xfrm>
              <a:off x="3505320" y="2819520"/>
              <a:ext cx="1371600" cy="91692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ffffff"/>
                  </a:solidFill>
                  <a:latin typeface="Times New Roman"/>
                </a:rPr>
                <a:t>Microbieel eiwit op N-bas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AutoShape 58"/>
            <p:cNvSpPr/>
            <p:nvPr/>
          </p:nvSpPr>
          <p:spPr>
            <a:xfrm rot="20011200">
              <a:off x="3252960" y="1301400"/>
              <a:ext cx="307800" cy="1481040"/>
            </a:xfrm>
            <a:prstGeom prst="downArrow">
              <a:avLst>
                <a:gd name="adj1" fmla="val 50000"/>
                <a:gd name="adj2" fmla="val 120292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Group 83"/>
          <p:cNvGrpSpPr/>
          <p:nvPr/>
        </p:nvGrpSpPr>
        <p:grpSpPr>
          <a:xfrm>
            <a:off x="1219320" y="6095520"/>
            <a:ext cx="7619760" cy="763920"/>
            <a:chOff x="1219320" y="6095520"/>
            <a:chExt cx="7619760" cy="763920"/>
          </a:xfrm>
        </p:grpSpPr>
        <p:sp>
          <p:nvSpPr>
            <p:cNvPr id="419" name="Line 59"/>
            <p:cNvSpPr/>
            <p:nvPr/>
          </p:nvSpPr>
          <p:spPr>
            <a:xfrm flipV="1">
              <a:off x="2286000" y="6095520"/>
              <a:ext cx="60948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0" name="Group 64"/>
            <p:cNvGrpSpPr/>
            <p:nvPr/>
          </p:nvGrpSpPr>
          <p:grpSpPr>
            <a:xfrm>
              <a:off x="1219320" y="6095880"/>
              <a:ext cx="7619760" cy="763560"/>
              <a:chOff x="1219320" y="6095880"/>
              <a:chExt cx="7619760" cy="763560"/>
            </a:xfrm>
          </p:grpSpPr>
          <p:sp>
            <p:nvSpPr>
              <p:cNvPr id="421" name="Text Box 43"/>
              <p:cNvSpPr/>
              <p:nvPr/>
            </p:nvSpPr>
            <p:spPr>
              <a:xfrm>
                <a:off x="1219320" y="6248520"/>
                <a:ext cx="1904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800" spc="-1" strike="noStrike">
                    <a:solidFill>
                      <a:srgbClr val="ffffff"/>
                    </a:solidFill>
                    <a:latin typeface="Times New Roman"/>
                  </a:rPr>
                  <a:t>eiwitmobilisati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Text Box 44"/>
              <p:cNvSpPr/>
              <p:nvPr/>
            </p:nvSpPr>
            <p:spPr>
              <a:xfrm>
                <a:off x="2743200" y="6491160"/>
                <a:ext cx="129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800" spc="-1" strike="noStrike">
                    <a:solidFill>
                      <a:srgbClr val="ffffff"/>
                    </a:solidFill>
                    <a:latin typeface="Times New Roman"/>
                  </a:rPr>
                  <a:t>groei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Text Box 45"/>
              <p:cNvSpPr/>
              <p:nvPr/>
            </p:nvSpPr>
            <p:spPr>
              <a:xfrm>
                <a:off x="3962520" y="6491160"/>
                <a:ext cx="137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800" spc="-1" strike="noStrike">
                    <a:solidFill>
                      <a:srgbClr val="ffffff"/>
                    </a:solidFill>
                    <a:latin typeface="Times New Roman"/>
                  </a:rPr>
                  <a:t>drach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Text Box 46"/>
              <p:cNvSpPr/>
              <p:nvPr/>
            </p:nvSpPr>
            <p:spPr>
              <a:xfrm>
                <a:off x="5257800" y="6491160"/>
                <a:ext cx="167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800" spc="-1" strike="noStrike">
                    <a:solidFill>
                      <a:srgbClr val="ffffff"/>
                    </a:solidFill>
                    <a:latin typeface="Times New Roman"/>
                  </a:rPr>
                  <a:t>onderhoud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Text Box 47"/>
              <p:cNvSpPr/>
              <p:nvPr/>
            </p:nvSpPr>
            <p:spPr>
              <a:xfrm>
                <a:off x="6934320" y="6095880"/>
                <a:ext cx="1904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800" spc="-1" strike="noStrike">
                    <a:solidFill>
                      <a:srgbClr val="ffffff"/>
                    </a:solidFill>
                    <a:latin typeface="Times New Roman"/>
                  </a:rPr>
                  <a:t>producti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Line 60"/>
              <p:cNvSpPr/>
              <p:nvPr/>
            </p:nvSpPr>
            <p:spPr>
              <a:xfrm flipH="1">
                <a:off x="3276360" y="6172200"/>
                <a:ext cx="152280" cy="304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Line 61"/>
              <p:cNvSpPr/>
              <p:nvPr/>
            </p:nvSpPr>
            <p:spPr>
              <a:xfrm>
                <a:off x="4419720" y="6172200"/>
                <a:ext cx="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Line 62"/>
              <p:cNvSpPr/>
              <p:nvPr/>
            </p:nvSpPr>
            <p:spPr>
              <a:xfrm>
                <a:off x="5791320" y="6172200"/>
                <a:ext cx="152280" cy="304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Line 63"/>
              <p:cNvSpPr/>
              <p:nvPr/>
            </p:nvSpPr>
            <p:spPr>
              <a:xfrm>
                <a:off x="6477120" y="6095880"/>
                <a:ext cx="457200" cy="15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0" name="Group 81"/>
          <p:cNvGrpSpPr/>
          <p:nvPr/>
        </p:nvGrpSpPr>
        <p:grpSpPr>
          <a:xfrm>
            <a:off x="2943720" y="5181480"/>
            <a:ext cx="942480" cy="642600"/>
            <a:chOff x="2943720" y="5181480"/>
            <a:chExt cx="942480" cy="642600"/>
          </a:xfrm>
        </p:grpSpPr>
        <p:sp>
          <p:nvSpPr>
            <p:cNvPr id="431" name="AutoShape 65"/>
            <p:cNvSpPr/>
            <p:nvPr/>
          </p:nvSpPr>
          <p:spPr>
            <a:xfrm rot="19159800">
              <a:off x="3123720" y="5181480"/>
              <a:ext cx="152640" cy="609840"/>
            </a:xfrm>
            <a:prstGeom prst="downArrow">
              <a:avLst>
                <a:gd name="adj1" fmla="val 50000"/>
                <a:gd name="adj2" fmla="val 99882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Text Box 76"/>
            <p:cNvSpPr/>
            <p:nvPr/>
          </p:nvSpPr>
          <p:spPr>
            <a:xfrm>
              <a:off x="3429000" y="51814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3" name="Group 80"/>
          <p:cNvGrpSpPr/>
          <p:nvPr/>
        </p:nvGrpSpPr>
        <p:grpSpPr>
          <a:xfrm>
            <a:off x="4952880" y="5181480"/>
            <a:ext cx="762120" cy="718920"/>
            <a:chOff x="4952880" y="5181480"/>
            <a:chExt cx="762120" cy="718920"/>
          </a:xfrm>
        </p:grpSpPr>
        <p:sp>
          <p:nvSpPr>
            <p:cNvPr id="434" name="AutoShape 66"/>
            <p:cNvSpPr/>
            <p:nvPr/>
          </p:nvSpPr>
          <p:spPr>
            <a:xfrm>
              <a:off x="4952880" y="5181480"/>
              <a:ext cx="228600" cy="685800"/>
            </a:xfrm>
            <a:prstGeom prst="downArrow">
              <a:avLst>
                <a:gd name="adj1" fmla="val 50000"/>
                <a:gd name="adj2" fmla="val 7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Text Box 77"/>
            <p:cNvSpPr/>
            <p:nvPr/>
          </p:nvSpPr>
          <p:spPr>
            <a:xfrm>
              <a:off x="5257800" y="52578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6" name="Group 79"/>
          <p:cNvGrpSpPr/>
          <p:nvPr/>
        </p:nvGrpSpPr>
        <p:grpSpPr>
          <a:xfrm>
            <a:off x="6482520" y="5284440"/>
            <a:ext cx="909000" cy="768240"/>
            <a:chOff x="6482520" y="5284440"/>
            <a:chExt cx="909000" cy="768240"/>
          </a:xfrm>
        </p:grpSpPr>
        <p:sp>
          <p:nvSpPr>
            <p:cNvPr id="437" name="AutoShape 67"/>
            <p:cNvSpPr/>
            <p:nvPr/>
          </p:nvSpPr>
          <p:spPr>
            <a:xfrm rot="3239400">
              <a:off x="6743520" y="5219640"/>
              <a:ext cx="228600" cy="761760"/>
            </a:xfrm>
            <a:prstGeom prst="downArrow">
              <a:avLst>
                <a:gd name="adj1" fmla="val 50000"/>
                <a:gd name="adj2" fmla="val 8330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Text Box 78"/>
            <p:cNvSpPr/>
            <p:nvPr/>
          </p:nvSpPr>
          <p:spPr>
            <a:xfrm>
              <a:off x="6934320" y="54100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0727-5003-4407-8D44-B07012F959E7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Rectangle 60"/>
          <p:cNvSpPr/>
          <p:nvPr/>
        </p:nvSpPr>
        <p:spPr>
          <a:xfrm>
            <a:off x="2819520" y="2362320"/>
            <a:ext cx="5105160" cy="182880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1" name="Group 2"/>
          <p:cNvGrpSpPr/>
          <p:nvPr/>
        </p:nvGrpSpPr>
        <p:grpSpPr>
          <a:xfrm>
            <a:off x="0" y="609480"/>
            <a:ext cx="1066680" cy="6007320"/>
            <a:chOff x="0" y="609480"/>
            <a:chExt cx="1066680" cy="6007320"/>
          </a:xfrm>
        </p:grpSpPr>
        <p:sp>
          <p:nvSpPr>
            <p:cNvPr id="442" name="Text Box 3"/>
            <p:cNvSpPr/>
            <p:nvPr/>
          </p:nvSpPr>
          <p:spPr>
            <a:xfrm>
              <a:off x="0" y="609480"/>
              <a:ext cx="106668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voe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Text Box 4"/>
            <p:cNvSpPr/>
            <p:nvPr/>
          </p:nvSpPr>
          <p:spPr>
            <a:xfrm>
              <a:off x="0" y="2971800"/>
              <a:ext cx="106668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pen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Text Box 5"/>
            <p:cNvSpPr/>
            <p:nvPr/>
          </p:nvSpPr>
          <p:spPr>
            <a:xfrm>
              <a:off x="0" y="4495680"/>
              <a:ext cx="106668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dar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Text Box 6"/>
            <p:cNvSpPr/>
            <p:nvPr/>
          </p:nvSpPr>
          <p:spPr>
            <a:xfrm>
              <a:off x="0" y="5791320"/>
              <a:ext cx="1066680" cy="8254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Weef-sel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6" name="Group 7"/>
          <p:cNvGrpSpPr/>
          <p:nvPr/>
        </p:nvGrpSpPr>
        <p:grpSpPr>
          <a:xfrm>
            <a:off x="1981080" y="533520"/>
            <a:ext cx="6477120" cy="642600"/>
            <a:chOff x="1981080" y="533520"/>
            <a:chExt cx="6477120" cy="642600"/>
          </a:xfrm>
        </p:grpSpPr>
        <p:sp>
          <p:nvSpPr>
            <p:cNvPr id="447" name="Text Box 8"/>
            <p:cNvSpPr/>
            <p:nvPr/>
          </p:nvSpPr>
          <p:spPr>
            <a:xfrm>
              <a:off x="1981080" y="533520"/>
              <a:ext cx="1828800" cy="6426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Eiwit re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Text Box 9"/>
            <p:cNvSpPr/>
            <p:nvPr/>
          </p:nvSpPr>
          <p:spPr>
            <a:xfrm>
              <a:off x="4343400" y="533520"/>
              <a:ext cx="1828800" cy="52056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ffffff"/>
                  </a:solidFill>
                  <a:latin typeface="Times New Roman"/>
                </a:rPr>
                <a:t>Energie o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Text Box 10"/>
            <p:cNvSpPr/>
            <p:nvPr/>
          </p:nvSpPr>
          <p:spPr>
            <a:xfrm>
              <a:off x="6629400" y="533520"/>
              <a:ext cx="182880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drogestof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Group 11"/>
          <p:cNvGrpSpPr/>
          <p:nvPr/>
        </p:nvGrpSpPr>
        <p:grpSpPr>
          <a:xfrm>
            <a:off x="4876920" y="2895480"/>
            <a:ext cx="2743200" cy="642600"/>
            <a:chOff x="4876920" y="2895480"/>
            <a:chExt cx="2743200" cy="642600"/>
          </a:xfrm>
        </p:grpSpPr>
        <p:sp>
          <p:nvSpPr>
            <p:cNvPr id="451" name="Text Box 12"/>
            <p:cNvSpPr/>
            <p:nvPr/>
          </p:nvSpPr>
          <p:spPr>
            <a:xfrm>
              <a:off x="4876920" y="2895480"/>
              <a:ext cx="30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Text Box 13"/>
            <p:cNvSpPr/>
            <p:nvPr/>
          </p:nvSpPr>
          <p:spPr>
            <a:xfrm>
              <a:off x="6705720" y="30481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Times New Roman"/>
                </a:rPr>
                <a:t>= O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3" name="Text Box 14"/>
          <p:cNvSpPr/>
          <p:nvPr/>
        </p:nvSpPr>
        <p:spPr>
          <a:xfrm>
            <a:off x="2590920" y="5715000"/>
            <a:ext cx="426708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Darmverteerbaar eiwit D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4" name="Group 21"/>
          <p:cNvGrpSpPr/>
          <p:nvPr/>
        </p:nvGrpSpPr>
        <p:grpSpPr>
          <a:xfrm>
            <a:off x="4038480" y="1219320"/>
            <a:ext cx="2210040" cy="1084680"/>
            <a:chOff x="4038480" y="1219320"/>
            <a:chExt cx="2210040" cy="1084680"/>
          </a:xfrm>
        </p:grpSpPr>
        <p:sp>
          <p:nvSpPr>
            <p:cNvPr id="455" name="Text Box 22"/>
            <p:cNvSpPr/>
            <p:nvPr/>
          </p:nvSpPr>
          <p:spPr>
            <a:xfrm>
              <a:off x="4038480" y="1600200"/>
              <a:ext cx="2210040" cy="7038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000" spc="-1" strike="noStrike">
                  <a:solidFill>
                    <a:srgbClr val="ffffff"/>
                  </a:solidFill>
                  <a:latin typeface="Times New Roman"/>
                </a:rPr>
                <a:t>Fermenteerbare org.stof F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AutoShape 23"/>
            <p:cNvSpPr/>
            <p:nvPr/>
          </p:nvSpPr>
          <p:spPr>
            <a:xfrm>
              <a:off x="5562720" y="1219320"/>
              <a:ext cx="228600" cy="4572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7" name="Group 24"/>
          <p:cNvGrpSpPr/>
          <p:nvPr/>
        </p:nvGrpSpPr>
        <p:grpSpPr>
          <a:xfrm>
            <a:off x="4343400" y="3809880"/>
            <a:ext cx="2133720" cy="1389600"/>
            <a:chOff x="4343400" y="3809880"/>
            <a:chExt cx="2133720" cy="1389600"/>
          </a:xfrm>
        </p:grpSpPr>
        <p:sp>
          <p:nvSpPr>
            <p:cNvPr id="458" name="Text Box 25"/>
            <p:cNvSpPr/>
            <p:nvPr/>
          </p:nvSpPr>
          <p:spPr>
            <a:xfrm>
              <a:off x="4343400" y="4495680"/>
              <a:ext cx="2133720" cy="7038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000" spc="-1" strike="noStrike">
                  <a:solidFill>
                    <a:srgbClr val="ffffff"/>
                  </a:solidFill>
                  <a:latin typeface="Times New Roman"/>
                </a:rPr>
                <a:t>Darmverteerbaar microbieel eiw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AutoShape 26"/>
            <p:cNvSpPr/>
            <p:nvPr/>
          </p:nvSpPr>
          <p:spPr>
            <a:xfrm>
              <a:off x="5486400" y="3809880"/>
              <a:ext cx="228600" cy="762120"/>
            </a:xfrm>
            <a:prstGeom prst="downArrow">
              <a:avLst>
                <a:gd name="adj1" fmla="val 50000"/>
                <a:gd name="adj2" fmla="val 83346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0" name="Group 27"/>
          <p:cNvGrpSpPr/>
          <p:nvPr/>
        </p:nvGrpSpPr>
        <p:grpSpPr>
          <a:xfrm>
            <a:off x="5181480" y="2133720"/>
            <a:ext cx="1600200" cy="1602720"/>
            <a:chOff x="5181480" y="2133720"/>
            <a:chExt cx="1600200" cy="1602720"/>
          </a:xfrm>
        </p:grpSpPr>
        <p:sp>
          <p:nvSpPr>
            <p:cNvPr id="461" name="Text Box 28"/>
            <p:cNvSpPr/>
            <p:nvPr/>
          </p:nvSpPr>
          <p:spPr>
            <a:xfrm>
              <a:off x="5181480" y="2819520"/>
              <a:ext cx="1600200" cy="91692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Times New Roman"/>
                </a:rPr>
                <a:t>Microbieel eiwit op energiebas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AutoShape 29"/>
            <p:cNvSpPr/>
            <p:nvPr/>
          </p:nvSpPr>
          <p:spPr>
            <a:xfrm>
              <a:off x="5562720" y="2133720"/>
              <a:ext cx="304560" cy="685800"/>
            </a:xfrm>
            <a:prstGeom prst="downArrow">
              <a:avLst>
                <a:gd name="adj1" fmla="val 50000"/>
                <a:gd name="adj2" fmla="val 56294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3" name="Group 36"/>
          <p:cNvGrpSpPr/>
          <p:nvPr/>
        </p:nvGrpSpPr>
        <p:grpSpPr>
          <a:xfrm>
            <a:off x="2939040" y="1310760"/>
            <a:ext cx="1937880" cy="2425680"/>
            <a:chOff x="2939040" y="1310760"/>
            <a:chExt cx="1937880" cy="2425680"/>
          </a:xfrm>
        </p:grpSpPr>
        <p:sp>
          <p:nvSpPr>
            <p:cNvPr id="464" name="Text Box 37"/>
            <p:cNvSpPr/>
            <p:nvPr/>
          </p:nvSpPr>
          <p:spPr>
            <a:xfrm>
              <a:off x="3505320" y="2819520"/>
              <a:ext cx="1371600" cy="91692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Times New Roman"/>
                </a:rPr>
                <a:t>Microbieel eiwit op N-bas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AutoShape 38"/>
            <p:cNvSpPr/>
            <p:nvPr/>
          </p:nvSpPr>
          <p:spPr>
            <a:xfrm rot="20011200">
              <a:off x="3252960" y="1301400"/>
              <a:ext cx="307800" cy="1481040"/>
            </a:xfrm>
            <a:prstGeom prst="downArrow">
              <a:avLst>
                <a:gd name="adj1" fmla="val 50000"/>
                <a:gd name="adj2" fmla="val 120292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6" name="Group 54"/>
          <p:cNvGrpSpPr/>
          <p:nvPr/>
        </p:nvGrpSpPr>
        <p:grpSpPr>
          <a:xfrm>
            <a:off x="4952880" y="5181480"/>
            <a:ext cx="762120" cy="718920"/>
            <a:chOff x="4952880" y="5181480"/>
            <a:chExt cx="762120" cy="718920"/>
          </a:xfrm>
        </p:grpSpPr>
        <p:sp>
          <p:nvSpPr>
            <p:cNvPr id="467" name="AutoShape 55"/>
            <p:cNvSpPr/>
            <p:nvPr/>
          </p:nvSpPr>
          <p:spPr>
            <a:xfrm>
              <a:off x="4952880" y="5181480"/>
              <a:ext cx="228600" cy="685800"/>
            </a:xfrm>
            <a:prstGeom prst="downArrow">
              <a:avLst>
                <a:gd name="adj1" fmla="val 50000"/>
                <a:gd name="adj2" fmla="val 7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Text Box 56"/>
            <p:cNvSpPr/>
            <p:nvPr/>
          </p:nvSpPr>
          <p:spPr>
            <a:xfrm>
              <a:off x="5257800" y="52578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9201-6838-421E-B6AC-DFECAD34176D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OEB </a:t>
            </a:r>
            <a:r>
              <a:rPr b="0" lang="nl-NL" sz="1800" spc="-1" strike="noStrike">
                <a:solidFill>
                  <a:srgbClr val="ffcc66"/>
                </a:solidFill>
                <a:latin typeface="Times New Roman"/>
              </a:rPr>
              <a:t>pagina8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.E.B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geeft een beeld over de hoeveelheid N die in de pens verloren gaat. In de meeste Nederlandse rantsoen zal 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beschikbare energi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de beperkende factor zijn.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n een rantsoen voor melkkoeien mag de 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.E.B. nooit negatief zijn.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s 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.E.B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kleiner dan 0 dan is er sprake van een tekort aan onbestendig eiwit. De micro-organismen produceren minder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icrobieel eiwi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dan op basis van energieaanbod mogelijk zou zijn.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s 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.E.B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gelijk aan 0 dan is er een evenwicht tussen de aanbod van onbestendig eiwit en energie.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s 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.E.B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groter dan 0 dan is er sprake van een overschot aan onbestendig eiwit.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Effect OEB op snijmaisrantso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0" y="838080"/>
          <a:ext cx="9144000" cy="603576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OEB niveau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35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70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kVem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,9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1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1,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VE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837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83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83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OEB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4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87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RE g/kg ds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45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5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7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elk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1,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2,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Vet 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,3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,4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,4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iwit 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,2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,3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,2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Ureum mg/dl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7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3,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eetmelk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2,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3,7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3,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N benutting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32,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29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27,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N-verlies g/kg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0,5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3,9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ABA1-11F1-4823-8237-E388EEA1616C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cc66"/>
                </a:solidFill>
                <a:latin typeface="Times New Roman"/>
              </a:rPr>
              <a:t>De Weender analys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4876920" y="2133720"/>
            <a:ext cx="27432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819520" y="2819520"/>
            <a:ext cx="259056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Anorganische st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0" y="3886200"/>
            <a:ext cx="274320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Met stikstof = 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2971800" y="5410080"/>
            <a:ext cx="213372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Ruwe celst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1676520" y="4648320"/>
            <a:ext cx="190476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Ruw v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5105520" y="5410080"/>
            <a:ext cx="2743200" cy="82548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Overige koolhydr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Group 29"/>
          <p:cNvGrpSpPr/>
          <p:nvPr/>
        </p:nvGrpSpPr>
        <p:grpSpPr>
          <a:xfrm>
            <a:off x="3276720" y="1447920"/>
            <a:ext cx="2743200" cy="685800"/>
            <a:chOff x="3276720" y="1447920"/>
            <a:chExt cx="2743200" cy="685800"/>
          </a:xfrm>
        </p:grpSpPr>
        <p:sp>
          <p:nvSpPr>
            <p:cNvPr id="127" name="Text Box 3"/>
            <p:cNvSpPr/>
            <p:nvPr/>
          </p:nvSpPr>
          <p:spPr>
            <a:xfrm>
              <a:off x="3276720" y="1447920"/>
              <a:ext cx="2743200" cy="459720"/>
            </a:xfrm>
            <a:prstGeom prst="rect">
              <a:avLst/>
            </a:prstGeom>
            <a:noFill/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Vo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8" name="Group 25"/>
            <p:cNvGrpSpPr/>
            <p:nvPr/>
          </p:nvGrpSpPr>
          <p:grpSpPr>
            <a:xfrm>
              <a:off x="3429000" y="1752480"/>
              <a:ext cx="2286000" cy="381240"/>
              <a:chOff x="3429000" y="1752480"/>
              <a:chExt cx="2286000" cy="381240"/>
            </a:xfrm>
          </p:grpSpPr>
          <p:sp>
            <p:nvSpPr>
              <p:cNvPr id="129" name="Line 14"/>
              <p:cNvSpPr/>
              <p:nvPr/>
            </p:nvSpPr>
            <p:spPr>
              <a:xfrm flipH="1">
                <a:off x="3429000" y="1752480"/>
                <a:ext cx="914400" cy="381240"/>
              </a:xfrm>
              <a:prstGeom prst="line">
                <a:avLst/>
              </a:prstGeom>
              <a:ln w="9360">
                <a:solidFill>
                  <a:srgbClr val="7777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Line 15"/>
              <p:cNvSpPr/>
              <p:nvPr/>
            </p:nvSpPr>
            <p:spPr>
              <a:xfrm>
                <a:off x="4952880" y="1828800"/>
                <a:ext cx="762120" cy="304920"/>
              </a:xfrm>
              <a:prstGeom prst="line">
                <a:avLst/>
              </a:prstGeom>
              <a:ln w="9360">
                <a:solidFill>
                  <a:srgbClr val="7777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" name="Group 31"/>
          <p:cNvGrpSpPr/>
          <p:nvPr/>
        </p:nvGrpSpPr>
        <p:grpSpPr>
          <a:xfrm>
            <a:off x="1295280" y="2057400"/>
            <a:ext cx="2743200" cy="838080"/>
            <a:chOff x="1295280" y="2057400"/>
            <a:chExt cx="2743200" cy="838080"/>
          </a:xfrm>
        </p:grpSpPr>
        <p:sp>
          <p:nvSpPr>
            <p:cNvPr id="132" name="Text Box 7"/>
            <p:cNvSpPr/>
            <p:nvPr/>
          </p:nvSpPr>
          <p:spPr>
            <a:xfrm>
              <a:off x="1295280" y="2057400"/>
              <a:ext cx="2743200" cy="459720"/>
            </a:xfrm>
            <a:prstGeom prst="rect">
              <a:avLst/>
            </a:prstGeom>
            <a:noFill/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Droge sto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3" name="Group 30"/>
            <p:cNvGrpSpPr/>
            <p:nvPr/>
          </p:nvGrpSpPr>
          <p:grpSpPr>
            <a:xfrm>
              <a:off x="1676520" y="2514600"/>
              <a:ext cx="2057400" cy="380880"/>
              <a:chOff x="1676520" y="2514600"/>
              <a:chExt cx="2057400" cy="380880"/>
            </a:xfrm>
          </p:grpSpPr>
          <p:sp>
            <p:nvSpPr>
              <p:cNvPr id="134" name="Line 16"/>
              <p:cNvSpPr/>
              <p:nvPr/>
            </p:nvSpPr>
            <p:spPr>
              <a:xfrm flipH="1">
                <a:off x="1676520" y="2514600"/>
                <a:ext cx="457200" cy="380880"/>
              </a:xfrm>
              <a:prstGeom prst="line">
                <a:avLst/>
              </a:prstGeom>
              <a:ln w="9360">
                <a:solidFill>
                  <a:srgbClr val="7777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Line 17"/>
              <p:cNvSpPr/>
              <p:nvPr/>
            </p:nvSpPr>
            <p:spPr>
              <a:xfrm>
                <a:off x="3276720" y="2514600"/>
                <a:ext cx="457200" cy="380880"/>
              </a:xfrm>
              <a:prstGeom prst="line">
                <a:avLst/>
              </a:prstGeom>
              <a:ln w="9360">
                <a:solidFill>
                  <a:srgbClr val="7777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6" name="Group 26"/>
          <p:cNvGrpSpPr/>
          <p:nvPr/>
        </p:nvGrpSpPr>
        <p:grpSpPr>
          <a:xfrm>
            <a:off x="0" y="2819520"/>
            <a:ext cx="3581280" cy="1066680"/>
            <a:chOff x="0" y="2819520"/>
            <a:chExt cx="3581280" cy="1066680"/>
          </a:xfrm>
        </p:grpSpPr>
        <p:sp>
          <p:nvSpPr>
            <p:cNvPr id="137" name="Text Box 8"/>
            <p:cNvSpPr/>
            <p:nvPr/>
          </p:nvSpPr>
          <p:spPr>
            <a:xfrm>
              <a:off x="0" y="2819520"/>
              <a:ext cx="2743200" cy="459720"/>
            </a:xfrm>
            <a:prstGeom prst="rect">
              <a:avLst/>
            </a:prstGeom>
            <a:noFill/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Organische sto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Line 18"/>
            <p:cNvSpPr/>
            <p:nvPr/>
          </p:nvSpPr>
          <p:spPr>
            <a:xfrm>
              <a:off x="1447920" y="3276720"/>
              <a:ext cx="0" cy="6094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Line 19"/>
            <p:cNvSpPr/>
            <p:nvPr/>
          </p:nvSpPr>
          <p:spPr>
            <a:xfrm>
              <a:off x="2057400" y="3276720"/>
              <a:ext cx="1523880" cy="6094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Group 27"/>
          <p:cNvGrpSpPr/>
          <p:nvPr/>
        </p:nvGrpSpPr>
        <p:grpSpPr>
          <a:xfrm>
            <a:off x="2819520" y="3886200"/>
            <a:ext cx="2209680" cy="838080"/>
            <a:chOff x="2819520" y="3886200"/>
            <a:chExt cx="2209680" cy="838080"/>
          </a:xfrm>
        </p:grpSpPr>
        <p:sp>
          <p:nvSpPr>
            <p:cNvPr id="141" name="Text Box 6"/>
            <p:cNvSpPr/>
            <p:nvPr/>
          </p:nvSpPr>
          <p:spPr>
            <a:xfrm>
              <a:off x="2819520" y="3886200"/>
              <a:ext cx="2209680" cy="459720"/>
            </a:xfrm>
            <a:prstGeom prst="rect">
              <a:avLst/>
            </a:prstGeom>
            <a:noFill/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Zonder stiksto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Line 20"/>
            <p:cNvSpPr/>
            <p:nvPr/>
          </p:nvSpPr>
          <p:spPr>
            <a:xfrm flipH="1">
              <a:off x="3124080" y="4267080"/>
              <a:ext cx="457200" cy="45720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Line 21"/>
            <p:cNvSpPr/>
            <p:nvPr/>
          </p:nvSpPr>
          <p:spPr>
            <a:xfrm>
              <a:off x="3962520" y="4267080"/>
              <a:ext cx="533160" cy="45720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4" name="Group 28"/>
          <p:cNvGrpSpPr/>
          <p:nvPr/>
        </p:nvGrpSpPr>
        <p:grpSpPr>
          <a:xfrm>
            <a:off x="3581280" y="4648320"/>
            <a:ext cx="2743200" cy="838080"/>
            <a:chOff x="3581280" y="4648320"/>
            <a:chExt cx="2743200" cy="838080"/>
          </a:xfrm>
        </p:grpSpPr>
        <p:sp>
          <p:nvSpPr>
            <p:cNvPr id="145" name="Text Box 11"/>
            <p:cNvSpPr/>
            <p:nvPr/>
          </p:nvSpPr>
          <p:spPr>
            <a:xfrm>
              <a:off x="3581280" y="4648320"/>
              <a:ext cx="2743200" cy="459720"/>
            </a:xfrm>
            <a:prstGeom prst="rect">
              <a:avLst/>
            </a:prstGeom>
            <a:noFill/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Koolhydrate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Line 22"/>
            <p:cNvSpPr/>
            <p:nvPr/>
          </p:nvSpPr>
          <p:spPr>
            <a:xfrm flipH="1">
              <a:off x="4343400" y="5105520"/>
              <a:ext cx="380880" cy="3808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Line 23"/>
            <p:cNvSpPr/>
            <p:nvPr/>
          </p:nvSpPr>
          <p:spPr>
            <a:xfrm>
              <a:off x="5105520" y="5105520"/>
              <a:ext cx="838080" cy="3808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DF59-72A8-4981-A909-78CC10B8F731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Ureum gehalte </a:t>
            </a:r>
            <a:r>
              <a:rPr b="0" lang="nl-NL" sz="1800" spc="-1" strike="noStrike">
                <a:solidFill>
                  <a:srgbClr val="ffcc66"/>
                </a:solidFill>
                <a:latin typeface="Times New Roman"/>
              </a:rPr>
              <a:t>sinds 1998 tankmelk, pagina 8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Indicator voor de stikstofbenutting van het melkvee.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Ureum ontstaat bij een overmaat aan onbestendig eiwit (hoog OEB) en/of een tekort aan in de pens afbreekbare koolhydraten.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Melk zonder ureum bestaat niet.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Een hoog ureumgehalte betekent een groot stikstofverlies via de urine.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Waarden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: van 20 tot 30 mg ureum per 100 ml melk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nder 20 is laa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oven 30 is hoog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neden 15 zo veel mogelijk voorkomen moeten worden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erwijl waarden boven 30 soms moeilijk te vermijden zijn. Dit laatste geldt met name voor bedrijven met veel graslan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99DD-31CB-42C8-BE5E-4C25C74C6643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8" name="Picture 2" descr="C:\Mijn documenten\Algemene brieven en teksten\AOC zaken\Cursus\Voedingscursus 2000\verdeling ureum rantsoen pensniveau.gif"/>
          <p:cNvPicPr/>
          <p:nvPr/>
        </p:nvPicPr>
        <p:blipFill>
          <a:blip r:embed="rId1"/>
          <a:srcRect l="10285" t="365" r="-1053" b="18896"/>
          <a:stretch/>
        </p:blipFill>
        <p:spPr>
          <a:xfrm>
            <a:off x="0" y="689040"/>
            <a:ext cx="9144000" cy="519120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5"/>
          <p:cNvSpPr/>
          <p:nvPr/>
        </p:nvSpPr>
        <p:spPr>
          <a:xfrm>
            <a:off x="2590920" y="601992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Ureumgehalte mg/100 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0" y="2286000"/>
            <a:ext cx="457200" cy="1944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I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3525-093E-4088-9AF6-C7F297C4CAE2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6212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Tipkaart ureu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0" y="612720"/>
          <a:ext cx="9144000" cy="5819760"/>
        </p:xfrm>
        <a:graphic>
          <a:graphicData uri="http://schemas.openxmlformats.org/drawingml/2006/table">
            <a:tbl>
              <a:tblPr/>
              <a:tblGrid>
                <a:gridCol w="1676520"/>
                <a:gridCol w="1523880"/>
                <a:gridCol w="3429000"/>
                <a:gridCol w="25146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ureumgehalte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Waarder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Laag eiwitgehal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Hoog eiwitgehal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0 en lag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Te la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Net te la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20-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Norma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35-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Te ho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45 en hog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eel te ho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6212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Tipkaart ureu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0" y="612720"/>
          <a:ext cx="9144000" cy="6323040"/>
        </p:xfrm>
        <a:graphic>
          <a:graphicData uri="http://schemas.openxmlformats.org/drawingml/2006/table">
            <a:tbl>
              <a:tblPr/>
              <a:tblGrid>
                <a:gridCol w="1676520"/>
                <a:gridCol w="1523880"/>
                <a:gridCol w="3429000"/>
                <a:gridCol w="25146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ureumgehalte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Waarder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Laag eiwitgehal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Hoog eiwitgehal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0 en lag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Te la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Meer energie en eiwit rijk vo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Meer eiwitconcentraat (kv &gt; 180 dve ) in basis rantso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Net te la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ets meer eiwitrijk r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ets 0,25 kg eiwitconcentra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Goed vert. pensenergie voer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20-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Norma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Eiwitvoorziening iets verhog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35-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Te ho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Gelijk voeren, verdeling go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Meer mais, minder rijk concentraat, energierijk k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45 en hog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eel te ho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Eiwitarm gaan voer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Energierijk k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Geen concentra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6212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Tipkaart ureu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0" y="612720"/>
          <a:ext cx="9144000" cy="6378480"/>
        </p:xfrm>
        <a:graphic>
          <a:graphicData uri="http://schemas.openxmlformats.org/drawingml/2006/table">
            <a:tbl>
              <a:tblPr/>
              <a:tblGrid>
                <a:gridCol w="1676520"/>
                <a:gridCol w="1523880"/>
                <a:gridCol w="3429000"/>
                <a:gridCol w="25146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ureumgehalte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Waarder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Laag eiwitgehal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Hoog eiwitgehal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0 en lag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Te la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Meer energie en eiwit rijk vo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Meer eiwitconcentraat (kv &gt; 180 dve ) in basis rantso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Meer eiwitrijk ruwvo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d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Net te la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ets meer eiwitrijk r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ets 0,25 kg eiwitconcentra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Goed vert. pensenergie voer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d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d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erdeling verbeter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20-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Norma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Eiwitvoorziening iets verhog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OPTIMA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RANTSO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35-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Te ho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Gelijk voeren, verdeling go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Meer mais, minder rijk concentraat, energierijk k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d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dem, id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Ni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45 en hog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eel te ho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Eiwitarm gaan voer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Energierijk k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Geen concentra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Eiwitarm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d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d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Volgende we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Koolhydraten vertering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D44E-523C-49CD-ACA1-C6F1B6A26D9B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cc66"/>
                </a:solidFill>
                <a:latin typeface="Times New Roman"/>
              </a:rPr>
              <a:t>De Weender analyse </a:t>
            </a:r>
            <a:r>
              <a:rPr b="1" lang="nl-NL" sz="1800" spc="-1" strike="noStrike">
                <a:solidFill>
                  <a:srgbClr val="ffcc66"/>
                </a:solidFill>
                <a:latin typeface="Times New Roman"/>
              </a:rPr>
              <a:t>pagina 3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4876920" y="2133720"/>
            <a:ext cx="27432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99"/>
                </a:solidFill>
                <a:uFillTx/>
                <a:latin typeface="Times New Roman"/>
                <a:hlinkClick r:id="rId1" action="ppaction://hlinksldjump"/>
              </a:rPr>
              <a:t>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2819520" y="2819520"/>
            <a:ext cx="259056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99"/>
                </a:solidFill>
                <a:uFillTx/>
                <a:latin typeface="Times New Roman"/>
                <a:hlinkClick r:id="rId2" action="ppaction://hlinksldjump"/>
              </a:rPr>
              <a:t>Anorganische st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295280" y="2057400"/>
            <a:ext cx="274320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99"/>
                </a:solidFill>
                <a:uFillTx/>
                <a:latin typeface="Times New Roman"/>
                <a:hlinkClick r:id="rId3" action="ppaction://hlinksldjump"/>
              </a:rPr>
              <a:t>Droge st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0" y="3886200"/>
            <a:ext cx="274320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99"/>
                </a:solidFill>
                <a:uFillTx/>
                <a:latin typeface="Times New Roman"/>
                <a:hlinkClick r:id="rId4" action="ppaction://hlinksldjump"/>
              </a:rPr>
              <a:t>Met stikstof = 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2971800" y="5410080"/>
            <a:ext cx="213372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99"/>
                </a:solidFill>
                <a:uFillTx/>
                <a:latin typeface="Times New Roman"/>
                <a:hlinkClick r:id="rId5" action="ppaction://hlinksldjump"/>
              </a:rPr>
              <a:t>Ruwe celst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1676520" y="4648320"/>
            <a:ext cx="190476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99"/>
                </a:solidFill>
                <a:uFillTx/>
                <a:latin typeface="Times New Roman"/>
                <a:hlinkClick r:id="rId6" action="ppaction://hlinksldjump"/>
              </a:rPr>
              <a:t>Ruw v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5105520" y="5410080"/>
            <a:ext cx="274320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99"/>
                </a:solidFill>
                <a:uFillTx/>
                <a:latin typeface="Times New Roman"/>
                <a:hlinkClick r:id="rId7" action="ppaction://hlinksldjump"/>
              </a:rPr>
              <a:t>Overige koolhydr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" name="Group 10"/>
          <p:cNvGrpSpPr/>
          <p:nvPr/>
        </p:nvGrpSpPr>
        <p:grpSpPr>
          <a:xfrm>
            <a:off x="3276720" y="1447920"/>
            <a:ext cx="2743200" cy="685800"/>
            <a:chOff x="3276720" y="1447920"/>
            <a:chExt cx="2743200" cy="685800"/>
          </a:xfrm>
        </p:grpSpPr>
        <p:sp>
          <p:nvSpPr>
            <p:cNvPr id="158" name="Text Box 11"/>
            <p:cNvSpPr/>
            <p:nvPr/>
          </p:nvSpPr>
          <p:spPr>
            <a:xfrm>
              <a:off x="3276720" y="1447920"/>
              <a:ext cx="2743200" cy="459720"/>
            </a:xfrm>
            <a:prstGeom prst="rect">
              <a:avLst/>
            </a:prstGeom>
            <a:noFill/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Vo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9" name="Group 12"/>
            <p:cNvGrpSpPr/>
            <p:nvPr/>
          </p:nvGrpSpPr>
          <p:grpSpPr>
            <a:xfrm>
              <a:off x="3429000" y="1752480"/>
              <a:ext cx="2286000" cy="381240"/>
              <a:chOff x="3429000" y="1752480"/>
              <a:chExt cx="2286000" cy="381240"/>
            </a:xfrm>
          </p:grpSpPr>
          <p:sp>
            <p:nvSpPr>
              <p:cNvPr id="160" name="Line 13"/>
              <p:cNvSpPr/>
              <p:nvPr/>
            </p:nvSpPr>
            <p:spPr>
              <a:xfrm flipH="1">
                <a:off x="3429000" y="1752480"/>
                <a:ext cx="914400" cy="381240"/>
              </a:xfrm>
              <a:prstGeom prst="line">
                <a:avLst/>
              </a:prstGeom>
              <a:ln w="9360">
                <a:solidFill>
                  <a:srgbClr val="7777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Line 14"/>
              <p:cNvSpPr/>
              <p:nvPr/>
            </p:nvSpPr>
            <p:spPr>
              <a:xfrm>
                <a:off x="4952880" y="1828800"/>
                <a:ext cx="762120" cy="304920"/>
              </a:xfrm>
              <a:prstGeom prst="line">
                <a:avLst/>
              </a:prstGeom>
              <a:ln w="9360">
                <a:solidFill>
                  <a:srgbClr val="7777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" name="Group 15"/>
          <p:cNvGrpSpPr/>
          <p:nvPr/>
        </p:nvGrpSpPr>
        <p:grpSpPr>
          <a:xfrm>
            <a:off x="1676520" y="2514600"/>
            <a:ext cx="2057400" cy="380880"/>
            <a:chOff x="1676520" y="2514600"/>
            <a:chExt cx="2057400" cy="380880"/>
          </a:xfrm>
        </p:grpSpPr>
        <p:sp>
          <p:nvSpPr>
            <p:cNvPr id="163" name="Line 16"/>
            <p:cNvSpPr/>
            <p:nvPr/>
          </p:nvSpPr>
          <p:spPr>
            <a:xfrm flipH="1">
              <a:off x="1676520" y="2514600"/>
              <a:ext cx="457200" cy="3808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Line 17"/>
            <p:cNvSpPr/>
            <p:nvPr/>
          </p:nvSpPr>
          <p:spPr>
            <a:xfrm>
              <a:off x="3276720" y="2514600"/>
              <a:ext cx="457200" cy="3808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" name="Group 18"/>
          <p:cNvGrpSpPr/>
          <p:nvPr/>
        </p:nvGrpSpPr>
        <p:grpSpPr>
          <a:xfrm>
            <a:off x="0" y="2819520"/>
            <a:ext cx="3581280" cy="1066680"/>
            <a:chOff x="0" y="2819520"/>
            <a:chExt cx="3581280" cy="1066680"/>
          </a:xfrm>
        </p:grpSpPr>
        <p:sp>
          <p:nvSpPr>
            <p:cNvPr id="166" name="Text Box 19"/>
            <p:cNvSpPr/>
            <p:nvPr/>
          </p:nvSpPr>
          <p:spPr>
            <a:xfrm>
              <a:off x="0" y="2819520"/>
              <a:ext cx="2743200" cy="459720"/>
            </a:xfrm>
            <a:prstGeom prst="rect">
              <a:avLst/>
            </a:prstGeom>
            <a:noFill/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Organische sto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Line 20"/>
            <p:cNvSpPr/>
            <p:nvPr/>
          </p:nvSpPr>
          <p:spPr>
            <a:xfrm>
              <a:off x="1447920" y="3276720"/>
              <a:ext cx="0" cy="6094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Line 21"/>
            <p:cNvSpPr/>
            <p:nvPr/>
          </p:nvSpPr>
          <p:spPr>
            <a:xfrm>
              <a:off x="2057400" y="3276720"/>
              <a:ext cx="1523880" cy="6094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9" name="Group 22"/>
          <p:cNvGrpSpPr/>
          <p:nvPr/>
        </p:nvGrpSpPr>
        <p:grpSpPr>
          <a:xfrm>
            <a:off x="2819520" y="3886200"/>
            <a:ext cx="2209680" cy="838080"/>
            <a:chOff x="2819520" y="3886200"/>
            <a:chExt cx="2209680" cy="838080"/>
          </a:xfrm>
        </p:grpSpPr>
        <p:sp>
          <p:nvSpPr>
            <p:cNvPr id="170" name="Text Box 23"/>
            <p:cNvSpPr/>
            <p:nvPr/>
          </p:nvSpPr>
          <p:spPr>
            <a:xfrm>
              <a:off x="2819520" y="3886200"/>
              <a:ext cx="2209680" cy="459720"/>
            </a:xfrm>
            <a:prstGeom prst="rect">
              <a:avLst/>
            </a:prstGeom>
            <a:noFill/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Zonder stiksto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Line 24"/>
            <p:cNvSpPr/>
            <p:nvPr/>
          </p:nvSpPr>
          <p:spPr>
            <a:xfrm flipH="1">
              <a:off x="3124080" y="4267080"/>
              <a:ext cx="457200" cy="45720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Line 25"/>
            <p:cNvSpPr/>
            <p:nvPr/>
          </p:nvSpPr>
          <p:spPr>
            <a:xfrm>
              <a:off x="3962520" y="4267080"/>
              <a:ext cx="533160" cy="45720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Group 26"/>
          <p:cNvGrpSpPr/>
          <p:nvPr/>
        </p:nvGrpSpPr>
        <p:grpSpPr>
          <a:xfrm>
            <a:off x="3581280" y="4648320"/>
            <a:ext cx="2743200" cy="838080"/>
            <a:chOff x="3581280" y="4648320"/>
            <a:chExt cx="2743200" cy="838080"/>
          </a:xfrm>
        </p:grpSpPr>
        <p:sp>
          <p:nvSpPr>
            <p:cNvPr id="174" name="Text Box 27"/>
            <p:cNvSpPr/>
            <p:nvPr/>
          </p:nvSpPr>
          <p:spPr>
            <a:xfrm>
              <a:off x="3581280" y="4648320"/>
              <a:ext cx="2743200" cy="459720"/>
            </a:xfrm>
            <a:prstGeom prst="rect">
              <a:avLst/>
            </a:prstGeom>
            <a:noFill/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 u="sng">
                  <a:solidFill>
                    <a:srgbClr val="ffff99"/>
                  </a:solidFill>
                  <a:uFillTx/>
                  <a:latin typeface="Times New Roman"/>
                  <a:hlinkClick r:id="rId8" action="ppaction://hlinksldjump"/>
                </a:rPr>
                <a:t>Koolhydrate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Line 28"/>
            <p:cNvSpPr/>
            <p:nvPr/>
          </p:nvSpPr>
          <p:spPr>
            <a:xfrm flipH="1">
              <a:off x="4343400" y="5105520"/>
              <a:ext cx="380880" cy="3808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Line 29"/>
            <p:cNvSpPr/>
            <p:nvPr/>
          </p:nvSpPr>
          <p:spPr>
            <a:xfrm>
              <a:off x="5105520" y="5105520"/>
              <a:ext cx="838080" cy="3808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" name="AutoShape 30">
            <a:hlinkClick r:id="rId9" action="ppaction://hlinksldjump"/>
          </p:cNvPr>
          <p:cNvSpPr/>
          <p:nvPr/>
        </p:nvSpPr>
        <p:spPr>
          <a:xfrm>
            <a:off x="0" y="44956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5BC2-52D1-4413-92BB-273948E9E233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Vo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De samenstelling van elke voer is het zelfde opgebouwd,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Er zitten verschillen in de onderdele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Ook na bewerkingen kunnen de onderdelen verschillen van het oorspronkelijke produc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7772400" y="4572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6645-3F48-4BCA-A5C1-2EC11ED330C3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Droge stof </a:t>
            </a:r>
            <a:r>
              <a:rPr b="0" lang="nl-NL" sz="1400" spc="-1" strike="noStrike">
                <a:solidFill>
                  <a:srgbClr val="ffcc66"/>
                </a:solidFill>
                <a:latin typeface="Times New Roman"/>
              </a:rPr>
              <a:t>pagina 3</a:t>
            </a:r>
            <a:endParaRPr b="0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Gebruik D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Opname door dieren afhankelijk  van 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erschil tussen producten zeer gro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oedingswaarde zit alleen in de 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Opname ds afhankelijk van: </a:t>
            </a:r>
            <a:r>
              <a:rPr b="0" lang="nl-NL" sz="1800" spc="-1" strike="noStrike">
                <a:solidFill>
                  <a:srgbClr val="ffffff"/>
                </a:solidFill>
                <a:latin typeface="Arial Unicode MS"/>
              </a:rPr>
              <a:t>(pagina 5)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Dier: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gewicht, leeftijd, opfokmeth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Kwaliteit van het vo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oeraanb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erhouding ruwvoer/mengvo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Aantal keren vers voor het voerh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8001000" y="533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3468-DF57-4EC1-AE5C-4060E4684354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Water  </a:t>
            </a:r>
            <a:r>
              <a:rPr b="0" lang="nl-NL" sz="1400" spc="-1" strike="noStrike">
                <a:solidFill>
                  <a:srgbClr val="ffcc66"/>
                </a:solidFill>
                <a:latin typeface="Times New Roman"/>
              </a:rPr>
              <a:t>pagina 3</a:t>
            </a:r>
            <a:endParaRPr b="0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orming bloed en cellen, lichaam en melk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Onderhoud (10% van het Lichaamsgewich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Productie (per kg melk, 2 liter wat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Transportmidd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Oplosmidd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Regelen van de temperatuur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Afvoer van stoffen, via urine en zwee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9" name="AutoShape 4"/>
          <p:cNvSpPr/>
          <p:nvPr/>
        </p:nvSpPr>
        <p:spPr>
          <a:xfrm>
            <a:off x="7848720" y="3808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431B-612C-4690-86EC-EC085AEDFFCD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Organische stof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Bevat alle belangrijke stoffen die we nodig hebben voor de vorming van de vetten en de eiwitten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Kenmerk organische stof : het bevat de elementen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C  = koolst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H = waterst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O = zuurst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8305920" y="3808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3794" y="12601"/>
                </a:moveTo>
                <a:lnTo>
                  <a:pt x="17806" y="5595"/>
                </a:lnTo>
                <a:lnTo>
                  <a:pt x="17806" y="19608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6T10:05:27Z</dcterms:created>
  <dc:creator>Jeroen Lek</dc:creator>
  <dc:description>deel nog over samenstelling voer
verwijzingen naar paginas uit het stuk
Voeding het jaar rond</dc:description>
  <dc:language>en-US</dc:language>
  <cp:lastModifiedBy>aoc</cp:lastModifiedBy>
  <dcterms:modified xsi:type="dcterms:W3CDTF">2011-11-09T06:29:31Z</dcterms:modified>
  <cp:revision>23</cp:revision>
  <dc:subject/>
  <dc:title>Eiwitvertering </dc:title>
</cp:coreProperties>
</file>