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60EE-7029-47FA-8821-C0207EE9059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7553-623E-4D61-B725-EDE1C00302B9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A7B2-045E-482F-A3F8-DE2088824E2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minozuur patroon van de voedingseiwitten van belang voor het bestendige deel van het vo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voor het onbestendige d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v melkeiwit heeft sojaschroot een tekort aan methionine en mais een tekort aan ly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FF05-5FFB-4D09-A917-31A77E3CF591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E4A4-225D-48B9-96B0-B36BBD64755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Cursus Voeding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F5E-2BDB-4968-8E58-8AE2C64FBB12}" type="datetime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Eiwitvertering bijeenkomst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BDAC-5A37-4AB7-98DF-C17DF448E70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B89-28A7-4873-9273-E2EA5BEF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6AF-AD26-4952-A855-52F1EC6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32C-D389-43D5-9FE9-145D7535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9BD-E513-45F7-9004-05C2ED0B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70BB-2C63-44BC-ABBE-139441A7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BFD7-FB83-4E6B-8D88-CC13F5FC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31FF-04AD-4CC6-A972-8D2E8494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8807-E669-47F8-9B23-AE72F8BF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0E36-5A29-4B51-B791-D3472926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5F41-4F2E-4719-A6DA-624704F0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AE02-635E-4A38-B22B-D7B4ADC0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49F-4561-42F5-9AC9-3CB7A30B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3171-6025-4D52-A041-0D5C759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453E-3990-4A67-BF8F-586D52E9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238C-8591-463F-B6B0-2FC7A8E2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20A5-5509-4B5C-ADA6-77429226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10D1-7DCE-4510-AEDE-6F190129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DDEA-593E-47EA-9ED1-0939A29F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7452-A6B2-4A8F-B347-192C4104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9704-341F-4DEF-BB92-64AE722D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D480E-86E7-4DB6-8174-EFDBCFF0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30C9-494F-4DC7-BE5F-E6502A4E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EF2-FC52-4A8C-BC43-F9D29D9E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38E1-F917-4C13-B735-9EF85B4B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DA46-53A0-4EA6-9F10-2425132D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AADD-C8A1-426C-9A44-AD21BB59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BC8FA-6CDF-447C-BE49-F65A9EA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2046-A9C7-4260-8A63-DBDCF343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F9C4-9D9D-49FD-B2AB-179F49F4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F148-E496-4551-AAA0-E3CB593C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B7ADF-1E47-4689-82D3-158A7325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E8345-2395-4572-B1E7-CFD02D7D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30AF-050F-4585-8893-0357FB12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4AE-EF49-4A48-9579-9332354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EBE2-C672-4551-8780-1A32753F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81D2-A016-4435-A213-415BAB76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4F7E-82DB-4286-A723-A1502230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8250-0EB4-43FD-BF77-02FB09DD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8C61-D78E-4ABC-9F6A-4C0CC245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E2A3-3AF2-4C8B-9C27-2C50250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5DF6-57FD-4FFA-AFA2-3C93C914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2248-A19A-4747-BB72-2A857CA3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41C8-4253-43CA-8F4C-C0C32FCB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C5F31-7B57-4ED6-91C8-E304D179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3F2-72F0-4685-91D3-44976DAE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4EBB5-5A85-49A1-9938-B3BB1C55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C81D-A211-4EC8-8028-57DB4B72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FAD7F-9E83-4635-A74C-198B0E0D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B9404-7464-48EB-BE3D-37F3BE9A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A059B-8594-498A-9F90-F912E9D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56E9A-920C-42AF-B1F7-E727475F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A8DE4-7D30-4ACC-A1A3-D58C6F9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6DBDC-DF11-45AE-992D-48475222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A4B8-2BB8-43A5-ACF2-EC590FDF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DFE9-01CE-4122-8161-2E5FC0E9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F0C-E052-4CA4-99B1-1E6DDD59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5D744-2400-4675-8918-9C4DAD4C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030F-BDE5-4CDC-B983-09E87D52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C6E4-D0CE-49B7-B4B6-5599E56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7DB89-DA46-41C7-AC24-2321570E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7E201-DE99-4301-95DE-5AB75170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7B9DA-1B31-455E-A988-B77BB9E8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665B7-F4F6-474F-B83E-4A3D1CB7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8AD80-60D1-4C58-9A04-27A7219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4A7B0-CC58-443A-9A73-4324677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0540F-747B-4657-AFA1-D7348D17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1BE-DA34-41CB-A6F3-4480616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D3437-BDBA-4E02-B078-A8A036E5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FA855-CB35-4E4B-9311-1E031A6A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F672C-1BD4-4F81-AF0A-6B2DB82F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733-FF17-42AE-B186-7F6C559A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529-8C3B-4892-A6C8-CF8A29F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835B-C676-4771-8D3C-3216826CDF3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11E2-425E-488E-869F-1EC11699E513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E51A-C172-46F3-9DBF-A573A0D1A31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DC3-5222-4A9D-A68B-279EF152D0E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55E6-3A21-4C0F-8332-77FD5E2DC06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9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2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5678-0061-4DE4-A7A9-B4EE62D2280D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def5fa"/>
                </a:solidFill>
                <a:latin typeface="Lucida Sans Unicode"/>
              </a:rPr>
              <a:t>Het maagdarmstelsel van de ko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92160" y="731880"/>
            <a:ext cx="8150040" cy="17128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030320" y="2316240"/>
            <a:ext cx="70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FOS = VOS – RV – Best. RE – Best.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V = ruw v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RE = bestendig ruw eiw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st. Zetmeel = bestendig zetm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deze zijn uit bouwstenen opgebouwd, de z.g. aminozure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angrijke aminozuren zijn:  lysine, methionine, cystine, tryptofaa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0463-E35C-4775-BC5A-29114A03867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-360" y="1980720"/>
            <a:ext cx="42670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rgi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istid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Iso-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euc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Lys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Methi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Phenyl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hreo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Tryptofaa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va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8320" y="1980720"/>
            <a:ext cx="4495680" cy="4876920"/>
          </a:xfrm>
          <a:prstGeom prst="rect">
            <a:avLst/>
          </a:prstGeom>
          <a:noFill/>
          <a:ln w="9360">
            <a:solidFill>
              <a:srgbClr val="44b9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lan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Asparag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itrul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e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utaminezuu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Glyz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Sans Unicode"/>
              </a:rPr>
              <a:t>hydroxyprol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44" name="Tijdelijke aanduiding voor dianumm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D08-438F-42FF-8612-A185AB356E3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76212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Essentieel   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Niet noodzakelij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F974-7B47-4A36-80D4-F6AC3D6C3B6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7" name="Group 228"/>
          <p:cNvGrpSpPr/>
          <p:nvPr/>
        </p:nvGrpSpPr>
        <p:grpSpPr>
          <a:xfrm>
            <a:off x="0" y="1781280"/>
            <a:ext cx="9144000" cy="3724200"/>
            <a:chOff x="0" y="1781280"/>
            <a:chExt cx="9144000" cy="3724200"/>
          </a:xfrm>
        </p:grpSpPr>
        <p:sp>
          <p:nvSpPr>
            <p:cNvPr id="348" name="Rectangle 58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Rectangle 172"/>
            <p:cNvSpPr/>
            <p:nvPr/>
          </p:nvSpPr>
          <p:spPr>
            <a:xfrm>
              <a:off x="0" y="5076720"/>
              <a:ext cx="9144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179"/>
            <p:cNvSpPr/>
            <p:nvPr/>
          </p:nvSpPr>
          <p:spPr>
            <a:xfrm>
              <a:off x="1042920" y="257508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ys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Rectangle 180"/>
            <p:cNvSpPr/>
            <p:nvPr/>
          </p:nvSpPr>
          <p:spPr>
            <a:xfrm>
              <a:off x="2682720" y="257508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181"/>
            <p:cNvSpPr/>
            <p:nvPr/>
          </p:nvSpPr>
          <p:spPr>
            <a:xfrm>
              <a:off x="3809880" y="259092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6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Rectangle 182"/>
            <p:cNvSpPr/>
            <p:nvPr/>
          </p:nvSpPr>
          <p:spPr>
            <a:xfrm>
              <a:off x="4876920" y="2590920"/>
              <a:ext cx="8776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Rectangle 183"/>
            <p:cNvSpPr/>
            <p:nvPr/>
          </p:nvSpPr>
          <p:spPr>
            <a:xfrm>
              <a:off x="5943600" y="259092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7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Rectangle 184"/>
            <p:cNvSpPr/>
            <p:nvPr/>
          </p:nvSpPr>
          <p:spPr>
            <a:xfrm>
              <a:off x="6858000" y="2590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Rectangle 185"/>
            <p:cNvSpPr/>
            <p:nvPr/>
          </p:nvSpPr>
          <p:spPr>
            <a:xfrm>
              <a:off x="1042920" y="3200400"/>
              <a:ext cx="1639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i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Rectangle 186"/>
            <p:cNvSpPr/>
            <p:nvPr/>
          </p:nvSpPr>
          <p:spPr>
            <a:xfrm>
              <a:off x="2682720" y="3200400"/>
              <a:ext cx="77472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Rectangle 187"/>
            <p:cNvSpPr/>
            <p:nvPr/>
          </p:nvSpPr>
          <p:spPr>
            <a:xfrm>
              <a:off x="3809880" y="3200400"/>
              <a:ext cx="97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,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Rectangle 188"/>
            <p:cNvSpPr/>
            <p:nvPr/>
          </p:nvSpPr>
          <p:spPr>
            <a:xfrm>
              <a:off x="4800600" y="320040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,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Rectangle 189"/>
            <p:cNvSpPr/>
            <p:nvPr/>
          </p:nvSpPr>
          <p:spPr>
            <a:xfrm>
              <a:off x="5943600" y="3200400"/>
              <a:ext cx="771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8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Rectangle 190"/>
            <p:cNvSpPr/>
            <p:nvPr/>
          </p:nvSpPr>
          <p:spPr>
            <a:xfrm>
              <a:off x="6858000" y="320040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,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Rectangle 191"/>
            <p:cNvSpPr/>
            <p:nvPr/>
          </p:nvSpPr>
          <p:spPr>
            <a:xfrm>
              <a:off x="1042920" y="3825720"/>
              <a:ext cx="163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eonine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Rectangle 192"/>
            <p:cNvSpPr/>
            <p:nvPr/>
          </p:nvSpPr>
          <p:spPr>
            <a:xfrm>
              <a:off x="2682720" y="3825720"/>
              <a:ext cx="7747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Rectangle 193"/>
            <p:cNvSpPr/>
            <p:nvPr/>
          </p:nvSpPr>
          <p:spPr>
            <a:xfrm>
              <a:off x="3809880" y="3809880"/>
              <a:ext cx="9702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Rectangle 194"/>
            <p:cNvSpPr/>
            <p:nvPr/>
          </p:nvSpPr>
          <p:spPr>
            <a:xfrm>
              <a:off x="4800600" y="3733920"/>
              <a:ext cx="87804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9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Rectangle 195"/>
            <p:cNvSpPr/>
            <p:nvPr/>
          </p:nvSpPr>
          <p:spPr>
            <a:xfrm>
              <a:off x="5943600" y="3809880"/>
              <a:ext cx="7714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,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Rectangle 196"/>
            <p:cNvSpPr/>
            <p:nvPr/>
          </p:nvSpPr>
          <p:spPr>
            <a:xfrm>
              <a:off x="6934320" y="3733920"/>
              <a:ext cx="12636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,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3124160"/>
                  <a:tab algn="l" pos="103581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9" name="Group 204"/>
            <p:cNvGrpSpPr/>
            <p:nvPr/>
          </p:nvGrpSpPr>
          <p:grpSpPr>
            <a:xfrm>
              <a:off x="966960" y="1781280"/>
              <a:ext cx="1792080" cy="793800"/>
              <a:chOff x="966960" y="1781280"/>
              <a:chExt cx="1792080" cy="793800"/>
            </a:xfrm>
          </p:grpSpPr>
          <p:sp>
            <p:nvSpPr>
              <p:cNvPr id="370" name="Rectangle 173"/>
              <p:cNvSpPr/>
              <p:nvPr/>
            </p:nvSpPr>
            <p:spPr>
              <a:xfrm>
                <a:off x="1042920" y="1781280"/>
                <a:ext cx="16394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duct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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inozuur  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203"/>
              <p:cNvSpPr/>
              <p:nvPr/>
            </p:nvSpPr>
            <p:spPr>
              <a:xfrm>
                <a:off x="966960" y="1781280"/>
                <a:ext cx="17920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2" name="Group 206"/>
            <p:cNvGrpSpPr/>
            <p:nvPr/>
          </p:nvGrpSpPr>
          <p:grpSpPr>
            <a:xfrm>
              <a:off x="2759040" y="1781280"/>
              <a:ext cx="927000" cy="793800"/>
              <a:chOff x="2759040" y="1781280"/>
              <a:chExt cx="927000" cy="793800"/>
            </a:xfrm>
          </p:grpSpPr>
          <p:sp>
            <p:nvSpPr>
              <p:cNvPr id="373" name="Rectangle 174"/>
              <p:cNvSpPr/>
              <p:nvPr/>
            </p:nvSpPr>
            <p:spPr>
              <a:xfrm>
                <a:off x="2835000" y="1781280"/>
                <a:ext cx="7747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lk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205"/>
              <p:cNvSpPr/>
              <p:nvPr/>
            </p:nvSpPr>
            <p:spPr>
              <a:xfrm>
                <a:off x="2759040" y="1781280"/>
                <a:ext cx="92700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Group 208"/>
            <p:cNvGrpSpPr/>
            <p:nvPr/>
          </p:nvGrpSpPr>
          <p:grpSpPr>
            <a:xfrm>
              <a:off x="3686040" y="1781280"/>
              <a:ext cx="1122480" cy="793800"/>
              <a:chOff x="3686040" y="1781280"/>
              <a:chExt cx="1122480" cy="793800"/>
            </a:xfrm>
          </p:grpSpPr>
          <p:sp>
            <p:nvSpPr>
              <p:cNvPr id="376" name="Rectangle 175"/>
              <p:cNvSpPr/>
              <p:nvPr/>
            </p:nvSpPr>
            <p:spPr>
              <a:xfrm>
                <a:off x="3762360" y="1781280"/>
                <a:ext cx="9698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ja-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root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207"/>
              <p:cNvSpPr/>
              <p:nvPr/>
            </p:nvSpPr>
            <p:spPr>
              <a:xfrm>
                <a:off x="3686040" y="1781280"/>
                <a:ext cx="11224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8" name="Group 210"/>
            <p:cNvGrpSpPr/>
            <p:nvPr/>
          </p:nvGrpSpPr>
          <p:grpSpPr>
            <a:xfrm>
              <a:off x="4808520" y="1781280"/>
              <a:ext cx="1029960" cy="793800"/>
              <a:chOff x="4808520" y="1781280"/>
              <a:chExt cx="1029960" cy="793800"/>
            </a:xfrm>
          </p:grpSpPr>
          <p:sp>
            <p:nvSpPr>
              <p:cNvPr id="379" name="Rectangle 176"/>
              <p:cNvSpPr/>
              <p:nvPr/>
            </p:nvSpPr>
            <p:spPr>
              <a:xfrm>
                <a:off x="4884480" y="1781280"/>
                <a:ext cx="87804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eren­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209"/>
              <p:cNvSpPr/>
              <p:nvPr/>
            </p:nvSpPr>
            <p:spPr>
              <a:xfrm>
                <a:off x="4808520" y="1781280"/>
                <a:ext cx="10299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1" name="Group 212"/>
            <p:cNvGrpSpPr/>
            <p:nvPr/>
          </p:nvGrpSpPr>
          <p:grpSpPr>
            <a:xfrm>
              <a:off x="5838840" y="1781280"/>
              <a:ext cx="923760" cy="793800"/>
              <a:chOff x="5838840" y="1781280"/>
              <a:chExt cx="923760" cy="793800"/>
            </a:xfrm>
          </p:grpSpPr>
          <p:sp>
            <p:nvSpPr>
              <p:cNvPr id="382" name="Rectangle 177"/>
              <p:cNvSpPr/>
              <p:nvPr/>
            </p:nvSpPr>
            <p:spPr>
              <a:xfrm>
                <a:off x="5914800" y="1781280"/>
                <a:ext cx="7711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s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eel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211"/>
              <p:cNvSpPr/>
              <p:nvPr/>
            </p:nvSpPr>
            <p:spPr>
              <a:xfrm>
                <a:off x="5838840" y="1781280"/>
                <a:ext cx="92376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4" name="Group 214"/>
            <p:cNvGrpSpPr/>
            <p:nvPr/>
          </p:nvGrpSpPr>
          <p:grpSpPr>
            <a:xfrm>
              <a:off x="6762600" y="1781280"/>
              <a:ext cx="1415880" cy="793800"/>
              <a:chOff x="6762600" y="1781280"/>
              <a:chExt cx="1415880" cy="793800"/>
            </a:xfrm>
          </p:grpSpPr>
          <p:sp>
            <p:nvSpPr>
              <p:cNvPr id="385" name="Rectangle 178"/>
              <p:cNvSpPr/>
              <p:nvPr/>
            </p:nvSpPr>
            <p:spPr>
              <a:xfrm>
                <a:off x="6838920" y="1781280"/>
                <a:ext cx="126360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icro-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ieeleiwit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213"/>
              <p:cNvSpPr/>
              <p:nvPr/>
            </p:nvSpPr>
            <p:spPr>
              <a:xfrm>
                <a:off x="6762600" y="1781280"/>
                <a:ext cx="141588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7" name="Group 216"/>
            <p:cNvGrpSpPr/>
            <p:nvPr/>
          </p:nvGrpSpPr>
          <p:grpSpPr>
            <a:xfrm>
              <a:off x="966960" y="4451400"/>
              <a:ext cx="1792080" cy="625320"/>
              <a:chOff x="966960" y="4451400"/>
              <a:chExt cx="1792080" cy="625320"/>
            </a:xfrm>
          </p:grpSpPr>
          <p:sp>
            <p:nvSpPr>
              <p:cNvPr id="388" name="Rectangle 197"/>
              <p:cNvSpPr/>
              <p:nvPr/>
            </p:nvSpPr>
            <p:spPr>
              <a:xfrm>
                <a:off x="1042920" y="4451400"/>
                <a:ext cx="16394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yptofaan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215"/>
              <p:cNvSpPr/>
              <p:nvPr/>
            </p:nvSpPr>
            <p:spPr>
              <a:xfrm>
                <a:off x="966960" y="4451400"/>
                <a:ext cx="17920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0" name="Group 218"/>
            <p:cNvGrpSpPr/>
            <p:nvPr/>
          </p:nvGrpSpPr>
          <p:grpSpPr>
            <a:xfrm>
              <a:off x="2759040" y="4451400"/>
              <a:ext cx="927000" cy="625320"/>
              <a:chOff x="2759040" y="4451400"/>
              <a:chExt cx="927000" cy="625320"/>
            </a:xfrm>
          </p:grpSpPr>
          <p:sp>
            <p:nvSpPr>
              <p:cNvPr id="391" name="Rectangle 198"/>
              <p:cNvSpPr/>
              <p:nvPr/>
            </p:nvSpPr>
            <p:spPr>
              <a:xfrm>
                <a:off x="2835000" y="4451400"/>
                <a:ext cx="7747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217"/>
              <p:cNvSpPr/>
              <p:nvPr/>
            </p:nvSpPr>
            <p:spPr>
              <a:xfrm>
                <a:off x="2759040" y="4451400"/>
                <a:ext cx="92700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3" name="Group 220"/>
            <p:cNvGrpSpPr/>
            <p:nvPr/>
          </p:nvGrpSpPr>
          <p:grpSpPr>
            <a:xfrm>
              <a:off x="3686040" y="4451400"/>
              <a:ext cx="1122480" cy="625320"/>
              <a:chOff x="3686040" y="4451400"/>
              <a:chExt cx="1122480" cy="625320"/>
            </a:xfrm>
          </p:grpSpPr>
          <p:sp>
            <p:nvSpPr>
              <p:cNvPr id="394" name="Rectangle 199"/>
              <p:cNvSpPr/>
              <p:nvPr/>
            </p:nvSpPr>
            <p:spPr>
              <a:xfrm>
                <a:off x="3762360" y="4451400"/>
                <a:ext cx="9698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3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219"/>
              <p:cNvSpPr/>
              <p:nvPr/>
            </p:nvSpPr>
            <p:spPr>
              <a:xfrm>
                <a:off x="3686040" y="4451400"/>
                <a:ext cx="11224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6" name="Group 222"/>
            <p:cNvGrpSpPr/>
            <p:nvPr/>
          </p:nvGrpSpPr>
          <p:grpSpPr>
            <a:xfrm>
              <a:off x="4808520" y="4451400"/>
              <a:ext cx="1029960" cy="625320"/>
              <a:chOff x="4808520" y="4451400"/>
              <a:chExt cx="1029960" cy="625320"/>
            </a:xfrm>
          </p:grpSpPr>
          <p:sp>
            <p:nvSpPr>
              <p:cNvPr id="397" name="Rectangle 200"/>
              <p:cNvSpPr/>
              <p:nvPr/>
            </p:nvSpPr>
            <p:spPr>
              <a:xfrm>
                <a:off x="4884480" y="4451400"/>
                <a:ext cx="8780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6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221"/>
              <p:cNvSpPr/>
              <p:nvPr/>
            </p:nvSpPr>
            <p:spPr>
              <a:xfrm>
                <a:off x="4808520" y="4451400"/>
                <a:ext cx="10299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9" name="Group 224"/>
            <p:cNvGrpSpPr/>
            <p:nvPr/>
          </p:nvGrpSpPr>
          <p:grpSpPr>
            <a:xfrm>
              <a:off x="5838840" y="4451400"/>
              <a:ext cx="923760" cy="625320"/>
              <a:chOff x="5838840" y="4451400"/>
              <a:chExt cx="923760" cy="625320"/>
            </a:xfrm>
          </p:grpSpPr>
          <p:sp>
            <p:nvSpPr>
              <p:cNvPr id="400" name="Rectangle 201"/>
              <p:cNvSpPr/>
              <p:nvPr/>
            </p:nvSpPr>
            <p:spPr>
              <a:xfrm>
                <a:off x="5914800" y="4451400"/>
                <a:ext cx="7711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,1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223"/>
              <p:cNvSpPr/>
              <p:nvPr/>
            </p:nvSpPr>
            <p:spPr>
              <a:xfrm>
                <a:off x="5838840" y="4451400"/>
                <a:ext cx="9237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02" name="Group 226"/>
            <p:cNvGrpSpPr/>
            <p:nvPr/>
          </p:nvGrpSpPr>
          <p:grpSpPr>
            <a:xfrm>
              <a:off x="6762600" y="4451400"/>
              <a:ext cx="1415880" cy="625320"/>
              <a:chOff x="6762600" y="4451400"/>
              <a:chExt cx="1415880" cy="625320"/>
            </a:xfrm>
          </p:grpSpPr>
          <p:sp>
            <p:nvSpPr>
              <p:cNvPr id="403" name="Rectangle 202"/>
              <p:cNvSpPr/>
              <p:nvPr/>
            </p:nvSpPr>
            <p:spPr>
              <a:xfrm>
                <a:off x="6838920" y="4451400"/>
                <a:ext cx="12636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,7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3124160"/>
                    <a:tab algn="l" pos="1035813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225"/>
              <p:cNvSpPr/>
              <p:nvPr/>
            </p:nvSpPr>
            <p:spPr>
              <a:xfrm>
                <a:off x="6762600" y="4451400"/>
                <a:ext cx="1415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5" name="Text Box 229"/>
          <p:cNvSpPr/>
          <p:nvPr/>
        </p:nvSpPr>
        <p:spPr>
          <a:xfrm>
            <a:off x="114300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Gehalte aminozuren in grammen per 100 gram eiw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eft een beeld over de hoeveelheid N die in de pens verloren gaat. In de meeste Nederlandse rantsoen zal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schikbare energ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e beperkende factor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 een rantsoen voor melkkoeien mag de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E.B. nooit negatief zijn. In rantsoen het liefst +200-300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B32F-220C-47A6-ACA7-D65A5AF8774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kleiner dan 0 dan is er sprake van een tekort aan onbestendig eiwit. De micro-organismen produceren mind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crobieel eiw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dan op basis van energieaanbod mogelijk zou zijn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elijk aan 0 dan is er een evenwicht tussen de aanbod van onbestendig eiwit en energie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s 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.E.B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groter dan 0 dan is er sprake van een overschot aan onbestendig eiwit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11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7948-70FF-4CC8-AA56-62A2414BCDC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tor voor de stikstofbenutting van het melkve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Ureum ontstaat bij een overmaat aan onbestendig eiwit (hoog OEB) en/of een tekort aan in de pens afbreekbare koolhydraten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Melk zonder ureum bestaat nie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4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2CC8-2CDA-4027-9D9C-FEF942CE356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Een hoog ureumgehalte betekent een groot stikstofverlies via de urine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Waarden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: van 20 tot 25 mg ureum per 100 ml melk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nder 20 is laag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oven 30 is hoog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neden 15 zo veel mogelijk voorkomen moeten worden,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rwijl waarden boven 30 soms moeilijk te vermijden zijn. Dit laatste geldt met name voor bedrijven met veel grasland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33440" y="-30492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7A1-28C5-49EB-B3BE-97BC140BB47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staat uit mineralen en zand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ij een analyse is dit het vermelde R.A.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Ruw anorganische 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Zand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Max. 1 kg per dag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Belemmerd de pens 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Minerale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odig voor levensfunctie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20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6154-A7F4-49EB-A601-AC0564867C8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3794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Grassen en kruiden bestaan uit stevige celwanden en celinhoud. De celwanden bevatten voornamelijk koolhydraten (cellulose, hemicellulose, pectine), lignine. De celinhoud bevat ook koolhydraten (suikers, zetmeel), eiwitten en een beetje vet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Dik en moeilijk afbreekbaar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Celwanden bevatten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emicellulo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ectin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Lignine (bij volgroeide planten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jdelijke aanduiding voor inhoud 3" descr="http://www.kennislink.nl/upload/193533_962_1205415925164-88313_962_1030625300843-celwand1-klein.jpg"/>
          <p:cNvPicPr/>
          <p:nvPr/>
        </p:nvPicPr>
        <p:blipFill>
          <a:blip r:embed="rId1"/>
          <a:stretch/>
        </p:blipFill>
        <p:spPr>
          <a:xfrm>
            <a:off x="2916360" y="119700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427" name="Titel 2" descr=""/>
          <p:cNvPicPr/>
          <p:nvPr/>
        </p:nvPicPr>
        <p:blipFill>
          <a:blip r:embed="rId2"/>
          <a:stretch/>
        </p:blipFill>
        <p:spPr>
          <a:xfrm>
            <a:off x="311040" y="0"/>
            <a:ext cx="8485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il_fi" descr="http://www.sigmaaldrich.com/etc/medialib/life-science/metabolomics/enzyme-explorer/enzymes-for-alternative/plant-cell-wall.Par.0001.Image.550.gif"/>
          <p:cNvPicPr/>
          <p:nvPr/>
        </p:nvPicPr>
        <p:blipFill>
          <a:blip r:embed="rId1"/>
          <a:stretch/>
        </p:blipFill>
        <p:spPr>
          <a:xfrm>
            <a:off x="1952640" y="2347920"/>
            <a:ext cx="5238720" cy="2790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http://www.schooltv.nl/nudn/mmbase/images/1408269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il_fi" descr="http://www.lhup.edu/smarvel/Seminar/FALL_2003/S_Beatty/rumen-bacteria.jpg"/>
          <p:cNvPicPr/>
          <p:nvPr/>
        </p:nvPicPr>
        <p:blipFill>
          <a:blip r:embed="rId1"/>
          <a:stretch/>
        </p:blipFill>
        <p:spPr>
          <a:xfrm>
            <a:off x="1281240" y="1481040"/>
            <a:ext cx="6581520" cy="4525920"/>
          </a:xfrm>
          <a:prstGeom prst="rect">
            <a:avLst/>
          </a:prstGeom>
          <a:ln w="0">
            <a:noFill/>
          </a:ln>
        </p:spPr>
      </p:pic>
      <p:pic>
        <p:nvPicPr>
          <p:cNvPr id="289" name="Titel 2" descr=""/>
          <p:cNvPicPr/>
          <p:nvPr/>
        </p:nvPicPr>
        <p:blipFill>
          <a:blip r:embed="rId2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l_fi" descr="http://digitalunion.osu.edu/r2/summer07/nskrinak/images/fistulatedsmall.jpg"/>
          <p:cNvPicPr/>
          <p:nvPr/>
        </p:nvPicPr>
        <p:blipFill>
          <a:blip r:embed="rId1"/>
          <a:stretch/>
        </p:blipFill>
        <p:spPr>
          <a:xfrm>
            <a:off x="2984400" y="2443320"/>
            <a:ext cx="3175200" cy="2603520"/>
          </a:xfrm>
          <a:prstGeom prst="rect">
            <a:avLst/>
          </a:prstGeom>
          <a:ln w="0">
            <a:noFill/>
          </a:ln>
        </p:spPr>
      </p:pic>
      <p:pic>
        <p:nvPicPr>
          <p:cNvPr id="291" name="Titel 2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kstvak 3"/>
          <p:cNvSpPr/>
          <p:nvPr/>
        </p:nvSpPr>
        <p:spPr>
          <a:xfrm>
            <a:off x="611280" y="836640"/>
            <a:ext cx="8137440" cy="9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dermid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c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organische stof (ras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rganische st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olhydrate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eiwi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 v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uwe celstof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verige koolhydra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uiker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etm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3" name="Rechte verbindingslijn met pijl 5"/>
          <p:cNvCxnSpPr/>
          <p:nvPr/>
        </p:nvCxnSpPr>
        <p:spPr>
          <a:xfrm>
            <a:off x="5796000" y="1268280"/>
            <a:ext cx="100872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4" name="Rechte verbindingslijn met pijl 8"/>
          <p:cNvCxnSpPr/>
          <p:nvPr/>
        </p:nvCxnSpPr>
        <p:spPr>
          <a:xfrm flipH="1">
            <a:off x="3202920" y="1268280"/>
            <a:ext cx="64836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5" name="Rechte verbindingslijn met pijl 13"/>
          <p:cNvCxnSpPr/>
          <p:nvPr/>
        </p:nvCxnSpPr>
        <p:spPr>
          <a:xfrm>
            <a:off x="3203640" y="1916280"/>
            <a:ext cx="100872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6" name="Rechte verbindingslijn met pijl 18"/>
          <p:cNvCxnSpPr/>
          <p:nvPr/>
        </p:nvCxnSpPr>
        <p:spPr>
          <a:xfrm flipH="1">
            <a:off x="1402920" y="206028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7" name="Rechte verbindingslijn met pijl 21"/>
          <p:cNvCxnSpPr/>
          <p:nvPr/>
        </p:nvCxnSpPr>
        <p:spPr>
          <a:xfrm flipH="1">
            <a:off x="3994920" y="2707920"/>
            <a:ext cx="361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8" name="Rechte verbindingslijn met pijl 25"/>
          <p:cNvCxnSpPr/>
          <p:nvPr/>
        </p:nvCxnSpPr>
        <p:spPr>
          <a:xfrm>
            <a:off x="5795640" y="2708280"/>
            <a:ext cx="108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9" name="Rechte verbindingslijn met pijl 28"/>
          <p:cNvCxnSpPr/>
          <p:nvPr/>
        </p:nvCxnSpPr>
        <p:spPr>
          <a:xfrm>
            <a:off x="6587640" y="2707920"/>
            <a:ext cx="86436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0" name="Rechte verbindingslijn met pijl 32"/>
          <p:cNvCxnSpPr/>
          <p:nvPr/>
        </p:nvCxnSpPr>
        <p:spPr>
          <a:xfrm flipH="1">
            <a:off x="1834560" y="3428640"/>
            <a:ext cx="6498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1" name="Rechte verbindingslijn met pijl 36"/>
          <p:cNvCxnSpPr/>
          <p:nvPr/>
        </p:nvCxnSpPr>
        <p:spPr>
          <a:xfrm>
            <a:off x="4211280" y="3428640"/>
            <a:ext cx="46908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2" name="Rechte verbindingslijn met pijl 40"/>
          <p:cNvCxnSpPr/>
          <p:nvPr/>
        </p:nvCxnSpPr>
        <p:spPr>
          <a:xfrm flipH="1">
            <a:off x="3347640" y="4220640"/>
            <a:ext cx="50400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3" name="Rechte verbindingslijn met pijl 44"/>
          <p:cNvCxnSpPr/>
          <p:nvPr/>
        </p:nvCxnSpPr>
        <p:spPr>
          <a:xfrm>
            <a:off x="5003280" y="4220640"/>
            <a:ext cx="289440" cy="36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5" name="Titel 47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Bevat alle belangrijke stoffen die we nodig hebben voor de vorming van de koolhydraten, vetten en de eiwitten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Kenmerk organische stof : het bevat de elementen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C  = kool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H = wate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O = zuur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08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CE54-A98E-4871-BBF3-93376A2FBF1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4">
            <a:hlinkClick r:id="rId2" action="ppaction://hlinksldjump"/>
          </p:cNvPr>
          <p:cNvSpPr/>
          <p:nvPr/>
        </p:nvSpPr>
        <p:spPr>
          <a:xfrm>
            <a:off x="8305920" y="380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Een organische stof die naast de drie genoemde elementen ook nog bevat: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N = stikstof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P = fosf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S = zwave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Lucida Sans Unicode"/>
              </a:rPr>
              <a:t>Het ruw eiwit bevat 16% stikstof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Lucida Sans Unicode"/>
              </a:rPr>
              <a:t>Via Kjehldahl en kleurstof methode makkelijk N te bepalen , en via de eiwitfactor 6,25 terug te rekenen naar hoeveelheid eiwit.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12" name="Tijdelijke aanduiding voor dianumm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1280-5C98-48D6-84A6-31D696AA18D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1332000" y="1989000"/>
            <a:ext cx="9067320" cy="3812400"/>
            <a:chOff x="1332000" y="1989000"/>
            <a:chExt cx="9067320" cy="3812400"/>
          </a:xfrm>
        </p:grpSpPr>
        <p:sp>
          <p:nvSpPr>
            <p:cNvPr id="315" name="Text Box 4"/>
            <p:cNvSpPr/>
            <p:nvPr/>
          </p:nvSpPr>
          <p:spPr>
            <a:xfrm>
              <a:off x="2170080" y="198900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ruw eiwit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energie (FOS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1407960" y="27511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095560"/>
                  <a:tab algn="l" pos="4572000"/>
                  <a:tab algn="l" pos="6858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onbestendig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NL" sz="2400" spc="-1" strike="noStrike">
                  <a:solidFill>
                    <a:srgbClr val="000000"/>
                  </a:solidFill>
                  <a:latin typeface="Arial"/>
                </a:rPr>
                <a:t>OE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1332000" y="3512880"/>
              <a:ext cx="8686440" cy="7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darmverteerbaa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46674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bestendig eiwit 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microbieel eiwi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4379760" y="450360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ahoma"/>
                </a:rPr>
                <a:t>DV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5903640" y="496080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onderhou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"/>
            <p:cNvSpPr/>
            <p:nvPr/>
          </p:nvSpPr>
          <p:spPr>
            <a:xfrm>
              <a:off x="1712520" y="488448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melkproduc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017440" y="53416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groei/mobilisati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Text Box 11"/>
            <p:cNvSpPr/>
            <p:nvPr/>
          </p:nvSpPr>
          <p:spPr>
            <a:xfrm>
              <a:off x="4836960" y="5341680"/>
              <a:ext cx="14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ahoma"/>
                </a:rPr>
                <a:t>dracht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Line 12"/>
            <p:cNvSpPr/>
            <p:nvPr/>
          </p:nvSpPr>
          <p:spPr>
            <a:xfrm flipH="1">
              <a:off x="2474280" y="2446200"/>
              <a:ext cx="228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Line 13"/>
            <p:cNvSpPr/>
            <p:nvPr/>
          </p:nvSpPr>
          <p:spPr>
            <a:xfrm>
              <a:off x="3465360" y="2446200"/>
              <a:ext cx="3045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>
              <a:off x="6437160" y="24462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15"/>
            <p:cNvSpPr/>
            <p:nvPr/>
          </p:nvSpPr>
          <p:spPr>
            <a:xfrm>
              <a:off x="239868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6"/>
            <p:cNvSpPr/>
            <p:nvPr/>
          </p:nvSpPr>
          <p:spPr>
            <a:xfrm>
              <a:off x="6437160" y="320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7"/>
            <p:cNvSpPr/>
            <p:nvPr/>
          </p:nvSpPr>
          <p:spPr>
            <a:xfrm>
              <a:off x="5056560" y="297972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Line 18"/>
            <p:cNvSpPr/>
            <p:nvPr/>
          </p:nvSpPr>
          <p:spPr>
            <a:xfrm>
              <a:off x="7118640" y="2979720"/>
              <a:ext cx="60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 flipH="1">
              <a:off x="5370120" y="4275000"/>
              <a:ext cx="5331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Line 20"/>
            <p:cNvSpPr/>
            <p:nvPr/>
          </p:nvSpPr>
          <p:spPr>
            <a:xfrm>
              <a:off x="3693960" y="4275000"/>
              <a:ext cx="53316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Line 21"/>
            <p:cNvSpPr/>
            <p:nvPr/>
          </p:nvSpPr>
          <p:spPr>
            <a:xfrm flipH="1">
              <a:off x="4227120" y="5037120"/>
              <a:ext cx="4572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22"/>
            <p:cNvSpPr/>
            <p:nvPr/>
          </p:nvSpPr>
          <p:spPr>
            <a:xfrm>
              <a:off x="4913280" y="5037120"/>
              <a:ext cx="2286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Line 23"/>
            <p:cNvSpPr/>
            <p:nvPr/>
          </p:nvSpPr>
          <p:spPr>
            <a:xfrm>
              <a:off x="5217840" y="4884480"/>
              <a:ext cx="68580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Line 24"/>
            <p:cNvSpPr/>
            <p:nvPr/>
          </p:nvSpPr>
          <p:spPr>
            <a:xfrm flipH="1">
              <a:off x="3922200" y="4884480"/>
              <a:ext cx="53316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50:42Z</dcterms:created>
  <dc:creator>m</dc:creator>
  <dc:description/>
  <dc:language>en-US</dc:language>
  <cp:lastModifiedBy>Jan van Vliet</cp:lastModifiedBy>
  <dcterms:modified xsi:type="dcterms:W3CDTF">2012-02-22T14:53:19Z</dcterms:modified>
  <cp:revision>50</cp:revision>
  <dc:subject/>
  <dc:title>Spijsvertering van de koe</dc:title>
</cp:coreProperties>
</file>