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56D1-9F2F-44AC-83F6-DA9F42C491F8}" type="datetime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C02B-2D69-45A4-979D-6DA0EE49FF0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6852-A534-4955-B20E-637992383BD9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0D36-EEF6-4C02-AA0A-4E58198BA2C6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minozuur patroon van de voedingseiwitten van belang voor het bestendige deel van het vo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Niet voor het onbestendige de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ov melkeiwit heeft sojaschroot een tekort aan methionine en mais een tekort aan ly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3C02-D7DA-42F4-BE07-EEC16BC223E2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66AE-3326-48F8-A39C-1C1E2F4CA345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Oplosbare eiwitten gaan het snel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Niet – eiwit- stifstofverbindingen is hier een voorbeeld van:  vinasse en bietmelasse heeft er veel v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nel groeiend gras of nat ingekuild g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8EBB-DF88-468A-9DC8-5C3904254EB0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1C8B-4C8B-442E-96A7-269BF1D899A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assage snelheid krachtvoer;  gemiddeld 6% per u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Ruwvoer 4,5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Onbestendig eiwit bron van stikstof voor de pensfl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ekort beïnvloed de flora en de verwerkingscapaciteit van de p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ij hoogproductieve groep essentie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AEBC-66DB-452E-9544-9839AB1894C2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F128-4FDD-4C15-965D-D0E12E213EB2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REN  wordt beïnvloed door de N bemesting op g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ogere N gift beïnvloed de onbestendige eiwit de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50F2-92C3-47D9-BA13-91089E36AE7C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2D1A-0B05-4BAE-ACF4-A738D5471742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iwitarme producten met veel FOS krijgen relatieve hoge DVE en sterk negatieve OEB  (bietenpulp  712 FOS, 104 dve –66 OE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iwitrijke producten met weinig FOS krijgen een relatief lage DVE en een sterke positieve OEB (nat ingekuild gras 521 FOS 59 dve 79 OE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DCF6-F303-4EFD-A6E2-78D9F0389CF3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72BE-D862-4EDC-A65E-1BE892B110C1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A24C-9530-4E00-B4F9-792BDB72A323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537A-8FB8-40AC-AFE4-1EE18417907E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ewegende animat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B621-E9CC-41A1-913D-024FB39E7718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6186-3502-4C19-B8E9-329536408EE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n totaal plaatje met links naar onderliggende d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7182-AC8C-401A-839A-AF6648B42E84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38DE-62F9-4E78-9043-277E4C9152D6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C9B3-2525-465A-B512-4241C6145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0" y="37666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4926-C00C-4A39-98CC-B28300D2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576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275E-581E-4B3D-A2B6-A4F928413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91680" y="12193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83360" y="12193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0" y="37666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091680" y="37666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83360" y="37666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9039-6229-4263-80C1-F617912C8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88F8-6934-4221-963A-D75275B04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CA67-A44A-4B05-813A-A161BFE6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E23D-F458-4DF6-811E-1F8A11E8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A056-FCE3-4D02-AA82-E342510E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B8EE-7616-453B-81D9-3591937F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D3A1-AD27-4F35-B168-44E2602C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A001-E820-4C9D-8A6B-494875E0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CA4F-1180-44AD-B294-E2DBA4B6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576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4BB9-2AFC-4BFC-8E90-DC45C6FC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5C8F-2807-4A39-92F0-14BC1B2C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0" y="37666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CEF5-6183-49F6-879D-C756C4D1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8576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C329-5B52-44C0-BCDA-CD3C8E3D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091680" y="12193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83360" y="12193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0" y="37666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091680" y="37666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83360" y="37666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9B3A-DEFA-4276-991F-BD6901798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ED6D-B45B-40A5-ADD6-9FDEF792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BE7E-28FD-44D9-8F5E-26A3F6E6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B581-B811-477C-BA72-67E0A580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8399-6C17-4352-B19F-58F5CA39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D6D0-C0D3-4463-8C02-A5823F68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576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6987-3D2E-428F-8CDE-1DF4B54F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442A-329B-48DD-976E-5253BBFB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>
                <a:gd name="textAreaLeft" fmla="*/ 0 w 8164440"/>
                <a:gd name="textAreaRight" fmla="*/ 8164800 w 8164440"/>
                <a:gd name="textAreaTop" fmla="*/ 0 h 3019680"/>
                <a:gd name="textAreaBottom" fmla="*/ 3020040 h 3019680"/>
              </a:gdLst>
              <a:ahLst/>
              <a:rect l="textAreaLeft" t="textAreaTop" r="textAreaRight" b="textAreaBottom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691080"/>
                <a:gd name="textAreaBottom" fmla="*/ 3691440 h 3691080"/>
              </a:gdLst>
              <a:ahLst/>
              <a:rect l="textAreaLeft" t="textAreaTop" r="textAreaRight" b="textAreaBottom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497320"/>
                <a:gd name="textAreaBottom" fmla="*/ 2497680 h 2497320"/>
              </a:gdLst>
              <a:ahLst/>
              <a:rect l="textAreaLeft" t="textAreaTop" r="textAreaRight" b="textAreaBottom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539720"/>
                <a:gd name="textAreaBottom" fmla="*/ 1540080 h 1539720"/>
              </a:gdLst>
              <a:ahLst/>
              <a:rect l="textAreaLeft" t="textAreaTop" r="textAreaRight" b="textAreaBottom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682640"/>
                <a:gd name="textAreaBottom" fmla="*/ 1683000 h 1682640"/>
              </a:gdLst>
              <a:ahLst/>
              <a:rect l="textAreaLeft" t="textAreaTop" r="textAreaRight" b="textAreaBottom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>
                <a:gd name="textAreaLeft" fmla="*/ 0 w 8388360"/>
                <a:gd name="textAreaRight" fmla="*/ 8388720 w 8388360"/>
                <a:gd name="textAreaTop" fmla="*/ 0 h 1068120"/>
                <a:gd name="textAreaBottom" fmla="*/ 1068480 h 1068120"/>
              </a:gdLst>
              <a:ahLst/>
              <a:rect l="textAreaLeft" t="textAreaTop" r="textAreaRight" b="textAreaBottom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>
                <a:gd name="textAreaLeft" fmla="*/ 0 w 4578480"/>
                <a:gd name="textAreaRight" fmla="*/ 4578840 w 457848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F309-C51C-468B-888C-793BA9E0AFD9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9C50-0DB5-4744-AB33-012E19138CFC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>
                <a:gd name="textAreaLeft" fmla="*/ 0 w 8164440"/>
                <a:gd name="textAreaRight" fmla="*/ 8164800 w 8164440"/>
                <a:gd name="textAreaTop" fmla="*/ 0 h 3019680"/>
                <a:gd name="textAreaBottom" fmla="*/ 3020040 h 3019680"/>
              </a:gdLst>
              <a:ahLst/>
              <a:rect l="textAreaLeft" t="textAreaTop" r="textAreaRight" b="textAreaBottom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691080"/>
                <a:gd name="textAreaBottom" fmla="*/ 3691440 h 3691080"/>
              </a:gdLst>
              <a:ahLst/>
              <a:rect l="textAreaLeft" t="textAreaTop" r="textAreaRight" b="textAreaBottom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497320"/>
                <a:gd name="textAreaBottom" fmla="*/ 2497680 h 2497320"/>
              </a:gdLst>
              <a:ahLst/>
              <a:rect l="textAreaLeft" t="textAreaTop" r="textAreaRight" b="textAreaBottom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539720"/>
                <a:gd name="textAreaBottom" fmla="*/ 1540080 h 1539720"/>
              </a:gdLst>
              <a:ahLst/>
              <a:rect l="textAreaLeft" t="textAreaTop" r="textAreaRight" b="textAreaBottom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682640"/>
                <a:gd name="textAreaBottom" fmla="*/ 1683000 h 1682640"/>
              </a:gdLst>
              <a:ahLst/>
              <a:rect l="textAreaLeft" t="textAreaTop" r="textAreaRight" b="textAreaBottom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>
                <a:gd name="textAreaLeft" fmla="*/ 0 w 8388360"/>
                <a:gd name="textAreaRight" fmla="*/ 8388720 w 8388360"/>
                <a:gd name="textAreaTop" fmla="*/ 0 h 1068120"/>
                <a:gd name="textAreaBottom" fmla="*/ 1068480 h 1068120"/>
              </a:gdLst>
              <a:ahLst/>
              <a:rect l="textAreaLeft" t="textAreaTop" r="textAreaRight" b="textAreaBottom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>
                <a:gd name="textAreaLeft" fmla="*/ 0 w 4578480"/>
                <a:gd name="textAreaRight" fmla="*/ 4578840 w 457848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7BA0-DEFD-4BD5-A7F1-3F6471BCAD10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802F-AE1E-4296-ADC8-6AB52644C36C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0.xml"/><Relationship Id="rId3" Type="http://schemas.openxmlformats.org/officeDocument/2006/relationships/slide" Target="slide7.xml"/><Relationship Id="rId4" Type="http://schemas.openxmlformats.org/officeDocument/2006/relationships/slide" Target="slide11.xml"/><Relationship Id="rId5" Type="http://schemas.openxmlformats.org/officeDocument/2006/relationships/slide" Target="slide21.xml"/><Relationship Id="rId6" Type="http://schemas.openxmlformats.org/officeDocument/2006/relationships/slide" Target="slide18.xml"/><Relationship Id="rId7" Type="http://schemas.openxmlformats.org/officeDocument/2006/relationships/slide" Target="slide27.xml"/><Relationship Id="rId8" Type="http://schemas.openxmlformats.org/officeDocument/2006/relationships/slide" Target="slide20.xml"/><Relationship Id="rId9" Type="http://schemas.openxmlformats.org/officeDocument/2006/relationships/slide" Target="slide29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Eiwitvertering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an plantaardig eiwit naar dierlijk eiwit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70E2-63E0-4227-B43D-5F8DBA351BAF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Anorganische stof </a:t>
            </a:r>
            <a:r>
              <a:rPr b="0" lang="nl-NL" sz="1800" spc="-1" strike="noStrike">
                <a:solidFill>
                  <a:srgbClr val="ffcc66"/>
                </a:solidFill>
                <a:latin typeface="Times New Roman"/>
              </a:rPr>
              <a:t>pagina 5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Bestaat uit mineralen en zand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Bij een analyse is dit het vermelde R.A.S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Ruw anorganische st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Zand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Max. 1 kg per d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elemmerd de pens func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Mineral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Nodig voor levensfunc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8305920" y="380880"/>
            <a:ext cx="533160" cy="60984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704">
                <a:moveTo>
                  <a:pt x="0" y="0"/>
                </a:moveTo>
                <a:lnTo>
                  <a:pt x="21600" y="0"/>
                </a:lnTo>
                <a:lnTo>
                  <a:pt x="21600" y="24704"/>
                </a:lnTo>
                <a:lnTo>
                  <a:pt x="0" y="24704"/>
                </a:lnTo>
                <a:close/>
              </a:path>
              <a:path fill="lightenLess" w="21600" h="247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04">
                <a:moveTo>
                  <a:pt x="21600" y="0"/>
                </a:moveTo>
                <a:lnTo>
                  <a:pt x="21600" y="24704"/>
                </a:lnTo>
                <a:lnTo>
                  <a:pt x="20200" y="23304"/>
                </a:lnTo>
                <a:lnTo>
                  <a:pt x="20200" y="1400"/>
                </a:lnTo>
                <a:close/>
              </a:path>
              <a:path fill="darkenLess" w="21600" h="24704">
                <a:moveTo>
                  <a:pt x="21600" y="24704"/>
                </a:moveTo>
                <a:lnTo>
                  <a:pt x="0" y="24704"/>
                </a:lnTo>
                <a:lnTo>
                  <a:pt x="1400" y="23304"/>
                </a:lnTo>
                <a:lnTo>
                  <a:pt x="20200" y="23304"/>
                </a:lnTo>
                <a:close/>
              </a:path>
              <a:path fill="lighten" w="21600" h="24704">
                <a:moveTo>
                  <a:pt x="0" y="247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04"/>
                </a:lnTo>
                <a:close/>
              </a:path>
              <a:path fill="darken" w="21600" h="24704">
                <a:moveTo>
                  <a:pt x="3794" y="12352"/>
                </a:moveTo>
                <a:lnTo>
                  <a:pt x="17806" y="5346"/>
                </a:lnTo>
                <a:lnTo>
                  <a:pt x="17806" y="1935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3C66-0268-4B38-BDA0-378EAC860D12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Eiwitt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en organische stof die naast de drie genoemde elementen ook nog bevat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N = stikst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P = fos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S = zwa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Het ruw eiwit bevat 16% stikstof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ia Kjehldahl en kleurstof methode makkelijk N te bepalen , en via de eiwitfactor 6,25 terug te rekenen naar hoeveelheid eiwi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Ruw eiwit bestaat uit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 Unicode MS"/>
              </a:rPr>
              <a:t>werkelijk eiwit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 en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 Unicode MS"/>
              </a:rPr>
              <a:t>amid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BBB6-725D-49CF-AB83-6E60C50078E0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Ruw eiwit, </a:t>
            </a:r>
            <a:r>
              <a:rPr b="0" lang="nl-NL" sz="3200" spc="-1" strike="noStrike">
                <a:solidFill>
                  <a:srgbClr val="ffcc66"/>
                </a:solidFill>
                <a:latin typeface="Times New Roman"/>
              </a:rPr>
              <a:t>werkelijk eiwi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 Unicode MS"/>
              </a:rPr>
              <a:t>Werkelijk eiwit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 belangrijkste deel van het eiwi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zeer ingewikkeld van samenstelling 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estaat uit zeer grote moleculen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eze zijn uit bouwstenen opgebouwd, de z.g. aminozu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oor groei zijn er 10 aminozuren </a:t>
            </a:r>
            <a:br>
              <a:rPr sz="2800"/>
            </a:b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noodzakelijk = essentieel, een herkauwer kan een evt. tekort zelf aanmak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elangrijke aminozuren zijn:  lysine, methionine, cystine, tryptofa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ianumm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1873-4C5A-4570-8465-E8D153A0608D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Verschillende aminozur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4267080" cy="4876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Argin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Histid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Iso-leuc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Leuc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Lys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Methion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Phenylalan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Threon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Tryptofaa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val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495680" cy="4876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Alan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Asparaginezuur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Citrull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Cyste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Cyst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Glutam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Glutaminezuur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Glyz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hydroxyprol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62120" y="10666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Essentieel   </a:t>
            </a: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Niet noodzakelij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B6B5-C11F-45ED-AF02-A7F5679C7366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Group 228"/>
          <p:cNvGrpSpPr/>
          <p:nvPr/>
        </p:nvGrpSpPr>
        <p:grpSpPr>
          <a:xfrm>
            <a:off x="0" y="1781280"/>
            <a:ext cx="9144000" cy="3724200"/>
            <a:chOff x="0" y="1781280"/>
            <a:chExt cx="9144000" cy="3724200"/>
          </a:xfrm>
        </p:grpSpPr>
        <p:sp>
          <p:nvSpPr>
            <p:cNvPr id="211" name="Rectangle 58"/>
            <p:cNvSpPr/>
            <p:nvPr/>
          </p:nvSpPr>
          <p:spPr>
            <a:xfrm>
              <a:off x="0" y="5076720"/>
              <a:ext cx="914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Rectangle 115"/>
            <p:cNvSpPr/>
            <p:nvPr/>
          </p:nvSpPr>
          <p:spPr>
            <a:xfrm>
              <a:off x="0" y="5076720"/>
              <a:ext cx="914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Rectangle 172"/>
            <p:cNvSpPr/>
            <p:nvPr/>
          </p:nvSpPr>
          <p:spPr>
            <a:xfrm>
              <a:off x="0" y="5076720"/>
              <a:ext cx="914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Rectangle 179"/>
            <p:cNvSpPr/>
            <p:nvPr/>
          </p:nvSpPr>
          <p:spPr>
            <a:xfrm>
              <a:off x="1042920" y="2575080"/>
              <a:ext cx="16398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Lysi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Rectangle 180"/>
            <p:cNvSpPr/>
            <p:nvPr/>
          </p:nvSpPr>
          <p:spPr>
            <a:xfrm>
              <a:off x="2682720" y="2575080"/>
              <a:ext cx="7747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8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Rectangle 181"/>
            <p:cNvSpPr/>
            <p:nvPr/>
          </p:nvSpPr>
          <p:spPr>
            <a:xfrm>
              <a:off x="3809880" y="2590920"/>
              <a:ext cx="9702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6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Rectangle 182"/>
            <p:cNvSpPr/>
            <p:nvPr/>
          </p:nvSpPr>
          <p:spPr>
            <a:xfrm>
              <a:off x="4876920" y="2590920"/>
              <a:ext cx="8776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,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Rectangle 183"/>
            <p:cNvSpPr/>
            <p:nvPr/>
          </p:nvSpPr>
          <p:spPr>
            <a:xfrm>
              <a:off x="5943600" y="2590920"/>
              <a:ext cx="7714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7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Rectangle 184"/>
            <p:cNvSpPr/>
            <p:nvPr/>
          </p:nvSpPr>
          <p:spPr>
            <a:xfrm>
              <a:off x="6858000" y="2590920"/>
              <a:ext cx="1263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8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Rectangle 185"/>
            <p:cNvSpPr/>
            <p:nvPr/>
          </p:nvSpPr>
          <p:spPr>
            <a:xfrm>
              <a:off x="1042920" y="3200400"/>
              <a:ext cx="16398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thioni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Rectangle 186"/>
            <p:cNvSpPr/>
            <p:nvPr/>
          </p:nvSpPr>
          <p:spPr>
            <a:xfrm>
              <a:off x="2682720" y="3200400"/>
              <a:ext cx="7747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,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Rectangle 187"/>
            <p:cNvSpPr/>
            <p:nvPr/>
          </p:nvSpPr>
          <p:spPr>
            <a:xfrm>
              <a:off x="3809880" y="3200400"/>
              <a:ext cx="9702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,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Rectangle 188"/>
            <p:cNvSpPr/>
            <p:nvPr/>
          </p:nvSpPr>
          <p:spPr>
            <a:xfrm>
              <a:off x="4800600" y="3200400"/>
              <a:ext cx="8780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Rectangle 189"/>
            <p:cNvSpPr/>
            <p:nvPr/>
          </p:nvSpPr>
          <p:spPr>
            <a:xfrm>
              <a:off x="5943600" y="3200400"/>
              <a:ext cx="7714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,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Rectangle 190"/>
            <p:cNvSpPr/>
            <p:nvPr/>
          </p:nvSpPr>
          <p:spPr>
            <a:xfrm>
              <a:off x="6858000" y="3200400"/>
              <a:ext cx="1263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Rectangle 191"/>
            <p:cNvSpPr/>
            <p:nvPr/>
          </p:nvSpPr>
          <p:spPr>
            <a:xfrm>
              <a:off x="1042920" y="3825720"/>
              <a:ext cx="16398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eoni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Rectangle 192"/>
            <p:cNvSpPr/>
            <p:nvPr/>
          </p:nvSpPr>
          <p:spPr>
            <a:xfrm>
              <a:off x="2682720" y="3825720"/>
              <a:ext cx="7747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Rectangle 193"/>
            <p:cNvSpPr/>
            <p:nvPr/>
          </p:nvSpPr>
          <p:spPr>
            <a:xfrm>
              <a:off x="3809880" y="3809880"/>
              <a:ext cx="9702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Rectangle 194"/>
            <p:cNvSpPr/>
            <p:nvPr/>
          </p:nvSpPr>
          <p:spPr>
            <a:xfrm>
              <a:off x="4800600" y="3733920"/>
              <a:ext cx="8780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Rectangle 195"/>
            <p:cNvSpPr/>
            <p:nvPr/>
          </p:nvSpPr>
          <p:spPr>
            <a:xfrm>
              <a:off x="5943600" y="3809880"/>
              <a:ext cx="77148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Rectangle 196"/>
            <p:cNvSpPr/>
            <p:nvPr/>
          </p:nvSpPr>
          <p:spPr>
            <a:xfrm>
              <a:off x="6934320" y="3733920"/>
              <a:ext cx="1263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5,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2" name="Group 204"/>
            <p:cNvGrpSpPr/>
            <p:nvPr/>
          </p:nvGrpSpPr>
          <p:grpSpPr>
            <a:xfrm>
              <a:off x="966960" y="1781280"/>
              <a:ext cx="1792080" cy="793800"/>
              <a:chOff x="966960" y="1781280"/>
              <a:chExt cx="1792080" cy="793800"/>
            </a:xfrm>
          </p:grpSpPr>
          <p:sp>
            <p:nvSpPr>
              <p:cNvPr id="233" name="Rectangle 173"/>
              <p:cNvSpPr/>
              <p:nvPr/>
            </p:nvSpPr>
            <p:spPr>
              <a:xfrm>
                <a:off x="1042920" y="1781280"/>
                <a:ext cx="163944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oduct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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minozuur  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Rectangle 203"/>
              <p:cNvSpPr/>
              <p:nvPr/>
            </p:nvSpPr>
            <p:spPr>
              <a:xfrm>
                <a:off x="966960" y="1781280"/>
                <a:ext cx="179208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206"/>
            <p:cNvGrpSpPr/>
            <p:nvPr/>
          </p:nvGrpSpPr>
          <p:grpSpPr>
            <a:xfrm>
              <a:off x="2759040" y="1781280"/>
              <a:ext cx="927000" cy="793800"/>
              <a:chOff x="2759040" y="1781280"/>
              <a:chExt cx="927000" cy="793800"/>
            </a:xfrm>
          </p:grpSpPr>
          <p:sp>
            <p:nvSpPr>
              <p:cNvPr id="236" name="Rectangle 174"/>
              <p:cNvSpPr/>
              <p:nvPr/>
            </p:nvSpPr>
            <p:spPr>
              <a:xfrm>
                <a:off x="2835000" y="1781280"/>
                <a:ext cx="77472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l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Rectangle 205"/>
              <p:cNvSpPr/>
              <p:nvPr/>
            </p:nvSpPr>
            <p:spPr>
              <a:xfrm>
                <a:off x="2759040" y="1781280"/>
                <a:ext cx="92700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Group 208"/>
            <p:cNvGrpSpPr/>
            <p:nvPr/>
          </p:nvGrpSpPr>
          <p:grpSpPr>
            <a:xfrm>
              <a:off x="3686040" y="1781280"/>
              <a:ext cx="1122480" cy="793800"/>
              <a:chOff x="3686040" y="1781280"/>
              <a:chExt cx="1122480" cy="793800"/>
            </a:xfrm>
          </p:grpSpPr>
          <p:sp>
            <p:nvSpPr>
              <p:cNvPr id="239" name="Rectangle 175"/>
              <p:cNvSpPr/>
              <p:nvPr/>
            </p:nvSpPr>
            <p:spPr>
              <a:xfrm>
                <a:off x="3762360" y="1781280"/>
                <a:ext cx="96984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oja-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chroo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Rectangle 207"/>
              <p:cNvSpPr/>
              <p:nvPr/>
            </p:nvSpPr>
            <p:spPr>
              <a:xfrm>
                <a:off x="3686040" y="1781280"/>
                <a:ext cx="112248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Group 210"/>
            <p:cNvGrpSpPr/>
            <p:nvPr/>
          </p:nvGrpSpPr>
          <p:grpSpPr>
            <a:xfrm>
              <a:off x="4808520" y="1781280"/>
              <a:ext cx="1029960" cy="793800"/>
              <a:chOff x="4808520" y="1781280"/>
              <a:chExt cx="1029960" cy="793800"/>
            </a:xfrm>
          </p:grpSpPr>
          <p:sp>
            <p:nvSpPr>
              <p:cNvPr id="242" name="Rectangle 176"/>
              <p:cNvSpPr/>
              <p:nvPr/>
            </p:nvSpPr>
            <p:spPr>
              <a:xfrm>
                <a:off x="4884480" y="1781280"/>
                <a:ext cx="87804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eren­mee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Rectangle 209"/>
              <p:cNvSpPr/>
              <p:nvPr/>
            </p:nvSpPr>
            <p:spPr>
              <a:xfrm>
                <a:off x="4808520" y="1781280"/>
                <a:ext cx="102996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 212"/>
            <p:cNvGrpSpPr/>
            <p:nvPr/>
          </p:nvGrpSpPr>
          <p:grpSpPr>
            <a:xfrm>
              <a:off x="5838840" y="1781280"/>
              <a:ext cx="923760" cy="793800"/>
              <a:chOff x="5838840" y="1781280"/>
              <a:chExt cx="923760" cy="793800"/>
            </a:xfrm>
          </p:grpSpPr>
          <p:sp>
            <p:nvSpPr>
              <p:cNvPr id="245" name="Rectangle 177"/>
              <p:cNvSpPr/>
              <p:nvPr/>
            </p:nvSpPr>
            <p:spPr>
              <a:xfrm>
                <a:off x="5914800" y="1781280"/>
                <a:ext cx="77112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is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e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Rectangle 211"/>
              <p:cNvSpPr/>
              <p:nvPr/>
            </p:nvSpPr>
            <p:spPr>
              <a:xfrm>
                <a:off x="5838840" y="1781280"/>
                <a:ext cx="92376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Group 214"/>
            <p:cNvGrpSpPr/>
            <p:nvPr/>
          </p:nvGrpSpPr>
          <p:grpSpPr>
            <a:xfrm>
              <a:off x="6762600" y="1781280"/>
              <a:ext cx="1415880" cy="793800"/>
              <a:chOff x="6762600" y="1781280"/>
              <a:chExt cx="1415880" cy="793800"/>
            </a:xfrm>
          </p:grpSpPr>
          <p:sp>
            <p:nvSpPr>
              <p:cNvPr id="248" name="Rectangle 178"/>
              <p:cNvSpPr/>
              <p:nvPr/>
            </p:nvSpPr>
            <p:spPr>
              <a:xfrm>
                <a:off x="6838920" y="1781280"/>
                <a:ext cx="126360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icro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bieeleiwi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Rectangle 213"/>
              <p:cNvSpPr/>
              <p:nvPr/>
            </p:nvSpPr>
            <p:spPr>
              <a:xfrm>
                <a:off x="6762600" y="1781280"/>
                <a:ext cx="141588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Group 216"/>
            <p:cNvGrpSpPr/>
            <p:nvPr/>
          </p:nvGrpSpPr>
          <p:grpSpPr>
            <a:xfrm>
              <a:off x="966960" y="4451400"/>
              <a:ext cx="1792080" cy="625320"/>
              <a:chOff x="966960" y="4451400"/>
              <a:chExt cx="1792080" cy="625320"/>
            </a:xfrm>
          </p:grpSpPr>
          <p:sp>
            <p:nvSpPr>
              <p:cNvPr id="251" name="Rectangle 197"/>
              <p:cNvSpPr/>
              <p:nvPr/>
            </p:nvSpPr>
            <p:spPr>
              <a:xfrm>
                <a:off x="1042920" y="4451400"/>
                <a:ext cx="16394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ryptofaa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Rectangle 215"/>
              <p:cNvSpPr/>
              <p:nvPr/>
            </p:nvSpPr>
            <p:spPr>
              <a:xfrm>
                <a:off x="966960" y="4451400"/>
                <a:ext cx="179208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Group 218"/>
            <p:cNvGrpSpPr/>
            <p:nvPr/>
          </p:nvGrpSpPr>
          <p:grpSpPr>
            <a:xfrm>
              <a:off x="2759040" y="4451400"/>
              <a:ext cx="927000" cy="625320"/>
              <a:chOff x="2759040" y="4451400"/>
              <a:chExt cx="927000" cy="625320"/>
            </a:xfrm>
          </p:grpSpPr>
          <p:sp>
            <p:nvSpPr>
              <p:cNvPr id="254" name="Rectangle 198"/>
              <p:cNvSpPr/>
              <p:nvPr/>
            </p:nvSpPr>
            <p:spPr>
              <a:xfrm>
                <a:off x="2835000" y="4451400"/>
                <a:ext cx="77472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,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Rectangle 217"/>
              <p:cNvSpPr/>
              <p:nvPr/>
            </p:nvSpPr>
            <p:spPr>
              <a:xfrm>
                <a:off x="2759040" y="4451400"/>
                <a:ext cx="92700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Group 220"/>
            <p:cNvGrpSpPr/>
            <p:nvPr/>
          </p:nvGrpSpPr>
          <p:grpSpPr>
            <a:xfrm>
              <a:off x="3686040" y="4451400"/>
              <a:ext cx="1122480" cy="625320"/>
              <a:chOff x="3686040" y="4451400"/>
              <a:chExt cx="1122480" cy="625320"/>
            </a:xfrm>
          </p:grpSpPr>
          <p:sp>
            <p:nvSpPr>
              <p:cNvPr id="257" name="Rectangle 199"/>
              <p:cNvSpPr/>
              <p:nvPr/>
            </p:nvSpPr>
            <p:spPr>
              <a:xfrm>
                <a:off x="3762360" y="4451400"/>
                <a:ext cx="9698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,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Rectangle 219"/>
              <p:cNvSpPr/>
              <p:nvPr/>
            </p:nvSpPr>
            <p:spPr>
              <a:xfrm>
                <a:off x="3686040" y="4451400"/>
                <a:ext cx="112248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Group 222"/>
            <p:cNvGrpSpPr/>
            <p:nvPr/>
          </p:nvGrpSpPr>
          <p:grpSpPr>
            <a:xfrm>
              <a:off x="4808520" y="4451400"/>
              <a:ext cx="1029960" cy="625320"/>
              <a:chOff x="4808520" y="4451400"/>
              <a:chExt cx="1029960" cy="625320"/>
            </a:xfrm>
          </p:grpSpPr>
          <p:sp>
            <p:nvSpPr>
              <p:cNvPr id="260" name="Rectangle 200"/>
              <p:cNvSpPr/>
              <p:nvPr/>
            </p:nvSpPr>
            <p:spPr>
              <a:xfrm>
                <a:off x="4884480" y="4451400"/>
                <a:ext cx="8780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,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Rectangle 221"/>
              <p:cNvSpPr/>
              <p:nvPr/>
            </p:nvSpPr>
            <p:spPr>
              <a:xfrm>
                <a:off x="4808520" y="4451400"/>
                <a:ext cx="102996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Group 224"/>
            <p:cNvGrpSpPr/>
            <p:nvPr/>
          </p:nvGrpSpPr>
          <p:grpSpPr>
            <a:xfrm>
              <a:off x="5838840" y="4451400"/>
              <a:ext cx="923760" cy="625320"/>
              <a:chOff x="5838840" y="4451400"/>
              <a:chExt cx="923760" cy="625320"/>
            </a:xfrm>
          </p:grpSpPr>
          <p:sp>
            <p:nvSpPr>
              <p:cNvPr id="263" name="Rectangle 201"/>
              <p:cNvSpPr/>
              <p:nvPr/>
            </p:nvSpPr>
            <p:spPr>
              <a:xfrm>
                <a:off x="5914800" y="4451400"/>
                <a:ext cx="77112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,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Rectangle 223"/>
              <p:cNvSpPr/>
              <p:nvPr/>
            </p:nvSpPr>
            <p:spPr>
              <a:xfrm>
                <a:off x="5838840" y="4451400"/>
                <a:ext cx="92376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Group 226"/>
            <p:cNvGrpSpPr/>
            <p:nvPr/>
          </p:nvGrpSpPr>
          <p:grpSpPr>
            <a:xfrm>
              <a:off x="6762600" y="4451400"/>
              <a:ext cx="1415880" cy="625320"/>
              <a:chOff x="6762600" y="4451400"/>
              <a:chExt cx="1415880" cy="625320"/>
            </a:xfrm>
          </p:grpSpPr>
          <p:sp>
            <p:nvSpPr>
              <p:cNvPr id="266" name="Rectangle 202"/>
              <p:cNvSpPr/>
              <p:nvPr/>
            </p:nvSpPr>
            <p:spPr>
              <a:xfrm>
                <a:off x="6838920" y="4451400"/>
                <a:ext cx="12636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,7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Rectangle 225"/>
              <p:cNvSpPr/>
              <p:nvPr/>
            </p:nvSpPr>
            <p:spPr>
              <a:xfrm>
                <a:off x="6762600" y="4451400"/>
                <a:ext cx="141588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8" name="Text Box 229"/>
          <p:cNvSpPr/>
          <p:nvPr/>
        </p:nvSpPr>
        <p:spPr>
          <a:xfrm>
            <a:off x="1143000" y="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Gehalte aminozuren in grammen per 100 gram eiw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F920-E6C6-4BF1-958B-97D43F7B8575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Ruw eiwit, </a:t>
            </a:r>
            <a:r>
              <a:rPr b="0" lang="nl-NL" sz="3200" spc="-1" strike="noStrike">
                <a:solidFill>
                  <a:srgbClr val="ffcc66"/>
                </a:solidFill>
                <a:latin typeface="Times New Roman"/>
              </a:rPr>
              <a:t>amiden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Alles wat geen </a:t>
            </a:r>
            <a:r>
              <a:rPr b="0" lang="nl-NL" sz="3600" spc="-1" strike="noStrike">
                <a:solidFill>
                  <a:srgbClr val="ffffff"/>
                </a:solidFill>
                <a:latin typeface="Arial Unicode MS"/>
              </a:rPr>
              <a:t>w.e.</a:t>
            </a: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 is behoort tot de amide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Oplosbaar en zeer makkelijk te vertere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272" name="Group 9"/>
          <p:cNvGrpSpPr/>
          <p:nvPr/>
        </p:nvGrpSpPr>
        <p:grpSpPr>
          <a:xfrm>
            <a:off x="380880" y="3048120"/>
            <a:ext cx="8458200" cy="2844720"/>
            <a:chOff x="380880" y="3048120"/>
            <a:chExt cx="8458200" cy="2844720"/>
          </a:xfrm>
        </p:grpSpPr>
        <p:sp>
          <p:nvSpPr>
            <p:cNvPr id="273" name="Text Box 6"/>
            <p:cNvSpPr/>
            <p:nvPr/>
          </p:nvSpPr>
          <p:spPr>
            <a:xfrm>
              <a:off x="380880" y="3048120"/>
              <a:ext cx="8458200" cy="52056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Lagere en </a:t>
              </a: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	</a:t>
              </a: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	</a:t>
              </a: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	</a:t>
              </a: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	</a:t>
              </a: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	</a:t>
              </a: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hogere amide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Text Box 7"/>
            <p:cNvSpPr/>
            <p:nvPr/>
          </p:nvSpPr>
          <p:spPr>
            <a:xfrm>
              <a:off x="380880" y="3581280"/>
              <a:ext cx="4038840" cy="231156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NH3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NO3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ureum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Text Box 8"/>
            <p:cNvSpPr/>
            <p:nvPr/>
          </p:nvSpPr>
          <p:spPr>
            <a:xfrm>
              <a:off x="5334120" y="3581280"/>
              <a:ext cx="3504960" cy="231156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Aminozuren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Polypeptiden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peptonen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4974-D0AC-4A1B-B128-09B1C3D88278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Algemeen amiden</a:t>
            </a: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Amiden zijn afhankelijk van de plaats waar ze worden aangetroffen, eiwitten in opbouw of in afbraak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iwitgehalte dierlijk lichaam 10- 20%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Allemaal werkelijk eiwi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Meeste eiwit in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Spieren, Haren, Wol, Hoev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Horens en Pez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8153280" y="5335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4C80-79E0-4945-95B5-3BD4A869FFE1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Delen zonder 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Stikstof vrije gedeelte bestaat uit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Ruw vet en Koolhydrat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3" name="AutoShape 1028"/>
          <p:cNvSpPr/>
          <p:nvPr/>
        </p:nvSpPr>
        <p:spPr>
          <a:xfrm>
            <a:off x="7924680" y="4572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12337"/>
                </a:moveTo>
                <a:lnTo>
                  <a:pt x="17806" y="5330"/>
                </a:lnTo>
                <a:lnTo>
                  <a:pt x="17806" y="1934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3087-78F5-46ED-8C68-F6FBC18C4687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Ruw Ve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etgehalte wordt bepaalt door Ether method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Alles wat in ether oplost noemen we ruw ve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Ruw : meestal ook nog wat resten bij i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Har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Was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Kleurstoffen, caroteen en chlorofy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Zuivere vet bestaat uit moleculen C,H,O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Een glycerol groep met daaraan 3 vetzuurmolecul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ard van het vetzuur bepaalt de hardhe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2248-B300-4185-A4BE-1CB22EA0D2F9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Oliezuur geeft zacht vet, palmitinezuur en stearinezuur geeft hard ve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et bij kamertemp. vloeibaar noemen we oli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Dierlijklichaam 40-50% ve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fh. van diersoort, conditie, leeftijd d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eel vet in onderhuidsbindweefsel (speklaag vark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In en om de spie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In beenme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In buikhol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Hard en stevig vet rondom nie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8077320" y="45720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12345"/>
                </a:moveTo>
                <a:lnTo>
                  <a:pt x="17806" y="5338"/>
                </a:lnTo>
                <a:lnTo>
                  <a:pt x="17806" y="19351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4A8F-B3E5-4925-A9D1-B7C17FD3F856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Onderwerpen van vandaa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Weender analyse van een voedermidd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De eiwit vertering in de koe (theorie)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Pagina’s uit het boek vermeld indien van toepassing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4" name="AutoShape 1028">
            <a:hlinkClick r:id="rId1" action="ppaction://hlinksldjump"/>
          </p:cNvPr>
          <p:cNvSpPr/>
          <p:nvPr/>
        </p:nvSpPr>
        <p:spPr>
          <a:xfrm>
            <a:off x="7162920" y="19810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5C4C-62CD-48C4-B31F-9D13A957DF76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Koolhydraten </a:t>
            </a:r>
            <a:r>
              <a:rPr b="0" lang="nl-NL" sz="1800" spc="-1" strike="noStrike">
                <a:solidFill>
                  <a:srgbClr val="ffcc66"/>
                </a:solidFill>
                <a:latin typeface="Times New Roman"/>
              </a:rPr>
              <a:t>pagina 6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Groot aantal verschillende stoff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De C,H,O verbinding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Sommige zeer makkelijk oplosbaar andere zeer moeilijk,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Wanneer het koolhydraat na half koken met geconcentreerd zoutzuur en daarna half uur met loog nog niet oplost noemen we dit een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RUWE CELSTOF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4" name="AutoShape 4"/>
          <p:cNvSpPr/>
          <p:nvPr/>
        </p:nvSpPr>
        <p:spPr>
          <a:xfrm>
            <a:off x="7848720" y="5335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12345"/>
                </a:moveTo>
                <a:lnTo>
                  <a:pt x="17806" y="5338"/>
                </a:lnTo>
                <a:lnTo>
                  <a:pt x="17806" y="19351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64F8-181D-4C0D-9FC7-85006389F2C9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Ruwvezel of Ruwe celsto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Celwanden van plante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Onderverdeling in :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ellul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utstof( lignin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Kurks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Hoe ouder de plant hoe meer RC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utstof stijgt voo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Geen RC in dierlijk lichaam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Stimuleert penswerking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Stimuleert herkauwen en vorming speeksel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Vorming van azijnzuur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Levering van energi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D1C0-18E0-46CC-B6C6-F928BDF705EF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Nieuw SW systeem sinds 1998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 Unicode MS"/>
              </a:rPr>
              <a:t>Pagina 4 boek/ pagina 16-17 voedernormenboekje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Naam product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Structuurwaarde per kg d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Aardappelpersvezels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0,8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ierbostel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1,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ietenperspulp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1,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CCM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0,4- 0,6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PS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2,7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as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1,40 – 1,8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Hooi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3,20 – 3,8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askuil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2,40 – 3,1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aszaadstro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4,2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Luzerne ingek.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3,35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Maïsglutenvoer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1,40 – 2,0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Voederbiet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1,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roksoorten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0,3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01C3-858B-4E53-ACFA-56A14BE0A8F9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De structuurwaarde van het rantsoen voor een standaardkoe (25 kg melk, 1</a:t>
            </a:r>
            <a:r>
              <a:rPr b="0" lang="nl-NL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 ,2</a:t>
            </a:r>
            <a:r>
              <a:rPr b="0" lang="nl-NL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 of 3</a:t>
            </a:r>
            <a:r>
              <a:rPr b="0" lang="nl-NL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 lactatie) moet minstens 1,00 bedrag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wanneer het rantsoen krachtvoer twee maal daags gevoerd wordt verstrekt.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Voor afwijkende situaties dienen een aantal correcties op de behoeftenorm te worden uitgevoerd.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Deze staan vermeld in volgende  tabel: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B426-F51B-472C-8946-94449FB8F5A8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ehoeftenormen voor de structuurwaarde van melkvee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Ko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ructuurwaarde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25 kg melk per da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SW rantsoen &gt; 1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nl-NL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 of 2</a:t>
            </a:r>
            <a:r>
              <a:rPr b="0" lang="nl-NL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 of 3</a:t>
            </a:r>
            <a:r>
              <a:rPr b="0" lang="nl-NL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 lactatie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 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2 KV beurten per dag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ffffff"/>
                </a:solidFill>
                <a:uFillTx/>
                <a:latin typeface="Courier New"/>
                <a:ea typeface="Times New Roman"/>
              </a:rPr>
              <a:t>Vleesvee</a:t>
            </a: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SW rantsoen &gt; 0,75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Correctie voor: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 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  per kg M minder dan 25 k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 0,008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  per kg M meer dan 25 k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+ 0,008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Leeftijd: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 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 4</a:t>
            </a:r>
            <a:r>
              <a:rPr b="0" lang="nl-NL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 lactati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0,05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 5</a:t>
            </a:r>
            <a:r>
              <a:rPr b="0" lang="nl-NL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 lactati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0,13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espreid KV-gift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0,1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E5EA-D407-4910-B89E-C287681DBA80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SW rantso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De berekening van de structuurwaarde (SW) van een rantsoen (per kg DS ) is als volgt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SW=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 baseline="30000">
                <a:solidFill>
                  <a:srgbClr val="ffffff"/>
                </a:solidFill>
                <a:uFillTx/>
                <a:latin typeface="Arial"/>
                <a:ea typeface="Arial"/>
              </a:rPr>
              <a:t>(kg Ds ruwvoer x SW ruwvoer )  + Ds krachtvoer x SW krachtvoer )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Totale DS opname in kg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AF3B-07DF-4E13-86C1-8CA78FA82733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SW behoef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De SW behoefte van een koe is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SW </a:t>
            </a:r>
            <a:r>
              <a:rPr b="0" lang="nl-NL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koe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= 1,0 + (melkgift –25 ) x 0,008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(evt correcties toepassen)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oorbeeld in Verkorte Tabel pagina 16-17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1" name="AutoShape 4"/>
          <p:cNvSpPr/>
          <p:nvPr/>
        </p:nvSpPr>
        <p:spPr>
          <a:xfrm>
            <a:off x="7772400" y="6094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  <a:path fill="darken" w="21600" h="28806">
                <a:moveTo>
                  <a:pt x="3794" y="14403"/>
                </a:moveTo>
                <a:lnTo>
                  <a:pt x="17806" y="7396"/>
                </a:lnTo>
                <a:lnTo>
                  <a:pt x="17806" y="2140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6D37-A996-4B61-B5FA-62CA376774BB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Overige koolhydrat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Gehalte wordt niet rechtstreeks bepaald maar berekend uit de res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%OK = 100% - %water - %as - %re - %rv - %rc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aak hoog in voer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Levert daardoor meeste energi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erschillende OK zijn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Suik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Zetme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Organische zu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C599-5F03-4AAB-B27F-0BC943E6C3DB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In dierlijk lichaam erg laag 1%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Zetmeel komt niet voor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Wel een zeker hoeveelheid glycogeen (=dierlijkzetmeel)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en beetje glucose wordt aangetroffen in het bloed 0,1% en in de spier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en belangrijk bestanddeel van melk is melksuiker of lactos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8" name="AutoShape 4"/>
          <p:cNvSpPr/>
          <p:nvPr/>
        </p:nvSpPr>
        <p:spPr>
          <a:xfrm>
            <a:off x="8305920" y="4572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6CFA-6DE6-4375-BF8F-8E308B12402C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Eiwitverter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anaf 1992 een nieuw eiwitwaarderingsysteem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oorheen het VRE systeem, alleen gebaseerd op het verschil tussen opname en uitscheiding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Samenvoeging van delen uit de systemen van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mer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Frankrij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Scandinavische land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A787-25B7-4182-B3AA-8E4DDA60735C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Meet metho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Komt uit het plaatsje Weend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en methode in het laboratorium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uurt 1-3 dagen voor hele analy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Kan ook via de NIRS method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Nabij Infrarood Spectrograf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Wel ijken met lab meth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eel sneller, binnen enkele minu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35C1-B879-4A89-BE4A-511D86BFDFFD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Picture 2" descr="C:\Mijn documenten\Algemene brieven en teksten\AOC zaken\Cursus\Voedingscursus 2000\kringloop eiwi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7E85-5971-497C-AF1E-1A4465C5B80E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Eiwitverter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Hoeveelheid eiwit uier afh. van verteerbaar darm eiwi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iwitleveranciers voor dunne darm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Pensbacterië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oereiwit (=bestendig eiwit) in dunne darm afh.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an bestendighei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erblijfsduur pens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1. hogere voeropname, kortere verblijfsduur dus minder afbraa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2. Microbieel eiwit afh van h.h.onbestendig eiwit en energie in rantso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AC36-274F-4369-825A-B1F8F94B6F81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cc66"/>
                </a:solidFill>
                <a:latin typeface="Times New Roman"/>
              </a:rPr>
              <a:t>Bestendigheid eiwitten</a:t>
            </a:r>
            <a:br>
              <a:rPr sz="2800"/>
            </a:br>
            <a:r>
              <a:rPr b="0" lang="nl-NL" sz="2800" spc="-1" strike="noStrike">
                <a:solidFill>
                  <a:srgbClr val="ffcc66"/>
                </a:solidFill>
                <a:latin typeface="Times New Roman"/>
              </a:rPr>
              <a:t>Verschil in afbraak snelheid in de pens</a:t>
            </a:r>
            <a:br>
              <a:rPr sz="2800"/>
            </a:br>
            <a:r>
              <a:rPr b="0" lang="nl-NL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85800" y="1397160"/>
          <a:ext cx="7696080" cy="515124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odu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% BRE bestendig ruw eiw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Bloedme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erenme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6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almpittenschilf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Kokosschilf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Katoenzaadschro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Sojahull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Lijnschilf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Sojaschro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Koolzaadschro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aisglutenvo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ers gr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lupin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115B-E5CD-4390-8FC0-E77048A7216B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1" name="Picture 2" descr="C:\Mijn documenten\Algemene brieven en teksten\AOC zaken\Cursus\Voedingscursus 2000\eiwit vertering in koe.JPG"/>
          <p:cNvPicPr/>
          <p:nvPr/>
        </p:nvPicPr>
        <p:blipFill>
          <a:blip r:embed="rId1"/>
          <a:stretch/>
        </p:blipFill>
        <p:spPr>
          <a:xfrm>
            <a:off x="0" y="254160"/>
            <a:ext cx="9144000" cy="61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7470-0FF9-4C9B-9B12-13EA52A9CFE1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3" name="Group 19"/>
          <p:cNvGrpSpPr/>
          <p:nvPr/>
        </p:nvGrpSpPr>
        <p:grpSpPr>
          <a:xfrm>
            <a:off x="0" y="1828800"/>
            <a:ext cx="1676520" cy="4086720"/>
            <a:chOff x="0" y="1828800"/>
            <a:chExt cx="1676520" cy="4086720"/>
          </a:xfrm>
        </p:grpSpPr>
        <p:sp>
          <p:nvSpPr>
            <p:cNvPr id="334" name="Text Box 4"/>
            <p:cNvSpPr/>
            <p:nvPr/>
          </p:nvSpPr>
          <p:spPr>
            <a:xfrm>
              <a:off x="0" y="182880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Pen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Text Box 5"/>
            <p:cNvSpPr/>
            <p:nvPr/>
          </p:nvSpPr>
          <p:spPr>
            <a:xfrm>
              <a:off x="0" y="4191120"/>
              <a:ext cx="167652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lebmaa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Text Box 6"/>
            <p:cNvSpPr/>
            <p:nvPr/>
          </p:nvSpPr>
          <p:spPr>
            <a:xfrm>
              <a:off x="0" y="533412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dar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7" name="Group 20"/>
          <p:cNvGrpSpPr/>
          <p:nvPr/>
        </p:nvGrpSpPr>
        <p:grpSpPr>
          <a:xfrm>
            <a:off x="1905120" y="0"/>
            <a:ext cx="6324480" cy="1190880"/>
            <a:chOff x="1905120" y="0"/>
            <a:chExt cx="6324480" cy="1190880"/>
          </a:xfrm>
        </p:grpSpPr>
        <p:sp>
          <p:nvSpPr>
            <p:cNvPr id="338" name="Text Box 8"/>
            <p:cNvSpPr/>
            <p:nvPr/>
          </p:nvSpPr>
          <p:spPr>
            <a:xfrm>
              <a:off x="3809880" y="0"/>
              <a:ext cx="2971800" cy="58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Times New Roman"/>
                </a:rPr>
                <a:t>Voer (ruw eiwit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Text Box 9"/>
            <p:cNvSpPr/>
            <p:nvPr/>
          </p:nvSpPr>
          <p:spPr>
            <a:xfrm>
              <a:off x="1905120" y="609480"/>
              <a:ext cx="3657600" cy="58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Times New Roman"/>
                </a:rPr>
                <a:t>Werkelijk eiwi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Text Box 10"/>
            <p:cNvSpPr/>
            <p:nvPr/>
          </p:nvSpPr>
          <p:spPr>
            <a:xfrm>
              <a:off x="6553080" y="609480"/>
              <a:ext cx="1676520" cy="58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Times New Roman"/>
                </a:rPr>
                <a:t>amiden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1" name="Group 46"/>
          <p:cNvGrpSpPr/>
          <p:nvPr/>
        </p:nvGrpSpPr>
        <p:grpSpPr>
          <a:xfrm>
            <a:off x="2895480" y="1143000"/>
            <a:ext cx="4191120" cy="1600200"/>
            <a:chOff x="2895480" y="1143000"/>
            <a:chExt cx="4191120" cy="1600200"/>
          </a:xfrm>
        </p:grpSpPr>
        <p:sp>
          <p:nvSpPr>
            <p:cNvPr id="342" name="AutoShape 21"/>
            <p:cNvSpPr/>
            <p:nvPr/>
          </p:nvSpPr>
          <p:spPr>
            <a:xfrm>
              <a:off x="2895480" y="1143000"/>
              <a:ext cx="152640" cy="838080"/>
            </a:xfrm>
            <a:prstGeom prst="downArrow">
              <a:avLst>
                <a:gd name="adj1" fmla="val 50000"/>
                <a:gd name="adj2" fmla="val 137264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AutoShape 25"/>
            <p:cNvSpPr/>
            <p:nvPr/>
          </p:nvSpPr>
          <p:spPr>
            <a:xfrm>
              <a:off x="6858000" y="1219320"/>
              <a:ext cx="228600" cy="1523880"/>
            </a:xfrm>
            <a:prstGeom prst="downArrow">
              <a:avLst>
                <a:gd name="adj1" fmla="val 50000"/>
                <a:gd name="adj2" fmla="val 166654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AutoShape 26"/>
            <p:cNvSpPr/>
            <p:nvPr/>
          </p:nvSpPr>
          <p:spPr>
            <a:xfrm>
              <a:off x="5257800" y="1143000"/>
              <a:ext cx="228600" cy="838080"/>
            </a:xfrm>
            <a:prstGeom prst="downArrow">
              <a:avLst>
                <a:gd name="adj1" fmla="val 50000"/>
                <a:gd name="adj2" fmla="val 91654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5" name="Group 48"/>
          <p:cNvGrpSpPr/>
          <p:nvPr/>
        </p:nvGrpSpPr>
        <p:grpSpPr>
          <a:xfrm>
            <a:off x="7391520" y="1981080"/>
            <a:ext cx="1752480" cy="4513680"/>
            <a:chOff x="7391520" y="1981080"/>
            <a:chExt cx="1752480" cy="4513680"/>
          </a:xfrm>
        </p:grpSpPr>
        <p:sp>
          <p:nvSpPr>
            <p:cNvPr id="346" name="Text Box 17"/>
            <p:cNvSpPr/>
            <p:nvPr/>
          </p:nvSpPr>
          <p:spPr>
            <a:xfrm>
              <a:off x="8153280" y="1981080"/>
              <a:ext cx="990720" cy="1789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Times New Roman"/>
                </a:rPr>
                <a:t>NH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Times New Roman"/>
                </a:rPr>
                <a:t>ureu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Text Box 18"/>
            <p:cNvSpPr/>
            <p:nvPr/>
          </p:nvSpPr>
          <p:spPr>
            <a:xfrm>
              <a:off x="7391520" y="6095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Times New Roman"/>
                </a:rPr>
                <a:t>uri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AutoShape 32"/>
            <p:cNvSpPr/>
            <p:nvPr/>
          </p:nvSpPr>
          <p:spPr>
            <a:xfrm rot="21532200">
              <a:off x="8613720" y="3733560"/>
              <a:ext cx="343080" cy="2361960"/>
            </a:xfrm>
            <a:prstGeom prst="downArrow">
              <a:avLst>
                <a:gd name="adj1" fmla="val 50000"/>
                <a:gd name="adj2" fmla="val 172114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AutoShape 33"/>
            <p:cNvSpPr/>
            <p:nvPr/>
          </p:nvSpPr>
          <p:spPr>
            <a:xfrm rot="21559200">
              <a:off x="8648280" y="2476440"/>
              <a:ext cx="152640" cy="838440"/>
            </a:xfrm>
            <a:prstGeom prst="downArrow">
              <a:avLst>
                <a:gd name="adj1" fmla="val 50000"/>
                <a:gd name="adj2" fmla="val 137323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0" name="Group 52"/>
          <p:cNvGrpSpPr/>
          <p:nvPr/>
        </p:nvGrpSpPr>
        <p:grpSpPr>
          <a:xfrm>
            <a:off x="1752480" y="5410080"/>
            <a:ext cx="6172200" cy="1465920"/>
            <a:chOff x="1752480" y="5410080"/>
            <a:chExt cx="6172200" cy="1465920"/>
          </a:xfrm>
        </p:grpSpPr>
        <p:sp>
          <p:nvSpPr>
            <p:cNvPr id="351" name="Line 34"/>
            <p:cNvSpPr/>
            <p:nvPr/>
          </p:nvSpPr>
          <p:spPr>
            <a:xfrm flipH="1">
              <a:off x="2819160" y="5943600"/>
              <a:ext cx="15228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2" name="Group 51"/>
            <p:cNvGrpSpPr/>
            <p:nvPr/>
          </p:nvGrpSpPr>
          <p:grpSpPr>
            <a:xfrm>
              <a:off x="1752480" y="5410080"/>
              <a:ext cx="6172200" cy="1465920"/>
              <a:chOff x="1752480" y="5410080"/>
              <a:chExt cx="6172200" cy="1465920"/>
            </a:xfrm>
          </p:grpSpPr>
          <p:sp>
            <p:nvSpPr>
              <p:cNvPr id="353" name="Line 35"/>
              <p:cNvSpPr/>
              <p:nvPr/>
            </p:nvSpPr>
            <p:spPr>
              <a:xfrm>
                <a:off x="3352680" y="5791320"/>
                <a:ext cx="1219320" cy="533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Line 36"/>
              <p:cNvSpPr/>
              <p:nvPr/>
            </p:nvSpPr>
            <p:spPr>
              <a:xfrm>
                <a:off x="3581280" y="5791320"/>
                <a:ext cx="289584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5" name="Group 50"/>
              <p:cNvGrpSpPr/>
              <p:nvPr/>
            </p:nvGrpSpPr>
            <p:grpSpPr>
              <a:xfrm>
                <a:off x="1752480" y="5410080"/>
                <a:ext cx="6172200" cy="1465920"/>
                <a:chOff x="1752480" y="5410080"/>
                <a:chExt cx="6172200" cy="1465920"/>
              </a:xfrm>
            </p:grpSpPr>
            <p:sp>
              <p:nvSpPr>
                <p:cNvPr id="356" name="Text Box 13"/>
                <p:cNvSpPr/>
                <p:nvPr/>
              </p:nvSpPr>
              <p:spPr>
                <a:xfrm>
                  <a:off x="1981080" y="5638680"/>
                  <a:ext cx="5943600" cy="398880"/>
                </a:xfrm>
                <a:prstGeom prst="rect">
                  <a:avLst/>
                </a:prstGeom>
                <a:noFill/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0" spc="-1" strike="noStrike">
                      <a:solidFill>
                        <a:srgbClr val="ffffff"/>
                      </a:solidFill>
                      <a:latin typeface="Times New Roman"/>
                    </a:rPr>
                    <a:t>aminozure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Text Box 14"/>
                <p:cNvSpPr/>
                <p:nvPr/>
              </p:nvSpPr>
              <p:spPr>
                <a:xfrm>
                  <a:off x="1752480" y="6095880"/>
                  <a:ext cx="2819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0" spc="-1" strike="noStrike">
                      <a:solidFill>
                        <a:srgbClr val="ffffff"/>
                      </a:solidFill>
                      <a:latin typeface="Times New Roman"/>
                    </a:rPr>
                    <a:t>melkeiwit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Text Box 15"/>
                <p:cNvSpPr/>
                <p:nvPr/>
              </p:nvSpPr>
              <p:spPr>
                <a:xfrm>
                  <a:off x="4572000" y="6095880"/>
                  <a:ext cx="175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0" spc="-1" strike="noStrike">
                      <a:solidFill>
                        <a:srgbClr val="ffffff"/>
                      </a:solidFill>
                      <a:latin typeface="Times New Roman"/>
                    </a:rPr>
                    <a:t>vle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AutoShape 24"/>
                <p:cNvSpPr/>
                <p:nvPr/>
              </p:nvSpPr>
              <p:spPr>
                <a:xfrm>
                  <a:off x="2666880" y="5410080"/>
                  <a:ext cx="457200" cy="3049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Text Box 37"/>
                <p:cNvSpPr/>
                <p:nvPr/>
              </p:nvSpPr>
              <p:spPr>
                <a:xfrm>
                  <a:off x="3276720" y="6477120"/>
                  <a:ext cx="1295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0" spc="-1" strike="noStrike">
                      <a:solidFill>
                        <a:srgbClr val="ffffff"/>
                      </a:solidFill>
                      <a:latin typeface="Times New Roman"/>
                    </a:rPr>
                    <a:t>energi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1" name="Line 38"/>
              <p:cNvSpPr/>
              <p:nvPr/>
            </p:nvSpPr>
            <p:spPr>
              <a:xfrm>
                <a:off x="3200400" y="5943600"/>
                <a:ext cx="457200" cy="533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2" name="Group 49"/>
          <p:cNvGrpSpPr/>
          <p:nvPr/>
        </p:nvGrpSpPr>
        <p:grpSpPr>
          <a:xfrm>
            <a:off x="1981080" y="4114800"/>
            <a:ext cx="6400800" cy="2379960"/>
            <a:chOff x="1981080" y="4114800"/>
            <a:chExt cx="6400800" cy="2379960"/>
          </a:xfrm>
        </p:grpSpPr>
        <p:sp>
          <p:nvSpPr>
            <p:cNvPr id="363" name="Text Box 12"/>
            <p:cNvSpPr/>
            <p:nvPr/>
          </p:nvSpPr>
          <p:spPr>
            <a:xfrm>
              <a:off x="1981080" y="4114800"/>
              <a:ext cx="5943600" cy="132624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Times New Roman"/>
                </a:rPr>
                <a:t>Eiw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Times New Roman"/>
                </a:rPr>
                <a:t>aminozur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6629400" y="6095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Times New Roman"/>
                </a:rPr>
                <a:t>mes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>
              <a:off x="2438280" y="4495680"/>
              <a:ext cx="304920" cy="457200"/>
            </a:xfrm>
            <a:prstGeom prst="downArrow">
              <a:avLst>
                <a:gd name="adj1" fmla="val 50000"/>
                <a:gd name="adj2" fmla="val 37485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Freeform 40"/>
            <p:cNvSpPr/>
            <p:nvPr/>
          </p:nvSpPr>
          <p:spPr>
            <a:xfrm>
              <a:off x="2743200" y="4343400"/>
              <a:ext cx="4038480" cy="1828800"/>
            </a:xfrm>
            <a:custGeom>
              <a:avLst/>
              <a:gdLst>
                <a:gd name="textAreaLeft" fmla="*/ 0 w 4038480"/>
                <a:gd name="textAreaRight" fmla="*/ 4038840 w 403848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2400" h="1152">
                  <a:moveTo>
                    <a:pt x="0" y="0"/>
                  </a:moveTo>
                  <a:lnTo>
                    <a:pt x="528" y="0"/>
                  </a:lnTo>
                  <a:lnTo>
                    <a:pt x="2400" y="0"/>
                  </a:lnTo>
                  <a:lnTo>
                    <a:pt x="2400" y="115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Freeform 44"/>
            <p:cNvSpPr/>
            <p:nvPr/>
          </p:nvSpPr>
          <p:spPr>
            <a:xfrm>
              <a:off x="3429000" y="5257800"/>
              <a:ext cx="3657600" cy="914400"/>
            </a:xfrm>
            <a:custGeom>
              <a:avLst/>
              <a:gdLst>
                <a:gd name="textAreaLeft" fmla="*/ 0 w 3657600"/>
                <a:gd name="textAreaRight" fmla="*/ 3657960 w 36576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400" h="1152">
                  <a:moveTo>
                    <a:pt x="0" y="0"/>
                  </a:moveTo>
                  <a:lnTo>
                    <a:pt x="528" y="0"/>
                  </a:lnTo>
                  <a:lnTo>
                    <a:pt x="2400" y="0"/>
                  </a:lnTo>
                  <a:lnTo>
                    <a:pt x="2400" y="115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8" name="Group 54"/>
          <p:cNvGrpSpPr/>
          <p:nvPr/>
        </p:nvGrpSpPr>
        <p:grpSpPr>
          <a:xfrm>
            <a:off x="1981080" y="1905120"/>
            <a:ext cx="6124680" cy="2361960"/>
            <a:chOff x="1981080" y="1905120"/>
            <a:chExt cx="6124680" cy="2361960"/>
          </a:xfrm>
        </p:grpSpPr>
        <p:grpSp>
          <p:nvGrpSpPr>
            <p:cNvPr id="369" name="Group 47"/>
            <p:cNvGrpSpPr/>
            <p:nvPr/>
          </p:nvGrpSpPr>
          <p:grpSpPr>
            <a:xfrm>
              <a:off x="1981080" y="1905120"/>
              <a:ext cx="6124680" cy="2361960"/>
              <a:chOff x="1981080" y="1905120"/>
              <a:chExt cx="6124680" cy="2361960"/>
            </a:xfrm>
          </p:grpSpPr>
          <p:sp>
            <p:nvSpPr>
              <p:cNvPr id="370" name="Text Box 11"/>
              <p:cNvSpPr/>
              <p:nvPr/>
            </p:nvSpPr>
            <p:spPr>
              <a:xfrm>
                <a:off x="1981080" y="1905120"/>
                <a:ext cx="5943600" cy="2253600"/>
              </a:xfrm>
              <a:prstGeom prst="rect">
                <a:avLst/>
              </a:prstGeom>
              <a:noFill/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Bestendig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onbestendi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aminozure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NH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microbieel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eiwit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0000"/>
                    </a:solidFill>
                    <a:latin typeface="Times New Roman"/>
                  </a:rPr>
                  <a:t>energi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AutoShape 22"/>
              <p:cNvSpPr/>
              <p:nvPr/>
            </p:nvSpPr>
            <p:spPr>
              <a:xfrm>
                <a:off x="2362320" y="2362320"/>
                <a:ext cx="304560" cy="1904760"/>
              </a:xfrm>
              <a:prstGeom prst="downArrow">
                <a:avLst>
                  <a:gd name="adj1" fmla="val 50000"/>
                  <a:gd name="adj2" fmla="val 156353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AutoShape 27"/>
              <p:cNvSpPr/>
              <p:nvPr/>
            </p:nvSpPr>
            <p:spPr>
              <a:xfrm>
                <a:off x="5105520" y="2209680"/>
                <a:ext cx="457200" cy="3049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AutoShape 28"/>
              <p:cNvSpPr/>
              <p:nvPr/>
            </p:nvSpPr>
            <p:spPr>
              <a:xfrm>
                <a:off x="5257800" y="2743200"/>
                <a:ext cx="228600" cy="685800"/>
              </a:xfrm>
              <a:prstGeom prst="downArrow">
                <a:avLst>
                  <a:gd name="adj1" fmla="val 50000"/>
                  <a:gd name="adj2" fmla="val 7500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AutoShape 29"/>
              <p:cNvSpPr/>
              <p:nvPr/>
            </p:nvSpPr>
            <p:spPr>
              <a:xfrm rot="17554200">
                <a:off x="6134040" y="2476080"/>
                <a:ext cx="152280" cy="838080"/>
              </a:xfrm>
              <a:prstGeom prst="downArrow">
                <a:avLst>
                  <a:gd name="adj1" fmla="val 50000"/>
                  <a:gd name="adj2" fmla="val 137589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AutoShape 30"/>
              <p:cNvSpPr/>
              <p:nvPr/>
            </p:nvSpPr>
            <p:spPr>
              <a:xfrm rot="3566400">
                <a:off x="6210000" y="3009960"/>
                <a:ext cx="152640" cy="838440"/>
              </a:xfrm>
              <a:prstGeom prst="downArrow">
                <a:avLst>
                  <a:gd name="adj1" fmla="val 50000"/>
                  <a:gd name="adj2" fmla="val 137323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AutoShape 31"/>
              <p:cNvSpPr/>
              <p:nvPr/>
            </p:nvSpPr>
            <p:spPr>
              <a:xfrm rot="13825800">
                <a:off x="7657920" y="2171160"/>
                <a:ext cx="152280" cy="838080"/>
              </a:xfrm>
              <a:prstGeom prst="downArrow">
                <a:avLst>
                  <a:gd name="adj1" fmla="val 50000"/>
                  <a:gd name="adj2" fmla="val 137589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7" name="AutoShape 53"/>
            <p:cNvSpPr/>
            <p:nvPr/>
          </p:nvSpPr>
          <p:spPr>
            <a:xfrm rot="522600">
              <a:off x="5638320" y="3733560"/>
              <a:ext cx="838440" cy="152280"/>
            </a:xfrm>
            <a:prstGeom prst="leftArrow">
              <a:avLst>
                <a:gd name="adj1" fmla="val 50000"/>
                <a:gd name="adj2" fmla="val 137648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DVE systeem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Korte weergave systematisch zonder formule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0384-2A11-4FA5-B7A7-B1342E1277F6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1" name="Group 84"/>
          <p:cNvGrpSpPr/>
          <p:nvPr/>
        </p:nvGrpSpPr>
        <p:grpSpPr>
          <a:xfrm>
            <a:off x="0" y="609480"/>
            <a:ext cx="1066680" cy="6007320"/>
            <a:chOff x="0" y="609480"/>
            <a:chExt cx="1066680" cy="6007320"/>
          </a:xfrm>
        </p:grpSpPr>
        <p:sp>
          <p:nvSpPr>
            <p:cNvPr id="382" name="Text Box 20"/>
            <p:cNvSpPr/>
            <p:nvPr/>
          </p:nvSpPr>
          <p:spPr>
            <a:xfrm>
              <a:off x="0" y="60948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vo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Text Box 21"/>
            <p:cNvSpPr/>
            <p:nvPr/>
          </p:nvSpPr>
          <p:spPr>
            <a:xfrm>
              <a:off x="0" y="297180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pen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Text Box 22"/>
            <p:cNvSpPr/>
            <p:nvPr/>
          </p:nvSpPr>
          <p:spPr>
            <a:xfrm>
              <a:off x="0" y="449568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dar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Text Box 23"/>
            <p:cNvSpPr/>
            <p:nvPr/>
          </p:nvSpPr>
          <p:spPr>
            <a:xfrm>
              <a:off x="0" y="5791320"/>
              <a:ext cx="1066680" cy="8254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Weef-se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6" name="Group 31"/>
          <p:cNvGrpSpPr/>
          <p:nvPr/>
        </p:nvGrpSpPr>
        <p:grpSpPr>
          <a:xfrm>
            <a:off x="1981080" y="533520"/>
            <a:ext cx="6477120" cy="642600"/>
            <a:chOff x="1981080" y="533520"/>
            <a:chExt cx="6477120" cy="642600"/>
          </a:xfrm>
        </p:grpSpPr>
        <p:sp>
          <p:nvSpPr>
            <p:cNvPr id="387" name="Text Box 26"/>
            <p:cNvSpPr/>
            <p:nvPr/>
          </p:nvSpPr>
          <p:spPr>
            <a:xfrm>
              <a:off x="1981080" y="533520"/>
              <a:ext cx="1828800" cy="6426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Eiwit re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Text Box 29"/>
            <p:cNvSpPr/>
            <p:nvPr/>
          </p:nvSpPr>
          <p:spPr>
            <a:xfrm>
              <a:off x="4343400" y="533520"/>
              <a:ext cx="1828800" cy="52056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ffffff"/>
                  </a:solidFill>
                  <a:latin typeface="Times New Roman"/>
                </a:rPr>
                <a:t>Energie 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Text Box 30"/>
            <p:cNvSpPr/>
            <p:nvPr/>
          </p:nvSpPr>
          <p:spPr>
            <a:xfrm>
              <a:off x="6629400" y="533520"/>
              <a:ext cx="182880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drogestof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0" name="Group 82"/>
          <p:cNvGrpSpPr/>
          <p:nvPr/>
        </p:nvGrpSpPr>
        <p:grpSpPr>
          <a:xfrm>
            <a:off x="4876920" y="2895480"/>
            <a:ext cx="2743200" cy="642600"/>
            <a:chOff x="4876920" y="2895480"/>
            <a:chExt cx="2743200" cy="642600"/>
          </a:xfrm>
        </p:grpSpPr>
        <p:sp>
          <p:nvSpPr>
            <p:cNvPr id="391" name="Text Box 40"/>
            <p:cNvSpPr/>
            <p:nvPr/>
          </p:nvSpPr>
          <p:spPr>
            <a:xfrm>
              <a:off x="4876920" y="2895480"/>
              <a:ext cx="30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Text Box 41"/>
            <p:cNvSpPr/>
            <p:nvPr/>
          </p:nvSpPr>
          <p:spPr>
            <a:xfrm>
              <a:off x="6705720" y="3048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ffff"/>
                  </a:solidFill>
                  <a:latin typeface="Times New Roman"/>
                </a:rPr>
                <a:t>= O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3" name="Text Box 42"/>
          <p:cNvSpPr/>
          <p:nvPr/>
        </p:nvSpPr>
        <p:spPr>
          <a:xfrm>
            <a:off x="2590920" y="5715000"/>
            <a:ext cx="426708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Darmverteerbaar eiwit D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4" name="Group 68"/>
          <p:cNvGrpSpPr/>
          <p:nvPr/>
        </p:nvGrpSpPr>
        <p:grpSpPr>
          <a:xfrm>
            <a:off x="1905120" y="1371600"/>
            <a:ext cx="1447560" cy="2151720"/>
            <a:chOff x="1905120" y="1371600"/>
            <a:chExt cx="1447560" cy="2151720"/>
          </a:xfrm>
        </p:grpSpPr>
        <p:sp>
          <p:nvSpPr>
            <p:cNvPr id="395" name="Text Box 33"/>
            <p:cNvSpPr/>
            <p:nvPr/>
          </p:nvSpPr>
          <p:spPr>
            <a:xfrm>
              <a:off x="1905120" y="2819520"/>
              <a:ext cx="1447560" cy="703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Bestendig voereiw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AutoShape 49"/>
            <p:cNvSpPr/>
            <p:nvPr/>
          </p:nvSpPr>
          <p:spPr>
            <a:xfrm>
              <a:off x="2514600" y="1371600"/>
              <a:ext cx="304920" cy="1143000"/>
            </a:xfrm>
            <a:prstGeom prst="downArrow">
              <a:avLst>
                <a:gd name="adj1" fmla="val 50000"/>
                <a:gd name="adj2" fmla="val 93713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Group 69"/>
          <p:cNvGrpSpPr/>
          <p:nvPr/>
        </p:nvGrpSpPr>
        <p:grpSpPr>
          <a:xfrm>
            <a:off x="1752480" y="3657600"/>
            <a:ext cx="2133720" cy="1541880"/>
            <a:chOff x="1752480" y="3657600"/>
            <a:chExt cx="2133720" cy="1541880"/>
          </a:xfrm>
        </p:grpSpPr>
        <p:sp>
          <p:nvSpPr>
            <p:cNvPr id="398" name="Text Box 34"/>
            <p:cNvSpPr/>
            <p:nvPr/>
          </p:nvSpPr>
          <p:spPr>
            <a:xfrm>
              <a:off x="1752480" y="4495680"/>
              <a:ext cx="2133720" cy="703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Darmverteerbaar bestendig eiw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AutoShape 50"/>
            <p:cNvSpPr/>
            <p:nvPr/>
          </p:nvSpPr>
          <p:spPr>
            <a:xfrm>
              <a:off x="2514600" y="3657600"/>
              <a:ext cx="304920" cy="914400"/>
            </a:xfrm>
            <a:prstGeom prst="downArrow">
              <a:avLst>
                <a:gd name="adj1" fmla="val 50000"/>
                <a:gd name="adj2" fmla="val 74970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0" name="Group 73"/>
          <p:cNvGrpSpPr/>
          <p:nvPr/>
        </p:nvGrpSpPr>
        <p:grpSpPr>
          <a:xfrm>
            <a:off x="4038480" y="1219320"/>
            <a:ext cx="2210040" cy="1084680"/>
            <a:chOff x="4038480" y="1219320"/>
            <a:chExt cx="2210040" cy="1084680"/>
          </a:xfrm>
        </p:grpSpPr>
        <p:sp>
          <p:nvSpPr>
            <p:cNvPr id="401" name="Text Box 32"/>
            <p:cNvSpPr/>
            <p:nvPr/>
          </p:nvSpPr>
          <p:spPr>
            <a:xfrm>
              <a:off x="4038480" y="1600200"/>
              <a:ext cx="2210040" cy="703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Fermenteerbare org.stof F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AutoShape 51"/>
            <p:cNvSpPr/>
            <p:nvPr/>
          </p:nvSpPr>
          <p:spPr>
            <a:xfrm>
              <a:off x="5562720" y="1219320"/>
              <a:ext cx="228600" cy="457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3" name="Group 70"/>
          <p:cNvGrpSpPr/>
          <p:nvPr/>
        </p:nvGrpSpPr>
        <p:grpSpPr>
          <a:xfrm>
            <a:off x="4343400" y="3809880"/>
            <a:ext cx="2133720" cy="1389600"/>
            <a:chOff x="4343400" y="3809880"/>
            <a:chExt cx="2133720" cy="1389600"/>
          </a:xfrm>
        </p:grpSpPr>
        <p:sp>
          <p:nvSpPr>
            <p:cNvPr id="404" name="Text Box 36"/>
            <p:cNvSpPr/>
            <p:nvPr/>
          </p:nvSpPr>
          <p:spPr>
            <a:xfrm>
              <a:off x="4343400" y="4495680"/>
              <a:ext cx="2133720" cy="703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Darmverteerbaar microbieel eiw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AutoShape 52"/>
            <p:cNvSpPr/>
            <p:nvPr/>
          </p:nvSpPr>
          <p:spPr>
            <a:xfrm>
              <a:off x="5486400" y="3809880"/>
              <a:ext cx="228600" cy="762120"/>
            </a:xfrm>
            <a:prstGeom prst="downArrow">
              <a:avLst>
                <a:gd name="adj1" fmla="val 50000"/>
                <a:gd name="adj2" fmla="val 83346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6" name="Group 71"/>
          <p:cNvGrpSpPr/>
          <p:nvPr/>
        </p:nvGrpSpPr>
        <p:grpSpPr>
          <a:xfrm>
            <a:off x="5181480" y="2133720"/>
            <a:ext cx="1600200" cy="1602720"/>
            <a:chOff x="5181480" y="2133720"/>
            <a:chExt cx="1600200" cy="1602720"/>
          </a:xfrm>
        </p:grpSpPr>
        <p:sp>
          <p:nvSpPr>
            <p:cNvPr id="407" name="Text Box 39"/>
            <p:cNvSpPr/>
            <p:nvPr/>
          </p:nvSpPr>
          <p:spPr>
            <a:xfrm>
              <a:off x="5181480" y="2819520"/>
              <a:ext cx="1600200" cy="9169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ffff"/>
                  </a:solidFill>
                  <a:latin typeface="Times New Roman"/>
                </a:rPr>
                <a:t>Microbieel eiwit op energiebas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AutoShape 54"/>
            <p:cNvSpPr/>
            <p:nvPr/>
          </p:nvSpPr>
          <p:spPr>
            <a:xfrm>
              <a:off x="5562720" y="2133720"/>
              <a:ext cx="304560" cy="685800"/>
            </a:xfrm>
            <a:prstGeom prst="downArrow">
              <a:avLst>
                <a:gd name="adj1" fmla="val 50000"/>
                <a:gd name="adj2" fmla="val 56294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9" name="Group 74"/>
          <p:cNvGrpSpPr/>
          <p:nvPr/>
        </p:nvGrpSpPr>
        <p:grpSpPr>
          <a:xfrm>
            <a:off x="7620120" y="1371600"/>
            <a:ext cx="1523880" cy="2700000"/>
            <a:chOff x="7620120" y="1371600"/>
            <a:chExt cx="1523880" cy="2700000"/>
          </a:xfrm>
        </p:grpSpPr>
        <p:sp>
          <p:nvSpPr>
            <p:cNvPr id="410" name="AutoShape 53"/>
            <p:cNvSpPr/>
            <p:nvPr/>
          </p:nvSpPr>
          <p:spPr>
            <a:xfrm>
              <a:off x="8077320" y="1371600"/>
              <a:ext cx="304560" cy="2133720"/>
            </a:xfrm>
            <a:prstGeom prst="downArrow">
              <a:avLst>
                <a:gd name="adj1" fmla="val 50000"/>
                <a:gd name="adj2" fmla="val 175148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Text Box 55"/>
            <p:cNvSpPr/>
            <p:nvPr/>
          </p:nvSpPr>
          <p:spPr>
            <a:xfrm>
              <a:off x="7620120" y="3429000"/>
              <a:ext cx="1523880" cy="6426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ffff"/>
                  </a:solidFill>
                  <a:latin typeface="Times New Roman"/>
                </a:rPr>
                <a:t>Onverteer-bare d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2" name="Group 75"/>
          <p:cNvGrpSpPr/>
          <p:nvPr/>
        </p:nvGrpSpPr>
        <p:grpSpPr>
          <a:xfrm>
            <a:off x="6477120" y="4038480"/>
            <a:ext cx="2438280" cy="1465920"/>
            <a:chOff x="6477120" y="4038480"/>
            <a:chExt cx="2438280" cy="1465920"/>
          </a:xfrm>
        </p:grpSpPr>
        <p:sp>
          <p:nvSpPr>
            <p:cNvPr id="413" name="Text Box 37"/>
            <p:cNvSpPr/>
            <p:nvPr/>
          </p:nvSpPr>
          <p:spPr>
            <a:xfrm>
              <a:off x="6477120" y="4495680"/>
              <a:ext cx="2438280" cy="10087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Darmverteerbaar metabool faecaal eiw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AutoShape 56"/>
            <p:cNvSpPr/>
            <p:nvPr/>
          </p:nvSpPr>
          <p:spPr>
            <a:xfrm>
              <a:off x="8001000" y="4038480"/>
              <a:ext cx="228600" cy="533520"/>
            </a:xfrm>
            <a:prstGeom prst="downArrow">
              <a:avLst>
                <a:gd name="adj1" fmla="val 50000"/>
                <a:gd name="adj2" fmla="val 58346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5" name="Group 72"/>
          <p:cNvGrpSpPr/>
          <p:nvPr/>
        </p:nvGrpSpPr>
        <p:grpSpPr>
          <a:xfrm>
            <a:off x="2939040" y="1310760"/>
            <a:ext cx="1937880" cy="2425680"/>
            <a:chOff x="2939040" y="1310760"/>
            <a:chExt cx="1937880" cy="2425680"/>
          </a:xfrm>
        </p:grpSpPr>
        <p:sp>
          <p:nvSpPr>
            <p:cNvPr id="416" name="Text Box 38"/>
            <p:cNvSpPr/>
            <p:nvPr/>
          </p:nvSpPr>
          <p:spPr>
            <a:xfrm>
              <a:off x="3505320" y="2819520"/>
              <a:ext cx="1371600" cy="9169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ffff"/>
                  </a:solidFill>
                  <a:latin typeface="Times New Roman"/>
                </a:rPr>
                <a:t>Microbieel eiwit op N-bas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AutoShape 58"/>
            <p:cNvSpPr/>
            <p:nvPr/>
          </p:nvSpPr>
          <p:spPr>
            <a:xfrm rot="20011200">
              <a:off x="3252960" y="1301400"/>
              <a:ext cx="307800" cy="1481040"/>
            </a:xfrm>
            <a:prstGeom prst="downArrow">
              <a:avLst>
                <a:gd name="adj1" fmla="val 50000"/>
                <a:gd name="adj2" fmla="val 120292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Group 83"/>
          <p:cNvGrpSpPr/>
          <p:nvPr/>
        </p:nvGrpSpPr>
        <p:grpSpPr>
          <a:xfrm>
            <a:off x="1219320" y="6095520"/>
            <a:ext cx="7619760" cy="763920"/>
            <a:chOff x="1219320" y="6095520"/>
            <a:chExt cx="7619760" cy="763920"/>
          </a:xfrm>
        </p:grpSpPr>
        <p:sp>
          <p:nvSpPr>
            <p:cNvPr id="419" name="Line 59"/>
            <p:cNvSpPr/>
            <p:nvPr/>
          </p:nvSpPr>
          <p:spPr>
            <a:xfrm flipV="1">
              <a:off x="2286000" y="6095520"/>
              <a:ext cx="60948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0" name="Group 64"/>
            <p:cNvGrpSpPr/>
            <p:nvPr/>
          </p:nvGrpSpPr>
          <p:grpSpPr>
            <a:xfrm>
              <a:off x="1219320" y="6095880"/>
              <a:ext cx="7619760" cy="763560"/>
              <a:chOff x="1219320" y="6095880"/>
              <a:chExt cx="7619760" cy="763560"/>
            </a:xfrm>
          </p:grpSpPr>
          <p:sp>
            <p:nvSpPr>
              <p:cNvPr id="421" name="Text Box 43"/>
              <p:cNvSpPr/>
              <p:nvPr/>
            </p:nvSpPr>
            <p:spPr>
              <a:xfrm>
                <a:off x="1219320" y="6248520"/>
                <a:ext cx="1904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800" spc="-1" strike="noStrike">
                    <a:solidFill>
                      <a:srgbClr val="ffffff"/>
                    </a:solidFill>
                    <a:latin typeface="Times New Roman"/>
                  </a:rPr>
                  <a:t>eiwitmobilisati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Text Box 44"/>
              <p:cNvSpPr/>
              <p:nvPr/>
            </p:nvSpPr>
            <p:spPr>
              <a:xfrm>
                <a:off x="2743200" y="6491160"/>
                <a:ext cx="129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800" spc="-1" strike="noStrike">
                    <a:solidFill>
                      <a:srgbClr val="ffffff"/>
                    </a:solidFill>
                    <a:latin typeface="Times New Roman"/>
                  </a:rPr>
                  <a:t>groe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Text Box 45"/>
              <p:cNvSpPr/>
              <p:nvPr/>
            </p:nvSpPr>
            <p:spPr>
              <a:xfrm>
                <a:off x="3962520" y="649116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800" spc="-1" strike="noStrike">
                    <a:solidFill>
                      <a:srgbClr val="ffffff"/>
                    </a:solidFill>
                    <a:latin typeface="Times New Roman"/>
                  </a:rPr>
                  <a:t>drach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Text Box 46"/>
              <p:cNvSpPr/>
              <p:nvPr/>
            </p:nvSpPr>
            <p:spPr>
              <a:xfrm>
                <a:off x="5257800" y="6491160"/>
                <a:ext cx="16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800" spc="-1" strike="noStrike">
                    <a:solidFill>
                      <a:srgbClr val="ffffff"/>
                    </a:solidFill>
                    <a:latin typeface="Times New Roman"/>
                  </a:rPr>
                  <a:t>onderhou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Text Box 47"/>
              <p:cNvSpPr/>
              <p:nvPr/>
            </p:nvSpPr>
            <p:spPr>
              <a:xfrm>
                <a:off x="6934320" y="6095880"/>
                <a:ext cx="1904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800" spc="-1" strike="noStrike">
                    <a:solidFill>
                      <a:srgbClr val="ffffff"/>
                    </a:solidFill>
                    <a:latin typeface="Times New Roman"/>
                  </a:rPr>
                  <a:t>producti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Line 60"/>
              <p:cNvSpPr/>
              <p:nvPr/>
            </p:nvSpPr>
            <p:spPr>
              <a:xfrm flipH="1">
                <a:off x="3276360" y="6172200"/>
                <a:ext cx="15228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Line 61"/>
              <p:cNvSpPr/>
              <p:nvPr/>
            </p:nvSpPr>
            <p:spPr>
              <a:xfrm>
                <a:off x="4419720" y="6172200"/>
                <a:ext cx="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Line 62"/>
              <p:cNvSpPr/>
              <p:nvPr/>
            </p:nvSpPr>
            <p:spPr>
              <a:xfrm>
                <a:off x="5791320" y="6172200"/>
                <a:ext cx="15228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Line 63"/>
              <p:cNvSpPr/>
              <p:nvPr/>
            </p:nvSpPr>
            <p:spPr>
              <a:xfrm>
                <a:off x="6477120" y="6095880"/>
                <a:ext cx="457200" cy="15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0" name="Group 81"/>
          <p:cNvGrpSpPr/>
          <p:nvPr/>
        </p:nvGrpSpPr>
        <p:grpSpPr>
          <a:xfrm>
            <a:off x="2943720" y="5181480"/>
            <a:ext cx="942480" cy="642600"/>
            <a:chOff x="2943720" y="5181480"/>
            <a:chExt cx="942480" cy="642600"/>
          </a:xfrm>
        </p:grpSpPr>
        <p:sp>
          <p:nvSpPr>
            <p:cNvPr id="431" name="AutoShape 65"/>
            <p:cNvSpPr/>
            <p:nvPr/>
          </p:nvSpPr>
          <p:spPr>
            <a:xfrm rot="19159800">
              <a:off x="3123720" y="5181480"/>
              <a:ext cx="152640" cy="609840"/>
            </a:xfrm>
            <a:prstGeom prst="downArrow">
              <a:avLst>
                <a:gd name="adj1" fmla="val 50000"/>
                <a:gd name="adj2" fmla="val 99882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Text Box 76"/>
            <p:cNvSpPr/>
            <p:nvPr/>
          </p:nvSpPr>
          <p:spPr>
            <a:xfrm>
              <a:off x="3429000" y="51814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3" name="Group 80"/>
          <p:cNvGrpSpPr/>
          <p:nvPr/>
        </p:nvGrpSpPr>
        <p:grpSpPr>
          <a:xfrm>
            <a:off x="4952880" y="5181480"/>
            <a:ext cx="762120" cy="718920"/>
            <a:chOff x="4952880" y="5181480"/>
            <a:chExt cx="762120" cy="718920"/>
          </a:xfrm>
        </p:grpSpPr>
        <p:sp>
          <p:nvSpPr>
            <p:cNvPr id="434" name="AutoShape 66"/>
            <p:cNvSpPr/>
            <p:nvPr/>
          </p:nvSpPr>
          <p:spPr>
            <a:xfrm>
              <a:off x="4952880" y="5181480"/>
              <a:ext cx="228600" cy="685800"/>
            </a:xfrm>
            <a:prstGeom prst="downArrow">
              <a:avLst>
                <a:gd name="adj1" fmla="val 50000"/>
                <a:gd name="adj2" fmla="val 7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Text Box 77"/>
            <p:cNvSpPr/>
            <p:nvPr/>
          </p:nvSpPr>
          <p:spPr>
            <a:xfrm>
              <a:off x="5257800" y="52578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6" name="Group 79"/>
          <p:cNvGrpSpPr/>
          <p:nvPr/>
        </p:nvGrpSpPr>
        <p:grpSpPr>
          <a:xfrm>
            <a:off x="6482520" y="5284440"/>
            <a:ext cx="909000" cy="768240"/>
            <a:chOff x="6482520" y="5284440"/>
            <a:chExt cx="909000" cy="768240"/>
          </a:xfrm>
        </p:grpSpPr>
        <p:sp>
          <p:nvSpPr>
            <p:cNvPr id="437" name="AutoShape 67"/>
            <p:cNvSpPr/>
            <p:nvPr/>
          </p:nvSpPr>
          <p:spPr>
            <a:xfrm rot="3239400">
              <a:off x="6743520" y="5219640"/>
              <a:ext cx="228600" cy="761760"/>
            </a:xfrm>
            <a:prstGeom prst="downArrow">
              <a:avLst>
                <a:gd name="adj1" fmla="val 50000"/>
                <a:gd name="adj2" fmla="val 8330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Text Box 78"/>
            <p:cNvSpPr/>
            <p:nvPr/>
          </p:nvSpPr>
          <p:spPr>
            <a:xfrm>
              <a:off x="6934320" y="54100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66D5-ADBF-4056-BC3F-24857CA3EF96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Rectangle 60"/>
          <p:cNvSpPr/>
          <p:nvPr/>
        </p:nvSpPr>
        <p:spPr>
          <a:xfrm>
            <a:off x="2819520" y="2362320"/>
            <a:ext cx="5105160" cy="182880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1" name="Group 2"/>
          <p:cNvGrpSpPr/>
          <p:nvPr/>
        </p:nvGrpSpPr>
        <p:grpSpPr>
          <a:xfrm>
            <a:off x="0" y="609480"/>
            <a:ext cx="1066680" cy="6007320"/>
            <a:chOff x="0" y="609480"/>
            <a:chExt cx="1066680" cy="6007320"/>
          </a:xfrm>
        </p:grpSpPr>
        <p:sp>
          <p:nvSpPr>
            <p:cNvPr id="442" name="Text Box 3"/>
            <p:cNvSpPr/>
            <p:nvPr/>
          </p:nvSpPr>
          <p:spPr>
            <a:xfrm>
              <a:off x="0" y="60948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vo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Text Box 4"/>
            <p:cNvSpPr/>
            <p:nvPr/>
          </p:nvSpPr>
          <p:spPr>
            <a:xfrm>
              <a:off x="0" y="297180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pen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Text Box 5"/>
            <p:cNvSpPr/>
            <p:nvPr/>
          </p:nvSpPr>
          <p:spPr>
            <a:xfrm>
              <a:off x="0" y="449568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dar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Text Box 6"/>
            <p:cNvSpPr/>
            <p:nvPr/>
          </p:nvSpPr>
          <p:spPr>
            <a:xfrm>
              <a:off x="0" y="5791320"/>
              <a:ext cx="1066680" cy="8254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Weef-se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6" name="Group 7"/>
          <p:cNvGrpSpPr/>
          <p:nvPr/>
        </p:nvGrpSpPr>
        <p:grpSpPr>
          <a:xfrm>
            <a:off x="1981080" y="533520"/>
            <a:ext cx="6477120" cy="642600"/>
            <a:chOff x="1981080" y="533520"/>
            <a:chExt cx="6477120" cy="642600"/>
          </a:xfrm>
        </p:grpSpPr>
        <p:sp>
          <p:nvSpPr>
            <p:cNvPr id="447" name="Text Box 8"/>
            <p:cNvSpPr/>
            <p:nvPr/>
          </p:nvSpPr>
          <p:spPr>
            <a:xfrm>
              <a:off x="1981080" y="533520"/>
              <a:ext cx="1828800" cy="6426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Eiwit re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Text Box 9"/>
            <p:cNvSpPr/>
            <p:nvPr/>
          </p:nvSpPr>
          <p:spPr>
            <a:xfrm>
              <a:off x="4343400" y="533520"/>
              <a:ext cx="1828800" cy="52056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ffffff"/>
                  </a:solidFill>
                  <a:latin typeface="Times New Roman"/>
                </a:rPr>
                <a:t>Energie 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Text Box 10"/>
            <p:cNvSpPr/>
            <p:nvPr/>
          </p:nvSpPr>
          <p:spPr>
            <a:xfrm>
              <a:off x="6629400" y="533520"/>
              <a:ext cx="182880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drogestof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Group 11"/>
          <p:cNvGrpSpPr/>
          <p:nvPr/>
        </p:nvGrpSpPr>
        <p:grpSpPr>
          <a:xfrm>
            <a:off x="4876920" y="2895480"/>
            <a:ext cx="2743200" cy="642600"/>
            <a:chOff x="4876920" y="2895480"/>
            <a:chExt cx="2743200" cy="642600"/>
          </a:xfrm>
        </p:grpSpPr>
        <p:sp>
          <p:nvSpPr>
            <p:cNvPr id="451" name="Text Box 12"/>
            <p:cNvSpPr/>
            <p:nvPr/>
          </p:nvSpPr>
          <p:spPr>
            <a:xfrm>
              <a:off x="4876920" y="2895480"/>
              <a:ext cx="30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Text Box 13"/>
            <p:cNvSpPr/>
            <p:nvPr/>
          </p:nvSpPr>
          <p:spPr>
            <a:xfrm>
              <a:off x="6705720" y="3048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Times New Roman"/>
                </a:rPr>
                <a:t>= O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3" name="Text Box 14"/>
          <p:cNvSpPr/>
          <p:nvPr/>
        </p:nvSpPr>
        <p:spPr>
          <a:xfrm>
            <a:off x="2590920" y="5715000"/>
            <a:ext cx="426708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Darmverteerbaar eiwit D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4" name="Group 21"/>
          <p:cNvGrpSpPr/>
          <p:nvPr/>
        </p:nvGrpSpPr>
        <p:grpSpPr>
          <a:xfrm>
            <a:off x="4038480" y="1219320"/>
            <a:ext cx="2210040" cy="1084680"/>
            <a:chOff x="4038480" y="1219320"/>
            <a:chExt cx="2210040" cy="1084680"/>
          </a:xfrm>
        </p:grpSpPr>
        <p:sp>
          <p:nvSpPr>
            <p:cNvPr id="455" name="Text Box 22"/>
            <p:cNvSpPr/>
            <p:nvPr/>
          </p:nvSpPr>
          <p:spPr>
            <a:xfrm>
              <a:off x="4038480" y="1600200"/>
              <a:ext cx="2210040" cy="703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Fermenteerbare org.stof F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AutoShape 23"/>
            <p:cNvSpPr/>
            <p:nvPr/>
          </p:nvSpPr>
          <p:spPr>
            <a:xfrm>
              <a:off x="5562720" y="1219320"/>
              <a:ext cx="228600" cy="457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7" name="Group 24"/>
          <p:cNvGrpSpPr/>
          <p:nvPr/>
        </p:nvGrpSpPr>
        <p:grpSpPr>
          <a:xfrm>
            <a:off x="4343400" y="3809880"/>
            <a:ext cx="2133720" cy="1389600"/>
            <a:chOff x="4343400" y="3809880"/>
            <a:chExt cx="2133720" cy="1389600"/>
          </a:xfrm>
        </p:grpSpPr>
        <p:sp>
          <p:nvSpPr>
            <p:cNvPr id="458" name="Text Box 25"/>
            <p:cNvSpPr/>
            <p:nvPr/>
          </p:nvSpPr>
          <p:spPr>
            <a:xfrm>
              <a:off x="4343400" y="4495680"/>
              <a:ext cx="2133720" cy="703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Darmverteerbaar microbieel eiw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AutoShape 26"/>
            <p:cNvSpPr/>
            <p:nvPr/>
          </p:nvSpPr>
          <p:spPr>
            <a:xfrm>
              <a:off x="5486400" y="3809880"/>
              <a:ext cx="228600" cy="762120"/>
            </a:xfrm>
            <a:prstGeom prst="downArrow">
              <a:avLst>
                <a:gd name="adj1" fmla="val 50000"/>
                <a:gd name="adj2" fmla="val 83346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0" name="Group 27"/>
          <p:cNvGrpSpPr/>
          <p:nvPr/>
        </p:nvGrpSpPr>
        <p:grpSpPr>
          <a:xfrm>
            <a:off x="5181480" y="2133720"/>
            <a:ext cx="1600200" cy="1602720"/>
            <a:chOff x="5181480" y="2133720"/>
            <a:chExt cx="1600200" cy="1602720"/>
          </a:xfrm>
        </p:grpSpPr>
        <p:sp>
          <p:nvSpPr>
            <p:cNvPr id="461" name="Text Box 28"/>
            <p:cNvSpPr/>
            <p:nvPr/>
          </p:nvSpPr>
          <p:spPr>
            <a:xfrm>
              <a:off x="5181480" y="2819520"/>
              <a:ext cx="1600200" cy="9169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Times New Roman"/>
                </a:rPr>
                <a:t>Microbieel eiwit op energiebas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AutoShape 29"/>
            <p:cNvSpPr/>
            <p:nvPr/>
          </p:nvSpPr>
          <p:spPr>
            <a:xfrm>
              <a:off x="5562720" y="2133720"/>
              <a:ext cx="304560" cy="685800"/>
            </a:xfrm>
            <a:prstGeom prst="downArrow">
              <a:avLst>
                <a:gd name="adj1" fmla="val 50000"/>
                <a:gd name="adj2" fmla="val 56294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3" name="Group 36"/>
          <p:cNvGrpSpPr/>
          <p:nvPr/>
        </p:nvGrpSpPr>
        <p:grpSpPr>
          <a:xfrm>
            <a:off x="2939040" y="1310760"/>
            <a:ext cx="1937880" cy="2425680"/>
            <a:chOff x="2939040" y="1310760"/>
            <a:chExt cx="1937880" cy="2425680"/>
          </a:xfrm>
        </p:grpSpPr>
        <p:sp>
          <p:nvSpPr>
            <p:cNvPr id="464" name="Text Box 37"/>
            <p:cNvSpPr/>
            <p:nvPr/>
          </p:nvSpPr>
          <p:spPr>
            <a:xfrm>
              <a:off x="3505320" y="2819520"/>
              <a:ext cx="1371600" cy="9169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Times New Roman"/>
                </a:rPr>
                <a:t>Microbieel eiwit op N-bas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AutoShape 38"/>
            <p:cNvSpPr/>
            <p:nvPr/>
          </p:nvSpPr>
          <p:spPr>
            <a:xfrm rot="20011200">
              <a:off x="3252960" y="1301400"/>
              <a:ext cx="307800" cy="1481040"/>
            </a:xfrm>
            <a:prstGeom prst="downArrow">
              <a:avLst>
                <a:gd name="adj1" fmla="val 50000"/>
                <a:gd name="adj2" fmla="val 120292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6" name="Group 54"/>
          <p:cNvGrpSpPr/>
          <p:nvPr/>
        </p:nvGrpSpPr>
        <p:grpSpPr>
          <a:xfrm>
            <a:off x="4952880" y="5181480"/>
            <a:ext cx="762120" cy="718920"/>
            <a:chOff x="4952880" y="5181480"/>
            <a:chExt cx="762120" cy="718920"/>
          </a:xfrm>
        </p:grpSpPr>
        <p:sp>
          <p:nvSpPr>
            <p:cNvPr id="467" name="AutoShape 55"/>
            <p:cNvSpPr/>
            <p:nvPr/>
          </p:nvSpPr>
          <p:spPr>
            <a:xfrm>
              <a:off x="4952880" y="5181480"/>
              <a:ext cx="228600" cy="685800"/>
            </a:xfrm>
            <a:prstGeom prst="downArrow">
              <a:avLst>
                <a:gd name="adj1" fmla="val 50000"/>
                <a:gd name="adj2" fmla="val 7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Text Box 56"/>
            <p:cNvSpPr/>
            <p:nvPr/>
          </p:nvSpPr>
          <p:spPr>
            <a:xfrm>
              <a:off x="5257800" y="52578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2585-6D61-4931-8EC9-34F85C42341E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OEB </a:t>
            </a:r>
            <a:r>
              <a:rPr b="0" lang="nl-NL" sz="1800" spc="-1" strike="noStrike">
                <a:solidFill>
                  <a:srgbClr val="ffcc66"/>
                </a:solidFill>
                <a:latin typeface="Times New Roman"/>
              </a:rPr>
              <a:t>pagina8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geeft een beeld over de hoeveelheid N die in de pens verloren gaat. In de meeste Nederlandse rantsoen zal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eschikbare energi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de beperkende factor zijn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 een rantsoen voor melkkoeien mag de 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E.B. nooit negatief zijn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s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kleiner dan 0 dan is er sprake van een tekort aan onbestendig eiwit. De micro-organismen produceren minder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icrobieel eiwi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dan op basis van energieaanbod mogelijk zou zijn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s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gelijk aan 0 dan is er een evenwicht tussen de aanbod van onbestendig eiwit en energie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s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groter dan 0 dan is er sprake van een overschot aan onbestendig eiwit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Effect OEB op snijmaisrantso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0" y="838080"/>
          <a:ext cx="9144000" cy="603576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OEB niveau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35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70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kVem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,9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1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1,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V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837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83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83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EB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4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7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 g/kg ds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4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5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7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elk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1,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2,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Vet 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,3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,4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,4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iwit 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,2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,3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,2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reum mg/dl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7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3,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eetmelk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2,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3,7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3,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 benutting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2,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9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7,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-verlies g/kg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0,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3,9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F9C4-F9A8-4355-8FF1-B4ED732FA57C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cc66"/>
                </a:solidFill>
                <a:latin typeface="Times New Roman"/>
              </a:rPr>
              <a:t>De Weender analy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4876920" y="2133720"/>
            <a:ext cx="27432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819520" y="2819520"/>
            <a:ext cx="259056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Anorganische s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0" y="3886200"/>
            <a:ext cx="274320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Met stikstof = 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2971800" y="5410080"/>
            <a:ext cx="213372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Ruwe cels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1676520" y="4648320"/>
            <a:ext cx="190476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Ruw v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5105520" y="5410080"/>
            <a:ext cx="2743200" cy="82548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verige koolhydr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Group 29"/>
          <p:cNvGrpSpPr/>
          <p:nvPr/>
        </p:nvGrpSpPr>
        <p:grpSpPr>
          <a:xfrm>
            <a:off x="3276720" y="1447920"/>
            <a:ext cx="2743200" cy="685800"/>
            <a:chOff x="3276720" y="1447920"/>
            <a:chExt cx="2743200" cy="685800"/>
          </a:xfrm>
        </p:grpSpPr>
        <p:sp>
          <p:nvSpPr>
            <p:cNvPr id="127" name="Text Box 3"/>
            <p:cNvSpPr/>
            <p:nvPr/>
          </p:nvSpPr>
          <p:spPr>
            <a:xfrm>
              <a:off x="3276720" y="144792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Vo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Group 25"/>
            <p:cNvGrpSpPr/>
            <p:nvPr/>
          </p:nvGrpSpPr>
          <p:grpSpPr>
            <a:xfrm>
              <a:off x="3429000" y="1752480"/>
              <a:ext cx="2286000" cy="381240"/>
              <a:chOff x="3429000" y="1752480"/>
              <a:chExt cx="2286000" cy="381240"/>
            </a:xfrm>
          </p:grpSpPr>
          <p:sp>
            <p:nvSpPr>
              <p:cNvPr id="129" name="Line 14"/>
              <p:cNvSpPr/>
              <p:nvPr/>
            </p:nvSpPr>
            <p:spPr>
              <a:xfrm flipH="1">
                <a:off x="3429000" y="1752480"/>
                <a:ext cx="914400" cy="38124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Line 15"/>
              <p:cNvSpPr/>
              <p:nvPr/>
            </p:nvSpPr>
            <p:spPr>
              <a:xfrm>
                <a:off x="4952880" y="1828800"/>
                <a:ext cx="762120" cy="30492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" name="Group 31"/>
          <p:cNvGrpSpPr/>
          <p:nvPr/>
        </p:nvGrpSpPr>
        <p:grpSpPr>
          <a:xfrm>
            <a:off x="1295280" y="2057400"/>
            <a:ext cx="2743200" cy="838080"/>
            <a:chOff x="1295280" y="2057400"/>
            <a:chExt cx="2743200" cy="838080"/>
          </a:xfrm>
        </p:grpSpPr>
        <p:sp>
          <p:nvSpPr>
            <p:cNvPr id="132" name="Text Box 7"/>
            <p:cNvSpPr/>
            <p:nvPr/>
          </p:nvSpPr>
          <p:spPr>
            <a:xfrm>
              <a:off x="1295280" y="205740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Droge sto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3" name="Group 30"/>
            <p:cNvGrpSpPr/>
            <p:nvPr/>
          </p:nvGrpSpPr>
          <p:grpSpPr>
            <a:xfrm>
              <a:off x="1676520" y="2514600"/>
              <a:ext cx="2057400" cy="380880"/>
              <a:chOff x="1676520" y="2514600"/>
              <a:chExt cx="2057400" cy="380880"/>
            </a:xfrm>
          </p:grpSpPr>
          <p:sp>
            <p:nvSpPr>
              <p:cNvPr id="134" name="Line 16"/>
              <p:cNvSpPr/>
              <p:nvPr/>
            </p:nvSpPr>
            <p:spPr>
              <a:xfrm flipH="1">
                <a:off x="1676520" y="2514600"/>
                <a:ext cx="457200" cy="38088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Line 17"/>
              <p:cNvSpPr/>
              <p:nvPr/>
            </p:nvSpPr>
            <p:spPr>
              <a:xfrm>
                <a:off x="3276720" y="2514600"/>
                <a:ext cx="457200" cy="38088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" name="Group 26"/>
          <p:cNvGrpSpPr/>
          <p:nvPr/>
        </p:nvGrpSpPr>
        <p:grpSpPr>
          <a:xfrm>
            <a:off x="0" y="2819520"/>
            <a:ext cx="3581280" cy="1066680"/>
            <a:chOff x="0" y="2819520"/>
            <a:chExt cx="3581280" cy="1066680"/>
          </a:xfrm>
        </p:grpSpPr>
        <p:sp>
          <p:nvSpPr>
            <p:cNvPr id="137" name="Text Box 8"/>
            <p:cNvSpPr/>
            <p:nvPr/>
          </p:nvSpPr>
          <p:spPr>
            <a:xfrm>
              <a:off x="0" y="281952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Organische sto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Line 18"/>
            <p:cNvSpPr/>
            <p:nvPr/>
          </p:nvSpPr>
          <p:spPr>
            <a:xfrm>
              <a:off x="1447920" y="3276720"/>
              <a:ext cx="0" cy="6094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Line 19"/>
            <p:cNvSpPr/>
            <p:nvPr/>
          </p:nvSpPr>
          <p:spPr>
            <a:xfrm>
              <a:off x="2057400" y="3276720"/>
              <a:ext cx="1523880" cy="6094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Group 27"/>
          <p:cNvGrpSpPr/>
          <p:nvPr/>
        </p:nvGrpSpPr>
        <p:grpSpPr>
          <a:xfrm>
            <a:off x="2819520" y="3886200"/>
            <a:ext cx="2209680" cy="838080"/>
            <a:chOff x="2819520" y="3886200"/>
            <a:chExt cx="2209680" cy="838080"/>
          </a:xfrm>
        </p:grpSpPr>
        <p:sp>
          <p:nvSpPr>
            <p:cNvPr id="141" name="Text Box 6"/>
            <p:cNvSpPr/>
            <p:nvPr/>
          </p:nvSpPr>
          <p:spPr>
            <a:xfrm>
              <a:off x="2819520" y="3886200"/>
              <a:ext cx="220968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Zonder stiksto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20"/>
            <p:cNvSpPr/>
            <p:nvPr/>
          </p:nvSpPr>
          <p:spPr>
            <a:xfrm flipH="1">
              <a:off x="3124080" y="4267080"/>
              <a:ext cx="457200" cy="45720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Line 21"/>
            <p:cNvSpPr/>
            <p:nvPr/>
          </p:nvSpPr>
          <p:spPr>
            <a:xfrm>
              <a:off x="3962520" y="4267080"/>
              <a:ext cx="533160" cy="45720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" name="Group 28"/>
          <p:cNvGrpSpPr/>
          <p:nvPr/>
        </p:nvGrpSpPr>
        <p:grpSpPr>
          <a:xfrm>
            <a:off x="3581280" y="4648320"/>
            <a:ext cx="2743200" cy="838080"/>
            <a:chOff x="3581280" y="4648320"/>
            <a:chExt cx="2743200" cy="838080"/>
          </a:xfrm>
        </p:grpSpPr>
        <p:sp>
          <p:nvSpPr>
            <p:cNvPr id="145" name="Text Box 11"/>
            <p:cNvSpPr/>
            <p:nvPr/>
          </p:nvSpPr>
          <p:spPr>
            <a:xfrm>
              <a:off x="3581280" y="464832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Koolhydrate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Line 22"/>
            <p:cNvSpPr/>
            <p:nvPr/>
          </p:nvSpPr>
          <p:spPr>
            <a:xfrm flipH="1">
              <a:off x="4343400" y="5105520"/>
              <a:ext cx="380880" cy="3808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Line 23"/>
            <p:cNvSpPr/>
            <p:nvPr/>
          </p:nvSpPr>
          <p:spPr>
            <a:xfrm>
              <a:off x="5105520" y="5105520"/>
              <a:ext cx="838080" cy="3808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C810-AA30-48C4-AB8C-C40548488527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Ureum gehalte </a:t>
            </a:r>
            <a:r>
              <a:rPr b="0" lang="nl-NL" sz="1800" spc="-1" strike="noStrike">
                <a:solidFill>
                  <a:srgbClr val="ffcc66"/>
                </a:solidFill>
                <a:latin typeface="Times New Roman"/>
              </a:rPr>
              <a:t>sinds 1998 tankmelk, pagina 8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Indicator voor de stikstofbenutting van het melkvee.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Ureum ontstaat bij een overmaat aan onbestendig eiwit (hoog OEB) en/of een tekort aan in de pens afbreekbare koolhydraten.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Melk zonder ureum bestaat niet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Een hoog ureumgehalte betekent een groot stikstofverlies via de urine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Waarden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: van 20 tot 30 mg ureum per 100 ml melk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nder 20 is laa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oven 30 is hoog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neden 15 zo veel mogelijk voorkomen moeten worden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rwijl waarden boven 30 soms moeilijk te vermijden zijn. Dit laatste geldt met name voor bedrijven met veel graslan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B28E-DFB0-43BE-8E1B-B1892F9774AB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8" name="Picture 2" descr="C:\Mijn documenten\Algemene brieven en teksten\AOC zaken\Cursus\Voedingscursus 2000\verdeling ureum rantsoen pensniveau.gif"/>
          <p:cNvPicPr/>
          <p:nvPr/>
        </p:nvPicPr>
        <p:blipFill>
          <a:blip r:embed="rId1"/>
          <a:srcRect l="10285" t="365" r="-1053" b="18896"/>
          <a:stretch/>
        </p:blipFill>
        <p:spPr>
          <a:xfrm>
            <a:off x="0" y="689040"/>
            <a:ext cx="9144000" cy="519120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5"/>
          <p:cNvSpPr/>
          <p:nvPr/>
        </p:nvSpPr>
        <p:spPr>
          <a:xfrm>
            <a:off x="2590920" y="601992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Ureumgehalte mg/100 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0" y="2286000"/>
            <a:ext cx="457200" cy="1944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I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5987-9C2C-4C1E-A23C-12DD00E5E904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6212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Tipkaart ureu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0" y="612720"/>
          <a:ext cx="9144000" cy="5819760"/>
        </p:xfrm>
        <a:graphic>
          <a:graphicData uri="http://schemas.openxmlformats.org/drawingml/2006/table">
            <a:tbl>
              <a:tblPr/>
              <a:tblGrid>
                <a:gridCol w="1676520"/>
                <a:gridCol w="1523880"/>
                <a:gridCol w="3429000"/>
                <a:gridCol w="25146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ureumgehalt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Waarder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Laag eiwitgehal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Hoog eiwitgehal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0 en la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Te la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et te la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0-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orma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5-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Te ho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5 en ho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eel te ho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6212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Tipkaart ureu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0" y="612720"/>
          <a:ext cx="9144000" cy="6323040"/>
        </p:xfrm>
        <a:graphic>
          <a:graphicData uri="http://schemas.openxmlformats.org/drawingml/2006/table">
            <a:tbl>
              <a:tblPr/>
              <a:tblGrid>
                <a:gridCol w="1676520"/>
                <a:gridCol w="1523880"/>
                <a:gridCol w="3429000"/>
                <a:gridCol w="25146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ureumgehalt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Waarder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Laag eiwitgehal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Hoog eiwitgehal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0 en la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Te la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energie en eiwit rijk vo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eiwitconcentraat (kv &gt; 180 dve ) in basis rantso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et te la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ets meer eiwitrijk r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ets 0,25 kg eiwitconcentra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Goed vert. pensenergie voer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0-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orma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iwitvoorziening iets verhog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5-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Te ho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Gelijk voeren, verdeling go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mais, minder rijk concentraat, energierijk k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5 en ho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eel te ho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iwitarm gaan voer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nergierijk k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Geen concentra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212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Tipkaart ureu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0" y="612720"/>
          <a:ext cx="9144000" cy="6378480"/>
        </p:xfrm>
        <a:graphic>
          <a:graphicData uri="http://schemas.openxmlformats.org/drawingml/2006/table">
            <a:tbl>
              <a:tblPr/>
              <a:tblGrid>
                <a:gridCol w="1676520"/>
                <a:gridCol w="1523880"/>
                <a:gridCol w="3429000"/>
                <a:gridCol w="25146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ureumgehalt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Waarder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Laag eiwitgehal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Hoog eiwitgehal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0 en la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Te la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energie en eiwit rijk vo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eiwitconcentraat (kv &gt; 180 dve ) in basis rantso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eiwitrijk ruwvo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et te la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ets meer eiwitrijk r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ets 0,25 kg eiwitconcentra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Goed vert. pensenergie voer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erdeling verbeter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0-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orma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iwitvoorziening iets verhog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OPTIMA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RANTSO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5-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Te ho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Gelijk voeren, verdeling go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mais, minder rijk concentraat, energierijk k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, 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i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5 en ho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eel te ho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iwitarm gaan voer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nergierijk k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Geen concentra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iwitarm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Volgende we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Koolhydraten vertering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6B13-8B8C-4491-9B7F-F5B3D942A22E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cc66"/>
                </a:solidFill>
                <a:latin typeface="Times New Roman"/>
              </a:rPr>
              <a:t>De Weender analyse </a:t>
            </a:r>
            <a:r>
              <a:rPr b="1" lang="nl-NL" sz="1800" spc="-1" strike="noStrike">
                <a:solidFill>
                  <a:srgbClr val="ffcc66"/>
                </a:solidFill>
                <a:latin typeface="Times New Roman"/>
              </a:rPr>
              <a:t>pagina 3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4876920" y="2133720"/>
            <a:ext cx="27432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1" action="ppaction://hlinksldjump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819520" y="2819520"/>
            <a:ext cx="259056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2" action="ppaction://hlinksldjump"/>
              </a:rPr>
              <a:t>Anorganische s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295280" y="2057400"/>
            <a:ext cx="274320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3" action="ppaction://hlinksldjump"/>
              </a:rPr>
              <a:t>Droge s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0" y="3886200"/>
            <a:ext cx="274320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4" action="ppaction://hlinksldjump"/>
              </a:rPr>
              <a:t>Met stikstof = 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971800" y="5410080"/>
            <a:ext cx="213372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5" action="ppaction://hlinksldjump"/>
              </a:rPr>
              <a:t>Ruwe cels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1676520" y="4648320"/>
            <a:ext cx="190476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6" action="ppaction://hlinksldjump"/>
              </a:rPr>
              <a:t>Ruw v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5105520" y="5410080"/>
            <a:ext cx="274320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7" action="ppaction://hlinksldjump"/>
              </a:rPr>
              <a:t>Overige koolhydr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" name="Group 10"/>
          <p:cNvGrpSpPr/>
          <p:nvPr/>
        </p:nvGrpSpPr>
        <p:grpSpPr>
          <a:xfrm>
            <a:off x="3276720" y="1447920"/>
            <a:ext cx="2743200" cy="685800"/>
            <a:chOff x="3276720" y="1447920"/>
            <a:chExt cx="2743200" cy="685800"/>
          </a:xfrm>
        </p:grpSpPr>
        <p:sp>
          <p:nvSpPr>
            <p:cNvPr id="158" name="Text Box 11"/>
            <p:cNvSpPr/>
            <p:nvPr/>
          </p:nvSpPr>
          <p:spPr>
            <a:xfrm>
              <a:off x="3276720" y="144792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Vo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9" name="Group 12"/>
            <p:cNvGrpSpPr/>
            <p:nvPr/>
          </p:nvGrpSpPr>
          <p:grpSpPr>
            <a:xfrm>
              <a:off x="3429000" y="1752480"/>
              <a:ext cx="2286000" cy="381240"/>
              <a:chOff x="3429000" y="1752480"/>
              <a:chExt cx="2286000" cy="381240"/>
            </a:xfrm>
          </p:grpSpPr>
          <p:sp>
            <p:nvSpPr>
              <p:cNvPr id="160" name="Line 13"/>
              <p:cNvSpPr/>
              <p:nvPr/>
            </p:nvSpPr>
            <p:spPr>
              <a:xfrm flipH="1">
                <a:off x="3429000" y="1752480"/>
                <a:ext cx="914400" cy="38124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Line 14"/>
              <p:cNvSpPr/>
              <p:nvPr/>
            </p:nvSpPr>
            <p:spPr>
              <a:xfrm>
                <a:off x="4952880" y="1828800"/>
                <a:ext cx="762120" cy="30492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" name="Group 15"/>
          <p:cNvGrpSpPr/>
          <p:nvPr/>
        </p:nvGrpSpPr>
        <p:grpSpPr>
          <a:xfrm>
            <a:off x="1676520" y="2514600"/>
            <a:ext cx="2057400" cy="380880"/>
            <a:chOff x="1676520" y="2514600"/>
            <a:chExt cx="2057400" cy="380880"/>
          </a:xfrm>
        </p:grpSpPr>
        <p:sp>
          <p:nvSpPr>
            <p:cNvPr id="163" name="Line 16"/>
            <p:cNvSpPr/>
            <p:nvPr/>
          </p:nvSpPr>
          <p:spPr>
            <a:xfrm flipH="1">
              <a:off x="1676520" y="2514600"/>
              <a:ext cx="457200" cy="3808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Line 17"/>
            <p:cNvSpPr/>
            <p:nvPr/>
          </p:nvSpPr>
          <p:spPr>
            <a:xfrm>
              <a:off x="3276720" y="2514600"/>
              <a:ext cx="457200" cy="3808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" name="Group 18"/>
          <p:cNvGrpSpPr/>
          <p:nvPr/>
        </p:nvGrpSpPr>
        <p:grpSpPr>
          <a:xfrm>
            <a:off x="0" y="2819520"/>
            <a:ext cx="3581280" cy="1066680"/>
            <a:chOff x="0" y="2819520"/>
            <a:chExt cx="3581280" cy="1066680"/>
          </a:xfrm>
        </p:grpSpPr>
        <p:sp>
          <p:nvSpPr>
            <p:cNvPr id="166" name="Text Box 19"/>
            <p:cNvSpPr/>
            <p:nvPr/>
          </p:nvSpPr>
          <p:spPr>
            <a:xfrm>
              <a:off x="0" y="281952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Organische sto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Line 20"/>
            <p:cNvSpPr/>
            <p:nvPr/>
          </p:nvSpPr>
          <p:spPr>
            <a:xfrm>
              <a:off x="1447920" y="3276720"/>
              <a:ext cx="0" cy="6094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Line 21"/>
            <p:cNvSpPr/>
            <p:nvPr/>
          </p:nvSpPr>
          <p:spPr>
            <a:xfrm>
              <a:off x="2057400" y="3276720"/>
              <a:ext cx="1523880" cy="6094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Group 22"/>
          <p:cNvGrpSpPr/>
          <p:nvPr/>
        </p:nvGrpSpPr>
        <p:grpSpPr>
          <a:xfrm>
            <a:off x="2819520" y="3886200"/>
            <a:ext cx="2209680" cy="838080"/>
            <a:chOff x="2819520" y="3886200"/>
            <a:chExt cx="2209680" cy="838080"/>
          </a:xfrm>
        </p:grpSpPr>
        <p:sp>
          <p:nvSpPr>
            <p:cNvPr id="170" name="Text Box 23"/>
            <p:cNvSpPr/>
            <p:nvPr/>
          </p:nvSpPr>
          <p:spPr>
            <a:xfrm>
              <a:off x="2819520" y="3886200"/>
              <a:ext cx="220968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Zonder stiksto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Line 24"/>
            <p:cNvSpPr/>
            <p:nvPr/>
          </p:nvSpPr>
          <p:spPr>
            <a:xfrm flipH="1">
              <a:off x="3124080" y="4267080"/>
              <a:ext cx="457200" cy="45720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Line 25"/>
            <p:cNvSpPr/>
            <p:nvPr/>
          </p:nvSpPr>
          <p:spPr>
            <a:xfrm>
              <a:off x="3962520" y="4267080"/>
              <a:ext cx="533160" cy="45720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Group 26"/>
          <p:cNvGrpSpPr/>
          <p:nvPr/>
        </p:nvGrpSpPr>
        <p:grpSpPr>
          <a:xfrm>
            <a:off x="3581280" y="4648320"/>
            <a:ext cx="2743200" cy="838080"/>
            <a:chOff x="3581280" y="4648320"/>
            <a:chExt cx="2743200" cy="838080"/>
          </a:xfrm>
        </p:grpSpPr>
        <p:sp>
          <p:nvSpPr>
            <p:cNvPr id="174" name="Text Box 27"/>
            <p:cNvSpPr/>
            <p:nvPr/>
          </p:nvSpPr>
          <p:spPr>
            <a:xfrm>
              <a:off x="3581280" y="464832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 u="sng">
                  <a:solidFill>
                    <a:srgbClr val="ffff99"/>
                  </a:solidFill>
                  <a:uFillTx/>
                  <a:latin typeface="Times New Roman"/>
                  <a:hlinkClick r:id="rId8" action="ppaction://hlinksldjump"/>
                </a:rPr>
                <a:t>Koolhydrate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Line 28"/>
            <p:cNvSpPr/>
            <p:nvPr/>
          </p:nvSpPr>
          <p:spPr>
            <a:xfrm flipH="1">
              <a:off x="4343400" y="5105520"/>
              <a:ext cx="380880" cy="3808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29"/>
            <p:cNvSpPr/>
            <p:nvPr/>
          </p:nvSpPr>
          <p:spPr>
            <a:xfrm>
              <a:off x="5105520" y="5105520"/>
              <a:ext cx="838080" cy="3808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AutoShape 30">
            <a:hlinkClick r:id="rId9" action="ppaction://hlinksldjump"/>
          </p:cNvPr>
          <p:cNvSpPr/>
          <p:nvPr/>
        </p:nvSpPr>
        <p:spPr>
          <a:xfrm>
            <a:off x="0" y="44956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D0D8-B4EC-471C-88CB-0B0B51F44143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Vo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De samenstelling van elke voer is het zelfde opgebouwd,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r zitten verschillen in de onderdel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Ook na bewerkingen kunnen de onderdelen verschillen van het oorspronkelijke produc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7772400" y="4572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FDD7-E470-4CF3-9480-C44F1C691EFF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Droge stof </a:t>
            </a:r>
            <a:r>
              <a:rPr b="0" lang="nl-NL" sz="1400" spc="-1" strike="noStrike">
                <a:solidFill>
                  <a:srgbClr val="ffcc66"/>
                </a:solidFill>
                <a:latin typeface="Times New Roman"/>
              </a:rPr>
              <a:t>pagina 3</a:t>
            </a: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Gebruik D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Opname door dieren afhankelijk  van 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erschil tussen producten zeer gro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oedingswaarde zit alleen in de 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Opname ds afhankelijk van: </a:t>
            </a:r>
            <a:r>
              <a:rPr b="0" lang="nl-NL" sz="1800" spc="-1" strike="noStrike">
                <a:solidFill>
                  <a:srgbClr val="ffffff"/>
                </a:solidFill>
                <a:latin typeface="Arial Unicode MS"/>
              </a:rPr>
              <a:t>(pagina 5)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ier: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gewicht, leeftijd, opfokmeth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Kwaliteit van het vo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oeraanb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erhouding ruwvoer/mengvo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antal keren vers voor het voerh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8001000" y="533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81CA-2BD8-41C2-A651-F9CDB4C495FF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Water  </a:t>
            </a:r>
            <a:r>
              <a:rPr b="0" lang="nl-NL" sz="1400" spc="-1" strike="noStrike">
                <a:solidFill>
                  <a:srgbClr val="ffcc66"/>
                </a:solidFill>
                <a:latin typeface="Times New Roman"/>
              </a:rPr>
              <a:t>pagina 3</a:t>
            </a: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orming bloed en cellen, lichaam en melk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Onderhoud (10% van het Lichaamsgewich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Productie (per kg melk, 2 liter wat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Transportmidd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Oplosmidd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Regelen van de temperatuur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Afvoer van stoffen, via urine en zwee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7848720" y="380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36D5-9F31-4823-BC4A-9AA4B72A0693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Organische sto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Bevat alle belangrijke stoffen die we nodig hebben voor de vorming van de vetten en de eiwitten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Kenmerk organische stof : het bevat de elementen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C  = koolst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H = waterst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O = zuurst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8305920" y="3808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12601"/>
                </a:moveTo>
                <a:lnTo>
                  <a:pt x="17806" y="5595"/>
                </a:lnTo>
                <a:lnTo>
                  <a:pt x="17806" y="19608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6T10:05:27Z</dcterms:created>
  <dc:creator>Jeroen Lek</dc:creator>
  <dc:description>deel nog over samenstelling voer
verwijzingen naar paginas uit het stuk
Voeding het jaar rond</dc:description>
  <dc:language>en-US</dc:language>
  <cp:lastModifiedBy>aoc</cp:lastModifiedBy>
  <dcterms:modified xsi:type="dcterms:W3CDTF">2011-11-09T06:29:31Z</dcterms:modified>
  <cp:revision>23</cp:revision>
  <dc:subject/>
  <dc:title>Eiwitvertering </dc:title>
</cp:coreProperties>
</file>