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19B-F030-4D1E-9823-166D2B2936AF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AF3-C672-4ABE-A1A8-265E115CC1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CDD-596B-4B80-A3DF-A9D169BDF0F1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B407-B421-401D-BD22-97DE612B97E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785B-F1DB-45AC-A9DD-77FFB8E669EF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9FF-7903-4FAC-AEF3-665F8FB702C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losbare eiwitten gaan het snel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– eiwit- stifstofverbindingen is hier een voorbeeld van:  vinasse en bietmelasse heeft er veel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nel groeiend gras of nat ingekuild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C15-EBCE-4808-BD61-03217967CB5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916-F7BD-4458-8574-B9A56694724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sage snelheid krachtvoer;  gemiddeld 6% per 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4,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bestendig eiwit bron van stikstof voor de pens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kort beïnvloed de flora en de verwerkingscapaciteit van de 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hoogproductieve groep essenti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E9B0-8D24-4A5F-B381-9C1A54451431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E7A6-4977-49DA-839B-F080A6A5169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REN  wordt beïnvloed door de N bemesting op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gere N gift beïnvloed de onbestendige eiwit d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3BA-B8F6-4B9C-8D6E-3F572FD4F5CD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E9FC-6013-4B3E-BD95-3C74C917906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arme producten met veel FOS krijgen relatieve hoge DVE en sterk negatieve OEB  (bietenpulp  712 FOS, 104 dve –66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iwitrijke producten met weinig FOS krijgen een relatief lage DVE en een sterke positieve OEB (nat ingekuild gras 521 FOS 59 dve 79 OE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674-53A1-4C4F-9864-BB88EC2D1E46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FF4-BC5A-41CC-9DDA-8A9D2F80889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0DD-13A9-4C52-9579-E298F96E277A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F5C-4D85-4BEC-BA2E-5A31A96D065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ewegende anim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7EA9-F63E-4A05-AD66-4635347966D8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99A-3E10-48CE-ACD4-1B35E0A88DC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otaal plaatje met links naar onderliggende d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F3A3-DD11-43F5-AF49-6BD81D79CBEE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E990-7B1E-4D49-9C8C-248456FB9BF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DB9-47A2-4880-AA67-E01415DD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8E7-BB3B-45B3-9E8B-CF30FEAE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5CF-B375-4245-820F-1070AA39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D07-9F01-4937-858D-CB304A0B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F3A1-6BCF-43C2-8645-40B5AA1B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6BF-B531-440B-BE12-3DB29DFA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0988-CA03-4D90-9C31-A6C8392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E0BB-3E85-4FD4-8B44-D7343A9A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24C-FCD3-47D9-9F2F-E8B1116D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977-1B72-4B1C-A61A-8853667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4AC0-D9AB-4092-9FBF-5D129B4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C70-B9C1-49DB-AE79-1EC9DC58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821E-2B7C-4EB6-B4FF-3E0E7E4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DADE-7E74-4FFC-9354-76721FA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33DB-BCBB-444B-A0E4-516CDC1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803-851B-40E6-80E7-5E4169E1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09168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3360" y="37666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85E-D0FB-4CCE-9C2F-7F0BEF8D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11F-0A10-4971-B14A-7D266333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541-0DE4-4253-8C68-25374C64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400-4FEA-4A1A-BDA8-2F3ACE8C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C2D-87B0-462A-9387-BAF0DBE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73-45DB-4E52-83DA-8E2500F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760" y="37666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C6B-6879-4E1C-AB05-93A5F1E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7666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904-A76D-47EA-9CD0-C6C85EF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2EA-D4BE-43EB-8F72-79371FD3FEB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1CB-34F6-4D79-8425-FE22D91EDEA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731-8626-4858-B4EC-1A0827127B34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EE41-C24E-4417-B5AC-18A1BA06882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8.xml"/><Relationship Id="rId7" Type="http://schemas.openxmlformats.org/officeDocument/2006/relationships/slide" Target="slide27.xml"/><Relationship Id="rId8" Type="http://schemas.openxmlformats.org/officeDocument/2006/relationships/slide" Target="slide20.xml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 plantaardig eiwit naar dierlijk eiw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D93-4BD3-478D-BE9B-83D42AF4260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norganische stof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5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staat uit mineralen en zan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ij een analyse is dit het vermelde R.A.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uw anorganische 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and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ax. 1 kg per d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emmerd de pens 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inera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voor levensfunc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568-8F74-4700-B8A5-76E31D7BA9D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organische stof die naast de drie genoemde elementen ook nog beva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 = stik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 = fos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 = zw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et ruw eiwit bevat 16% stik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ia Kjehldahl en kleurstof methode makkelijk N te bepalen , en via de eiwitfactor 6,25 terug te rekenen naar hoeveelheid eiw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eiwit bestaat ui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Unicode MS"/>
              </a:rPr>
              <a:t>amid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66D-047F-417C-B09D-D0B206EB4F7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werkelijk eiwi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 Unicode MS"/>
              </a:rPr>
              <a:t>Werkelijk eiwit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belangrijkste deel van het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er ingewikkeld van samenstelling 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staat uit zeer grote molecul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eze zijn uit bouwstenen opgebouwd, de z.g. amino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or groei zijn er 10 aminozuren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odzakelijk = essentieel, een herkauwer kan een evt. tekort zelf aanma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langrijke aminozuren zijn:  lysine, methionine, cystine, tryptof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ianumm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9A2-7A56-4E54-9ECA-3CF7D43C2AA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erschillende aminozur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A2C-9278-40F5-A624-4966FB32399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211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2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233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236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239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242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245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248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251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254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257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260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263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266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02AA-CF73-4FE2-BA86-B238DB29646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eiwit, </a:t>
            </a:r>
            <a:r>
              <a:rPr b="0" lang="nl-NL" sz="3200" spc="-1" strike="noStrike">
                <a:solidFill>
                  <a:srgbClr val="ffcc66"/>
                </a:solidFill>
                <a:latin typeface="Times New Roman"/>
              </a:rPr>
              <a:t>amid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Alles wat geen </a:t>
            </a:r>
            <a:r>
              <a:rPr b="0" lang="nl-NL" sz="3600" spc="-1" strike="noStrike">
                <a:solidFill>
                  <a:srgbClr val="ffffff"/>
                </a:solidFill>
                <a:latin typeface="Arial Unicode MS"/>
              </a:rPr>
              <a:t>w.e.</a:t>
            </a: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 is behoort tot de amid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plosbaar en zeer makkelijk te verter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0880" y="3048120"/>
            <a:ext cx="8458200" cy="2844720"/>
            <a:chOff x="380880" y="3048120"/>
            <a:chExt cx="8458200" cy="2844720"/>
          </a:xfrm>
        </p:grpSpPr>
        <p:sp>
          <p:nvSpPr>
            <p:cNvPr id="273" name="Text Box 6"/>
            <p:cNvSpPr/>
            <p:nvPr/>
          </p:nvSpPr>
          <p:spPr>
            <a:xfrm>
              <a:off x="380880" y="3048120"/>
              <a:ext cx="84582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Lagere en 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	</a:t>
              </a:r>
              <a:r>
                <a:rPr b="0" lang="nl-NL" sz="2800" spc="-1" strike="noStrike">
                  <a:solidFill>
                    <a:srgbClr val="ffffff"/>
                  </a:solidFill>
                  <a:latin typeface="Arial Unicode MS"/>
                </a:rPr>
                <a:t>hogere amid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380880" y="3581280"/>
              <a:ext cx="403884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H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NO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ureu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5334120" y="3581280"/>
              <a:ext cx="3504960" cy="2311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olypeptid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peptone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1AD-EC98-48E7-BEF2-41903C4A678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Algemeen amiden</a:t>
            </a: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miden zijn afhankelijk van de plaats waar ze worden aangetroffen, eiwitten in opbouw of in afbraa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gehalte dierlijk lichaam 10- 20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maal werkelijk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Meeste eiwit i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pieren, Haren, Wol, Hoe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rens en Pe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9CE1-6FB2-4E45-B0AF-B84D5566DAB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elen zonder 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tikstof vrije gedeelte bestaat uit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vet en Koolhydrat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1028"/>
          <p:cNvSpPr/>
          <p:nvPr/>
        </p:nvSpPr>
        <p:spPr>
          <a:xfrm>
            <a:off x="792468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585A-CB31-4A6B-82CF-BAD511BC79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 V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gehalte wordt bepaalt door Ether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lles wat in ether oplost noemen we ruw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 : meestal ook nog wat resten bij i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as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leurstoffen, caroteen en chlorofy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uivere vet bestaat uit moleculen C,H,O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en glycerol groep met daaraan 3 vetzuurmolecu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rd van het vetzuur bepaalt de hardh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642-75A5-4DAD-AADA-380A5D95DF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liezuur geeft zacht vet, palmitinezuur en stearinezuur geeft hard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t bij kamertemp. vloeibaar noemen we ol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ierlijklichaam 40-50% v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fh. van diersoort, conditie, leeftijd d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vet in onderhuidsbindweefsel (speklaag var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en om de sp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eenme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 buikho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ard en stevig vet rondom nie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8077320" y="4572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85F4-E796-4CC7-8D21-164FC8613FA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ender analyse van een voeder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eiwit vertering in de koe (theorie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Pagina’s uit het boek vermeld indien van toepass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AutoShape 1028">
            <a:hlinkClick r:id="rId1" action="ppaction://hlinksldjump"/>
          </p:cNvPr>
          <p:cNvSpPr/>
          <p:nvPr/>
        </p:nvSpPr>
        <p:spPr>
          <a:xfrm>
            <a:off x="7162920" y="19810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5E0-B7A7-4AC6-AD6A-275BBB9FD9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Koolhydraten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 6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root aantal verschillende stoff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C,H,O verbindin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ommige zeer makkelijk oplosbaar andere zeer moeilijk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anneer het koolhydraat na half koken met geconcentreerd zoutzuur en daarna half uur met loog nog niet oplost noemen we dit e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UWE CELSTOF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7848720" y="533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C96E-9061-4B1B-8B4D-F8FFE00C3BD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Ruwvezel of Ruwe cel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Celwanden van plante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Onderverdeling in :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ellul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( lign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urk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Hoe ouder de plant hoe meer RC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utstof stijgt vo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Geen RC in dierlijk lichaa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penswerk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Stimuleert herkauwen en vorming speeks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Vorming van azijnzuur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Unicode MS"/>
              </a:rPr>
              <a:t>Levering van energi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6B0-46C3-46FB-9721-5F4CD5A3C46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Nieuw SW systeem sinds 199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Unicode MS"/>
              </a:rPr>
              <a:t>Pagina 4 boek/ pagina 16-17 voedernormenboekj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Naam product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tructuurwaarde per kg d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Aardappelpersvezels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rboste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ietenperspulp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C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4- 0,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P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1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Hoo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20 – 3,8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kui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,40 – 3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aszaadstro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4,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uzerne ingek.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3,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Maïsglutenvoer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40 – 2,0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ederbie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oksoor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0,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B4E6-C19D-47C0-B901-C328E86E809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tructuurwaarde van het rantsoen voor een standaardkoe (25 kg melk,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,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lactatie) moet minstens 1,00 bedrag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wanneer het rantsoen krachtvoer twee maal daags gevoerd wordt verstrekt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Voor afwijkende situaties dienen een aantal correcties op de behoeftenorm te worden uitgevoer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ze staan vermeld in volgende  tabel: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C2B-BA78-4352-BF05-2360F775421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ehoeftenormen voor de structuurwaarde van melkve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ructuurwaar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5 kg melk per da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2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of 3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2 KV beurten per da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Courier New"/>
                <a:ea typeface="Times New Roman"/>
              </a:rPr>
              <a:t>Vleesvee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SW rantsoen &gt; 0,7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Correctie voor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ind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 per kg M meer dan 25 k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+ 0,00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Leeftijd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 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4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0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 5</a:t>
            </a:r>
            <a:r>
              <a:rPr b="0" lang="nl-NL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 lactatie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espreid KV-gif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-0,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331-E75C-441F-AE5E-76075F38ED3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berekening van de structuurwaarde (SW) van een rantsoen (per kg DS ) is als volgt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=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 baseline="30000">
                <a:solidFill>
                  <a:srgbClr val="ffffff"/>
                </a:solidFill>
                <a:uFillTx/>
                <a:latin typeface="Arial"/>
                <a:ea typeface="Arial"/>
              </a:rPr>
              <a:t>(kg Ds ruwvoer x SW ruwvoer )  + Ds krachtvoer x SW krachtvoer 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otale DS opname in kg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208B-AFC7-4645-A8EB-5E5CB45C020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SW behoef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De SW behoefte van een koe is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SW </a:t>
            </a:r>
            <a:r>
              <a:rPr b="0" lang="nl-NL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koe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= 1,0 + (melkgift –25 ) x 0,008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(evt correcties toepassen)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beeld in Verkorte Tabel pagina 16-1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7772400" y="6094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4403"/>
                </a:moveTo>
                <a:lnTo>
                  <a:pt x="17806" y="7396"/>
                </a:lnTo>
                <a:lnTo>
                  <a:pt x="17806" y="2140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279B-36C3-47F0-8AD8-B15148ABB4A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verige koolhydrat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halte wordt niet rechtstreeks bepaald maar berekend uit de res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%OK = 100% - %water - %as - %re - %rv - %rc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ak hoog in vo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Levert daardoor meeste energi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erschillende OK zij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ui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tme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rganische zu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F9F-4A57-45E1-8AE6-1586F400410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In dierlijk lichaam erg laag 1%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Zetmeel komt niet voo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Wel een zeker hoeveelheid glycogeen (=dierlijkzetmeel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etje glucose wordt aangetroffen in het bloed 0,1% en in de spier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belangrijk bestanddeel van melk is melksuiker of lactos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8305920" y="457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D69-DF21-44F9-B906-8264DAD21BC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anaf 1992 een nieuw eiwitwaarderingsystee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orheen het VRE systeem, alleen gebaseerd op het verschil tussen opname en uitscheiding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Samenvoeging van delen uit de systemen van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mer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Frankrij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andinavische lan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372A-327A-446C-A577-1E2BE634A34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Meet meth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mt uit het plaatsje Ween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en methode in het laboratorium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uurt 1-3 dagen voor hele analy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an ook via de NIRS method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abij Infrarood Spectrograf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Wel ijken met lab meth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el sneller, binnen enkele minu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481-4B55-4344-917C-5C7E3CF1366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C:\Mijn documenten\Algemene brieven en teksten\AOC zaken\Cursus\Voedingscursus 2000\kringloop eiw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CB7F-E40A-4085-83E2-26A0014F5FF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iwitvert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Hoeveelheid eiwit uier afh. van verteerbaar darm eiwi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iwitleveranciers voor dunne darm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ensbacterië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ereiwit (=bestendig eiwit) in dunne darm afh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n bestendighe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blijfsduur pe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 hogere voeropname, kortere verblijfsduur dus minder afbr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 Microbieel eiwit afh van h.h.onbestendig eiwit en energie in rantso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E6B1-CCA1-4639-96C3-AAA3FC784DA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Bestendigheid eiwitten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Verschil in afbraak snelheid in de pens</a:t>
            </a:r>
            <a:br>
              <a:rPr sz="2800"/>
            </a:br>
            <a:r>
              <a:rPr b="0" lang="nl-NL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85800" y="1397160"/>
          <a:ext cx="7696080" cy="51512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% BRE bestendig ruw eiw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Bloed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enme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palmpitte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kos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atoen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hul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ijnschil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Soja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Koolzaadschro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aisglutenvo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s g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upin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7D3-2CED-4195-A63E-F3C5F1B6C39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Picture 2" descr="C:\Mijn documenten\Algemene brieven en teksten\AOC zaken\Cursus\Voedingscursus 2000\eiwit vertering in koe.JPG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9BF-5F79-45D9-B8E2-248C4027756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0" y="1828800"/>
            <a:ext cx="1676520" cy="4086720"/>
            <a:chOff x="0" y="1828800"/>
            <a:chExt cx="1676520" cy="4086720"/>
          </a:xfrm>
        </p:grpSpPr>
        <p:sp>
          <p:nvSpPr>
            <p:cNvPr id="334" name="Text Box 4"/>
            <p:cNvSpPr/>
            <p:nvPr/>
          </p:nvSpPr>
          <p:spPr>
            <a:xfrm>
              <a:off x="0" y="1828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0" y="4191120"/>
              <a:ext cx="167652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lebmaa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0" y="533412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20"/>
          <p:cNvGrpSpPr/>
          <p:nvPr/>
        </p:nvGrpSpPr>
        <p:grpSpPr>
          <a:xfrm>
            <a:off x="1905120" y="0"/>
            <a:ext cx="6324480" cy="1190880"/>
            <a:chOff x="1905120" y="0"/>
            <a:chExt cx="6324480" cy="1190880"/>
          </a:xfrm>
        </p:grpSpPr>
        <p:sp>
          <p:nvSpPr>
            <p:cNvPr id="338" name="Text Box 8"/>
            <p:cNvSpPr/>
            <p:nvPr/>
          </p:nvSpPr>
          <p:spPr>
            <a:xfrm>
              <a:off x="3809880" y="0"/>
              <a:ext cx="29718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Voer (ruw eiwit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905120" y="609480"/>
              <a:ext cx="365760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Werkelijk eiw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6553080" y="609480"/>
              <a:ext cx="1676520" cy="581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Times New Roman"/>
                </a:rPr>
                <a:t>amide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46"/>
          <p:cNvGrpSpPr/>
          <p:nvPr/>
        </p:nvGrpSpPr>
        <p:grpSpPr>
          <a:xfrm>
            <a:off x="2895480" y="1143000"/>
            <a:ext cx="4191120" cy="1600200"/>
            <a:chOff x="2895480" y="1143000"/>
            <a:chExt cx="4191120" cy="1600200"/>
          </a:xfrm>
        </p:grpSpPr>
        <p:sp>
          <p:nvSpPr>
            <p:cNvPr id="342" name="AutoShape 21"/>
            <p:cNvSpPr/>
            <p:nvPr/>
          </p:nvSpPr>
          <p:spPr>
            <a:xfrm>
              <a:off x="2895480" y="114300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6858000" y="1219320"/>
              <a:ext cx="228600" cy="1523880"/>
            </a:xfrm>
            <a:prstGeom prst="downArrow">
              <a:avLst>
                <a:gd name="adj1" fmla="val 50000"/>
                <a:gd name="adj2" fmla="val 166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5257800" y="11430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Group 48"/>
          <p:cNvGrpSpPr/>
          <p:nvPr/>
        </p:nvGrpSpPr>
        <p:grpSpPr>
          <a:xfrm>
            <a:off x="7391520" y="1981080"/>
            <a:ext cx="1752480" cy="4513680"/>
            <a:chOff x="7391520" y="1981080"/>
            <a:chExt cx="1752480" cy="4513680"/>
          </a:xfrm>
        </p:grpSpPr>
        <p:sp>
          <p:nvSpPr>
            <p:cNvPr id="346" name="Text Box 17"/>
            <p:cNvSpPr/>
            <p:nvPr/>
          </p:nvSpPr>
          <p:spPr>
            <a:xfrm>
              <a:off x="8153280" y="1981080"/>
              <a:ext cx="990720" cy="1789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NH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Times New Roman"/>
                </a:rPr>
                <a:t>ure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7391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ur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AutoShape 32"/>
            <p:cNvSpPr/>
            <p:nvPr/>
          </p:nvSpPr>
          <p:spPr>
            <a:xfrm rot="21532200">
              <a:off x="8613720" y="3733560"/>
              <a:ext cx="343080" cy="2361960"/>
            </a:xfrm>
            <a:prstGeom prst="downArrow">
              <a:avLst>
                <a:gd name="adj1" fmla="val 50000"/>
                <a:gd name="adj2" fmla="val 17211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AutoShape 33"/>
            <p:cNvSpPr/>
            <p:nvPr/>
          </p:nvSpPr>
          <p:spPr>
            <a:xfrm rot="21559200">
              <a:off x="8648280" y="2476440"/>
              <a:ext cx="152640" cy="838440"/>
            </a:xfrm>
            <a:prstGeom prst="downArrow">
              <a:avLst>
                <a:gd name="adj1" fmla="val 50000"/>
                <a:gd name="adj2" fmla="val 1373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1752480" y="5410080"/>
            <a:ext cx="6172200" cy="1465920"/>
            <a:chOff x="1752480" y="5410080"/>
            <a:chExt cx="6172200" cy="1465920"/>
          </a:xfrm>
        </p:grpSpPr>
        <p:sp>
          <p:nvSpPr>
            <p:cNvPr id="351" name="Line 34"/>
            <p:cNvSpPr/>
            <p:nvPr/>
          </p:nvSpPr>
          <p:spPr>
            <a:xfrm flipH="1">
              <a:off x="2819160" y="59436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52480" y="5410080"/>
              <a:ext cx="6172200" cy="1465920"/>
              <a:chOff x="1752480" y="5410080"/>
              <a:chExt cx="6172200" cy="1465920"/>
            </a:xfrm>
          </p:grpSpPr>
          <p:sp>
            <p:nvSpPr>
              <p:cNvPr id="353" name="Line 35"/>
              <p:cNvSpPr/>
              <p:nvPr/>
            </p:nvSpPr>
            <p:spPr>
              <a:xfrm>
                <a:off x="3352680" y="5791320"/>
                <a:ext cx="121932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Line 36"/>
              <p:cNvSpPr/>
              <p:nvPr/>
            </p:nvSpPr>
            <p:spPr>
              <a:xfrm>
                <a:off x="3581280" y="5791320"/>
                <a:ext cx="289584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5" name="Group 50"/>
              <p:cNvGrpSpPr/>
              <p:nvPr/>
            </p:nvGrpSpPr>
            <p:grpSpPr>
              <a:xfrm>
                <a:off x="1752480" y="5410080"/>
                <a:ext cx="6172200" cy="1465920"/>
                <a:chOff x="1752480" y="5410080"/>
                <a:chExt cx="6172200" cy="1465920"/>
              </a:xfrm>
            </p:grpSpPr>
            <p:sp>
              <p:nvSpPr>
                <p:cNvPr id="356" name="Text Box 13"/>
                <p:cNvSpPr/>
                <p:nvPr/>
              </p:nvSpPr>
              <p:spPr>
                <a:xfrm>
                  <a:off x="1981080" y="5638680"/>
                  <a:ext cx="5943600" cy="398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aminozu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Text Box 14"/>
                <p:cNvSpPr/>
                <p:nvPr/>
              </p:nvSpPr>
              <p:spPr>
                <a:xfrm>
                  <a:off x="1752480" y="6095880"/>
                  <a:ext cx="2819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melkeiw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Text Box 15"/>
                <p:cNvSpPr/>
                <p:nvPr/>
              </p:nvSpPr>
              <p:spPr>
                <a:xfrm>
                  <a:off x="4572000" y="6095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vle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24"/>
                <p:cNvSpPr/>
                <p:nvPr/>
              </p:nvSpPr>
              <p:spPr>
                <a:xfrm>
                  <a:off x="2666880" y="5410080"/>
                  <a:ext cx="457200" cy="30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7"/>
                <p:cNvSpPr/>
                <p:nvPr/>
              </p:nvSpPr>
              <p:spPr>
                <a:xfrm>
                  <a:off x="3276720" y="64771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rgi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Line 38"/>
              <p:cNvSpPr/>
              <p:nvPr/>
            </p:nvSpPr>
            <p:spPr>
              <a:xfrm>
                <a:off x="3200400" y="594360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49"/>
          <p:cNvGrpSpPr/>
          <p:nvPr/>
        </p:nvGrpSpPr>
        <p:grpSpPr>
          <a:xfrm>
            <a:off x="1981080" y="4114800"/>
            <a:ext cx="6400800" cy="2379960"/>
            <a:chOff x="1981080" y="4114800"/>
            <a:chExt cx="6400800" cy="2379960"/>
          </a:xfrm>
        </p:grpSpPr>
        <p:sp>
          <p:nvSpPr>
            <p:cNvPr id="363" name="Text Box 12"/>
            <p:cNvSpPr/>
            <p:nvPr/>
          </p:nvSpPr>
          <p:spPr>
            <a:xfrm>
              <a:off x="1981080" y="4114800"/>
              <a:ext cx="5943600" cy="1326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aminozu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62940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Times New Roman"/>
                </a:rPr>
                <a:t>m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>
              <a:off x="2438280" y="4495680"/>
              <a:ext cx="304920" cy="457200"/>
            </a:xfrm>
            <a:prstGeom prst="downArrow">
              <a:avLst>
                <a:gd name="adj1" fmla="val 50000"/>
                <a:gd name="adj2" fmla="val 37485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2743200" y="4343400"/>
              <a:ext cx="4038480" cy="18288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44"/>
            <p:cNvSpPr/>
            <p:nvPr/>
          </p:nvSpPr>
          <p:spPr>
            <a:xfrm>
              <a:off x="3429000" y="5257800"/>
              <a:ext cx="3657600" cy="91440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00" h="1152">
                  <a:moveTo>
                    <a:pt x="0" y="0"/>
                  </a:moveTo>
                  <a:lnTo>
                    <a:pt x="528" y="0"/>
                  </a:lnTo>
                  <a:lnTo>
                    <a:pt x="2400" y="0"/>
                  </a:lnTo>
                  <a:lnTo>
                    <a:pt x="2400" y="11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Group 54"/>
          <p:cNvGrpSpPr/>
          <p:nvPr/>
        </p:nvGrpSpPr>
        <p:grpSpPr>
          <a:xfrm>
            <a:off x="1981080" y="1905120"/>
            <a:ext cx="6124680" cy="2361960"/>
            <a:chOff x="1981080" y="1905120"/>
            <a:chExt cx="6124680" cy="2361960"/>
          </a:xfrm>
        </p:grpSpPr>
        <p:grpSp>
          <p:nvGrpSpPr>
            <p:cNvPr id="369" name="Group 47"/>
            <p:cNvGrpSpPr/>
            <p:nvPr/>
          </p:nvGrpSpPr>
          <p:grpSpPr>
            <a:xfrm>
              <a:off x="1981080" y="1905120"/>
              <a:ext cx="6124680" cy="2361960"/>
              <a:chOff x="1981080" y="1905120"/>
              <a:chExt cx="6124680" cy="2361960"/>
            </a:xfrm>
          </p:grpSpPr>
          <p:sp>
            <p:nvSpPr>
              <p:cNvPr id="370" name="Text Box 11"/>
              <p:cNvSpPr/>
              <p:nvPr/>
            </p:nvSpPr>
            <p:spPr>
              <a:xfrm>
                <a:off x="1981080" y="1905120"/>
                <a:ext cx="5943600" cy="225360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Bestendig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onbestend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aminozu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NH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microbieel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eiwit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nl-NL" sz="2000" spc="-1" strike="noStrike">
                    <a:solidFill>
                      <a:srgbClr val="ff0000"/>
                    </a:solidFill>
                    <a:latin typeface="Times New Roman"/>
                  </a:rPr>
                  <a:t>energi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22"/>
              <p:cNvSpPr/>
              <p:nvPr/>
            </p:nvSpPr>
            <p:spPr>
              <a:xfrm>
                <a:off x="2362320" y="2362320"/>
                <a:ext cx="304560" cy="1904760"/>
              </a:xfrm>
              <a:prstGeom prst="downArrow">
                <a:avLst>
                  <a:gd name="adj1" fmla="val 50000"/>
                  <a:gd name="adj2" fmla="val 15635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27"/>
              <p:cNvSpPr/>
              <p:nvPr/>
            </p:nvSpPr>
            <p:spPr>
              <a:xfrm>
                <a:off x="5105520" y="2209680"/>
                <a:ext cx="457200" cy="304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28"/>
              <p:cNvSpPr/>
              <p:nvPr/>
            </p:nvSpPr>
            <p:spPr>
              <a:xfrm>
                <a:off x="5257800" y="2743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29"/>
              <p:cNvSpPr/>
              <p:nvPr/>
            </p:nvSpPr>
            <p:spPr>
              <a:xfrm rot="17554200">
                <a:off x="6134040" y="247608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30"/>
              <p:cNvSpPr/>
              <p:nvPr/>
            </p:nvSpPr>
            <p:spPr>
              <a:xfrm rot="3566400">
                <a:off x="6210000" y="3009960"/>
                <a:ext cx="152640" cy="838440"/>
              </a:xfrm>
              <a:prstGeom prst="downArrow">
                <a:avLst>
                  <a:gd name="adj1" fmla="val 50000"/>
                  <a:gd name="adj2" fmla="val 137323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31"/>
              <p:cNvSpPr/>
              <p:nvPr/>
            </p:nvSpPr>
            <p:spPr>
              <a:xfrm rot="13825800">
                <a:off x="7657920" y="2171160"/>
                <a:ext cx="152280" cy="838080"/>
              </a:xfrm>
              <a:prstGeom prst="downArrow">
                <a:avLst>
                  <a:gd name="adj1" fmla="val 50000"/>
                  <a:gd name="adj2" fmla="val 137589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53"/>
            <p:cNvSpPr/>
            <p:nvPr/>
          </p:nvSpPr>
          <p:spPr>
            <a:xfrm rot="522600">
              <a:off x="5638320" y="373356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VE syste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rte weergave systematisch zonder formul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55B-B800-447F-8FA6-BDB628A9530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84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382" name="Text Box 20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Text Box 22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Text Box 23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Group 31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387" name="Text Box 26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82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391" name="Text Box 40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42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68"/>
          <p:cNvGrpSpPr/>
          <p:nvPr/>
        </p:nvGrpSpPr>
        <p:grpSpPr>
          <a:xfrm>
            <a:off x="1905120" y="1371600"/>
            <a:ext cx="1447560" cy="2151720"/>
            <a:chOff x="1905120" y="1371600"/>
            <a:chExt cx="1447560" cy="2151720"/>
          </a:xfrm>
        </p:grpSpPr>
        <p:sp>
          <p:nvSpPr>
            <p:cNvPr id="395" name="Text Box 33"/>
            <p:cNvSpPr/>
            <p:nvPr/>
          </p:nvSpPr>
          <p:spPr>
            <a:xfrm>
              <a:off x="1905120" y="2819520"/>
              <a:ext cx="144756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Bestendig voer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AutoShape 49"/>
            <p:cNvSpPr/>
            <p:nvPr/>
          </p:nvSpPr>
          <p:spPr>
            <a:xfrm>
              <a:off x="2514600" y="1371600"/>
              <a:ext cx="304920" cy="1143000"/>
            </a:xfrm>
            <a:prstGeom prst="downArrow">
              <a:avLst>
                <a:gd name="adj1" fmla="val 50000"/>
                <a:gd name="adj2" fmla="val 93713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69"/>
          <p:cNvGrpSpPr/>
          <p:nvPr/>
        </p:nvGrpSpPr>
        <p:grpSpPr>
          <a:xfrm>
            <a:off x="1752480" y="3657600"/>
            <a:ext cx="2133720" cy="1541880"/>
            <a:chOff x="1752480" y="3657600"/>
            <a:chExt cx="2133720" cy="1541880"/>
          </a:xfrm>
        </p:grpSpPr>
        <p:sp>
          <p:nvSpPr>
            <p:cNvPr id="398" name="Text Box 34"/>
            <p:cNvSpPr/>
            <p:nvPr/>
          </p:nvSpPr>
          <p:spPr>
            <a:xfrm>
              <a:off x="175248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bestendig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AutoShape 50"/>
            <p:cNvSpPr/>
            <p:nvPr/>
          </p:nvSpPr>
          <p:spPr>
            <a:xfrm>
              <a:off x="2514600" y="3657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01" name="Text Box 3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70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04" name="Text Box 36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52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71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07" name="Text Box 39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54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74"/>
          <p:cNvGrpSpPr/>
          <p:nvPr/>
        </p:nvGrpSpPr>
        <p:grpSpPr>
          <a:xfrm>
            <a:off x="7620120" y="1371600"/>
            <a:ext cx="1523880" cy="2700000"/>
            <a:chOff x="7620120" y="1371600"/>
            <a:chExt cx="1523880" cy="2700000"/>
          </a:xfrm>
        </p:grpSpPr>
        <p:sp>
          <p:nvSpPr>
            <p:cNvPr id="410" name="AutoShape 53"/>
            <p:cNvSpPr/>
            <p:nvPr/>
          </p:nvSpPr>
          <p:spPr>
            <a:xfrm>
              <a:off x="8077320" y="1371600"/>
              <a:ext cx="304560" cy="2133720"/>
            </a:xfrm>
            <a:prstGeom prst="downArrow">
              <a:avLst>
                <a:gd name="adj1" fmla="val 50000"/>
                <a:gd name="adj2" fmla="val 175148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5"/>
            <p:cNvSpPr/>
            <p:nvPr/>
          </p:nvSpPr>
          <p:spPr>
            <a:xfrm>
              <a:off x="7620120" y="3429000"/>
              <a:ext cx="152388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Onverteer-bare 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5"/>
          <p:cNvGrpSpPr/>
          <p:nvPr/>
        </p:nvGrpSpPr>
        <p:grpSpPr>
          <a:xfrm>
            <a:off x="6477120" y="4038480"/>
            <a:ext cx="2438280" cy="1465920"/>
            <a:chOff x="6477120" y="4038480"/>
            <a:chExt cx="2438280" cy="1465920"/>
          </a:xfrm>
        </p:grpSpPr>
        <p:sp>
          <p:nvSpPr>
            <p:cNvPr id="413" name="Text Box 37"/>
            <p:cNvSpPr/>
            <p:nvPr/>
          </p:nvSpPr>
          <p:spPr>
            <a:xfrm>
              <a:off x="6477120" y="4495680"/>
              <a:ext cx="2438280" cy="1008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etabool faecaa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utoShape 56"/>
            <p:cNvSpPr/>
            <p:nvPr/>
          </p:nvSpPr>
          <p:spPr>
            <a:xfrm>
              <a:off x="8001000" y="4038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72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16" name="Text Box 38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Group 83"/>
          <p:cNvGrpSpPr/>
          <p:nvPr/>
        </p:nvGrpSpPr>
        <p:grpSpPr>
          <a:xfrm>
            <a:off x="1219320" y="6095520"/>
            <a:ext cx="7619760" cy="763920"/>
            <a:chOff x="1219320" y="6095520"/>
            <a:chExt cx="7619760" cy="763920"/>
          </a:xfrm>
        </p:grpSpPr>
        <p:sp>
          <p:nvSpPr>
            <p:cNvPr id="419" name="Line 59"/>
            <p:cNvSpPr/>
            <p:nvPr/>
          </p:nvSpPr>
          <p:spPr>
            <a:xfrm flipV="1">
              <a:off x="2286000" y="609552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0" name="Group 64"/>
            <p:cNvGrpSpPr/>
            <p:nvPr/>
          </p:nvGrpSpPr>
          <p:grpSpPr>
            <a:xfrm>
              <a:off x="1219320" y="6095880"/>
              <a:ext cx="7619760" cy="763560"/>
              <a:chOff x="1219320" y="6095880"/>
              <a:chExt cx="7619760" cy="763560"/>
            </a:xfrm>
          </p:grpSpPr>
          <p:sp>
            <p:nvSpPr>
              <p:cNvPr id="421" name="Text Box 43"/>
              <p:cNvSpPr/>
              <p:nvPr/>
            </p:nvSpPr>
            <p:spPr>
              <a:xfrm>
                <a:off x="1219320" y="624852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eiwitmobilisa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Text Box 44"/>
              <p:cNvSpPr/>
              <p:nvPr/>
            </p:nvSpPr>
            <p:spPr>
              <a:xfrm>
                <a:off x="2743200" y="649116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groe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Text Box 45"/>
              <p:cNvSpPr/>
              <p:nvPr/>
            </p:nvSpPr>
            <p:spPr>
              <a:xfrm>
                <a:off x="3962520" y="649116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drach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Text Box 46"/>
              <p:cNvSpPr/>
              <p:nvPr/>
            </p:nvSpPr>
            <p:spPr>
              <a:xfrm>
                <a:off x="5257800" y="649116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onderhou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Text Box 47"/>
              <p:cNvSpPr/>
              <p:nvPr/>
            </p:nvSpPr>
            <p:spPr>
              <a:xfrm>
                <a:off x="6934320" y="60958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1800" spc="-1" strike="noStrike">
                    <a:solidFill>
                      <a:srgbClr val="ffffff"/>
                    </a:solidFill>
                    <a:latin typeface="Times New Roman"/>
                  </a:rPr>
                  <a:t>product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0"/>
              <p:cNvSpPr/>
              <p:nvPr/>
            </p:nvSpPr>
            <p:spPr>
              <a:xfrm flipH="1">
                <a:off x="327636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61"/>
              <p:cNvSpPr/>
              <p:nvPr/>
            </p:nvSpPr>
            <p:spPr>
              <a:xfrm>
                <a:off x="4419720" y="61722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62"/>
              <p:cNvSpPr/>
              <p:nvPr/>
            </p:nvSpPr>
            <p:spPr>
              <a:xfrm>
                <a:off x="5791320" y="6172200"/>
                <a:ext cx="15228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63"/>
              <p:cNvSpPr/>
              <p:nvPr/>
            </p:nvSpPr>
            <p:spPr>
              <a:xfrm>
                <a:off x="6477120" y="6095880"/>
                <a:ext cx="45720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Group 81"/>
          <p:cNvGrpSpPr/>
          <p:nvPr/>
        </p:nvGrpSpPr>
        <p:grpSpPr>
          <a:xfrm>
            <a:off x="2943720" y="5181480"/>
            <a:ext cx="942480" cy="642600"/>
            <a:chOff x="2943720" y="5181480"/>
            <a:chExt cx="942480" cy="642600"/>
          </a:xfrm>
        </p:grpSpPr>
        <p:sp>
          <p:nvSpPr>
            <p:cNvPr id="431" name="AutoShape 65"/>
            <p:cNvSpPr/>
            <p:nvPr/>
          </p:nvSpPr>
          <p:spPr>
            <a:xfrm rot="19159800">
              <a:off x="3123720" y="5181480"/>
              <a:ext cx="152640" cy="609840"/>
            </a:xfrm>
            <a:prstGeom prst="downArrow">
              <a:avLst>
                <a:gd name="adj1" fmla="val 50000"/>
                <a:gd name="adj2" fmla="val 99882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76"/>
            <p:cNvSpPr/>
            <p:nvPr/>
          </p:nvSpPr>
          <p:spPr>
            <a:xfrm>
              <a:off x="3429000" y="5181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80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34" name="AutoShape 66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77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" name="Group 79"/>
          <p:cNvGrpSpPr/>
          <p:nvPr/>
        </p:nvGrpSpPr>
        <p:grpSpPr>
          <a:xfrm>
            <a:off x="6482520" y="5284440"/>
            <a:ext cx="909000" cy="768240"/>
            <a:chOff x="6482520" y="5284440"/>
            <a:chExt cx="909000" cy="768240"/>
          </a:xfrm>
        </p:grpSpPr>
        <p:sp>
          <p:nvSpPr>
            <p:cNvPr id="437" name="AutoShape 67"/>
            <p:cNvSpPr/>
            <p:nvPr/>
          </p:nvSpPr>
          <p:spPr>
            <a:xfrm rot="3239400">
              <a:off x="6743520" y="5219640"/>
              <a:ext cx="228600" cy="761760"/>
            </a:xfrm>
            <a:prstGeom prst="downArrow">
              <a:avLst>
                <a:gd name="adj1" fmla="val 50000"/>
                <a:gd name="adj2" fmla="val 8330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78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55F-E864-4CF4-8043-31F5F567078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60"/>
          <p:cNvSpPr/>
          <p:nvPr/>
        </p:nvSpPr>
        <p:spPr>
          <a:xfrm>
            <a:off x="2819520" y="2362320"/>
            <a:ext cx="5105160" cy="1828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0" y="609480"/>
            <a:ext cx="1066680" cy="6007320"/>
            <a:chOff x="0" y="609480"/>
            <a:chExt cx="1066680" cy="6007320"/>
          </a:xfrm>
        </p:grpSpPr>
        <p:sp>
          <p:nvSpPr>
            <p:cNvPr id="442" name="Text Box 3"/>
            <p:cNvSpPr/>
            <p:nvPr/>
          </p:nvSpPr>
          <p:spPr>
            <a:xfrm>
              <a:off x="0" y="6094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Text Box 4"/>
            <p:cNvSpPr/>
            <p:nvPr/>
          </p:nvSpPr>
          <p:spPr>
            <a:xfrm>
              <a:off x="0" y="297180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pe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0" y="4495680"/>
              <a:ext cx="106668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a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5791320"/>
              <a:ext cx="1066680" cy="825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Weef-s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981080" y="533520"/>
            <a:ext cx="6477120" cy="642600"/>
            <a:chOff x="1981080" y="533520"/>
            <a:chExt cx="6477120" cy="642600"/>
          </a:xfrm>
        </p:grpSpPr>
        <p:sp>
          <p:nvSpPr>
            <p:cNvPr id="447" name="Text Box 8"/>
            <p:cNvSpPr/>
            <p:nvPr/>
          </p:nvSpPr>
          <p:spPr>
            <a:xfrm>
              <a:off x="1981080" y="533520"/>
              <a:ext cx="1828800" cy="6426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Eiwit r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4343400" y="533520"/>
              <a:ext cx="1828800" cy="5205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ffffff"/>
                  </a:solidFill>
                  <a:latin typeface="Times New Roman"/>
                </a:rPr>
                <a:t>Energie 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6629400" y="533520"/>
              <a:ext cx="1828800" cy="581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ffffff"/>
                  </a:solidFill>
                  <a:latin typeface="Times New Roman"/>
                </a:rPr>
                <a:t>drogestof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11"/>
          <p:cNvGrpSpPr/>
          <p:nvPr/>
        </p:nvGrpSpPr>
        <p:grpSpPr>
          <a:xfrm>
            <a:off x="4876920" y="2895480"/>
            <a:ext cx="2743200" cy="642600"/>
            <a:chOff x="4876920" y="2895480"/>
            <a:chExt cx="2743200" cy="642600"/>
          </a:xfrm>
        </p:grpSpPr>
        <p:sp>
          <p:nvSpPr>
            <p:cNvPr id="451" name="Text Box 12"/>
            <p:cNvSpPr/>
            <p:nvPr/>
          </p:nvSpPr>
          <p:spPr>
            <a:xfrm>
              <a:off x="4876920" y="289548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670572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= O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2590920" y="5715000"/>
            <a:ext cx="4267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Darmverteerbaar eiwit D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21"/>
          <p:cNvGrpSpPr/>
          <p:nvPr/>
        </p:nvGrpSpPr>
        <p:grpSpPr>
          <a:xfrm>
            <a:off x="4038480" y="1219320"/>
            <a:ext cx="2210040" cy="1084680"/>
            <a:chOff x="4038480" y="1219320"/>
            <a:chExt cx="2210040" cy="1084680"/>
          </a:xfrm>
        </p:grpSpPr>
        <p:sp>
          <p:nvSpPr>
            <p:cNvPr id="455" name="Text Box 22"/>
            <p:cNvSpPr/>
            <p:nvPr/>
          </p:nvSpPr>
          <p:spPr>
            <a:xfrm>
              <a:off x="4038480" y="1600200"/>
              <a:ext cx="221004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Fermenteerbare org.stof F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>
              <a:off x="5562720" y="12193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"/>
          <p:cNvGrpSpPr/>
          <p:nvPr/>
        </p:nvGrpSpPr>
        <p:grpSpPr>
          <a:xfrm>
            <a:off x="4343400" y="3809880"/>
            <a:ext cx="2133720" cy="1389600"/>
            <a:chOff x="4343400" y="3809880"/>
            <a:chExt cx="2133720" cy="1389600"/>
          </a:xfrm>
        </p:grpSpPr>
        <p:sp>
          <p:nvSpPr>
            <p:cNvPr id="458" name="Text Box 25"/>
            <p:cNvSpPr/>
            <p:nvPr/>
          </p:nvSpPr>
          <p:spPr>
            <a:xfrm>
              <a:off x="4343400" y="4495680"/>
              <a:ext cx="2133720" cy="703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000" spc="-1" strike="noStrike">
                  <a:solidFill>
                    <a:srgbClr val="ffffff"/>
                  </a:solidFill>
                  <a:latin typeface="Times New Roman"/>
                </a:rPr>
                <a:t>Darmverteerbaar microbieel eiw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utoShape 26"/>
            <p:cNvSpPr/>
            <p:nvPr/>
          </p:nvSpPr>
          <p:spPr>
            <a:xfrm>
              <a:off x="5486400" y="3809880"/>
              <a:ext cx="228600" cy="762120"/>
            </a:xfrm>
            <a:prstGeom prst="downArrow">
              <a:avLst>
                <a:gd name="adj1" fmla="val 50000"/>
                <a:gd name="adj2" fmla="val 83346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0" name="Group 27"/>
          <p:cNvGrpSpPr/>
          <p:nvPr/>
        </p:nvGrpSpPr>
        <p:grpSpPr>
          <a:xfrm>
            <a:off x="5181480" y="2133720"/>
            <a:ext cx="1600200" cy="1602720"/>
            <a:chOff x="5181480" y="2133720"/>
            <a:chExt cx="1600200" cy="1602720"/>
          </a:xfrm>
        </p:grpSpPr>
        <p:sp>
          <p:nvSpPr>
            <p:cNvPr id="461" name="Text Box 28"/>
            <p:cNvSpPr/>
            <p:nvPr/>
          </p:nvSpPr>
          <p:spPr>
            <a:xfrm>
              <a:off x="5181480" y="2819520"/>
              <a:ext cx="16002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energie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AutoShape 29"/>
            <p:cNvSpPr/>
            <p:nvPr/>
          </p:nvSpPr>
          <p:spPr>
            <a:xfrm>
              <a:off x="5562720" y="2133720"/>
              <a:ext cx="304560" cy="685800"/>
            </a:xfrm>
            <a:prstGeom prst="downArrow">
              <a:avLst>
                <a:gd name="adj1" fmla="val 50000"/>
                <a:gd name="adj2" fmla="val 56294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36"/>
          <p:cNvGrpSpPr/>
          <p:nvPr/>
        </p:nvGrpSpPr>
        <p:grpSpPr>
          <a:xfrm>
            <a:off x="2939040" y="1310760"/>
            <a:ext cx="1937880" cy="2425680"/>
            <a:chOff x="2939040" y="1310760"/>
            <a:chExt cx="1937880" cy="2425680"/>
          </a:xfrm>
        </p:grpSpPr>
        <p:sp>
          <p:nvSpPr>
            <p:cNvPr id="464" name="Text Box 37"/>
            <p:cNvSpPr/>
            <p:nvPr/>
          </p:nvSpPr>
          <p:spPr>
            <a:xfrm>
              <a:off x="3505320" y="2819520"/>
              <a:ext cx="1371600" cy="916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Times New Roman"/>
                </a:rPr>
                <a:t>Microbieel eiwit op N-ba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AutoShape 38"/>
            <p:cNvSpPr/>
            <p:nvPr/>
          </p:nvSpPr>
          <p:spPr>
            <a:xfrm rot="20011200">
              <a:off x="3252960" y="1301400"/>
              <a:ext cx="307800" cy="1481040"/>
            </a:xfrm>
            <a:prstGeom prst="downArrow">
              <a:avLst>
                <a:gd name="adj1" fmla="val 50000"/>
                <a:gd name="adj2" fmla="val 120292"/>
              </a:avLst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Group 54"/>
          <p:cNvGrpSpPr/>
          <p:nvPr/>
        </p:nvGrpSpPr>
        <p:grpSpPr>
          <a:xfrm>
            <a:off x="4952880" y="5181480"/>
            <a:ext cx="762120" cy="718920"/>
            <a:chOff x="4952880" y="5181480"/>
            <a:chExt cx="762120" cy="718920"/>
          </a:xfrm>
        </p:grpSpPr>
        <p:sp>
          <p:nvSpPr>
            <p:cNvPr id="467" name="AutoShape 55"/>
            <p:cNvSpPr/>
            <p:nvPr/>
          </p:nvSpPr>
          <p:spPr>
            <a:xfrm>
              <a:off x="4952880" y="5181480"/>
              <a:ext cx="228600" cy="685800"/>
            </a:xfrm>
            <a:prstGeom prst="downArrow">
              <a:avLst>
                <a:gd name="adj1" fmla="val 50000"/>
                <a:gd name="adj2" fmla="val 7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56"/>
            <p:cNvSpPr/>
            <p:nvPr/>
          </p:nvSpPr>
          <p:spPr>
            <a:xfrm>
              <a:off x="5257800" y="5257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6656-0BDA-4D48-8DFD-1A38A721463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EB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pagina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Effect OEB op snijmaisrantso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0" y="838080"/>
          <a:ext cx="9144000" cy="6035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OEB niveau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3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Vem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1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V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83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EB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4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7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E g/kg d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7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1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e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,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iwit 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,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reum mg/d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etmelk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2,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3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 benuttin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9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7,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-verlies g/kg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,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3,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8BC-00E4-4DC0-8411-ECCD34A67E5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105520" y="5410080"/>
            <a:ext cx="2743200" cy="82548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9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27" name="Text Box 3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29" name="Line 14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Line 15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Group 31"/>
          <p:cNvGrpSpPr/>
          <p:nvPr/>
        </p:nvGrpSpPr>
        <p:grpSpPr>
          <a:xfrm>
            <a:off x="1295280" y="2057400"/>
            <a:ext cx="2743200" cy="838080"/>
            <a:chOff x="1295280" y="2057400"/>
            <a:chExt cx="2743200" cy="838080"/>
          </a:xfrm>
        </p:grpSpPr>
        <p:sp>
          <p:nvSpPr>
            <p:cNvPr id="132" name="Text Box 7"/>
            <p:cNvSpPr/>
            <p:nvPr/>
          </p:nvSpPr>
          <p:spPr>
            <a:xfrm>
              <a:off x="1295280" y="205740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Drog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Group 30"/>
            <p:cNvGrpSpPr/>
            <p:nvPr/>
          </p:nvGrpSpPr>
          <p:grpSpPr>
            <a:xfrm>
              <a:off x="1676520" y="2514600"/>
              <a:ext cx="2057400" cy="380880"/>
              <a:chOff x="1676520" y="2514600"/>
              <a:chExt cx="2057400" cy="380880"/>
            </a:xfrm>
          </p:grpSpPr>
          <p:sp>
            <p:nvSpPr>
              <p:cNvPr id="134" name="Line 16"/>
              <p:cNvSpPr/>
              <p:nvPr/>
            </p:nvSpPr>
            <p:spPr>
              <a:xfrm flipH="1">
                <a:off x="16765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17"/>
              <p:cNvSpPr/>
              <p:nvPr/>
            </p:nvSpPr>
            <p:spPr>
              <a:xfrm>
                <a:off x="3276720" y="2514600"/>
                <a:ext cx="457200" cy="38088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Group 26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37" name="Text Box 8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41" name="Text Box 6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Group 28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45" name="Text Box 11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3C5C-43FF-470D-A71B-000034AD6C2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Ureum gehalte </a:t>
            </a:r>
            <a:r>
              <a:rPr b="0" lang="nl-NL" sz="1800" spc="-1" strike="noStrike">
                <a:solidFill>
                  <a:srgbClr val="ffcc66"/>
                </a:solidFill>
                <a:latin typeface="Times New Roman"/>
              </a:rPr>
              <a:t>sinds 1998 tankmelk, pagina 8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30 mg ureum per 100 ml mel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F3D5-FFF3-4611-A41D-48A240EA9E5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Picture 2" descr="C:\Mijn documenten\Algemene brieven en teksten\AOC zaken\Cursus\Voedingscursus 2000\verdeling ureum rantsoen pensniveau.gif"/>
          <p:cNvPicPr/>
          <p:nvPr/>
        </p:nvPicPr>
        <p:blipFill>
          <a:blip r:embed="rId1"/>
          <a:srcRect l="10285" t="365" r="-1053" b="18896"/>
          <a:stretch/>
        </p:blipFill>
        <p:spPr>
          <a:xfrm>
            <a:off x="0" y="6890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5"/>
          <p:cNvSpPr/>
          <p:nvPr/>
        </p:nvSpPr>
        <p:spPr>
          <a:xfrm>
            <a:off x="2590920" y="60199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Ureumgehalte mg/100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0" y="2286000"/>
            <a:ext cx="457200" cy="194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A3B7-2085-4C62-A3BE-7B1155C0129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0" y="612720"/>
          <a:ext cx="9144000" cy="581976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612720"/>
          <a:ext cx="9144000" cy="632304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Tipkaart ureu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612720"/>
          <a:ext cx="9144000" cy="637848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3429000"/>
                <a:gridCol w="25146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7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ureumgehalt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Waarde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Laa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Hoog eiwitgehal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0 en la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nergie en eiwit rijk 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concentraat (kv &gt; 180 dve ) in basis 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eiwitrijk ruwvo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et te la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meer eiwitrijk r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ets 0,25 kg eiwit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oed vert. pensenergie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rdeling verbet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orma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voorziening iets verho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OPTIMA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RANTSO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35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lijk voeren, verdeling go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eer mais, minder rijk concentraat, 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, 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Ni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45 en ho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Veel te ho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 gaan voe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nergierijk k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Geen concentra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Eiwitar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id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lgende we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oolhydraten verter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8AE-8CE7-427D-843A-FF1B6559C45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cc66"/>
                </a:solidFill>
                <a:latin typeface="Times New Roman"/>
              </a:rPr>
              <a:t>De Weender analyse </a:t>
            </a:r>
            <a:r>
              <a:rPr b="1" lang="nl-NL" sz="18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876920" y="21337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819520" y="2819520"/>
            <a:ext cx="25905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Anorganisch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95280" y="20574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Droge 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8620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Met stikstof = 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971800" y="5410080"/>
            <a:ext cx="213372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Ruwe cel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676520" y="4648320"/>
            <a:ext cx="190476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05520" y="5410080"/>
            <a:ext cx="2743200" cy="459720"/>
          </a:xfrm>
          <a:prstGeom prst="rect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276720" y="1447920"/>
            <a:ext cx="2743200" cy="685800"/>
            <a:chOff x="3276720" y="1447920"/>
            <a:chExt cx="2743200" cy="685800"/>
          </a:xfrm>
        </p:grpSpPr>
        <p:sp>
          <p:nvSpPr>
            <p:cNvPr id="158" name="Text Box 11"/>
            <p:cNvSpPr/>
            <p:nvPr/>
          </p:nvSpPr>
          <p:spPr>
            <a:xfrm>
              <a:off x="3276720" y="14479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Vo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12"/>
            <p:cNvGrpSpPr/>
            <p:nvPr/>
          </p:nvGrpSpPr>
          <p:grpSpPr>
            <a:xfrm>
              <a:off x="3429000" y="1752480"/>
              <a:ext cx="2286000" cy="381240"/>
              <a:chOff x="3429000" y="1752480"/>
              <a:chExt cx="2286000" cy="381240"/>
            </a:xfrm>
          </p:grpSpPr>
          <p:sp>
            <p:nvSpPr>
              <p:cNvPr id="160" name="Line 13"/>
              <p:cNvSpPr/>
              <p:nvPr/>
            </p:nvSpPr>
            <p:spPr>
              <a:xfrm flipH="1">
                <a:off x="3429000" y="1752480"/>
                <a:ext cx="914400" cy="38124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4952880" y="1828800"/>
                <a:ext cx="762120" cy="30492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Group 15"/>
          <p:cNvGrpSpPr/>
          <p:nvPr/>
        </p:nvGrpSpPr>
        <p:grpSpPr>
          <a:xfrm>
            <a:off x="1676520" y="2514600"/>
            <a:ext cx="2057400" cy="380880"/>
            <a:chOff x="1676520" y="2514600"/>
            <a:chExt cx="2057400" cy="380880"/>
          </a:xfrm>
        </p:grpSpPr>
        <p:sp>
          <p:nvSpPr>
            <p:cNvPr id="163" name="Line 16"/>
            <p:cNvSpPr/>
            <p:nvPr/>
          </p:nvSpPr>
          <p:spPr>
            <a:xfrm flipH="1">
              <a:off x="16765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7"/>
            <p:cNvSpPr/>
            <p:nvPr/>
          </p:nvSpPr>
          <p:spPr>
            <a:xfrm>
              <a:off x="3276720" y="2514600"/>
              <a:ext cx="45720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18"/>
          <p:cNvGrpSpPr/>
          <p:nvPr/>
        </p:nvGrpSpPr>
        <p:grpSpPr>
          <a:xfrm>
            <a:off x="0" y="2819520"/>
            <a:ext cx="3581280" cy="1066680"/>
            <a:chOff x="0" y="2819520"/>
            <a:chExt cx="3581280" cy="1066680"/>
          </a:xfrm>
        </p:grpSpPr>
        <p:sp>
          <p:nvSpPr>
            <p:cNvPr id="166" name="Text Box 19"/>
            <p:cNvSpPr/>
            <p:nvPr/>
          </p:nvSpPr>
          <p:spPr>
            <a:xfrm>
              <a:off x="0" y="28195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Organische 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20"/>
            <p:cNvSpPr/>
            <p:nvPr/>
          </p:nvSpPr>
          <p:spPr>
            <a:xfrm>
              <a:off x="1447920" y="3276720"/>
              <a:ext cx="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057400" y="3276720"/>
              <a:ext cx="1523880" cy="6094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2819520" y="3886200"/>
            <a:ext cx="2209680" cy="838080"/>
            <a:chOff x="2819520" y="3886200"/>
            <a:chExt cx="2209680" cy="838080"/>
          </a:xfrm>
        </p:grpSpPr>
        <p:sp>
          <p:nvSpPr>
            <p:cNvPr id="170" name="Text Box 23"/>
            <p:cNvSpPr/>
            <p:nvPr/>
          </p:nvSpPr>
          <p:spPr>
            <a:xfrm>
              <a:off x="2819520" y="3886200"/>
              <a:ext cx="220968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Times New Roman"/>
                </a:rPr>
                <a:t>Zonder stikst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H="1">
              <a:off x="3124080" y="4267080"/>
              <a:ext cx="45720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3962520" y="4267080"/>
              <a:ext cx="533160" cy="4572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3581280" y="4648320"/>
            <a:ext cx="2743200" cy="838080"/>
            <a:chOff x="3581280" y="4648320"/>
            <a:chExt cx="2743200" cy="838080"/>
          </a:xfrm>
        </p:grpSpPr>
        <p:sp>
          <p:nvSpPr>
            <p:cNvPr id="174" name="Text Box 27"/>
            <p:cNvSpPr/>
            <p:nvPr/>
          </p:nvSpPr>
          <p:spPr>
            <a:xfrm>
              <a:off x="3581280" y="4648320"/>
              <a:ext cx="2743200" cy="459720"/>
            </a:xfrm>
            <a:prstGeom prst="rect">
              <a:avLst/>
            </a:prstGeom>
            <a:noFill/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ffff99"/>
                  </a:solidFill>
                  <a:uFillTx/>
                  <a:latin typeface="Times New Roman"/>
                  <a:hlinkClick r:id="rId8" action="ppaction://hlinksldjump"/>
                </a:rPr>
                <a:t>Koolhydra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 flipH="1">
              <a:off x="4343400" y="5105520"/>
              <a:ext cx="3808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105520" y="5105520"/>
              <a:ext cx="838080" cy="3808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AutoShape 30">
            <a:hlinkClick r:id="rId9" action="ppaction://hlinksldjump"/>
          </p:cNvPr>
          <p:cNvSpPr/>
          <p:nvPr/>
        </p:nvSpPr>
        <p:spPr>
          <a:xfrm>
            <a:off x="0" y="4495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674D-06F6-426D-A509-92E355434E8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Vo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De samenstelling van elke voer is het zelfde opgebouwd,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Er zitten verschillen in de onderdele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ok na bewerkingen kunnen de onderdelen verschillen van het oorspronkelijke produc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772400" y="457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8DA3-E61B-4441-B5A8-38B78445C5F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Droge stof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Gebruik 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pname door dieren afhankelijk  van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schil tussen producten zeer g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dingswaarde zit alleen in de 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name ds afhankelijk van: </a:t>
            </a:r>
            <a:r>
              <a:rPr b="0" lang="nl-NL" sz="1800" spc="-1" strike="noStrike">
                <a:solidFill>
                  <a:srgbClr val="ffffff"/>
                </a:solidFill>
                <a:latin typeface="Arial Unicode MS"/>
              </a:rPr>
              <a:t>(pagina 5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ier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wicht, leeftijd, opfokmeth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waliteit van het 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oeraanb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houding ruwvoer/meng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tal keren vers voor het voerh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001000" y="533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3E71-157E-4299-9363-85AEBE5C3E0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Water  </a:t>
            </a:r>
            <a:r>
              <a:rPr b="0" lang="nl-NL" sz="1400" spc="-1" strike="noStrike">
                <a:solidFill>
                  <a:srgbClr val="ffcc66"/>
                </a:solidFill>
                <a:latin typeface="Times New Roman"/>
              </a:rPr>
              <a:t>pagina 3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Vorming bloed en cellen, lichaam en mel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nderhoud (10% van het Lichaamsgewic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Productie (per kg melk, 2 lite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Transport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Oplosmidd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Regelen van de temperatuu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Afvoer van stoffen, via urine en zwee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78487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AB9F-198C-47F7-845A-EC9CEBC2DE2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Organische st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Bevat alle belangrijke stoffen die we nodig hebben voor de vorming van de vetten en de eiwitte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</a:rPr>
              <a:t>Kenmerk organische stof : het bevat de elementen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  = kool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 = wate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 = zuurst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0:05:27Z</dcterms:created>
  <dc:creator>Jeroen Lek</dc:creator>
  <dc:description>deel nog over samenstelling voer
verwijzingen naar paginas uit het stuk
Voeding het jaar rond</dc:description>
  <dc:language>en-US</dc:language>
  <cp:lastModifiedBy>aoc</cp:lastModifiedBy>
  <dcterms:modified xsi:type="dcterms:W3CDTF">2011-11-09T06:29:31Z</dcterms:modified>
  <cp:revision>23</cp:revision>
  <dc:subject/>
  <dc:title>Eiwitvertering </dc:title>
</cp:coreProperties>
</file>