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2DBB-9D57-4862-931C-76D3AFC6BF7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DB0C-CEEC-4BDC-B6EA-26DFDE09FF2B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0B53-27FF-4962-B4DB-8A6D309C3EB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minozuur patroon van de voedingseiwitten van belang voor het bestendige deel van het vo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voor het onbestendige d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v melkeiwit heeft sojaschroot een tekort aan methionine en mais een tekort aan ly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ACAB-782C-4941-8D79-C4D5E19438FE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E631-FD9E-4569-BF52-52A2973305D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C09E-0727-431F-902E-33D9DAF76662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68C3-89FB-43C2-B07F-18CC673858B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2EA4-8059-43D5-91E4-BCE28423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A34-F1A9-4A5D-B790-3A83765B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A03-2F33-4D14-86AD-DC01020E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5BC8-1B08-4DBB-886B-9D73F9DB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0099-FDE7-48E8-8DA4-55A33B82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F7CE-3676-408A-9629-F89254DC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7F41-00A4-4DEE-8180-69846761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6B17-0398-46AC-B11B-DE7055C5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90C5-EC01-4F9D-9D43-DEDECFC3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DEC0-4385-4767-B523-B0515D56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A0B6-FB50-4A55-AD29-0169ACE8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9925-3C4E-4081-92BC-F60EE481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7CA2-98C7-4BB9-AE49-C440C3E5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7E81-3D18-48F8-AE09-FC600A7C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8993-90D2-44AC-B08F-589A179F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F2FC-2ACC-4702-960D-6ED1301A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441E-7040-4D7D-A3AF-64462C68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1149E-39A6-4BDB-93E2-6C2BB4C7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D5627-4643-43C2-8C2D-E86945D3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80A33-0878-4460-9D47-EE2F4E4E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04C11-5E73-4DD2-A8CA-C2A3FFA0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78E5F-158F-42EF-8841-37BECB55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281-E66A-45BB-9D90-3C9610D8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7C8DE-E9AC-4C26-8B89-A67EEC1D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7D36B-76D9-47BE-93FD-431590F3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A419F-9121-4675-BF52-E0A416B4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C0E95-1944-4A0A-B150-E9A940D2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C42EE-ED7B-4CFC-B7BC-D15DFAFE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2A307-593B-434C-B987-43250F6B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E02A4-F054-43F1-BC7E-6E227E7B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ECD4B-6F42-4E5A-8F5E-3E8EA193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49361-1ED7-45D1-B56A-622ECADC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A2170-B5E0-47AC-8FA6-3B15B52D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DD9A-E84F-4281-A81F-0585CC6A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A6141-9292-43D0-9BE6-6CDD722C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346D3-411E-45FB-BE02-C12183D1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0ED5F-3D8F-4CC5-9197-A2CA6837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03B9C-E2B6-4D80-9209-C0D02367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7540B-16A7-484E-A62B-3A701957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8DFE6-8D2F-4079-813F-4049569C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B95E7-E262-4F71-A8E3-62345C76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602ED-5197-42D8-8997-5BB46892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923BC-BD25-4723-AC54-3E86E581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92A14-AE6D-4FD7-B682-D1ED4622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36B-5512-4362-A5FF-A3B699F2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125E6-02AD-4657-AF6D-DF9D3199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F2702-D046-4064-9582-98A12FF0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779ED-DE88-4C43-9AA4-688C5D2E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E16A1-C101-4B01-9E6B-38884590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06AFD-464D-4DAD-B7F4-99232A82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20122-A422-4975-916E-9EB48107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E38BF-2E80-45C5-BE95-FB3AEA82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B21CD-28FA-45AB-B57C-DEF7E966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88B08-F359-46A8-9A02-A36D8D32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07AAF-A20F-4FD5-AEE7-358024F0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8A3E-B594-46DC-804F-50CDDBAE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4A801-740E-4E68-BA45-561BFF4F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4AA85-85B0-4FC2-97BA-C9A2A4BF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3F2BE-0B03-4F6A-A865-8E5F4570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FD1F0-E153-4BE3-A385-B38702E4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89DDF-D180-40D0-AD82-9457FEC9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E0BCC-5C2D-4122-A593-02CD11DB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C7FAB-E3A5-48FC-9B71-43397360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E1B9A-F0DB-4584-9BB1-E5157DBF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7A84F-CBF9-4F5F-BDAB-4BF07DF5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422A5-E091-49DC-8F2F-707A196B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D32-4569-47E2-B036-2A5AD1F6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986BA-A63E-4B90-BA4A-7244953F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65D73-BEA8-4A7D-B7B5-9506E5E6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14BA5-9263-44E3-8B91-F41B9A8B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121-AB24-4083-B421-FA25DD6F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1E4B-23F0-4B10-BDBB-D61EB5B7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A40B-3A41-417B-BF86-83AE5DA9156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8225-B3E6-4B4E-9D38-84FEB90DFF02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DCF9-A168-4716-860E-74F413AB0C7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2457-C2BF-4050-9CC1-B9F62452DDF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2964-CEEF-4A8B-BBA5-C04C0DF46E9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9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0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32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3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71E8-0EDC-4AFE-BB94-E374A8F873D1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22003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def5fa"/>
                </a:solidFill>
                <a:latin typeface="Lucida Sans Unicode"/>
              </a:rPr>
              <a:t>Het maagdarmstelsel van de koe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92160" y="731880"/>
            <a:ext cx="8150040" cy="17128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1030320" y="2316240"/>
            <a:ext cx="7043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FOS = VOS – RV – Best. RE – Best. Zetm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V = ruw v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est. RE = bestendig ruw eiw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est. Zetmeel = bestendig zetm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deze zijn uit bouwstenen opgebouwd, de z.g. aminozure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Belangrijke aminozuren zijn:  lysine, methionine, cystine, tryptofaa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40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5AF0-B07D-4517-A79F-3F9B7D4E5AD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-360" y="1980720"/>
            <a:ext cx="4267080" cy="4876920"/>
          </a:xfrm>
          <a:prstGeom prst="rect">
            <a:avLst/>
          </a:prstGeom>
          <a:noFill/>
          <a:ln w="9360">
            <a:solidFill>
              <a:srgbClr val="44b9e8"/>
            </a:solidFill>
            <a:miter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Argi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Histid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Iso-leuc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Leuc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Lys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Methio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Phenylala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Threo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Tryptofaa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val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48320" y="1980720"/>
            <a:ext cx="4495680" cy="4876920"/>
          </a:xfrm>
          <a:prstGeom prst="rect">
            <a:avLst/>
          </a:prstGeom>
          <a:noFill/>
          <a:ln w="9360">
            <a:solidFill>
              <a:srgbClr val="44b9e8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Ala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Asparaginezuu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Citrull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Cyste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Glutam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Glutaminezuu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Glyz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hydroxyprol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44" name="Tijdelijke aanduiding voor dianumm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877B-DDB4-4F5B-81BD-E80BA0D7432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762120" y="1066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Essentieel   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Niet noodzakelij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2CE2-B382-420D-8B57-CD503FBF9AC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7" name="Group 228"/>
          <p:cNvGrpSpPr/>
          <p:nvPr/>
        </p:nvGrpSpPr>
        <p:grpSpPr>
          <a:xfrm>
            <a:off x="0" y="1781280"/>
            <a:ext cx="9144000" cy="3724200"/>
            <a:chOff x="0" y="1781280"/>
            <a:chExt cx="9144000" cy="3724200"/>
          </a:xfrm>
        </p:grpSpPr>
        <p:sp>
          <p:nvSpPr>
            <p:cNvPr id="348" name="Rectangle 58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Rectangle 115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Rectangle 172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Rectangle 179"/>
            <p:cNvSpPr/>
            <p:nvPr/>
          </p:nvSpPr>
          <p:spPr>
            <a:xfrm>
              <a:off x="1042920" y="257508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ysin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Rectangle 180"/>
            <p:cNvSpPr/>
            <p:nvPr/>
          </p:nvSpPr>
          <p:spPr>
            <a:xfrm>
              <a:off x="2682720" y="257508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Rectangle 181"/>
            <p:cNvSpPr/>
            <p:nvPr/>
          </p:nvSpPr>
          <p:spPr>
            <a:xfrm>
              <a:off x="3809880" y="259092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6,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Rectangle 182"/>
            <p:cNvSpPr/>
            <p:nvPr/>
          </p:nvSpPr>
          <p:spPr>
            <a:xfrm>
              <a:off x="4876920" y="2590920"/>
              <a:ext cx="8776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9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Rectangle 183"/>
            <p:cNvSpPr/>
            <p:nvPr/>
          </p:nvSpPr>
          <p:spPr>
            <a:xfrm>
              <a:off x="5943600" y="259092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7,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Rectangle 184"/>
            <p:cNvSpPr/>
            <p:nvPr/>
          </p:nvSpPr>
          <p:spPr>
            <a:xfrm>
              <a:off x="6858000" y="2590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Rectangle 185"/>
            <p:cNvSpPr/>
            <p:nvPr/>
          </p:nvSpPr>
          <p:spPr>
            <a:xfrm>
              <a:off x="1042920" y="320040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ionin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Rectangle 186"/>
            <p:cNvSpPr/>
            <p:nvPr/>
          </p:nvSpPr>
          <p:spPr>
            <a:xfrm>
              <a:off x="2682720" y="320040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Rectangle 187"/>
            <p:cNvSpPr/>
            <p:nvPr/>
          </p:nvSpPr>
          <p:spPr>
            <a:xfrm>
              <a:off x="3809880" y="320040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Rectangle 188"/>
            <p:cNvSpPr/>
            <p:nvPr/>
          </p:nvSpPr>
          <p:spPr>
            <a:xfrm>
              <a:off x="4800600" y="320040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,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Rectangle 189"/>
            <p:cNvSpPr/>
            <p:nvPr/>
          </p:nvSpPr>
          <p:spPr>
            <a:xfrm>
              <a:off x="5943600" y="320040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8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Rectangle 190"/>
            <p:cNvSpPr/>
            <p:nvPr/>
          </p:nvSpPr>
          <p:spPr>
            <a:xfrm>
              <a:off x="6858000" y="320040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Rectangle 191"/>
            <p:cNvSpPr/>
            <p:nvPr/>
          </p:nvSpPr>
          <p:spPr>
            <a:xfrm>
              <a:off x="1042920" y="3825720"/>
              <a:ext cx="16398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eonin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Rectangle 192"/>
            <p:cNvSpPr/>
            <p:nvPr/>
          </p:nvSpPr>
          <p:spPr>
            <a:xfrm>
              <a:off x="2682720" y="3825720"/>
              <a:ext cx="7747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Rectangle 193"/>
            <p:cNvSpPr/>
            <p:nvPr/>
          </p:nvSpPr>
          <p:spPr>
            <a:xfrm>
              <a:off x="3809880" y="3809880"/>
              <a:ext cx="9702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Rectangle 194"/>
            <p:cNvSpPr/>
            <p:nvPr/>
          </p:nvSpPr>
          <p:spPr>
            <a:xfrm>
              <a:off x="4800600" y="373392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9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7" name="Rectangle 195"/>
            <p:cNvSpPr/>
            <p:nvPr/>
          </p:nvSpPr>
          <p:spPr>
            <a:xfrm>
              <a:off x="5943600" y="3809880"/>
              <a:ext cx="7714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8" name="Rectangle 196"/>
            <p:cNvSpPr/>
            <p:nvPr/>
          </p:nvSpPr>
          <p:spPr>
            <a:xfrm>
              <a:off x="6934320" y="3733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,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69" name="Group 204"/>
            <p:cNvGrpSpPr/>
            <p:nvPr/>
          </p:nvGrpSpPr>
          <p:grpSpPr>
            <a:xfrm>
              <a:off x="966960" y="1781280"/>
              <a:ext cx="1792080" cy="793800"/>
              <a:chOff x="966960" y="1781280"/>
              <a:chExt cx="1792080" cy="793800"/>
            </a:xfrm>
          </p:grpSpPr>
          <p:sp>
            <p:nvSpPr>
              <p:cNvPr id="370" name="Rectangle 173"/>
              <p:cNvSpPr/>
              <p:nvPr/>
            </p:nvSpPr>
            <p:spPr>
              <a:xfrm>
                <a:off x="1042920" y="1781280"/>
                <a:ext cx="16394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duct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minozuur   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203"/>
              <p:cNvSpPr/>
              <p:nvPr/>
            </p:nvSpPr>
            <p:spPr>
              <a:xfrm>
                <a:off x="966960" y="1781280"/>
                <a:ext cx="17920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2" name="Group 206"/>
            <p:cNvGrpSpPr/>
            <p:nvPr/>
          </p:nvGrpSpPr>
          <p:grpSpPr>
            <a:xfrm>
              <a:off x="2759040" y="1781280"/>
              <a:ext cx="927000" cy="793800"/>
              <a:chOff x="2759040" y="1781280"/>
              <a:chExt cx="927000" cy="793800"/>
            </a:xfrm>
          </p:grpSpPr>
          <p:sp>
            <p:nvSpPr>
              <p:cNvPr id="373" name="Rectangle 174"/>
              <p:cNvSpPr/>
              <p:nvPr/>
            </p:nvSpPr>
            <p:spPr>
              <a:xfrm>
                <a:off x="2835000" y="1781280"/>
                <a:ext cx="7747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k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205"/>
              <p:cNvSpPr/>
              <p:nvPr/>
            </p:nvSpPr>
            <p:spPr>
              <a:xfrm>
                <a:off x="2759040" y="1781280"/>
                <a:ext cx="92700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5" name="Group 208"/>
            <p:cNvGrpSpPr/>
            <p:nvPr/>
          </p:nvGrpSpPr>
          <p:grpSpPr>
            <a:xfrm>
              <a:off x="3686040" y="1781280"/>
              <a:ext cx="1122480" cy="793800"/>
              <a:chOff x="3686040" y="1781280"/>
              <a:chExt cx="1122480" cy="793800"/>
            </a:xfrm>
          </p:grpSpPr>
          <p:sp>
            <p:nvSpPr>
              <p:cNvPr id="376" name="Rectangle 175"/>
              <p:cNvSpPr/>
              <p:nvPr/>
            </p:nvSpPr>
            <p:spPr>
              <a:xfrm>
                <a:off x="3762360" y="1781280"/>
                <a:ext cx="9698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ja-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chroot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207"/>
              <p:cNvSpPr/>
              <p:nvPr/>
            </p:nvSpPr>
            <p:spPr>
              <a:xfrm>
                <a:off x="3686040" y="1781280"/>
                <a:ext cx="11224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8" name="Group 210"/>
            <p:cNvGrpSpPr/>
            <p:nvPr/>
          </p:nvGrpSpPr>
          <p:grpSpPr>
            <a:xfrm>
              <a:off x="4808520" y="1781280"/>
              <a:ext cx="1029960" cy="793800"/>
              <a:chOff x="4808520" y="1781280"/>
              <a:chExt cx="1029960" cy="793800"/>
            </a:xfrm>
          </p:grpSpPr>
          <p:sp>
            <p:nvSpPr>
              <p:cNvPr id="379" name="Rectangle 176"/>
              <p:cNvSpPr/>
              <p:nvPr/>
            </p:nvSpPr>
            <p:spPr>
              <a:xfrm>
                <a:off x="4884480" y="1781280"/>
                <a:ext cx="8780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eren­meel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209"/>
              <p:cNvSpPr/>
              <p:nvPr/>
            </p:nvSpPr>
            <p:spPr>
              <a:xfrm>
                <a:off x="4808520" y="1781280"/>
                <a:ext cx="10299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1" name="Group 212"/>
            <p:cNvGrpSpPr/>
            <p:nvPr/>
          </p:nvGrpSpPr>
          <p:grpSpPr>
            <a:xfrm>
              <a:off x="5838840" y="1781280"/>
              <a:ext cx="923760" cy="793800"/>
              <a:chOff x="5838840" y="1781280"/>
              <a:chExt cx="923760" cy="793800"/>
            </a:xfrm>
          </p:grpSpPr>
          <p:sp>
            <p:nvSpPr>
              <p:cNvPr id="382" name="Rectangle 177"/>
              <p:cNvSpPr/>
              <p:nvPr/>
            </p:nvSpPr>
            <p:spPr>
              <a:xfrm>
                <a:off x="5914800" y="1781280"/>
                <a:ext cx="7711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s-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el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211"/>
              <p:cNvSpPr/>
              <p:nvPr/>
            </p:nvSpPr>
            <p:spPr>
              <a:xfrm>
                <a:off x="5838840" y="1781280"/>
                <a:ext cx="9237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4" name="Group 214"/>
            <p:cNvGrpSpPr/>
            <p:nvPr/>
          </p:nvGrpSpPr>
          <p:grpSpPr>
            <a:xfrm>
              <a:off x="6762600" y="1781280"/>
              <a:ext cx="1415880" cy="793800"/>
              <a:chOff x="6762600" y="1781280"/>
              <a:chExt cx="1415880" cy="793800"/>
            </a:xfrm>
          </p:grpSpPr>
          <p:sp>
            <p:nvSpPr>
              <p:cNvPr id="385" name="Rectangle 178"/>
              <p:cNvSpPr/>
              <p:nvPr/>
            </p:nvSpPr>
            <p:spPr>
              <a:xfrm>
                <a:off x="6838920" y="1781280"/>
                <a:ext cx="126360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icro-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ieeleiwit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213"/>
              <p:cNvSpPr/>
              <p:nvPr/>
            </p:nvSpPr>
            <p:spPr>
              <a:xfrm>
                <a:off x="6762600" y="1781280"/>
                <a:ext cx="14158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7" name="Group 216"/>
            <p:cNvGrpSpPr/>
            <p:nvPr/>
          </p:nvGrpSpPr>
          <p:grpSpPr>
            <a:xfrm>
              <a:off x="966960" y="4451400"/>
              <a:ext cx="1792080" cy="625320"/>
              <a:chOff x="966960" y="4451400"/>
              <a:chExt cx="1792080" cy="625320"/>
            </a:xfrm>
          </p:grpSpPr>
          <p:sp>
            <p:nvSpPr>
              <p:cNvPr id="388" name="Rectangle 197"/>
              <p:cNvSpPr/>
              <p:nvPr/>
            </p:nvSpPr>
            <p:spPr>
              <a:xfrm>
                <a:off x="1042920" y="4451400"/>
                <a:ext cx="16394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ryptofaan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215"/>
              <p:cNvSpPr/>
              <p:nvPr/>
            </p:nvSpPr>
            <p:spPr>
              <a:xfrm>
                <a:off x="966960" y="4451400"/>
                <a:ext cx="17920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0" name="Group 218"/>
            <p:cNvGrpSpPr/>
            <p:nvPr/>
          </p:nvGrpSpPr>
          <p:grpSpPr>
            <a:xfrm>
              <a:off x="2759040" y="4451400"/>
              <a:ext cx="927000" cy="625320"/>
              <a:chOff x="2759040" y="4451400"/>
              <a:chExt cx="927000" cy="625320"/>
            </a:xfrm>
          </p:grpSpPr>
          <p:sp>
            <p:nvSpPr>
              <p:cNvPr id="391" name="Rectangle 198"/>
              <p:cNvSpPr/>
              <p:nvPr/>
            </p:nvSpPr>
            <p:spPr>
              <a:xfrm>
                <a:off x="2835000" y="4451400"/>
                <a:ext cx="7747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217"/>
              <p:cNvSpPr/>
              <p:nvPr/>
            </p:nvSpPr>
            <p:spPr>
              <a:xfrm>
                <a:off x="2759040" y="4451400"/>
                <a:ext cx="92700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3" name="Group 220"/>
            <p:cNvGrpSpPr/>
            <p:nvPr/>
          </p:nvGrpSpPr>
          <p:grpSpPr>
            <a:xfrm>
              <a:off x="3686040" y="4451400"/>
              <a:ext cx="1122480" cy="625320"/>
              <a:chOff x="3686040" y="4451400"/>
              <a:chExt cx="1122480" cy="625320"/>
            </a:xfrm>
          </p:grpSpPr>
          <p:sp>
            <p:nvSpPr>
              <p:cNvPr id="394" name="Rectangle 199"/>
              <p:cNvSpPr/>
              <p:nvPr/>
            </p:nvSpPr>
            <p:spPr>
              <a:xfrm>
                <a:off x="3762360" y="4451400"/>
                <a:ext cx="9698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219"/>
              <p:cNvSpPr/>
              <p:nvPr/>
            </p:nvSpPr>
            <p:spPr>
              <a:xfrm>
                <a:off x="3686040" y="4451400"/>
                <a:ext cx="11224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6" name="Group 222"/>
            <p:cNvGrpSpPr/>
            <p:nvPr/>
          </p:nvGrpSpPr>
          <p:grpSpPr>
            <a:xfrm>
              <a:off x="4808520" y="4451400"/>
              <a:ext cx="1029960" cy="625320"/>
              <a:chOff x="4808520" y="4451400"/>
              <a:chExt cx="1029960" cy="625320"/>
            </a:xfrm>
          </p:grpSpPr>
          <p:sp>
            <p:nvSpPr>
              <p:cNvPr id="397" name="Rectangle 200"/>
              <p:cNvSpPr/>
              <p:nvPr/>
            </p:nvSpPr>
            <p:spPr>
              <a:xfrm>
                <a:off x="4884480" y="4451400"/>
                <a:ext cx="8780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6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221"/>
              <p:cNvSpPr/>
              <p:nvPr/>
            </p:nvSpPr>
            <p:spPr>
              <a:xfrm>
                <a:off x="4808520" y="4451400"/>
                <a:ext cx="10299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9" name="Group 224"/>
            <p:cNvGrpSpPr/>
            <p:nvPr/>
          </p:nvGrpSpPr>
          <p:grpSpPr>
            <a:xfrm>
              <a:off x="5838840" y="4451400"/>
              <a:ext cx="923760" cy="625320"/>
              <a:chOff x="5838840" y="4451400"/>
              <a:chExt cx="923760" cy="625320"/>
            </a:xfrm>
          </p:grpSpPr>
          <p:sp>
            <p:nvSpPr>
              <p:cNvPr id="400" name="Rectangle 201"/>
              <p:cNvSpPr/>
              <p:nvPr/>
            </p:nvSpPr>
            <p:spPr>
              <a:xfrm>
                <a:off x="5914800" y="4451400"/>
                <a:ext cx="7711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1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223"/>
              <p:cNvSpPr/>
              <p:nvPr/>
            </p:nvSpPr>
            <p:spPr>
              <a:xfrm>
                <a:off x="5838840" y="4451400"/>
                <a:ext cx="9237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02" name="Group 226"/>
            <p:cNvGrpSpPr/>
            <p:nvPr/>
          </p:nvGrpSpPr>
          <p:grpSpPr>
            <a:xfrm>
              <a:off x="6762600" y="4451400"/>
              <a:ext cx="1415880" cy="625320"/>
              <a:chOff x="6762600" y="4451400"/>
              <a:chExt cx="1415880" cy="625320"/>
            </a:xfrm>
          </p:grpSpPr>
          <p:sp>
            <p:nvSpPr>
              <p:cNvPr id="403" name="Rectangle 202"/>
              <p:cNvSpPr/>
              <p:nvPr/>
            </p:nvSpPr>
            <p:spPr>
              <a:xfrm>
                <a:off x="6838920" y="4451400"/>
                <a:ext cx="12636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7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225"/>
              <p:cNvSpPr/>
              <p:nvPr/>
            </p:nvSpPr>
            <p:spPr>
              <a:xfrm>
                <a:off x="6762600" y="4451400"/>
                <a:ext cx="14158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05" name="Text Box 229"/>
          <p:cNvSpPr/>
          <p:nvPr/>
        </p:nvSpPr>
        <p:spPr>
          <a:xfrm>
            <a:off x="1143000" y="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Gehalte aminozuren in grammen per 100 gram eiw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eft een beeld over de hoeveelheid N die in de pens verloren gaat. In de meeste Nederlandse rantsoen zal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eschikbare energi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e beperkende factor zijn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 een rantsoen voor melkkoeien mag de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E.B. nooit negatief zijn. In rantsoen het liefst +200-300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8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D492-AD02-496A-8869-355BDC1FEC9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kleiner dan 0 dan is er sprake van een tekort aan onbestendig eiwit. De micro-organismen produceren minder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icrobieel eiwi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an op basis van energieaanbod mogelijk zou zijn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lijk aan 0 dan is er een evenwicht tussen de aanbod van onbestendig eiwit en energie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roter dan 0 dan is er sprake van een overschot aan onbestendig eiwit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11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440F-0572-430D-9368-CF231E462F2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Indicator voor de stikstofbenutting van het melkvee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Ureum ontstaat bij een overmaat aan onbestendig eiwit (hoog OEB) en/of een tekort aan in de pens afbreekbare koolhydraten.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Melk zonder ureum bestaat niet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433440" y="-30492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414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B80A-B633-4A27-9946-BA064E17BC5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Een hoog ureumgehalte betekent een groot stikstofverlies via de urine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Waarden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: van 20 tot 25 mg ureum per 100 ml melk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nder 20 is laag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oven 30 is hoog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neden 15 zo veel mogelijk voorkomen moeten worden,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rwijl waarden boven 30 soms moeilijk te vermijden zijn. Dit laatste geldt met name voor bedrijven met veel grasland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433440" y="-30492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417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5103-1B8C-42E3-96B7-9F2A7296A43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Bestaat uit mineralen en zand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Bij een analyse is dit het vermelde R.A.S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Ruw anorganische 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Zand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Max. 1 kg per dag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Belemmerd de pens functie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Mineralen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Nodig voor levensfunctie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20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A4A2-BD59-4D75-B1A1-BDC18E0CD2D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AutoShape 4">
            <a:hlinkClick r:id="rId2" action="ppaction://hlinksldjump"/>
          </p:cNvPr>
          <p:cNvSpPr/>
          <p:nvPr/>
        </p:nvSpPr>
        <p:spPr>
          <a:xfrm>
            <a:off x="8305920" y="3808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3794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Grassen en kruiden bestaan uit stevige celwanden en celinhoud. De celwanden bevatten voornamelijk koolhydraten (cellulose, hemicellulose, pectine), lignine. De celinhoud bevat ook koolhydraten (suikers, zetmeel), eiwitten en een beetje vet.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22003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Dik en moeilijk afbreekbaar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Celwanden bevatten: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Cellulos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Hemicellulos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Pectin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Lignine (bij volgroeide planten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jdelijke aanduiding voor inhoud 3" descr="http://www.kennislink.nl/upload/193533_962_1205415925164-88313_962_1030625300843-celwand1-klein.jpg"/>
          <p:cNvPicPr/>
          <p:nvPr/>
        </p:nvPicPr>
        <p:blipFill>
          <a:blip r:embed="rId1"/>
          <a:stretch/>
        </p:blipFill>
        <p:spPr>
          <a:xfrm>
            <a:off x="2916360" y="1197000"/>
            <a:ext cx="3600360" cy="5040360"/>
          </a:xfrm>
          <a:prstGeom prst="rect">
            <a:avLst/>
          </a:prstGeom>
          <a:ln w="0">
            <a:noFill/>
          </a:ln>
        </p:spPr>
      </p:pic>
      <p:pic>
        <p:nvPicPr>
          <p:cNvPr id="427" name="Titel 2" descr=""/>
          <p:cNvPicPr/>
          <p:nvPr/>
        </p:nvPicPr>
        <p:blipFill>
          <a:blip r:embed="rId2"/>
          <a:stretch/>
        </p:blipFill>
        <p:spPr>
          <a:xfrm>
            <a:off x="311040" y="0"/>
            <a:ext cx="84852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il_fi" descr="http://www.sigmaaldrich.com/etc/medialib/life-science/metabolomics/enzyme-explorer/enzymes-for-alternative/plant-cell-wall.Par.0001.Image.550.gif"/>
          <p:cNvPicPr/>
          <p:nvPr/>
        </p:nvPicPr>
        <p:blipFill>
          <a:blip r:embed="rId1"/>
          <a:stretch/>
        </p:blipFill>
        <p:spPr>
          <a:xfrm>
            <a:off x="1952640" y="2347920"/>
            <a:ext cx="5238720" cy="2790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http://www.schooltv.nl/nudn/mmbase/images/1408269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il_fi" descr="http://www.lhup.edu/smarvel/Seminar/FALL_2003/S_Beatty/rumen-bacteria.jpg"/>
          <p:cNvPicPr/>
          <p:nvPr/>
        </p:nvPicPr>
        <p:blipFill>
          <a:blip r:embed="rId1"/>
          <a:stretch/>
        </p:blipFill>
        <p:spPr>
          <a:xfrm>
            <a:off x="1281240" y="1481040"/>
            <a:ext cx="6581520" cy="4525920"/>
          </a:xfrm>
          <a:prstGeom prst="rect">
            <a:avLst/>
          </a:prstGeom>
          <a:ln w="0">
            <a:noFill/>
          </a:ln>
        </p:spPr>
      </p:pic>
      <p:pic>
        <p:nvPicPr>
          <p:cNvPr id="289" name="Titel 2" descr=""/>
          <p:cNvPicPr/>
          <p:nvPr/>
        </p:nvPicPr>
        <p:blipFill>
          <a:blip r:embed="rId2"/>
          <a:stretch/>
        </p:blipFill>
        <p:spPr>
          <a:xfrm>
            <a:off x="457200" y="128520"/>
            <a:ext cx="82296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il_fi" descr="http://digitalunion.osu.edu/r2/summer07/nskrinak/images/fistulatedsmall.jpg"/>
          <p:cNvPicPr/>
          <p:nvPr/>
        </p:nvPicPr>
        <p:blipFill>
          <a:blip r:embed="rId1"/>
          <a:stretch/>
        </p:blipFill>
        <p:spPr>
          <a:xfrm>
            <a:off x="2984400" y="2443320"/>
            <a:ext cx="3175200" cy="2603520"/>
          </a:xfrm>
          <a:prstGeom prst="rect">
            <a:avLst/>
          </a:prstGeom>
          <a:ln w="0">
            <a:noFill/>
          </a:ln>
        </p:spPr>
      </p:pic>
      <p:pic>
        <p:nvPicPr>
          <p:cNvPr id="291" name="Titel 2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kstvak 3"/>
          <p:cNvSpPr/>
          <p:nvPr/>
        </p:nvSpPr>
        <p:spPr>
          <a:xfrm>
            <a:off x="611280" y="836640"/>
            <a:ext cx="8137440" cy="9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dermid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stof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c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organische stof (ras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rganische sto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olhydraten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uw eiwit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uw v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uwe celstof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verige koolhydra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uikers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Zetme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93" name="Rechte verbindingslijn met pijl 5"/>
          <p:cNvCxnSpPr/>
          <p:nvPr/>
        </p:nvCxnSpPr>
        <p:spPr>
          <a:xfrm>
            <a:off x="5796000" y="1268280"/>
            <a:ext cx="100872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4" name="Rechte verbindingslijn met pijl 8"/>
          <p:cNvCxnSpPr/>
          <p:nvPr/>
        </p:nvCxnSpPr>
        <p:spPr>
          <a:xfrm flipH="1">
            <a:off x="3202920" y="1268280"/>
            <a:ext cx="64836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5" name="Rechte verbindingslijn met pijl 13"/>
          <p:cNvCxnSpPr/>
          <p:nvPr/>
        </p:nvCxnSpPr>
        <p:spPr>
          <a:xfrm>
            <a:off x="3203640" y="1916280"/>
            <a:ext cx="1008720" cy="505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6" name="Rechte verbindingslijn met pijl 18"/>
          <p:cNvCxnSpPr/>
          <p:nvPr/>
        </p:nvCxnSpPr>
        <p:spPr>
          <a:xfrm flipH="1">
            <a:off x="1402920" y="2060280"/>
            <a:ext cx="28944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7" name="Rechte verbindingslijn met pijl 21"/>
          <p:cNvCxnSpPr/>
          <p:nvPr/>
        </p:nvCxnSpPr>
        <p:spPr>
          <a:xfrm flipH="1">
            <a:off x="3994920" y="2707920"/>
            <a:ext cx="36108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8" name="Rechte verbindingslijn met pijl 25"/>
          <p:cNvCxnSpPr/>
          <p:nvPr/>
        </p:nvCxnSpPr>
        <p:spPr>
          <a:xfrm>
            <a:off x="5795640" y="2708280"/>
            <a:ext cx="108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9" name="Rechte verbindingslijn met pijl 28"/>
          <p:cNvCxnSpPr/>
          <p:nvPr/>
        </p:nvCxnSpPr>
        <p:spPr>
          <a:xfrm>
            <a:off x="6587640" y="2707920"/>
            <a:ext cx="86436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0" name="Rechte verbindingslijn met pijl 32"/>
          <p:cNvCxnSpPr/>
          <p:nvPr/>
        </p:nvCxnSpPr>
        <p:spPr>
          <a:xfrm flipH="1">
            <a:off x="1834560" y="3428640"/>
            <a:ext cx="64980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1" name="Rechte verbindingslijn met pijl 36"/>
          <p:cNvCxnSpPr/>
          <p:nvPr/>
        </p:nvCxnSpPr>
        <p:spPr>
          <a:xfrm>
            <a:off x="4211280" y="3428640"/>
            <a:ext cx="46908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2" name="Rechte verbindingslijn met pijl 40"/>
          <p:cNvCxnSpPr/>
          <p:nvPr/>
        </p:nvCxnSpPr>
        <p:spPr>
          <a:xfrm flipH="1">
            <a:off x="3347640" y="4220640"/>
            <a:ext cx="50400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3" name="Rechte verbindingslijn met pijl 44"/>
          <p:cNvCxnSpPr/>
          <p:nvPr/>
        </p:nvCxnSpPr>
        <p:spPr>
          <a:xfrm>
            <a:off x="5003280" y="4220640"/>
            <a:ext cx="28944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05" name="Titel 47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Bevat alle belangrijke stoffen die we nodig hebben voor de vorming van de koolhydraten, vetten en de eiwitten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Kenmerk organische stof : het bevat de elementen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C  = kool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H = water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O = zuur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08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68EE-B963-4AD7-8905-534D5D600E6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AutoShape 4">
            <a:hlinkClick r:id="rId2" action="ppaction://hlinksldjump"/>
          </p:cNvPr>
          <p:cNvSpPr/>
          <p:nvPr/>
        </p:nvSpPr>
        <p:spPr>
          <a:xfrm>
            <a:off x="8305920" y="380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Een organische stof die naast de drie genoemde elementen ook nog bevat: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N = stik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P = fosf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S = zwavel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Het ruw eiwit bevat 16% stikstof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Via Kjehldahl en kleurstof methode makkelijk N te bepalen , en via de eiwitfactor 6,25 terug te rekenen naar hoeveelheid eiwit. 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12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DB55-AE02-431E-999A-FEA71DB31DB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3"/>
          <p:cNvGrpSpPr/>
          <p:nvPr/>
        </p:nvGrpSpPr>
        <p:grpSpPr>
          <a:xfrm>
            <a:off x="1332000" y="1989000"/>
            <a:ext cx="9067320" cy="3812400"/>
            <a:chOff x="1332000" y="1989000"/>
            <a:chExt cx="9067320" cy="3812400"/>
          </a:xfrm>
        </p:grpSpPr>
        <p:sp>
          <p:nvSpPr>
            <p:cNvPr id="315" name="Text Box 4"/>
            <p:cNvSpPr/>
            <p:nvPr/>
          </p:nvSpPr>
          <p:spPr>
            <a:xfrm>
              <a:off x="2170080" y="198900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ruw eiwit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energie (FOS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1407960" y="2751120"/>
              <a:ext cx="807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2095560"/>
                  <a:tab algn="l" pos="4572000"/>
                  <a:tab algn="l" pos="6858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Bestendig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onbestendig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microbieel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NL" sz="2400" spc="-1" strike="noStrike">
                  <a:solidFill>
                    <a:srgbClr val="000000"/>
                  </a:solidFill>
                  <a:latin typeface="Arial"/>
                </a:rPr>
                <a:t>OEB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1332000" y="3512880"/>
              <a:ext cx="8686440" cy="72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6674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darmverteerbaar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darmverteerbaar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46674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bestendig eiwit 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microbieel eiwit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Text Box 7"/>
            <p:cNvSpPr/>
            <p:nvPr/>
          </p:nvSpPr>
          <p:spPr>
            <a:xfrm>
              <a:off x="4379760" y="450360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000000"/>
                  </a:solidFill>
                  <a:latin typeface="Tahoma"/>
                </a:rPr>
                <a:t>DV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Text Box 8"/>
            <p:cNvSpPr/>
            <p:nvPr/>
          </p:nvSpPr>
          <p:spPr>
            <a:xfrm>
              <a:off x="5903640" y="496080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onderhou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Text Box 9"/>
            <p:cNvSpPr/>
            <p:nvPr/>
          </p:nvSpPr>
          <p:spPr>
            <a:xfrm>
              <a:off x="1712520" y="488448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melkproducti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2017440" y="53416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groei/mobilisati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Text Box 11"/>
            <p:cNvSpPr/>
            <p:nvPr/>
          </p:nvSpPr>
          <p:spPr>
            <a:xfrm>
              <a:off x="4836960" y="5341680"/>
              <a:ext cx="144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dracht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Line 12"/>
            <p:cNvSpPr/>
            <p:nvPr/>
          </p:nvSpPr>
          <p:spPr>
            <a:xfrm flipH="1">
              <a:off x="2474280" y="2446200"/>
              <a:ext cx="2286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Line 13"/>
            <p:cNvSpPr/>
            <p:nvPr/>
          </p:nvSpPr>
          <p:spPr>
            <a:xfrm>
              <a:off x="3465360" y="2446200"/>
              <a:ext cx="30456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Line 14"/>
            <p:cNvSpPr/>
            <p:nvPr/>
          </p:nvSpPr>
          <p:spPr>
            <a:xfrm>
              <a:off x="6437160" y="24462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Line 15"/>
            <p:cNvSpPr/>
            <p:nvPr/>
          </p:nvSpPr>
          <p:spPr>
            <a:xfrm>
              <a:off x="2398680" y="32083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Line 16"/>
            <p:cNvSpPr/>
            <p:nvPr/>
          </p:nvSpPr>
          <p:spPr>
            <a:xfrm>
              <a:off x="6437160" y="32083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Line 17"/>
            <p:cNvSpPr/>
            <p:nvPr/>
          </p:nvSpPr>
          <p:spPr>
            <a:xfrm>
              <a:off x="5056560" y="297972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Line 18"/>
            <p:cNvSpPr/>
            <p:nvPr/>
          </p:nvSpPr>
          <p:spPr>
            <a:xfrm>
              <a:off x="7118640" y="2979720"/>
              <a:ext cx="609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Line 19"/>
            <p:cNvSpPr/>
            <p:nvPr/>
          </p:nvSpPr>
          <p:spPr>
            <a:xfrm flipH="1">
              <a:off x="5370120" y="4275000"/>
              <a:ext cx="53316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Line 20"/>
            <p:cNvSpPr/>
            <p:nvPr/>
          </p:nvSpPr>
          <p:spPr>
            <a:xfrm>
              <a:off x="3693960" y="4275000"/>
              <a:ext cx="53316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Line 21"/>
            <p:cNvSpPr/>
            <p:nvPr/>
          </p:nvSpPr>
          <p:spPr>
            <a:xfrm flipH="1">
              <a:off x="4227120" y="5037120"/>
              <a:ext cx="4572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Line 22"/>
            <p:cNvSpPr/>
            <p:nvPr/>
          </p:nvSpPr>
          <p:spPr>
            <a:xfrm>
              <a:off x="4913280" y="5037120"/>
              <a:ext cx="2286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Line 23"/>
            <p:cNvSpPr/>
            <p:nvPr/>
          </p:nvSpPr>
          <p:spPr>
            <a:xfrm>
              <a:off x="5217840" y="4884480"/>
              <a:ext cx="6858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Line 24"/>
            <p:cNvSpPr/>
            <p:nvPr/>
          </p:nvSpPr>
          <p:spPr>
            <a:xfrm flipH="1">
              <a:off x="3922200" y="4884480"/>
              <a:ext cx="533160" cy="7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8:50:42Z</dcterms:created>
  <dc:creator>m</dc:creator>
  <dc:description/>
  <dc:language>en-US</dc:language>
  <cp:lastModifiedBy>Jan van Vliet</cp:lastModifiedBy>
  <dcterms:modified xsi:type="dcterms:W3CDTF">2012-02-22T14:53:19Z</dcterms:modified>
  <cp:revision>50</cp:revision>
  <dc:subject/>
  <dc:title>Spijsvertering van de koe</dc:title>
</cp:coreProperties>
</file>