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2" descr="powerpoint_wijz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Overzicht%20sectoren" descr=""/>
          <p:cNvPicPr/>
          <p:nvPr/>
        </p:nvPicPr>
        <p:blipFill>
          <a:blip r:embed="rId1"/>
          <a:stretch/>
        </p:blipFill>
        <p:spPr>
          <a:xfrm>
            <a:off x="533520" y="1484280"/>
            <a:ext cx="7619760" cy="49849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400" y="1000080"/>
            <a:ext cx="642924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MZET EN OMVANG VAN DE MULTIFUNCTIONELE LANDBOU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477120" y="54100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cubicBezTo>
                  <a:pt x="148" y="144"/>
                  <a:pt x="296" y="288"/>
                  <a:pt x="432" y="288"/>
                </a:cubicBezTo>
                <a:cubicBezTo>
                  <a:pt x="568" y="288"/>
                  <a:pt x="692" y="144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978600" y="5442120"/>
            <a:ext cx="6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MVANG%20STREEKPRODUCTEN%20IN%202009" descr=""/>
          <p:cNvPicPr/>
          <p:nvPr/>
        </p:nvPicPr>
        <p:blipFill>
          <a:blip r:embed="rId1"/>
          <a:stretch/>
        </p:blipFill>
        <p:spPr>
          <a:xfrm>
            <a:off x="898560" y="228600"/>
            <a:ext cx="731520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64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TENTIE MULTIDFUNCTIONELE LANDBOU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5447880"/>
            <a:ext cx="70009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7884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88489"/>
                </a:solidFill>
                <a:latin typeface="Arial"/>
                <a:ea typeface="Arial"/>
              </a:rPr>
              <a:t>Tussen de 1,5 en 4,5 miljard euro in de komende vijf tot tien j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7884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88489"/>
                </a:solidFill>
                <a:latin typeface="Arial"/>
                <a:ea typeface="Arial"/>
              </a:rPr>
              <a:t>Streekproducten hebben veel marktpote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7884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88489"/>
                </a:solidFill>
                <a:latin typeface="Arial"/>
                <a:ea typeface="Arial"/>
              </a:rPr>
              <a:t>Relatieve potentie voor kinderopvang en zorg ook en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571680" y="2600280"/>
            <a:ext cx="8091360" cy="2428920"/>
          </a:xfrm>
          <a:prstGeom prst="rect">
            <a:avLst/>
          </a:prstGeom>
          <a:ln w="0">
            <a:noFill/>
          </a:ln>
        </p:spPr>
      </p:pic>
      <p:sp>
        <p:nvSpPr>
          <p:cNvPr id="46" name="Rechthoek 5"/>
          <p:cNvSpPr/>
          <p:nvPr/>
        </p:nvSpPr>
        <p:spPr>
          <a:xfrm>
            <a:off x="571680" y="50878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ron: Verbreding gevraagd, ECORYS 2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64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TENTIE STREEKPRODUC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hoek 5"/>
          <p:cNvSpPr/>
          <p:nvPr/>
        </p:nvSpPr>
        <p:spPr>
          <a:xfrm>
            <a:off x="457200" y="6400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ron: Verbreding gevraagd, ECORYS 2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otentie%20streekproducten" descr=""/>
          <p:cNvPicPr/>
          <p:nvPr/>
        </p:nvPicPr>
        <p:blipFill>
          <a:blip r:embed="rId1"/>
          <a:stretch/>
        </p:blipFill>
        <p:spPr>
          <a:xfrm>
            <a:off x="3730680" y="152280"/>
            <a:ext cx="487980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8:52:14Z</dcterms:created>
  <dc:creator>Ralph</dc:creator>
  <dc:description/>
  <dc:language>en-US</dc:language>
  <cp:lastModifiedBy>Fischer</cp:lastModifiedBy>
  <dcterms:modified xsi:type="dcterms:W3CDTF">2010-12-30T21:00:51Z</dcterms:modified>
  <cp:revision>260</cp:revision>
  <dc:subject/>
  <dc:title>Dia 1</dc:title>
</cp:coreProperties>
</file>