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87B-1FD4-4DF9-8335-CEC9D0A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E41-06D6-491B-9B6C-D584E5B0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785-3CD6-46FC-BEAB-DA6C8736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592-3A81-4810-9433-40E75D81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DF36-7DDC-44DB-8404-755FCFD9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C914-909F-4CAB-B21F-89DB6FE7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E25-0E65-437D-B2E0-5E5AE38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6554-E2CA-4B17-88B5-C96E211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40D-7AF4-4A80-96F5-8ED5271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C1CC-98AA-4502-809A-54091FD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5FA5-BCC3-421B-8D61-0B82680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E5E-120E-45A6-A2A3-1C3BC9DC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216-3619-414F-819C-6E7EC1B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938-62A5-4A0D-BD55-7E2B9664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78F8-8095-4EC6-95E2-732ABE0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4BC0-C457-42EE-A822-BAFB2AC5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22BA-1041-435D-A91C-092556CC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D45-127B-49FA-AC80-FEEFDE2C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E22-0A61-4730-883B-795E8AF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BB7-632C-4C8F-A5D0-FD16176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D50-35F9-4A57-8C74-32B1D01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049-EA20-4662-98B5-8850357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944-AD7C-4BDF-A7D5-6B97E45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37D-AE35-4FCD-A8F5-E00B5BEA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6629-5643-4F68-BC5E-680E8286B7A7}" type="slidenum">
              <a:rPr b="0" lang="nl-N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82E2-1268-4FF9-8F37-7E98FF3E196C}" type="slidenum">
              <a:rPr b="0" lang="nl-N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nl.wikipedia.org/wiki/Fotografie" TargetMode="Externa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Hoe onstaat een foto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41280" y="1965240"/>
            <a:ext cx="73962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Princip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28640"/>
            <a:ext cx="7826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terkingsschermen zetten rö-straling om in zichtbaar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fotografische plaat is gevoeliger voor straling met een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tere golflengte past ook beter bij AgBr. (De stof op de fotografische pla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sulta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de versterkingsschermen heb ik minder straling nodig om een goede foto te krijgen. (beperking van de tijd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gebruik van versterkingsschermen beperk ik dus de risico’s van het maken van rö-foto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Fluorescerende stof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eldzame aarde scherm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anthaan (lichtkleur blau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dolinium (lichtkleur geel-gro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fotografische plaat moet hier dus gevoelig voor zij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gebruikte licht in de dok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Korrelgrootte scherm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orrels op versterkingsschermen zijn groter dan AgBr korrels op fotogra-fische pla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 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scherpt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2 T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solutie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oplossend vermoge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cheidend vermogen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schrijft hoe dicht waarden bij elkaar kunnen liggen die nog net gescheiden kunnen worden waargenom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Contra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In de </a:t>
            </a:r>
            <a:r>
              <a:rPr b="0" lang="nl-NL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fotograf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is de beheersing van het contrast een technische uitdaging, ofwel hoe krijg je de foto zo dat zowel in de donkere als in de lichte gedeeltes nog details te zien zij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>
            <a:hlinkClick r:id="rId2" action="ppaction://hlinksldjump"/>
          </p:cNvPr>
          <p:cNvSpPr/>
          <p:nvPr/>
        </p:nvSpPr>
        <p:spPr>
          <a:xfrm>
            <a:off x="6659640" y="54936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>
            <a:hlinkClick r:id="rId3" action="ppaction://hlinksldjump"/>
          </p:cNvPr>
          <p:cNvSpPr/>
          <p:nvPr/>
        </p:nvSpPr>
        <p:spPr>
          <a:xfrm>
            <a:off x="7667640" y="549360"/>
            <a:ext cx="504720" cy="3585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96" h="21600">
                <a:moveTo>
                  <a:pt x="0" y="0"/>
                </a:moveTo>
                <a:lnTo>
                  <a:pt x="30396" y="0"/>
                </a:lnTo>
                <a:lnTo>
                  <a:pt x="30396" y="21600"/>
                </a:lnTo>
                <a:lnTo>
                  <a:pt x="0" y="21600"/>
                </a:lnTo>
                <a:close/>
              </a:path>
              <a:path fill="lightenLess" w="30396" h="21600">
                <a:moveTo>
                  <a:pt x="0" y="0"/>
                </a:moveTo>
                <a:lnTo>
                  <a:pt x="30396" y="0"/>
                </a:lnTo>
                <a:lnTo>
                  <a:pt x="28996" y="1400"/>
                </a:lnTo>
                <a:lnTo>
                  <a:pt x="1400" y="1400"/>
                </a:lnTo>
                <a:close/>
              </a:path>
              <a:path fill="darken" w="30396" h="21600">
                <a:moveTo>
                  <a:pt x="30396" y="0"/>
                </a:moveTo>
                <a:lnTo>
                  <a:pt x="30396" y="21600"/>
                </a:lnTo>
                <a:lnTo>
                  <a:pt x="28996" y="20200"/>
                </a:lnTo>
                <a:lnTo>
                  <a:pt x="28996" y="1400"/>
                </a:lnTo>
                <a:close/>
              </a:path>
              <a:path fill="darkenLess" w="30396" h="21600">
                <a:moveTo>
                  <a:pt x="30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96" y="20200"/>
                </a:lnTo>
                <a:close/>
              </a:path>
              <a:path fill="lighten" w="30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1219E249"/>
          <p:cNvPicPr/>
          <p:nvPr/>
        </p:nvPicPr>
        <p:blipFill>
          <a:blip r:embed="rId1"/>
          <a:srcRect l="0" t="0" r="912" b="0"/>
          <a:stretch/>
        </p:blipFill>
        <p:spPr>
          <a:xfrm>
            <a:off x="2124000" y="692280"/>
            <a:ext cx="3959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4F7A043F"/>
          <p:cNvPicPr/>
          <p:nvPr/>
        </p:nvPicPr>
        <p:blipFill>
          <a:blip r:embed="rId1"/>
          <a:srcRect l="0" t="0" r="0" b="20942"/>
          <a:stretch/>
        </p:blipFill>
        <p:spPr>
          <a:xfrm>
            <a:off x="1835280" y="189000"/>
            <a:ext cx="5805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ypen sch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F-100 schermen, versterkingsfacto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 extremiteiten, zonder gebruik van strooistralenroo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og contrast, uitstekende resolut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R-400 schermen, versterkingsfactor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 gebruik bij dikkere objecten, met gebruik van strooistralenroo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og contrast, erg goede resolut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4">
            <a:hlinkClick r:id="rId1" action="ppaction://hlinksldjump"/>
          </p:cNvPr>
          <p:cNvSpPr/>
          <p:nvPr/>
        </p:nvSpPr>
        <p:spPr>
          <a:xfrm>
            <a:off x="7596360" y="476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ypen scherm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H-200 schermen, versterkingsfactor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mmografie scher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kel in de casset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otoplaat met aan 1 kant AgB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betere resolu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7596360" y="476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Ontwikkelproce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Wat is een röntgenstraal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staat dus door rem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remmingsener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n pakketjes energie (foton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chematisch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Picture 4" descr="CAE848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116000" y="1989000"/>
            <a:ext cx="69120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heori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p fotoplaat zitten korrels met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een korrel zitten meerdere moleculen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 (licht) kwanten reageren met een molecuul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Theorie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htkwanten zorgen er voor een fotografisch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AgBr molecuul wordt “gevoelig” voor het ontwikkelpro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Ontwikkel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het ontwikkelen ontstaat er in elke korrel nu een neerslag van zilver(A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 Ag er neerslaat in elke korrel bepaalt de hoeveel zwarting op de fo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poelen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opt het ontwikkel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wijdert de resten van de ontwikkelvloeisto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Fixer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wijderen van het niet belichte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87280" y="31417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Spoel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116000" y="4724280"/>
            <a:ext cx="7543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opzetten fixeerpro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Nat ontwikkelen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leen bij na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twikkelen 5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poelen 1 minu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ixeren 3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poelen 1 minu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fixeren 15 m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spoelen 30 minu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IMG_0037"/>
          <p:cNvPicPr/>
          <p:nvPr/>
        </p:nvPicPr>
        <p:blipFill>
          <a:blip r:embed="rId1"/>
          <a:stretch/>
        </p:blipFill>
        <p:spPr>
          <a:xfrm>
            <a:off x="755640" y="549360"/>
            <a:ext cx="75596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assette 1"/>
          <p:cNvPicPr/>
          <p:nvPr/>
        </p:nvPicPr>
        <p:blipFill>
          <a:blip r:embed="rId1"/>
          <a:stretch/>
        </p:blipFill>
        <p:spPr>
          <a:xfrm>
            <a:off x="685800" y="8380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assette 2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-straal komt uit bu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at door object (bijv. poot. Thorax, abdomen o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n gaat object door en verliest meer of minder ener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omt met meer of minder energie uit het objec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IMG_0045"/>
          <p:cNvPicPr/>
          <p:nvPr/>
        </p:nvPicPr>
        <p:blipFill>
          <a:blip r:embed="rId1"/>
          <a:stretch/>
        </p:blipFill>
        <p:spPr>
          <a:xfrm>
            <a:off x="684360" y="765000"/>
            <a:ext cx="79912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’n foton komt op het versterkingssch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versterkingsscherm licht op zichtbaar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fhankelijk van de hoeveelheid energie in zo’n foton meer of minder sterk 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620640"/>
            <a:ext cx="820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licht komt op de fotografische pla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elke korrel op de plaat zitten meerdere moleculen AgB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licht er door een foton wordt opgewekt hoe meer AgBr moleculen worden “aangeslagen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aangeslagen AgBr hoe zwar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 beide kanten van de fotografische plaat zit een versterkingssch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us de fotografische plaat wordt van beide kanten belic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 hetzelfde foto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Casset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ichtdic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terkingsscher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ventueel loodplaatje in de h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Product%20Veterinair%20conv%20cassette%20scherm"/>
          <p:cNvPicPr/>
          <p:nvPr/>
        </p:nvPicPr>
        <p:blipFill>
          <a:blip r:embed="rId1"/>
          <a:stretch/>
        </p:blipFill>
        <p:spPr>
          <a:xfrm>
            <a:off x="3276720" y="4005360"/>
            <a:ext cx="33289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Versterkingsscherm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Principe.</a:t>
            </a:r>
            <a:r>
              <a:rPr b="1" lang="nl-NL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grafische platen zijn gevoelig voor rö-straling. (Kleine golfleng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Fotografische platen zijn gevoeliger voor straling met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chtbaar licht heeft grotere golfleng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2:11:50Z</dcterms:created>
  <dc:creator>H. Verstappen</dc:creator>
  <dc:description/>
  <dc:language>en-US</dc:language>
  <cp:lastModifiedBy>Verstappen</cp:lastModifiedBy>
  <dcterms:modified xsi:type="dcterms:W3CDTF">2014-11-19T21:40:03Z</dcterms:modified>
  <cp:revision>11</cp:revision>
  <dc:subject/>
  <dc:title>Versterkingsschermen</dc:title>
</cp:coreProperties>
</file>