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4A2-A765-4E9A-81AC-74DB2E9B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95C-FF2F-479C-A025-9F322577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405-0138-4820-B971-246AF66C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CEC-AD93-4321-A24A-D177683F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4C2E-6276-47FC-94BE-3EAE5F42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8D15-58D3-4E4F-8AC3-18394CBB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B9CC-491A-44CB-B111-17311E59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2D1-E6FE-472D-A00B-7EF66408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6B82-0792-41B5-B0A4-52EDF87C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5D42-B159-4EA1-A746-0D1B6830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296E-1C35-4E7B-AB29-EE914D6C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22E-87D9-4FD3-AB2B-B375FCE9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53AC-3DED-438B-9004-ADF809FE5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e röntgen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igitale röntgenologie wordt de straling niet omgezet in grijsschakeringen op een fotografische plaat. (Een fo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straling wordt omgezet in grijs-schakeringen die vervolgens worden om-gezet in een beeld op een beeldsch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 syste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direct systeem. Hierbij wordt het straling via een een flat panel of een detectorsysteem CCD technologie omgezet in een beeld (DR syste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is een systeem vergelijkbaar met een digitale ca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125" t="18277" r="47046" b="19650"/>
          <a:stretch/>
        </p:blipFill>
        <p:spPr>
          <a:xfrm>
            <a:off x="755640" y="907920"/>
            <a:ext cx="756144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 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indirect systeem. Hierbij wordt de straling vastgelegd op een fosforcasset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 scherm wordt vervolgens uitgelezen met een reader en zo ontstaat het beeld. (CR syste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41965" t="0" r="3141" b="9931"/>
          <a:stretch/>
        </p:blipFill>
        <p:spPr>
          <a:xfrm>
            <a:off x="179280" y="333360"/>
            <a:ext cx="8713800" cy="2735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0" r="60078" b="0"/>
          <a:stretch/>
        </p:blipFill>
        <p:spPr>
          <a:xfrm>
            <a:off x="1476360" y="3500280"/>
            <a:ext cx="633744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12:13:47Z</dcterms:created>
  <dc:creator>hverstappen</dc:creator>
  <dc:description/>
  <dc:language>en-US</dc:language>
  <cp:lastModifiedBy>H. Verstappen</cp:lastModifiedBy>
  <dcterms:modified xsi:type="dcterms:W3CDTF">2009-12-09T18:50:28Z</dcterms:modified>
  <cp:revision>4</cp:revision>
  <dc:subject/>
  <dc:title>Dia 1</dc:title>
</cp:coreProperties>
</file>