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37D-4782-491C-9173-876AE9F6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307-B1B3-4968-942F-038C77D6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06B-F90C-482F-B044-8F85CE68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9D0-2DDB-4EEA-96D3-5C2C780E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43F9A-D5FF-4082-BE54-EB442AC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4D786-2756-44D0-A50F-3BFE9C7B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EF42E-F33C-43A0-9A46-E528C8A0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1360E-4871-4768-A4FB-79FBEA4B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D5B25-8C42-4DCF-AF77-3121AC5C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CE7E5-273D-4236-AF56-7297B14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EC851-8734-4925-9FB5-07141A0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F21-E8F9-4C9D-AD3D-78DCC7F4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25B05-08E1-484B-8C04-F692FD3D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01E5-486D-45E5-9597-56F625E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8AC4A-59E2-4374-BFDD-082D1DC6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64EBD-3C1B-480B-84DE-3BB012B8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268A4-B8A4-4F39-AD91-B2C2580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4A5-4CB2-424E-80E7-88028145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782-41AB-48C6-A44F-20966405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7EC-614A-4CF7-B16D-E2DB31CB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B1C-FE88-461E-9572-76929479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70D-EEB0-426C-BFD0-B7B7DBB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F81-FDC4-41CE-AA7D-B2347CA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73C-4C7E-451C-A7C7-44279615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3D3-F147-4212-AA14-8DC97C9542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D18F-799B-4B36-A3A8-316A372523D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vormende techni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twikkel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apparaat2-003"/>
          <p:cNvPicPr/>
          <p:nvPr/>
        </p:nvPicPr>
        <p:blipFill>
          <a:blip r:embed="rId1"/>
          <a:stretch/>
        </p:blipFill>
        <p:spPr>
          <a:xfrm>
            <a:off x="1258920" y="1447920"/>
            <a:ext cx="64818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twikkel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apparaat2-005"/>
          <p:cNvPicPr/>
          <p:nvPr/>
        </p:nvPicPr>
        <p:blipFill>
          <a:blip r:embed="rId1"/>
          <a:stretch/>
        </p:blipFill>
        <p:spPr>
          <a:xfrm>
            <a:off x="468360" y="219240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apparaat2-006"/>
          <p:cNvPicPr/>
          <p:nvPr/>
        </p:nvPicPr>
        <p:blipFill>
          <a:blip r:embed="rId2"/>
          <a:stretch/>
        </p:blipFill>
        <p:spPr>
          <a:xfrm>
            <a:off x="4716360" y="31417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twikkel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apparaat2-004"/>
          <p:cNvPicPr/>
          <p:nvPr/>
        </p:nvPicPr>
        <p:blipFill>
          <a:blip r:embed="rId1"/>
          <a:stretch/>
        </p:blipFill>
        <p:spPr>
          <a:xfrm>
            <a:off x="1042920" y="1413000"/>
            <a:ext cx="69120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soE8942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79280" y="2133720"/>
            <a:ext cx="2592360" cy="1969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58920" y="1557000"/>
            <a:ext cx="583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öntgenstraling ontstaat door een hoge spanning op te wekken tussen een positieve en een negatieve p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negatieve pool komen uit een gloeidraad elektronen vrij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de hoogspanning komt een stroom van elektronen op gang die met hoge snelheid van de negatieve pool naar de positieve pool (Wolfraam) gaa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640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positieve pool worden de elektronen afgebogen en verliezen snelhei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deze afbuiging en het afnemen van de snelheid van de elektronen ontstaat de röntgenstra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nk bijv. aan een auto die de bocht om ga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mso213D8"/>
          <p:cNvPicPr/>
          <p:nvPr/>
        </p:nvPicPr>
        <p:blipFill>
          <a:blip r:embed="rId1"/>
          <a:srcRect l="7362" t="5871" r="3239" b="9179"/>
          <a:stretch/>
        </p:blipFill>
        <p:spPr>
          <a:xfrm>
            <a:off x="395280" y="2398680"/>
            <a:ext cx="28083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ooistraling ontstaat doordat röntgen-straling een voorwerp/lichaam binnenvalt en hierdoor van richting verander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verandert de energie van de stral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er die auto, maar nu gaat hij kort na de eerste bocht een tweede bocht in. Hij zal nu nog langzamer moet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intensiteit van strooistraling is daardoor minder dan van de directe röntgenbund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ooistraling blijft echter nog steeds röntgenstraling met dezelfde eigen-schappen en dezelfde nadelige gevol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leen de risico’s op kansgebonden effecten zijn klei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vormende technieken zij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öntgenol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choscop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T-s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et-s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intigraf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öntgenruim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twikkelruim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tstaan röntgenstra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apparaat2-001"/>
          <p:cNvPicPr/>
          <p:nvPr/>
        </p:nvPicPr>
        <p:blipFill>
          <a:blip r:embed="rId1"/>
          <a:stretch/>
        </p:blipFill>
        <p:spPr>
          <a:xfrm>
            <a:off x="782640" y="1905120"/>
            <a:ext cx="338760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pparaat2-002"/>
          <p:cNvPicPr/>
          <p:nvPr/>
        </p:nvPicPr>
        <p:blipFill>
          <a:blip r:embed="rId2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5508720" y="328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Buiten blijven !!!!!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apparaat001"/>
          <p:cNvPicPr/>
          <p:nvPr/>
        </p:nvPicPr>
        <p:blipFill>
          <a:blip r:embed="rId1"/>
          <a:stretch/>
        </p:blipFill>
        <p:spPr>
          <a:xfrm>
            <a:off x="782640" y="1905120"/>
            <a:ext cx="33876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apparaat003"/>
          <p:cNvPicPr/>
          <p:nvPr/>
        </p:nvPicPr>
        <p:blipFill>
          <a:blip r:embed="rId2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apparaat004"/>
          <p:cNvPicPr/>
          <p:nvPr/>
        </p:nvPicPr>
        <p:blipFill>
          <a:blip r:embed="rId1"/>
          <a:stretch/>
        </p:blipFill>
        <p:spPr>
          <a:xfrm>
            <a:off x="457200" y="258768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pparaat009"/>
          <p:cNvPicPr/>
          <p:nvPr/>
        </p:nvPicPr>
        <p:blipFill>
          <a:blip r:embed="rId2"/>
          <a:stretch/>
        </p:blipFill>
        <p:spPr>
          <a:xfrm>
            <a:off x="4648320" y="258768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apparaat005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pparaat006"/>
          <p:cNvPicPr/>
          <p:nvPr/>
        </p:nvPicPr>
        <p:blipFill>
          <a:blip r:embed="rId2"/>
          <a:stretch/>
        </p:blipFill>
        <p:spPr>
          <a:xfrm>
            <a:off x="4716360" y="3357720"/>
            <a:ext cx="40388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apparaat007"/>
          <p:cNvPicPr/>
          <p:nvPr/>
        </p:nvPicPr>
        <p:blipFill>
          <a:blip r:embed="rId1"/>
          <a:stretch/>
        </p:blipFill>
        <p:spPr>
          <a:xfrm>
            <a:off x="457200" y="258768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pparaat010"/>
          <p:cNvPicPr/>
          <p:nvPr/>
        </p:nvPicPr>
        <p:blipFill>
          <a:blip r:embed="rId2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Röntgenruimt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ttelijke eisen: 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K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rn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ergie</a:t>
            </a:r>
            <a:r>
              <a:rPr b="1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EW doss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apparaat011"/>
          <p:cNvPicPr/>
          <p:nvPr/>
        </p:nvPicPr>
        <p:blipFill>
          <a:blip r:embed="rId1"/>
          <a:stretch/>
        </p:blipFill>
        <p:spPr>
          <a:xfrm>
            <a:off x="4973760" y="1905120"/>
            <a:ext cx="338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39:35Z</dcterms:created>
  <dc:creator>H. Verstappen</dc:creator>
  <dc:description/>
  <dc:language>en-US</dc:language>
  <cp:lastModifiedBy>aocoost</cp:lastModifiedBy>
  <dcterms:modified xsi:type="dcterms:W3CDTF">2011-11-04T07:59:12Z</dcterms:modified>
  <cp:revision>12</cp:revision>
  <dc:subject/>
  <dc:title>Röntgenruimte</dc:title>
</cp:coreProperties>
</file>