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8618-06A9-487F-8826-96CD4478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A7B7-71C8-4E38-9E82-CCB73048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D58A-6608-4A92-8C05-8B175056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178F-7188-463B-B3B9-51BCEB7C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BFA6-AED9-4D27-92D9-F4ADEC5A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9356-8CBB-4516-B582-E7C1150A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0954-6080-4259-AE1A-11843526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4524-D90E-47C3-9061-EE2FEF9E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CD07-7A6B-4B6C-AD17-63C060DB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E87F-FD1B-4694-B40B-0D1D935D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80BD-28D0-4D61-B0E8-25A9BF5F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8E5B-D452-43E5-AA44-768EC049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DD71-35F1-4201-BFB4-139BD971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69B9-02F7-45FF-AC09-B125DBCC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7825-E8B9-44DE-9200-5C843CD5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20A8-9F0E-461A-86F5-4CAECBBE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13C9-6F4B-411A-935A-736994BA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2E33-795E-450B-8851-37C28026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2167-F9DD-48EA-8862-BC4D1B63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07BE-E57B-40A5-AA75-30482CAC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0883-D18C-495F-BE70-FC0640EF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1A9-22B9-4BA9-9BBF-2D6DBBCE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B6E8-5C01-4FA2-A64F-52A0454E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4223-0CC2-4F29-A4CA-56454459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DF39-FE1B-4675-A1BD-5FCF3F65389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B629-3201-4F56-8732-2C0111D043A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ffff"/>
                </a:solidFill>
                <a:latin typeface="Arial"/>
              </a:rPr>
              <a:t>Röntgenologie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E343488D"/>
          <p:cNvPicPr/>
          <p:nvPr/>
        </p:nvPicPr>
        <p:blipFill>
          <a:blip r:embed="rId1"/>
          <a:srcRect l="7914" t="30164" r="6940" b="19527"/>
          <a:stretch/>
        </p:blipFill>
        <p:spPr>
          <a:xfrm>
            <a:off x="1908000" y="4076640"/>
            <a:ext cx="540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Object 4"/>
          <p:cNvGraphicFramePr/>
          <p:nvPr/>
        </p:nvGraphicFramePr>
        <p:xfrm>
          <a:off x="3924360" y="3284640"/>
          <a:ext cx="91440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28464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684360" y="404640"/>
            <a:ext cx="77040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lovoltage aanpassen (kV) = sp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volg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 elektronen krijgen meer snelheid waardoor ze harder tegen de anode aanbots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or deze hardere botsing ontstaat straling met meer energi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raling met meer energie kan dieper doordringen in de weefsels. Hierdoor kun je door dikkere en hardere delen he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bij dikkere en minder goed doordringbare delen meer kV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6659640" y="5950080"/>
            <a:ext cx="649080" cy="3585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9084" h="21600">
                <a:moveTo>
                  <a:pt x="0" y="0"/>
                </a:moveTo>
                <a:lnTo>
                  <a:pt x="39084" y="0"/>
                </a:lnTo>
                <a:lnTo>
                  <a:pt x="39084" y="21600"/>
                </a:lnTo>
                <a:lnTo>
                  <a:pt x="0" y="21600"/>
                </a:lnTo>
                <a:close/>
              </a:path>
              <a:path fill="lightenLess" w="39084" h="21600">
                <a:moveTo>
                  <a:pt x="0" y="0"/>
                </a:moveTo>
                <a:lnTo>
                  <a:pt x="39084" y="0"/>
                </a:lnTo>
                <a:lnTo>
                  <a:pt x="37684" y="1400"/>
                </a:lnTo>
                <a:lnTo>
                  <a:pt x="1400" y="1400"/>
                </a:lnTo>
                <a:close/>
              </a:path>
              <a:path fill="darken" w="39084" h="21600">
                <a:moveTo>
                  <a:pt x="39084" y="0"/>
                </a:moveTo>
                <a:lnTo>
                  <a:pt x="39084" y="21600"/>
                </a:lnTo>
                <a:lnTo>
                  <a:pt x="37684" y="20200"/>
                </a:lnTo>
                <a:lnTo>
                  <a:pt x="37684" y="1400"/>
                </a:lnTo>
                <a:close/>
              </a:path>
              <a:path fill="darkenLess" w="39084" h="21600">
                <a:moveTo>
                  <a:pt x="39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84" y="20200"/>
                </a:lnTo>
                <a:close/>
              </a:path>
              <a:path fill="lighten" w="39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84" h="21600">
                <a:moveTo>
                  <a:pt x="12535" y="10800"/>
                </a:moveTo>
                <a:lnTo>
                  <a:pt x="26548" y="3794"/>
                </a:lnTo>
                <a:lnTo>
                  <a:pt x="2654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900000" y="907920"/>
            <a:ext cx="727236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Ampère (= mA) = spanning aanpass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 spanning bepaald de hoeveelheid elektronen die vrijko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 hoeveelheid elektronen die vrijkomen bepalen de hoeveelheid straling die vrijkom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 hoeveelheid straling bepaalt het contrast van de opna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meer ampère betekent meer contra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6659640" y="5950080"/>
            <a:ext cx="649080" cy="3585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9084" h="21600">
                <a:moveTo>
                  <a:pt x="0" y="0"/>
                </a:moveTo>
                <a:lnTo>
                  <a:pt x="39084" y="0"/>
                </a:lnTo>
                <a:lnTo>
                  <a:pt x="39084" y="21600"/>
                </a:lnTo>
                <a:lnTo>
                  <a:pt x="0" y="21600"/>
                </a:lnTo>
                <a:close/>
              </a:path>
              <a:path fill="lightenLess" w="39084" h="21600">
                <a:moveTo>
                  <a:pt x="0" y="0"/>
                </a:moveTo>
                <a:lnTo>
                  <a:pt x="39084" y="0"/>
                </a:lnTo>
                <a:lnTo>
                  <a:pt x="37684" y="1400"/>
                </a:lnTo>
                <a:lnTo>
                  <a:pt x="1400" y="1400"/>
                </a:lnTo>
                <a:close/>
              </a:path>
              <a:path fill="darken" w="39084" h="21600">
                <a:moveTo>
                  <a:pt x="39084" y="0"/>
                </a:moveTo>
                <a:lnTo>
                  <a:pt x="39084" y="21600"/>
                </a:lnTo>
                <a:lnTo>
                  <a:pt x="37684" y="20200"/>
                </a:lnTo>
                <a:lnTo>
                  <a:pt x="37684" y="1400"/>
                </a:lnTo>
                <a:close/>
              </a:path>
              <a:path fill="darkenLess" w="39084" h="21600">
                <a:moveTo>
                  <a:pt x="39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84" y="20200"/>
                </a:lnTo>
                <a:close/>
              </a:path>
              <a:path fill="lighten" w="39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84" h="21600">
                <a:moveTo>
                  <a:pt x="12535" y="10800"/>
                </a:moveTo>
                <a:lnTo>
                  <a:pt x="26548" y="3794"/>
                </a:lnTo>
                <a:lnTo>
                  <a:pt x="2654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4"/>
          <p:cNvSpPr/>
          <p:nvPr/>
        </p:nvSpPr>
        <p:spPr>
          <a:xfrm>
            <a:off x="6659640" y="5950080"/>
            <a:ext cx="649080" cy="3585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9084" h="21600">
                <a:moveTo>
                  <a:pt x="0" y="0"/>
                </a:moveTo>
                <a:lnTo>
                  <a:pt x="39084" y="0"/>
                </a:lnTo>
                <a:lnTo>
                  <a:pt x="39084" y="21600"/>
                </a:lnTo>
                <a:lnTo>
                  <a:pt x="0" y="21600"/>
                </a:lnTo>
                <a:close/>
              </a:path>
              <a:path fill="lightenLess" w="39084" h="21600">
                <a:moveTo>
                  <a:pt x="0" y="0"/>
                </a:moveTo>
                <a:lnTo>
                  <a:pt x="39084" y="0"/>
                </a:lnTo>
                <a:lnTo>
                  <a:pt x="37684" y="1400"/>
                </a:lnTo>
                <a:lnTo>
                  <a:pt x="1400" y="1400"/>
                </a:lnTo>
                <a:close/>
              </a:path>
              <a:path fill="darken" w="39084" h="21600">
                <a:moveTo>
                  <a:pt x="39084" y="0"/>
                </a:moveTo>
                <a:lnTo>
                  <a:pt x="39084" y="21600"/>
                </a:lnTo>
                <a:lnTo>
                  <a:pt x="37684" y="20200"/>
                </a:lnTo>
                <a:lnTo>
                  <a:pt x="37684" y="1400"/>
                </a:lnTo>
                <a:close/>
              </a:path>
              <a:path fill="darkenLess" w="39084" h="21600">
                <a:moveTo>
                  <a:pt x="39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84" y="20200"/>
                </a:lnTo>
                <a:close/>
              </a:path>
              <a:path fill="lighten" w="39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84" h="21600">
                <a:moveTo>
                  <a:pt x="12535" y="10800"/>
                </a:moveTo>
                <a:lnTo>
                  <a:pt x="26548" y="3794"/>
                </a:lnTo>
                <a:lnTo>
                  <a:pt x="2654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755640" y="765000"/>
            <a:ext cx="74883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ijd aanpass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 tijd bepaalt hoelang er een stroom door de gloeidraad ga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 tijd bepaalt dus mede hoeveel elektronen er vrijko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de tijd bepaalt mede hoeveel straling er ontsta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ontras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3"/>
          <a:srcRect l="0" t="11902" r="0" b="740"/>
          <a:stretch/>
        </p:blipFill>
        <p:spPr>
          <a:xfrm>
            <a:off x="4518000" y="3192480"/>
            <a:ext cx="4013280" cy="3041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4"/>
          <a:stretch/>
        </p:blipFill>
        <p:spPr>
          <a:xfrm>
            <a:off x="324000" y="3192480"/>
            <a:ext cx="40100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ntstaan van stral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Röntgenstraling wordt opgewekt door een hoge spanning op wekken tussen een positieve en een negatieve p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ierdoor komt een stroom van elektronen op gang die gaat van de negatieve pool naar de positieve pool (Wolfraam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7" descr="msoE8942"/>
          <p:cNvPicPr/>
          <p:nvPr/>
        </p:nvPicPr>
        <p:blipFill>
          <a:blip r:embed="rId3"/>
          <a:srcRect l="3642" t="22581" r="6387" b="6751"/>
          <a:stretch/>
        </p:blipFill>
        <p:spPr>
          <a:xfrm>
            <a:off x="2411280" y="1515960"/>
            <a:ext cx="39610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ntstaan van stral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4292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p de positieve pool worden de elektronen afgebogen en verliezen snelhei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oor deze afbuiging en het afnemen van de snelheid van de elektronen ontstaat de röntgenstral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7" descr="mso213D8"/>
          <p:cNvPicPr/>
          <p:nvPr/>
        </p:nvPicPr>
        <p:blipFill>
          <a:blip r:embed="rId3"/>
          <a:srcRect l="7362" t="5871" r="3239" b="9179"/>
          <a:stretch/>
        </p:blipFill>
        <p:spPr>
          <a:xfrm>
            <a:off x="2627280" y="1413000"/>
            <a:ext cx="367344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trooistral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rooistraling ontstaat doordat röntgenstraling een voorwerp/lichaam binnenvalt en hierdoor van richting verander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4" descr="mso213D8"/>
          <p:cNvPicPr/>
          <p:nvPr/>
        </p:nvPicPr>
        <p:blipFill>
          <a:blip r:embed="rId2"/>
          <a:srcRect l="7362" t="5871" r="3239" b="9179"/>
          <a:stretch/>
        </p:blipFill>
        <p:spPr>
          <a:xfrm>
            <a:off x="2627280" y="3500280"/>
            <a:ext cx="3673440" cy="27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trooistral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ok verandert de energie van de straling. De intensiteit van strooistraling is daardoor minder dan van de directe röntgenbun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is echter nog steeds röntgenstraling met dezelfde eigenschapp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leen de risico’s op kansgebonden effecten zijn klein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Aanpassen röntgenstral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3 mogelijkheden om hoeveelheid en aard van straling aan te pass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kV aanpass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A aanpass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ijd (sec) aanpass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Invloed van lo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de gebruikelijke röntgenbuizen is 2 cm lood voldoende om geen straling meer te met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oodschorten en handschoenen van 0,5 mm reduceren de hoeveelheid straling met ongeveer 8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ALA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Bij het denken over veiligheid in het algemeen is het principe van ALARA algemeen aanvaar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87640" y="3789000"/>
            <a:ext cx="29876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ASONAB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CHIEV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4"/>
          <p:cNvSpPr/>
          <p:nvPr/>
        </p:nvSpPr>
        <p:spPr>
          <a:xfrm>
            <a:off x="1778040" y="5821200"/>
            <a:ext cx="295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5"/>
          <p:cNvSpPr/>
          <p:nvPr/>
        </p:nvSpPr>
        <p:spPr>
          <a:xfrm>
            <a:off x="1763640" y="4005360"/>
            <a:ext cx="295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1763640" y="4508640"/>
            <a:ext cx="295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1749600" y="4940280"/>
            <a:ext cx="295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1763640" y="5359320"/>
            <a:ext cx="295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Veiligheidsmaatregel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denk nu welke veiligheidsmaatregelen genomen kunnen worden om te voorkomen dat iemand onnodig straling oploop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3924360" y="4941720"/>
          <a:ext cx="914400" cy="71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360" y="494172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12:52:06Z</dcterms:created>
  <dc:creator>H. Verstappen</dc:creator>
  <dc:description/>
  <dc:language>en-US</dc:language>
  <cp:lastModifiedBy>Wieke Holtrop</cp:lastModifiedBy>
  <dcterms:modified xsi:type="dcterms:W3CDTF">2015-11-04T10:00:02Z</dcterms:modified>
  <cp:revision>13</cp:revision>
  <dc:subject/>
  <dc:title>Röntgenologie 2</dc:title>
</cp:coreProperties>
</file>