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F73-A2B6-4DFD-98C0-B0623EA4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24F-B2BF-493D-BAA9-4F82EA5E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36E-3F38-43B4-8D9B-AC441FC3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DEA-E2D9-49CF-8EF1-49C7A204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49B9-219F-495B-915D-994B1E35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70BB-EB4A-4A71-B7DE-1ED007F6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3C13-3EBD-4A6D-9827-F71FFC95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3CEF-F416-4FE0-9725-9C3BA13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E95D-ADAD-4F96-AE3D-68406A25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343-281E-4F2D-8C30-ACBE48D7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4A4C-8C7E-490C-8200-8536780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983-201D-459D-ACF6-018C6E06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2C3D-FFA8-4256-A2DA-2E536FE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274B-8335-497B-8C6B-4D6826BB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4A43-EE9F-4747-9D71-B2BB8925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4213-24DE-4C79-BD5F-BC30144A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BC44-16A0-45C8-AD2F-1543B815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4C6-A9D1-4E9E-8B9F-C1FA3D98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5BF-2C10-4EBE-B42E-13103073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3AF-F5B9-4F89-ACD1-12C112B3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07F-E5CD-48A5-AF79-42FB40F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62F-B31A-41CB-8E68-3A0CC515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0FB-1FB6-452F-90C6-F978CFE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E99-E805-4C41-85B6-7E870A7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1B02-7789-45B7-8F45-EA7CA1E30756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A9AB-B03D-4580-9230-00376BFC244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b7"/>
                </a:solidFill>
                <a:latin typeface="Arial Black"/>
              </a:rPr>
              <a:t>Dichtheid van een objec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zie ik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rib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DSCN363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06672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k slaap uit ho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Klachte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aken van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nds 5 d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ssel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nds 2 dagen verbete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u opnieuw aangeboden met fecaal br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dribbelRX"/>
          <p:cNvPicPr/>
          <p:nvPr/>
        </p:nvPicPr>
        <p:blipFill>
          <a:blip r:embed="rId1"/>
          <a:stretch/>
        </p:blipFill>
        <p:spPr>
          <a:xfrm>
            <a:off x="0" y="95400"/>
            <a:ext cx="9144000" cy="644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dribbelRXhc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115920"/>
            <a:ext cx="9144000" cy="6443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ribbelRXhc"/>
          <p:cNvPicPr/>
          <p:nvPr/>
        </p:nvPicPr>
        <p:blipFill>
          <a:blip r:embed="rId3"/>
          <a:srcRect l="23585" t="52068" r="54534" b="19560"/>
          <a:stretch/>
        </p:blipFill>
        <p:spPr>
          <a:xfrm>
            <a:off x="1763640" y="213372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zit daa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s het een kogel i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ribbelRXhckogel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41436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zit daar?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ing pong b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dribbelping"/>
          <p:cNvPicPr/>
          <p:nvPr/>
        </p:nvPicPr>
        <p:blipFill>
          <a:blip r:embed="rId1"/>
          <a:stretch/>
        </p:blipFill>
        <p:spPr>
          <a:xfrm>
            <a:off x="0" y="441360"/>
            <a:ext cx="91076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Wat is het dan we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DSCN3627"/>
          <p:cNvPicPr/>
          <p:nvPr/>
        </p:nvPicPr>
        <p:blipFill>
          <a:blip r:embed="rId1"/>
          <a:stretch/>
        </p:blipFill>
        <p:spPr>
          <a:xfrm>
            <a:off x="0" y="0"/>
            <a:ext cx="8964720" cy="6721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SCN3629"/>
          <p:cNvPicPr/>
          <p:nvPr/>
        </p:nvPicPr>
        <p:blipFill>
          <a:blip r:embed="rId2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SCN3630"/>
          <p:cNvPicPr/>
          <p:nvPr/>
        </p:nvPicPr>
        <p:blipFill>
          <a:blip r:embed="rId3"/>
          <a:stretch/>
        </p:blipFill>
        <p:spPr>
          <a:xfrm>
            <a:off x="0" y="1440"/>
            <a:ext cx="8964720" cy="672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SCN3631"/>
          <p:cNvPicPr/>
          <p:nvPr/>
        </p:nvPicPr>
        <p:blipFill>
          <a:blip r:embed="rId4"/>
          <a:stretch/>
        </p:blipFill>
        <p:spPr>
          <a:xfrm>
            <a:off x="0" y="1440"/>
            <a:ext cx="8893080" cy="666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SCN3642"/>
          <p:cNvPicPr/>
          <p:nvPr/>
        </p:nvPicPr>
        <p:blipFill>
          <a:blip r:embed="rId5"/>
          <a:stretch/>
        </p:blipFill>
        <p:spPr>
          <a:xfrm>
            <a:off x="539640" y="17640"/>
            <a:ext cx="78487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Resum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 dichter de st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 te witter het röntgenbe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ucht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taal/steen is 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astanje is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En Dribbel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.I.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9:19:49Z</dcterms:created>
  <dc:creator>Evert</dc:creator>
  <dc:description/>
  <dc:language>en-US</dc:language>
  <cp:lastModifiedBy>Wieke Holtrop</cp:lastModifiedBy>
  <dcterms:modified xsi:type="dcterms:W3CDTF">2021-01-18T08:23:33Z</dcterms:modified>
  <cp:revision>5</cp:revision>
  <dc:subject/>
  <dc:title>Dichtheid van onderwerp</dc:title>
</cp:coreProperties>
</file>