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A57-DE6F-498C-AFE7-60FDF0B2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C2C-1B62-4817-AC11-C2E9554A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226-D739-429A-AFD1-E8330634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719-1BBC-4641-8422-643FCED7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31A4-D429-400A-B3AC-7072049F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A69B-7FAE-4ADD-9D3B-D29AEC14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26B2-C53E-43FC-B94D-162A0738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ED20-B9D2-4D1A-A0C7-FC5A0CE0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FF26-5F12-480E-A482-5FA45CDA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4B28-B754-418B-BD48-31524DEB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1A5F-C83D-4D4D-AF92-5899C0BC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AB4-9263-418E-ABD4-DA8A36FD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0165-2D39-49ED-92CD-769E55E7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ABED-7CB6-4E65-BDDB-8D409336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1E47-AEDC-442E-9F69-A4139778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2FD6-4C66-4856-9FCE-8C71CEE9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2CB0-D323-4A57-88BB-DE66BDAE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50B-0175-44A8-97B1-72167F05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798-915E-4238-912D-13784054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6B7-B97B-4FC0-9496-183285CE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BE1-196E-4EEA-AD1C-82ABC822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D7E-D1CA-4236-97FD-D9507680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4A9-93E9-4099-81DA-C59C76DB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6E3-6776-40B9-92BA-61624CCB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E226-1A47-4615-A0CC-AFD6C81D8468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BA63-9825-4677-80E9-4986FF9D4049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b/MRI_brai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User-FastFission-brain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200" spc="-1" strike="noStrike">
                <a:solidFill>
                  <a:srgbClr val="ffffff"/>
                </a:solidFill>
                <a:latin typeface="Times New Roman"/>
              </a:rPr>
              <a:t>Andere beeldvormende technieken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at is er meer dan röntgenfoto’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ent_rss_sts_001"/>
          <p:cNvPicPr/>
          <p:nvPr/>
        </p:nvPicPr>
        <p:blipFill>
          <a:blip r:embed="rId1"/>
          <a:stretch/>
        </p:blipFill>
        <p:spPr>
          <a:xfrm>
            <a:off x="1908000" y="858960"/>
            <a:ext cx="504036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200" spc="-1" strike="noStrike">
                <a:solidFill>
                  <a:srgbClr val="ffffff"/>
                </a:solidFill>
                <a:latin typeface="Times New Roman"/>
              </a:rPr>
              <a:t>MRI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Magnetic Resonance Imaging</a:t>
            </a: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Magnetisme in weefs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De kern van sommige elementen (waterstof H</a:t>
            </a:r>
            <a:r>
              <a:rPr b="0" lang="nl-NL" sz="3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) heeft een “kernspin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Kernspin is een eigenschap van een element dat een magnetisch veld doet ontstaa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incipe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41300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Lichaam in een magnetisch veld (MRI-app) doet H</a:t>
            </a:r>
            <a:r>
              <a:rPr b="0" lang="nl-NL" sz="3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 in het lichaam van richting verandere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De richting wordt weer gecorrigeerd. Hierbij komt een foton vrij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De hoeveelheid energie in zo’n foton wordt gemete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incipe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Het MRI apparaat meet de energie van deze verschillende fotone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De computer maakt hiervan een 3 dimensionaal beel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Verschillende weefsels verschillende H</a:t>
            </a:r>
            <a:r>
              <a:rPr b="0" lang="nl-NL" sz="3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 dichtheid. Hierdoor 3D beeld van weefsel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upload.wikimedia.org/wikipedia/commons/thumb/b/bd/Modern_3T_MRI.JPG/220px-Modern_3T_MRI.JPG"/>
          <p:cNvPicPr/>
          <p:nvPr/>
        </p:nvPicPr>
        <p:blipFill>
          <a:blip r:embed="rId1"/>
          <a:stretch/>
        </p:blipFill>
        <p:spPr>
          <a:xfrm>
            <a:off x="1187280" y="6922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estand:MRI bra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692280"/>
            <a:ext cx="47516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f-MRI – functionele MR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Techniek waarmee de hersenactiviteit wordt gemeten. (meer gebruik van O</a:t>
            </a:r>
            <a:r>
              <a:rPr b="0" lang="nl-NL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Modern hersenonderzoek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upload.wikimedia.org/wikipedia/commons/c/c7/User-FastFission-brai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480960"/>
            <a:ext cx="489744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200" spc="-1" strike="noStrike">
                <a:solidFill>
                  <a:srgbClr val="ffffff"/>
                </a:solidFill>
                <a:latin typeface="Times New Roman"/>
              </a:rPr>
              <a:t>PET scan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sitron</a:t>
            </a:r>
            <a:r>
              <a:rPr b="0" lang="nl-NL" sz="3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issie</a:t>
            </a:r>
            <a:r>
              <a:rPr b="0" lang="nl-NL" sz="30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ografi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Wat is er meer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204640"/>
            <a:ext cx="815328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Echografi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CT-sc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MR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PET sc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Scintigrafi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incipe 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828800"/>
            <a:ext cx="815328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Radioactieve deeltjes worden gekoppeld aan bepaalde stoffe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Deze stoffen verzamelen zich op bepaalde plaatse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Op die plaatsen treedt verval op van de radioactieve stoffe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incipe 2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Bij dit verval komen positronen vrij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Deze positronen geven ook weer fotonen af. Deze worden gemete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Hieruit maakt de computer weer een plaatj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incipe 3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Oplossend vermogen = kleinst waarneembare deeltje : enkele m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renskecramerteksten.files.wordpress.com/2011/01/pet-scan.jpg"/>
          <p:cNvPicPr/>
          <p:nvPr/>
        </p:nvPicPr>
        <p:blipFill>
          <a:blip r:embed="rId1"/>
          <a:stretch/>
        </p:blipFill>
        <p:spPr>
          <a:xfrm>
            <a:off x="2050920" y="549360"/>
            <a:ext cx="49690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health.learninginfo.org/images/pet-scan.jpg"/>
          <p:cNvPicPr/>
          <p:nvPr/>
        </p:nvPicPr>
        <p:blipFill>
          <a:blip r:embed="rId1"/>
          <a:stretch/>
        </p:blipFill>
        <p:spPr>
          <a:xfrm>
            <a:off x="1763640" y="765000"/>
            <a:ext cx="52894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200" spc="-1" strike="noStrike">
                <a:solidFill>
                  <a:srgbClr val="ffffff"/>
                </a:solidFill>
                <a:latin typeface="Times New Roman"/>
              </a:rPr>
              <a:t>Scinitigrafi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incipe 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Patiënt krijgt radioactive stof toegedien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Dit verzamelt zich op specifieke plaatsen. (Jodium in de schildklier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Met een speciale camera wordt vervolgens een “foto” gemaak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incipe 2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Oplossend vermogen = kleinst waarneembare deeltje: 1 c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www.bosdreef.be/info_gzd/thyr_scintigrafie/bt_thyrscan.jpg"/>
          <p:cNvPicPr/>
          <p:nvPr/>
        </p:nvPicPr>
        <p:blipFill>
          <a:blip r:embed="rId1"/>
          <a:stretch/>
        </p:blipFill>
        <p:spPr>
          <a:xfrm>
            <a:off x="2050920" y="69228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Röntgenfot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25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Een röntgenfoto geeft een 2 dimensionaal (platgeslagen) plaatje op basis van röntgenstral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Oplossend vermogen 4 m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teentumor1"/>
          <p:cNvPicPr/>
          <p:nvPr/>
        </p:nvPicPr>
        <p:blipFill>
          <a:blip r:embed="rId1"/>
          <a:stretch/>
        </p:blipFill>
        <p:spPr>
          <a:xfrm>
            <a:off x="4718160" y="981000"/>
            <a:ext cx="37432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CT-sc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CT = Computer Tomografi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Een CT-scan geeft een dwarsdoorsnede van de verschillende lichaamsdelen. Ook mbv röntgenstraling, maar computermatig bewerkt zodat een doorsnede ontsta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A3C562ED"/>
          <p:cNvPicPr/>
          <p:nvPr/>
        </p:nvPicPr>
        <p:blipFill>
          <a:blip r:embed="rId1"/>
          <a:srcRect l="7573" t="4481" r="6169" b="56442"/>
          <a:stretch/>
        </p:blipFill>
        <p:spPr>
          <a:xfrm>
            <a:off x="755640" y="765000"/>
            <a:ext cx="741672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A3C562ED"/>
          <p:cNvPicPr/>
          <p:nvPr/>
        </p:nvPicPr>
        <p:blipFill>
          <a:blip r:embed="rId1"/>
          <a:srcRect l="6071" t="49883" r="7218" b="2833"/>
          <a:stretch/>
        </p:blipFill>
        <p:spPr>
          <a:xfrm>
            <a:off x="826920" y="482760"/>
            <a:ext cx="74170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FAC2C02"/>
          <p:cNvPicPr/>
          <p:nvPr/>
        </p:nvPicPr>
        <p:blipFill>
          <a:blip r:embed="rId1"/>
          <a:stretch/>
        </p:blipFill>
        <p:spPr>
          <a:xfrm>
            <a:off x="1908000" y="692280"/>
            <a:ext cx="5400720" cy="496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FAC2C02"/>
          <p:cNvPicPr/>
          <p:nvPr/>
        </p:nvPicPr>
        <p:blipFill>
          <a:blip r:embed="rId2"/>
          <a:srcRect l="0" t="8725" r="68021" b="60855"/>
          <a:stretch/>
        </p:blipFill>
        <p:spPr>
          <a:xfrm>
            <a:off x="2627280" y="1341360"/>
            <a:ext cx="41036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Mogelijkheden CT-sc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Doorsneden op verschillende hoogte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Verschillende opvolgende doorsneden bekijke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Computermatig lengtedoorsneden, schuine doorsneden en drie-dimensionale beelden make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Stralingsbelasting komt overeen met ongeveer 200 röntgenfoto’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ffffff"/>
                </a:solidFill>
                <a:latin typeface="Arial"/>
              </a:rPr>
              <a:t>Oplossend vermogen als röntgenfoto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20:05:45Z</dcterms:created>
  <dc:creator>H. Verstappen</dc:creator>
  <dc:description/>
  <dc:language>en-US</dc:language>
  <cp:lastModifiedBy>aocoost</cp:lastModifiedBy>
  <dcterms:modified xsi:type="dcterms:W3CDTF">2011-12-15T09:30:30Z</dcterms:modified>
  <cp:revision>25</cp:revision>
  <dc:subject/>
  <dc:title>Andere beeldvormende technieken</dc:title>
</cp:coreProperties>
</file>