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FD7-8957-4062-B352-00220D01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54B-D0C1-48F3-AAF8-0A3B934B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30A-EFBF-4D39-8745-42984A54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C75-FE98-4040-9B75-90E6AD35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B40-4672-4119-969F-1D3E0C33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EEF-7E8E-486F-BE04-D0BB4442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B7C-633C-4F55-8565-7BAAC6E8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308-85BF-41AE-9981-6A43B6DE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3AC-05AD-455C-8E21-853D87C4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E68-0D98-41B7-BD69-B4B383B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2AC-DB39-4309-81D9-6021496C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0B8-B350-46C2-832A-979DC50E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23B3-59D0-4703-9F33-5B8B2F1A93A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R&#246;ntgenologie%20opnametechniek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ologie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ffecten en veil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Niet kans 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Voor alle duidelijkhei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De hierboven beschreven effecten treden pas op, bij veel hogere stralingsdoses dan waaraan röntgenologische medewerkers worden blootgesteld. Je moet hierbij denken </a:t>
            </a:r>
            <a:r>
              <a:rPr b="1" i="1" lang="nl-NL" sz="3200" spc="-1" strike="noStrike">
                <a:solidFill>
                  <a:srgbClr val="ffffff"/>
                </a:solidFill>
                <a:latin typeface="Tahoma"/>
              </a:rPr>
              <a:t>een factor duizend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ze zijn vaak herstelbaar (duur/littek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Kans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kans op effect is dosisafhankelij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ans is lineair (dubbele dosis 2 x grotere ka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traging in optre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toond bij hogere doses. 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atoombommen 2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 wereldoorlo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iet aangetoond bij lagere doses, maar komt wel voor. Dus ALA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Kans 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isico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middelde mens bij 1 SV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5% meer kans op kank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adiologische werker in het algemeen heeft 4% meer kans dan een niet radiologisch werk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geleken met de lichte industrie is het risico bij 20 mSV  gro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j enkele mSV is het risico even groot als in de lichte industr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Kans 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Door toepassing van het ALARA principe zal een blootgestelde medewerker in de dierenartsen-praktijk ruim onder deze limiet van 20 mSv per jaar kunnen en moeten blijven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de praktijk zal dit zelfs veel lager kun-nen zijn 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45" descr=""/>
          <p:cNvPicPr/>
          <p:nvPr/>
        </p:nvPicPr>
        <p:blipFill>
          <a:blip r:embed="rId1"/>
          <a:stretch/>
        </p:blipFill>
        <p:spPr>
          <a:xfrm>
            <a:off x="0" y="1639800"/>
            <a:ext cx="91249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rafiek 2" descr=""/>
          <p:cNvPicPr/>
          <p:nvPr/>
        </p:nvPicPr>
        <p:blipFill>
          <a:blip r:embed="rId1"/>
          <a:stretch/>
        </p:blipFill>
        <p:spPr>
          <a:xfrm>
            <a:off x="0" y="1627200"/>
            <a:ext cx="91504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ffecten ongeboren ki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perioden in de ontwikke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é-implantatieperiode (0 – 10 da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rgaanaanleg ( 20 – 60 da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Foetale ontwikkeling (&gt; 60 da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rsenen (50-100 dagen) meest gevoelig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rsenen (100 -180 dagen) gevoel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Sv verlaging IQ met 20 – 30 pu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0" spc="-1" strike="noStrike">
                <a:solidFill>
                  <a:srgbClr val="ffffff"/>
                </a:solidFill>
                <a:latin typeface="Tahoma"/>
              </a:rPr>
              <a:t>DUS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Het moment dat je weet, dat je zwanger bent ligt al in periode B. Het is dan ook van belang om extra rekening te houden met straling als je zwanger </a:t>
            </a:r>
            <a:r>
              <a:rPr b="1" lang="nl-NL" sz="3200" spc="-1" strike="noStrike" u="sng">
                <a:solidFill>
                  <a:srgbClr val="ffffff"/>
                </a:solidFill>
                <a:uFillTx/>
                <a:latin typeface="Tahoma"/>
              </a:rPr>
              <a:t>wilt worden</a:t>
            </a: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Bespreek dit op de praktijk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LitttleLAmb%20(3)"/>
          <p:cNvPicPr/>
          <p:nvPr/>
        </p:nvPicPr>
        <p:blipFill>
          <a:blip r:embed="rId1"/>
          <a:stretch/>
        </p:blipFill>
        <p:spPr>
          <a:xfrm>
            <a:off x="3059280" y="4365720"/>
            <a:ext cx="3120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Opnametechniek algeme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rogram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alingseffec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öntgenbeel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aling  &amp; veil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alingsveilighe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7" descr="SN-607N"/>
          <p:cNvPicPr/>
          <p:nvPr/>
        </p:nvPicPr>
        <p:blipFill>
          <a:blip r:embed="rId1"/>
          <a:stretch/>
        </p:blipFill>
        <p:spPr>
          <a:xfrm>
            <a:off x="3203640" y="3573360"/>
            <a:ext cx="266364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alingsveilighe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alingsveiligheid is gebaseerd op 3 principe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1. Rechtvaardiging: Is een foto noodzakelijk? Is er een minder risicovol alternatief? Deze vraag moet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Tahoma"/>
              </a:rPr>
              <a:t>altijd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beantwoord wo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2. AL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. Indeling van risicogroepen met toegestane maximale extra op te lopen stralingsdo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705800" cy="448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alingsveilighe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929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s-limie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614600"/>
            <a:ext cx="7488360" cy="449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s-limie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met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Dosimeter"/>
          <p:cNvPicPr/>
          <p:nvPr/>
        </p:nvPicPr>
        <p:blipFill>
          <a:blip r:embed="rId1"/>
          <a:stretch/>
        </p:blipFill>
        <p:spPr>
          <a:xfrm>
            <a:off x="5364000" y="1916280"/>
            <a:ext cx="2662560" cy="41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dosimeter_a"/>
          <p:cNvPicPr/>
          <p:nvPr/>
        </p:nvPicPr>
        <p:blipFill>
          <a:blip r:embed="rId2"/>
          <a:stretch/>
        </p:blipFill>
        <p:spPr>
          <a:xfrm>
            <a:off x="539640" y="191628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1280" y="1690560"/>
            <a:ext cx="7777080" cy="433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adiologische werk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20000" cy="380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adiologische werk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777080" cy="4376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adiologische werk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848360" cy="5095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s en zwangersch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veel straling is er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atuurlijke bro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smische stra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xterne bestra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wendige bestra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ad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unstmatige bro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edische diagnost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ige kunstmatige bron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roepsmatige bron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48720" cy="478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6084720" y="6359400"/>
            <a:ext cx="2619720" cy="309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sis en zwangersch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Maar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Tahoma"/>
              </a:rPr>
              <a:t>Ondanks de zeer lage risico’s toch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0" spc="-1" strike="noStrike">
                <a:solidFill>
                  <a:srgbClr val="00c600"/>
                </a:solidFill>
                <a:latin typeface="Tahoma"/>
              </a:rPr>
              <a:t>ALARA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verzicht bronn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68360" y="1844640"/>
            <a:ext cx="8136000" cy="46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Tahoma"/>
              </a:rPr>
              <a:t>Tabel 3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verzicht van de gemiddelde effectieve dosis van de Nederlandse bevolking in 2000 door natuurlijke en kunstmatige stralingsbronn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Bronnen 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Effectieve dosis (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mSv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Natuurlijke bron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smische stralin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2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xterne bestraling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3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nwendige bestraling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Radon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8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ffffff"/>
                </a:solidFill>
                <a:uFillTx/>
                <a:latin typeface="Tahoma"/>
              </a:rPr>
              <a:t>Kunstmatige bro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dische diagnostie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59 </a:t>
            </a:r>
            <a:r>
              <a:rPr b="0" lang="nl-NL" sz="2400" spc="-1" strike="noStrike" baseline="30000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verige kunstmatige bronnen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0,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roepsmatige blootstelling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&lt;0,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Totaal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2,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a schatting voor 1998, schatting voor 2002: 0,52 mSv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539640" y="1989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Tabel 4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arakteristieke waarden van stralingsdoses bij medisch-diagnostische toepassingen. (Gezondheidsraad nr: 2007/0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Onderzoek van 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nl-NL" sz="1800" spc="-1" strike="noStrike" u="sng">
                <a:solidFill>
                  <a:srgbClr val="ffffff"/>
                </a:solidFill>
                <a:uFillTx/>
                <a:latin typeface="Tahoma"/>
              </a:rPr>
              <a:t>Effectieve dosis (mSv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anden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orax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Ledematen en gewrichten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0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ervelkolom (borst en lendenwervels)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3,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ekken- en heupfoto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8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Maag met bariumcontrastmiddel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3,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ikke darm met bariumcontrastmiddel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6,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orst (mammografie)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0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CT van hersenen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CT van thorax (hart en longen)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6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CT van buik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oedvaten (angiografie)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terventieradiologie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verzicht Medische diagnosti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ffecten van 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iet de straling z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actie van straling met H</a:t>
            </a:r>
            <a:r>
              <a:rPr b="0" lang="nl-NL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 vrije radica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ffecten van vrije radicale op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DNA defecten treden op tijdens of na de de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schil gevoeligheid weef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ffecten van 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sisafhankelijk eff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et kansgebonden effec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ansgebondeneffec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673200" y="3068640"/>
            <a:ext cx="6501240" cy="2089080"/>
            <a:chOff x="673200" y="3068640"/>
            <a:chExt cx="6501240" cy="2089080"/>
          </a:xfrm>
        </p:grpSpPr>
        <p:grpSp>
          <p:nvGrpSpPr>
            <p:cNvPr id="56" name="Group 7"/>
            <p:cNvGrpSpPr/>
            <p:nvPr/>
          </p:nvGrpSpPr>
          <p:grpSpPr>
            <a:xfrm>
              <a:off x="1332000" y="3068640"/>
              <a:ext cx="5616000" cy="2089080"/>
              <a:chOff x="1332000" y="3068640"/>
              <a:chExt cx="5616000" cy="2089080"/>
            </a:xfrm>
          </p:grpSpPr>
          <p:grpSp>
            <p:nvGrpSpPr>
              <p:cNvPr id="57" name="Group 8"/>
              <p:cNvGrpSpPr/>
              <p:nvPr/>
            </p:nvGrpSpPr>
            <p:grpSpPr>
              <a:xfrm>
                <a:off x="1332000" y="3068640"/>
                <a:ext cx="856800" cy="2089080"/>
                <a:chOff x="1332000" y="3068640"/>
                <a:chExt cx="856800" cy="2089080"/>
              </a:xfrm>
            </p:grpSpPr>
            <p:sp>
              <p:nvSpPr>
                <p:cNvPr id="58" name="Line 9"/>
                <p:cNvSpPr/>
                <p:nvPr/>
              </p:nvSpPr>
              <p:spPr>
                <a:xfrm>
                  <a:off x="1760040" y="3068640"/>
                  <a:ext cx="0" cy="208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10"/>
                <p:cNvSpPr/>
                <p:nvPr/>
              </p:nvSpPr>
              <p:spPr>
                <a:xfrm>
                  <a:off x="1545840" y="4257000"/>
                  <a:ext cx="42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11"/>
                <p:cNvSpPr/>
                <p:nvPr/>
              </p:nvSpPr>
              <p:spPr>
                <a:xfrm>
                  <a:off x="1332000" y="5157720"/>
                  <a:ext cx="85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" name="Line 12"/>
              <p:cNvSpPr/>
              <p:nvPr/>
            </p:nvSpPr>
            <p:spPr>
              <a:xfrm>
                <a:off x="2019600" y="4246920"/>
                <a:ext cx="492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2" name="Rectangle 14"/>
            <p:cNvSpPr/>
            <p:nvPr/>
          </p:nvSpPr>
          <p:spPr>
            <a:xfrm>
              <a:off x="2266200" y="3357000"/>
              <a:ext cx="470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iet kansgebonden effecten (naar mate de dosis groter wordt is het effect groter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264760" y="4507920"/>
              <a:ext cx="490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Kansgebonden effecten (naar mate de dosis groter wordt is de kans op effect groter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 flipV="1">
              <a:off x="1332000" y="378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9"/>
            <p:cNvSpPr/>
            <p:nvPr/>
          </p:nvSpPr>
          <p:spPr>
            <a:xfrm>
              <a:off x="673200" y="4004640"/>
              <a:ext cx="50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Tahoma"/>
                </a:rPr>
                <a:t>Dosis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" name="Rectangle 24"/>
          <p:cNvSpPr/>
          <p:nvPr/>
        </p:nvSpPr>
        <p:spPr>
          <a:xfrm>
            <a:off x="468360" y="537372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ffecten op de zwangersch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ffecten op het ongeboren ki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Niet kans gebonden effect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gere stralingsd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ffect afhankelijk van de d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meer straling hoe groter het (negatieve)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beelden niet kansgebonden effecten op volgende d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9AB426ED"/>
          <p:cNvPicPr/>
          <p:nvPr/>
        </p:nvPicPr>
        <p:blipFill>
          <a:blip r:embed="rId1"/>
          <a:srcRect l="5813" t="3199" r="16118" b="6267"/>
          <a:stretch/>
        </p:blipFill>
        <p:spPr>
          <a:xfrm>
            <a:off x="1619280" y="260280"/>
            <a:ext cx="590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16:26:48Z</dcterms:created>
  <dc:creator>H. Verstappen</dc:creator>
  <dc:description/>
  <dc:language>en-US</dc:language>
  <cp:lastModifiedBy>Verstappen</cp:lastModifiedBy>
  <dcterms:modified xsi:type="dcterms:W3CDTF">2014-11-05T18:59:19Z</dcterms:modified>
  <cp:revision>20</cp:revision>
  <dc:subject/>
  <dc:title>Dia 1</dc:title>
</cp:coreProperties>
</file>