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597-85D4-4A3F-97A6-30AAB099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5EA-4E0C-4588-BAE5-E74A661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F7A-16BB-426A-9B5D-6859CE85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30F-3DE9-477F-8FFA-E26FBF99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126C-D766-4CB5-AEEA-960861AD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A74-547B-4BAB-9537-0E24FD63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5A67-10B1-4DCE-BB9C-135743FC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12B8-4B17-4604-8AD1-E12DF6CB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75C9-5EEA-4083-A1E3-6FCB4555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4744-9D82-4B14-92E5-91961B69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5228-352B-412F-B7F5-824CA5F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8BB-68B4-4666-921E-3DBDBD46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284A-1D6D-45D4-AE0D-9BAC19D3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03E6-6251-4B8F-9617-8E4AA0D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6B88-3968-435F-9F40-08C6D3E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8232-CED1-4490-B838-3F68F9AB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D03-F123-4A5A-AEC1-466EDC11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F44-067A-4F9C-AD04-F1910F64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1D3-74D0-45F1-870E-32399F11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6F0-C71F-481A-A60F-73F71363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914-ECB9-40C5-91BC-25559EAF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092-785E-4B97-B012-BE46B7B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8C3-3568-4DCB-A7DB-EC34787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C67-39A9-4263-8CBA-179F8773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65BC-87A1-46B9-89A4-88214BF69581}" type="slidenum">
              <a:rPr b="0" lang="nl-N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BB16-41BC-429A-840B-F2F22A3B314B}" type="slidenum">
              <a:rPr b="0" lang="nl-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l.wikipedia.org/wiki/Fotografie" TargetMode="Externa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Hoe onstaat een foto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41280" y="1965240"/>
            <a:ext cx="73962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Princip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28640"/>
            <a:ext cx="7826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sterkingsschermen zetten rö-straling om in zichtbaar 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fotografische plaat is gevoeliger voor straling met een grotere golfleng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tere golflengte past ook beter bij AgBr. (De stof op de fotografische plaa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sulta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 de versterkingsschermen heb ik minder straling nodig om een goede foto te krijgen. (beperking van de tij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 gebruik van versterkingsschermen beperk ik dus de risico’s van het maken van rö-foto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Fluorescerende stof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eldzame aarde scherm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anthaan (lichtkleur blau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dolinium (lichtkleur geel-gro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fotografische plaat moet hier dus gevoelig voor zij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gebruikte licht in de dok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Korrelgrootte scherm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orrels op versterkingsschermen zijn groter dan AgBr korrels op fotogra-fische pla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 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scherpt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2 Term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solutie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oplossend vermogen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cheidend vermogen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schrijft hoe dicht waarden bij elkaar kunnen liggen die nog net gescheiden kunnen worden waargenom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Contra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In de </a:t>
            </a:r>
            <a:r>
              <a:rPr b="0" lang="nl-NL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fotograf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is de beheersing van het contrast een technische uitdaging, ofwel hoe krijg je de foto zo dat zowel in de donkere als in de lichte gedeeltes nog details te zien zij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>
            <a:hlinkClick r:id="rId2" action="ppaction://hlinksldjump"/>
          </p:cNvPr>
          <p:cNvSpPr/>
          <p:nvPr/>
        </p:nvSpPr>
        <p:spPr>
          <a:xfrm>
            <a:off x="6659640" y="549360"/>
            <a:ext cx="504720" cy="3585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96" h="21600">
                <a:moveTo>
                  <a:pt x="0" y="0"/>
                </a:moveTo>
                <a:lnTo>
                  <a:pt x="30396" y="0"/>
                </a:lnTo>
                <a:lnTo>
                  <a:pt x="30396" y="21600"/>
                </a:lnTo>
                <a:lnTo>
                  <a:pt x="0" y="21600"/>
                </a:lnTo>
                <a:close/>
              </a:path>
              <a:path fill="lightenLess" w="30396" h="21600">
                <a:moveTo>
                  <a:pt x="0" y="0"/>
                </a:moveTo>
                <a:lnTo>
                  <a:pt x="30396" y="0"/>
                </a:lnTo>
                <a:lnTo>
                  <a:pt x="28996" y="1400"/>
                </a:lnTo>
                <a:lnTo>
                  <a:pt x="1400" y="1400"/>
                </a:lnTo>
                <a:close/>
              </a:path>
              <a:path fill="darken" w="30396" h="21600">
                <a:moveTo>
                  <a:pt x="30396" y="0"/>
                </a:moveTo>
                <a:lnTo>
                  <a:pt x="30396" y="21600"/>
                </a:lnTo>
                <a:lnTo>
                  <a:pt x="28996" y="20200"/>
                </a:lnTo>
                <a:lnTo>
                  <a:pt x="28996" y="1400"/>
                </a:lnTo>
                <a:close/>
              </a:path>
              <a:path fill="darkenLess" w="30396" h="21600">
                <a:moveTo>
                  <a:pt x="30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96" y="20200"/>
                </a:lnTo>
                <a:close/>
              </a:path>
              <a:path fill="lighten" w="30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>
            <a:hlinkClick r:id="rId3" action="ppaction://hlinksldjump"/>
          </p:cNvPr>
          <p:cNvSpPr/>
          <p:nvPr/>
        </p:nvSpPr>
        <p:spPr>
          <a:xfrm>
            <a:off x="7667640" y="549360"/>
            <a:ext cx="504720" cy="3585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96" h="21600">
                <a:moveTo>
                  <a:pt x="0" y="0"/>
                </a:moveTo>
                <a:lnTo>
                  <a:pt x="30396" y="0"/>
                </a:lnTo>
                <a:lnTo>
                  <a:pt x="30396" y="21600"/>
                </a:lnTo>
                <a:lnTo>
                  <a:pt x="0" y="21600"/>
                </a:lnTo>
                <a:close/>
              </a:path>
              <a:path fill="lightenLess" w="30396" h="21600">
                <a:moveTo>
                  <a:pt x="0" y="0"/>
                </a:moveTo>
                <a:lnTo>
                  <a:pt x="30396" y="0"/>
                </a:lnTo>
                <a:lnTo>
                  <a:pt x="28996" y="1400"/>
                </a:lnTo>
                <a:lnTo>
                  <a:pt x="1400" y="1400"/>
                </a:lnTo>
                <a:close/>
              </a:path>
              <a:path fill="darken" w="30396" h="21600">
                <a:moveTo>
                  <a:pt x="30396" y="0"/>
                </a:moveTo>
                <a:lnTo>
                  <a:pt x="30396" y="21600"/>
                </a:lnTo>
                <a:lnTo>
                  <a:pt x="28996" y="20200"/>
                </a:lnTo>
                <a:lnTo>
                  <a:pt x="28996" y="1400"/>
                </a:lnTo>
                <a:close/>
              </a:path>
              <a:path fill="darkenLess" w="30396" h="21600">
                <a:moveTo>
                  <a:pt x="30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96" y="20200"/>
                </a:lnTo>
                <a:close/>
              </a:path>
              <a:path fill="lighten" w="30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219E249"/>
          <p:cNvPicPr/>
          <p:nvPr/>
        </p:nvPicPr>
        <p:blipFill>
          <a:blip r:embed="rId1"/>
          <a:srcRect l="0" t="0" r="912" b="0"/>
          <a:stretch/>
        </p:blipFill>
        <p:spPr>
          <a:xfrm>
            <a:off x="2124000" y="692280"/>
            <a:ext cx="3959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4F7A043F"/>
          <p:cNvPicPr/>
          <p:nvPr/>
        </p:nvPicPr>
        <p:blipFill>
          <a:blip r:embed="rId1"/>
          <a:srcRect l="0" t="0" r="0" b="20942"/>
          <a:stretch/>
        </p:blipFill>
        <p:spPr>
          <a:xfrm>
            <a:off x="1835280" y="189000"/>
            <a:ext cx="5805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ypen scherm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F-100 schermen, versterkingsfacto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 extremiteiten, zonder gebruik van strooistralenroo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og contrast, uitstekende resolut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R-400 schermen, versterkingsfactor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 gebruik bij dikkere objecten, met gebruik van strooistralenroo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og contrast, erg goede resolut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4">
            <a:hlinkClick r:id="rId1" action="ppaction://hlinksldjump"/>
          </p:cNvPr>
          <p:cNvSpPr/>
          <p:nvPr/>
        </p:nvSpPr>
        <p:spPr>
          <a:xfrm>
            <a:off x="7596360" y="476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ypen scherm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H-200 schermen, versterkingsfactor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mmografie scher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kel in de casset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otoplaat met aan 1 kant AgB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betere resolu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7596360" y="476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Ontwikkelproce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Wat is een röntgenstraal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tstaat dus door rem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remmingsener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n pakketjes energie (foton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Schematis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4" descr="CAE848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116000" y="1989000"/>
            <a:ext cx="69120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heori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p fotoplaat zitten korrels met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een korrel zitten meerdere moleculen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ntgen (licht) kwanten reageren met een molecuul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heori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htkwanten zorgen er voor een fotografisch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AgBr molecuul wordt “gevoelig” voor het ontwikkelpro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Ontwikkel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het ontwikkelen ontstaat er in elke korrel nu een neerslag van zilver(Ag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 Ag er neerslaat in elke korrel bepaalt de hoeveel zwarting op de fo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Spoelen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opt het ontwikkel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wijdert de resten van de ontwikkelvloeist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Fixer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wijderen van het niet belichte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87280" y="31417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Spoel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116000" y="47242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opzetten fixeerpro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Nat ontwikkel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leen bij na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twikkelen 5 mi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poelen 1 minu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ixeren 3 mi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poelen 1 minu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fixeren 15 m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spoelen 30 mi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IMG_0037"/>
          <p:cNvPicPr/>
          <p:nvPr/>
        </p:nvPicPr>
        <p:blipFill>
          <a:blip r:embed="rId1"/>
          <a:stretch/>
        </p:blipFill>
        <p:spPr>
          <a:xfrm>
            <a:off x="755640" y="549360"/>
            <a:ext cx="7559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cassette 1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assette 2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-straal komt uit bu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at door object (bijv. poot. Thorax, abdomen o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Foton gaat object door en verliest meer of minder ener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omt met meer of minder energie uit het objec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IMG_0045"/>
          <p:cNvPicPr/>
          <p:nvPr/>
        </p:nvPicPr>
        <p:blipFill>
          <a:blip r:embed="rId1"/>
          <a:stretch/>
        </p:blipFill>
        <p:spPr>
          <a:xfrm>
            <a:off x="684360" y="765000"/>
            <a:ext cx="79912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’n foton komt op het versterkingssch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versterkingsscherm licht op zichtbaar 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fhankelijk van de hoeveelheid energie in zo’n foton meer of minder sterk 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280" y="620640"/>
            <a:ext cx="820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licht komt op de fotografische pla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elke korrel op de plaat zitten meerdere moleculen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meer licht er door een foton wordt opgewekt hoe meer AgBr moleculen worden “aangeslagen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meer aangeslagen AgBr hoe zwar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 beide kanten van de fotografische plaat zit een versterkingssch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us de fotografische plaat wordt van beide kanten be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 hetzelfde foto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Casset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htdic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sterkingsscher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ventueel loodplaatje in de h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Product%20Veterinair%20conv%20cassette%20scherm"/>
          <p:cNvPicPr/>
          <p:nvPr/>
        </p:nvPicPr>
        <p:blipFill>
          <a:blip r:embed="rId1"/>
          <a:stretch/>
        </p:blipFill>
        <p:spPr>
          <a:xfrm>
            <a:off x="3276720" y="4005360"/>
            <a:ext cx="33289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Versterkingsscherm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Principe.</a:t>
            </a: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10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Fotografische platen zijn gevoelig voor rö-straling. (Kleine golfleng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Fotografische platen zijn gevoeliger voor straling met grotere golfleng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chtbaar licht heeft grotere golfleng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2:11:50Z</dcterms:created>
  <dc:creator>H. Verstappen</dc:creator>
  <dc:description/>
  <dc:language>en-US</dc:language>
  <cp:lastModifiedBy>Verstappen</cp:lastModifiedBy>
  <dcterms:modified xsi:type="dcterms:W3CDTF">2014-11-19T21:40:03Z</dcterms:modified>
  <cp:revision>11</cp:revision>
  <dc:subject/>
  <dc:title>Versterkingsschermen</dc:title>
</cp:coreProperties>
</file>