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702-EEB4-408D-9DAB-7574CF63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7BC-A02C-4778-BE85-E0C3452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FA0-9C7D-41AA-B0E7-778A8D16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BC9-742D-4F32-9488-75970CD6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1FE6-E915-450D-935B-0405AEA6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5AF2-541B-4A01-9B1F-7DECF439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207E-B89C-4BC1-B59A-BEFEA777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C8A-BCCA-47E3-AEF2-6B0F0A8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5A1D-94AF-4DDB-9817-21E38644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6F4-1554-4F14-AFD4-23B1CFC6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213-ACA8-40DA-9374-12DF31A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D20-1073-4296-BEBA-98DDEBA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3DD7-2A22-4C48-901D-DE057BD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70D-72F7-4CCC-9D12-D3D9F13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FB8-ACA6-4A68-A0E2-C86E312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6B1-26B6-44BA-8EB3-7F7840FE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DB4-E158-4B7B-A97D-98EBE637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44A-D5BB-4132-AAB0-823577E9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2F3-6C22-4A18-B2C1-4E24262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EC5-F794-4F8E-98EC-907693F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98D-F4A4-4970-A0DD-971CD758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5CA-718B-4722-92FF-926C129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537-3B0F-4743-8240-4FB30A8A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EFF-2C49-4AC7-B5D9-395C296D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5CFD-06B5-4FD3-A2EC-5ADEDAF0DFD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2F59-B9DD-4D7D-94F4-01E7509FCAF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Arial"/>
              </a:rPr>
              <a:t>Röntgenologie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E343488D"/>
          <p:cNvPicPr/>
          <p:nvPr/>
        </p:nvPicPr>
        <p:blipFill>
          <a:blip r:embed="rId1"/>
          <a:srcRect l="7914" t="30164" r="6940" b="19527"/>
          <a:stretch/>
        </p:blipFill>
        <p:spPr>
          <a:xfrm>
            <a:off x="1908000" y="4076640"/>
            <a:ext cx="540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3924360" y="328464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2846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684360" y="404640"/>
            <a:ext cx="7704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lovoltage aanpassen (kV) = 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vol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elektronen krijgen meer snelheid waardoor ze harder tegen de anode aanbot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or deze hardere botsing ontstaat straling met meer ener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raling met meer energie kan dieper doordringen in de weefsels. Hierdoor kun je door dikkere en hardere delen h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bij dikkere en minder goed doordringbare delen meer k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900000" y="907920"/>
            <a:ext cx="7272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mpère (= mA) = spanning aanpass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spanning bepaald de hoeveelheid elektronen die vrijk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hoeveelheid elektronen die vrijkomen bepalen de hoeveelheid straling die vrijkom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hoeveelheid straling bepaalt het contrast van de op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meer ampère betekent meer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55640" y="765000"/>
            <a:ext cx="748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 aanpas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tijd bepaalt hoelang er een stroom door de gloeidraad g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tijd bepaalt dus mede hoeveel elektronen er vrijk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de tijd bepaalt mede hoeveel straling er ontst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ntra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rcRect l="0" t="11902" r="0" b="740"/>
          <a:stretch/>
        </p:blipFill>
        <p:spPr>
          <a:xfrm>
            <a:off x="4518000" y="3192480"/>
            <a:ext cx="401328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4"/>
          <a:stretch/>
        </p:blipFill>
        <p:spPr>
          <a:xfrm>
            <a:off x="324000" y="3192480"/>
            <a:ext cx="4010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ntstaan van 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öntgenstraling wordt opgewekt door een hoge spanning op wekken tussen een positieve en een negatieve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ierdoor komt een stroom van elektronen op gang die gaat van de negatieve pool naar de positieve pool (Wolfraam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msoE8942"/>
          <p:cNvPicPr/>
          <p:nvPr/>
        </p:nvPicPr>
        <p:blipFill>
          <a:blip r:embed="rId3"/>
          <a:srcRect l="3642" t="22581" r="6387" b="6751"/>
          <a:stretch/>
        </p:blipFill>
        <p:spPr>
          <a:xfrm>
            <a:off x="2411280" y="1515960"/>
            <a:ext cx="3961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ntstaan van 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 de positieve pool worden de elektronen afgebogen en verliezen snelhei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oor deze afbuiging en het afnemen van de snelheid van de elektronen ontstaat de röntgenstr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mso213D8"/>
          <p:cNvPicPr/>
          <p:nvPr/>
        </p:nvPicPr>
        <p:blipFill>
          <a:blip r:embed="rId3"/>
          <a:srcRect l="7362" t="5871" r="3239" b="9179"/>
          <a:stretch/>
        </p:blipFill>
        <p:spPr>
          <a:xfrm>
            <a:off x="2627280" y="1413000"/>
            <a:ext cx="3673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ooistraling ontstaat doordat röntgenstraling een voorwerp/lichaam binnenvalt en hierdoor van richting verande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mso213D8"/>
          <p:cNvPicPr/>
          <p:nvPr/>
        </p:nvPicPr>
        <p:blipFill>
          <a:blip r:embed="rId2"/>
          <a:srcRect l="7362" t="5871" r="3239" b="9179"/>
          <a:stretch/>
        </p:blipFill>
        <p:spPr>
          <a:xfrm>
            <a:off x="2627280" y="3500280"/>
            <a:ext cx="367344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verandert de energie van de straling. De intensiteit van strooistraling is daardoor minder dan van de directe röntgenbun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is echter nog steeds röntgenstraling met dezelfde eigensc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en de risico’s op kansgebonden effecten zijn kle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passen röntgen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 mogelijkheden om hoeveelheid en aard van straling aan te pas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V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ijd (sec)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loed van 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gebruikelijke röntgenbuizen is 2 cm lood voldoende om geen straling meer te me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oodschorten en handschoenen van 0,5 mm reduceren de hoeveelheid straling met ongeveer 8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LA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ij het denken over veiligheid in het algemeen is het principe van ALARA algemeen aanvaar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7640" y="3789000"/>
            <a:ext cx="2987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ASONAB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1778040" y="582120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1763640" y="4005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763640" y="4508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749600" y="494028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1763640" y="535932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Veiligheidsmaatrege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denk nu welke veiligheidsmaatregelen genomen kunnen worden om te voorkomen dat iemand onnodig straling oploo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924360" y="4941720"/>
          <a:ext cx="91440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941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2:52:06Z</dcterms:created>
  <dc:creator>H. Verstappen</dc:creator>
  <dc:description/>
  <dc:language>en-US</dc:language>
  <cp:lastModifiedBy>Wieke Holtrop</cp:lastModifiedBy>
  <dcterms:modified xsi:type="dcterms:W3CDTF">2015-11-04T10:00:02Z</dcterms:modified>
  <cp:revision>13</cp:revision>
  <dc:subject/>
  <dc:title>Röntgenologie 2</dc:title>
</cp:coreProperties>
</file>