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29D9-2050-42D3-8FBB-D6785BC6E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47EE-93FC-4D1D-89BA-159EA88EB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D15E-53A2-4853-97C6-D86590DBB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B4CA-355D-494A-A9D9-F0FA38B48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79F33-2AC7-4B32-B0ED-AB4B89160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50CED-6B07-4534-ADD9-692AE00F3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93D84-A850-46A3-8EF6-A88CF0CAF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D3C3A-2D5C-4067-BA57-71A2E90AB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D3B88-0C79-499C-A9C9-F78C617D2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6E950-1291-4556-ADF1-EB81E27E7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2D7D0-57EA-46EE-AAB1-C7C09AC4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F061-1D9B-4B07-94F2-AE495E72A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CCFF4-FD74-4D1C-8408-90E5279A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935DA-E80A-4D66-855F-9E730155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54F8A-CE35-4D7E-ACE8-53BE3E49C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CA22E-DFAC-483F-B063-D3F842A3C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C406B-87E0-428B-8D6B-339D74816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2045-7C75-4A0C-9749-15D54FB4C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FE26-8376-474A-A44E-93AF34AF5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D1E8-807C-42BE-B67E-F0597AC13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00CF-7BC5-4D42-800A-D3695F52E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EEB5-456B-4D20-B375-C5EA7CF2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D764-B518-4F71-9558-70FA3C7CB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4EF5-571F-4DC4-9FFA-593CE495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48B7A-5575-471D-8815-A8981CA733CF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83F9B-6CE2-4466-B392-145357A36920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>
                <a:solidFill>
                  <a:srgbClr val="ffffb7"/>
                </a:solidFill>
                <a:latin typeface="Arial Black"/>
              </a:rPr>
              <a:t>Dichtheid van een objec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Wat zie ik 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ribb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4" descr="DSCN3636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6066720" y="51055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Ik slaap uit hoor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Klachten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raken van ontla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inds 5 da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issele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inds 2 dagen verbete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Nu opnieuw aangeboden met fecaal bra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4" descr="dribbelRX"/>
          <p:cNvPicPr/>
          <p:nvPr/>
        </p:nvPicPr>
        <p:blipFill>
          <a:blip r:embed="rId1"/>
          <a:stretch/>
        </p:blipFill>
        <p:spPr>
          <a:xfrm>
            <a:off x="0" y="95400"/>
            <a:ext cx="9144000" cy="6441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dribbelRXhc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0" y="115920"/>
            <a:ext cx="9144000" cy="6443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dribbelRXhc"/>
          <p:cNvPicPr/>
          <p:nvPr/>
        </p:nvPicPr>
        <p:blipFill>
          <a:blip r:embed="rId3"/>
          <a:srcRect l="23585" t="52068" r="54534" b="19560"/>
          <a:stretch/>
        </p:blipFill>
        <p:spPr>
          <a:xfrm>
            <a:off x="1763640" y="2133720"/>
            <a:ext cx="4176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Wat zit daar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ls het een kogel is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4" descr="dribbelRXhckogel"/>
          <p:cNvPicPr/>
          <p:nvPr/>
        </p:nvPicPr>
        <p:blipFill>
          <a:blip r:embed="rId1">
            <a:lum contrast="-30000"/>
          </a:blip>
          <a:stretch/>
        </p:blipFill>
        <p:spPr>
          <a:xfrm>
            <a:off x="0" y="414360"/>
            <a:ext cx="9144000" cy="64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Wat zit daar?</a:t>
            </a: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	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Ping pong ba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dribbelping"/>
          <p:cNvPicPr/>
          <p:nvPr/>
        </p:nvPicPr>
        <p:blipFill>
          <a:blip r:embed="rId1"/>
          <a:stretch/>
        </p:blipFill>
        <p:spPr>
          <a:xfrm>
            <a:off x="0" y="441360"/>
            <a:ext cx="9107640" cy="64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Wat is het dan wel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4" descr="DSCN3627"/>
          <p:cNvPicPr/>
          <p:nvPr/>
        </p:nvPicPr>
        <p:blipFill>
          <a:blip r:embed="rId1"/>
          <a:stretch/>
        </p:blipFill>
        <p:spPr>
          <a:xfrm>
            <a:off x="0" y="0"/>
            <a:ext cx="8964720" cy="67215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DSCN3629"/>
          <p:cNvPicPr/>
          <p:nvPr/>
        </p:nvPicPr>
        <p:blipFill>
          <a:blip r:embed="rId2"/>
          <a:stretch/>
        </p:blipFill>
        <p:spPr>
          <a:xfrm>
            <a:off x="0" y="0"/>
            <a:ext cx="8893080" cy="6669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DSCN3630"/>
          <p:cNvPicPr/>
          <p:nvPr/>
        </p:nvPicPr>
        <p:blipFill>
          <a:blip r:embed="rId3"/>
          <a:stretch/>
        </p:blipFill>
        <p:spPr>
          <a:xfrm>
            <a:off x="0" y="1440"/>
            <a:ext cx="8964720" cy="67215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DSCN3631"/>
          <p:cNvPicPr/>
          <p:nvPr/>
        </p:nvPicPr>
        <p:blipFill>
          <a:blip r:embed="rId4"/>
          <a:stretch/>
        </p:blipFill>
        <p:spPr>
          <a:xfrm>
            <a:off x="0" y="1440"/>
            <a:ext cx="8893080" cy="6669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DSCN3642"/>
          <p:cNvPicPr/>
          <p:nvPr/>
        </p:nvPicPr>
        <p:blipFill>
          <a:blip r:embed="rId5"/>
          <a:stretch/>
        </p:blipFill>
        <p:spPr>
          <a:xfrm>
            <a:off x="539640" y="17640"/>
            <a:ext cx="7848720" cy="67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Resumé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oe dichter de stof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s te witter het röntgenbee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Lucht is …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etaal/steen is …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Kastanje is……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En Dribbel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R.I.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0T19:19:49Z</dcterms:created>
  <dc:creator>Evert</dc:creator>
  <dc:description/>
  <dc:language>en-US</dc:language>
  <cp:lastModifiedBy>Wieke Holtrop</cp:lastModifiedBy>
  <dcterms:modified xsi:type="dcterms:W3CDTF">2021-01-18T08:23:33Z</dcterms:modified>
  <cp:revision>5</cp:revision>
  <dc:subject/>
  <dc:title>Dichtheid van onderwerp</dc:title>
</cp:coreProperties>
</file>