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914-9FCE-4602-90C4-BD6F8ABE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10EF-504F-4DD2-A638-AF328EDC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10B-B85B-486A-9E64-ABC11A0F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35A-9F74-4DD3-AA9C-69A4531F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2A6E7-B436-4D28-9E50-BFEA1D00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49908-C2B3-42D5-A672-D34C2630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8E02C-B0CD-4370-8ADD-619EE2EC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25041-F0D7-4017-B8C2-A7F4F132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4075A-C060-49E4-9677-F3E74A19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22382-D65E-41BB-A025-4DED9A99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6DF42-1D5D-4265-AF7D-09268B4C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EDC-DF7F-4F37-8677-3A98870C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428C2-08D6-45D8-B3DA-FCE27A35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FF411-6946-49BA-8D82-F5480F42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80052-5449-4A90-A665-2B28CF12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7188F-1E0F-496B-8E37-158F9C66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DDC4C-42BB-4676-BE14-698B32EB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177-5E7E-4720-90EC-52427836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90A-421B-4D48-BD91-BED8C2C2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BCD-EE44-427B-A3EF-10979842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275-20F1-4C40-A3E9-B44F441C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39A-1409-4D33-8D6B-2E80FF0E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2808-4D01-4CDD-995F-E0272151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6F8-90AE-41E6-8DE5-F76E863C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7A18-BC74-4343-A50B-3E42792A679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14B9-89C7-40FA-8930-9B7E10FBA9B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olog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vormende technie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ntwikkelruimt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apparaat2-003"/>
          <p:cNvPicPr/>
          <p:nvPr/>
        </p:nvPicPr>
        <p:blipFill>
          <a:blip r:embed="rId1"/>
          <a:stretch/>
        </p:blipFill>
        <p:spPr>
          <a:xfrm>
            <a:off x="1258920" y="1447920"/>
            <a:ext cx="64818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ntwikkelruimt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apparaat2-005"/>
          <p:cNvPicPr/>
          <p:nvPr/>
        </p:nvPicPr>
        <p:blipFill>
          <a:blip r:embed="rId1"/>
          <a:stretch/>
        </p:blipFill>
        <p:spPr>
          <a:xfrm>
            <a:off x="468360" y="2192400"/>
            <a:ext cx="4038480" cy="274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apparaat2-006"/>
          <p:cNvPicPr/>
          <p:nvPr/>
        </p:nvPicPr>
        <p:blipFill>
          <a:blip r:embed="rId2"/>
          <a:stretch/>
        </p:blipFill>
        <p:spPr>
          <a:xfrm>
            <a:off x="4716360" y="3141720"/>
            <a:ext cx="403884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ntwikkelruimt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7" descr="apparaat2-004"/>
          <p:cNvPicPr/>
          <p:nvPr/>
        </p:nvPicPr>
        <p:blipFill>
          <a:blip r:embed="rId1"/>
          <a:stretch/>
        </p:blipFill>
        <p:spPr>
          <a:xfrm>
            <a:off x="1042920" y="1413000"/>
            <a:ext cx="69120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stral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msoE8942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179280" y="2133720"/>
            <a:ext cx="2592360" cy="1969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58920" y="1557000"/>
            <a:ext cx="583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öntgenstraling ontstaat door een hoge spanning op te wekken tussen een positieve en een negatieve po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negatieve pool komen uit een gloeidraad elektronen vrij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de hoogspanning komt een stroom van elektronen op gang die met hoge snelheid van de negatieve pool naar de positieve pool (Wolfraam) gaa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stral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64000" y="1557360"/>
            <a:ext cx="5122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positieve pool worden de elektronen afgebogen en verliezen snelhei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deze afbuiging en het afnemen van de snelheid van de elektronen ontstaat de röntgenstral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nk bijv. aan een auto die de bocht om ga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mso213D8"/>
          <p:cNvPicPr/>
          <p:nvPr/>
        </p:nvPicPr>
        <p:blipFill>
          <a:blip r:embed="rId1"/>
          <a:srcRect l="7362" t="5871" r="3239" b="9179"/>
          <a:stretch/>
        </p:blipFill>
        <p:spPr>
          <a:xfrm>
            <a:off x="395280" y="2398680"/>
            <a:ext cx="280836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Strooistral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rooistraling ontstaat doordat röntgen-straling een voorwerp/lichaam binnenvalt en hierdoor van richting verander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ok verandert de energie van de stral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er die auto, maar nu gaat hij kort na de eerste bocht een tweede bocht in. Hij zal nu nog langzamer moete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intensiteit van strooistraling is daardoor minder dan van de directe röntgenbunde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Strooistral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rooistraling blijft echter nog steeds röntgenstraling met dezelfde eigen-schappen en dezelfde nadelige gevolg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lleen de risico’s op kansgebonden effecten zijn klei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olog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vormende technieken zij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öntgenol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choscop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T-sc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et-sc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cintigraf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olog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öntgenruim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ntwikkelruim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ntstaan röntgenstra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ruimt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7" descr="apparaat2-001"/>
          <p:cNvPicPr/>
          <p:nvPr/>
        </p:nvPicPr>
        <p:blipFill>
          <a:blip r:embed="rId1"/>
          <a:stretch/>
        </p:blipFill>
        <p:spPr>
          <a:xfrm>
            <a:off x="782640" y="1905120"/>
            <a:ext cx="3387600" cy="4114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apparaat2-002"/>
          <p:cNvPicPr/>
          <p:nvPr/>
        </p:nvPicPr>
        <p:blipFill>
          <a:blip r:embed="rId2"/>
          <a:stretch/>
        </p:blipFill>
        <p:spPr>
          <a:xfrm>
            <a:off x="4973760" y="1905120"/>
            <a:ext cx="338760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0"/>
          <p:cNvSpPr/>
          <p:nvPr/>
        </p:nvSpPr>
        <p:spPr>
          <a:xfrm>
            <a:off x="5508720" y="32846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Buiten blijven !!!!!!!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ruimt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" descr="apparaat001"/>
          <p:cNvPicPr/>
          <p:nvPr/>
        </p:nvPicPr>
        <p:blipFill>
          <a:blip r:embed="rId1"/>
          <a:stretch/>
        </p:blipFill>
        <p:spPr>
          <a:xfrm>
            <a:off x="782640" y="1905120"/>
            <a:ext cx="338760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apparaat003"/>
          <p:cNvPicPr/>
          <p:nvPr/>
        </p:nvPicPr>
        <p:blipFill>
          <a:blip r:embed="rId2"/>
          <a:stretch/>
        </p:blipFill>
        <p:spPr>
          <a:xfrm>
            <a:off x="4973760" y="1905120"/>
            <a:ext cx="338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ruimt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6" descr="apparaat004"/>
          <p:cNvPicPr/>
          <p:nvPr/>
        </p:nvPicPr>
        <p:blipFill>
          <a:blip r:embed="rId1"/>
          <a:stretch/>
        </p:blipFill>
        <p:spPr>
          <a:xfrm>
            <a:off x="457200" y="2587680"/>
            <a:ext cx="4038480" cy="27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apparaat009"/>
          <p:cNvPicPr/>
          <p:nvPr/>
        </p:nvPicPr>
        <p:blipFill>
          <a:blip r:embed="rId2"/>
          <a:stretch/>
        </p:blipFill>
        <p:spPr>
          <a:xfrm>
            <a:off x="4648320" y="2587680"/>
            <a:ext cx="40384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ruimt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6" descr="apparaat005"/>
          <p:cNvPicPr/>
          <p:nvPr/>
        </p:nvPicPr>
        <p:blipFill>
          <a:blip r:embed="rId1"/>
          <a:stretch/>
        </p:blipFill>
        <p:spPr>
          <a:xfrm>
            <a:off x="468360" y="1413000"/>
            <a:ext cx="4038480" cy="302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apparaat006"/>
          <p:cNvPicPr/>
          <p:nvPr/>
        </p:nvPicPr>
        <p:blipFill>
          <a:blip r:embed="rId2"/>
          <a:stretch/>
        </p:blipFill>
        <p:spPr>
          <a:xfrm>
            <a:off x="4716360" y="3357720"/>
            <a:ext cx="403884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ruimt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apparaat007"/>
          <p:cNvPicPr/>
          <p:nvPr/>
        </p:nvPicPr>
        <p:blipFill>
          <a:blip r:embed="rId1"/>
          <a:stretch/>
        </p:blipFill>
        <p:spPr>
          <a:xfrm>
            <a:off x="457200" y="2587680"/>
            <a:ext cx="4038480" cy="2747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apparaat010"/>
          <p:cNvPicPr/>
          <p:nvPr/>
        </p:nvPicPr>
        <p:blipFill>
          <a:blip r:embed="rId2"/>
          <a:stretch/>
        </p:blipFill>
        <p:spPr>
          <a:xfrm>
            <a:off x="4973760" y="1905120"/>
            <a:ext cx="338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ruimt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ttelijke eisen: </a:t>
            </a:r>
            <a:r>
              <a:rPr b="1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K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rn</a:t>
            </a:r>
            <a:r>
              <a:rPr b="1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E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ergie</a:t>
            </a:r>
            <a:r>
              <a:rPr b="1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EW dossi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7" descr="apparaat011"/>
          <p:cNvPicPr/>
          <p:nvPr/>
        </p:nvPicPr>
        <p:blipFill>
          <a:blip r:embed="rId1"/>
          <a:stretch/>
        </p:blipFill>
        <p:spPr>
          <a:xfrm>
            <a:off x="4973760" y="1905120"/>
            <a:ext cx="338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2:39:35Z</dcterms:created>
  <dc:creator>H. Verstappen</dc:creator>
  <dc:description/>
  <dc:language>en-US</dc:language>
  <cp:lastModifiedBy>aocoost</cp:lastModifiedBy>
  <dcterms:modified xsi:type="dcterms:W3CDTF">2011-11-04T07:59:12Z</dcterms:modified>
  <cp:revision>12</cp:revision>
  <dc:subject/>
  <dc:title>Röntgenruimte</dc:title>
</cp:coreProperties>
</file>