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663E-9A26-4E63-9764-4257AAC07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2904-E897-454F-943F-347BDD29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51F8-DB11-4EE4-8A21-4C9732D80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01D0-935D-4D91-902B-520401FA8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7ED8-7A97-4F51-A55D-DE188570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251A-02FC-4021-A8DC-D572A6F2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8FB6-3613-439A-9C3C-0F0184E7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1075-6CFE-48DC-9D89-5319FA63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7EF2-375E-4173-8A87-CEE2B53D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F617-8896-41D0-9776-4751CBCD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4626-AA33-45FD-A023-0208BB91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DE4B-EFCF-4380-8985-0457441F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379A-73D4-479F-85F8-FAF5F2788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ale röntgen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digitale röntgenologie wordt de straling niet omgezet in grijsschakeringen op een fotografische plaat. (Een fo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straling wordt omgezet in grijs-schakeringen die vervolgens worden om-gezet in een beeld op een beeldsch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 systee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direct systeem. Hierbij wordt het straling via een een flat panel of een detectorsysteem CCD technologie omgezet in een beeld (DR syste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t is een systeem vergelijkbaar met een digitale cam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1125" t="18277" r="47046" b="19650"/>
          <a:stretch/>
        </p:blipFill>
        <p:spPr>
          <a:xfrm>
            <a:off x="755640" y="907920"/>
            <a:ext cx="756144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 syste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 indirect systeem. Hierbij wordt de straling vastgelegd op een fosforcasset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t scherm wordt vervolgens uitgelezen met een reader en zo ontstaat het beeld. (CR syste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41965" t="0" r="3141" b="9931"/>
          <a:stretch/>
        </p:blipFill>
        <p:spPr>
          <a:xfrm>
            <a:off x="179280" y="333360"/>
            <a:ext cx="8713800" cy="2735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0" t="0" r="60078" b="0"/>
          <a:stretch/>
        </p:blipFill>
        <p:spPr>
          <a:xfrm>
            <a:off x="1476360" y="3500280"/>
            <a:ext cx="633744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2T12:13:47Z</dcterms:created>
  <dc:creator>hverstappen</dc:creator>
  <dc:description/>
  <dc:language>en-US</dc:language>
  <cp:lastModifiedBy>H. Verstappen</cp:lastModifiedBy>
  <dcterms:modified xsi:type="dcterms:W3CDTF">2009-12-09T18:50:28Z</dcterms:modified>
  <cp:revision>4</cp:revision>
  <dc:subject/>
  <dc:title>Dia 1</dc:title>
</cp:coreProperties>
</file>