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55E-36C7-4A4C-B891-6184F43F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559-BB90-4EC9-A08E-49E9EC24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C91-3A1C-4895-9701-0932DEE1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580-39FC-4A87-B8C9-C187A813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6D49-C00C-4932-8E2A-B6AB6225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187-080C-4263-98EB-54AEF08A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1BD0-83DC-4CD1-B042-D725634B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4901-51E1-4656-8B7D-ED7B9E23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D5C9-6F2F-4FFF-9B6A-1027B2C2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E2D8-56B8-44D7-A8FE-DBF35D6C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A8CE-3343-4F30-94A7-2C979EE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A34-2825-4228-92EF-81A52E34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4149-1F55-40F7-9C73-31796115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3EA0-6E69-46AF-969C-1D381642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DD8A-1F82-41B1-BA3A-AB564E94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838A-F84F-4201-9FFF-41ACDF75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92D0-8826-4382-8EFF-E1030174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1DF-2AF0-4E1D-945F-56CE9B4F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193-5D88-47C2-96CE-0A130BE9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9C5-E238-415F-B466-535C3133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2AD-629B-4136-B38B-57707CA5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580-46EE-4253-9F78-436649F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1AF-AF2A-4565-956B-FABDB8FC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5BE-E441-4F29-994D-2F101B1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052B-9577-4E49-91C9-692ECA632A26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2953-F0DF-4FE3-B968-A3A2E6AF20B5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b/MRI_brai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User-FastFission-brain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200" spc="-1" strike="noStrike">
                <a:solidFill>
                  <a:srgbClr val="ffffff"/>
                </a:solidFill>
                <a:latin typeface="Times New Roman"/>
              </a:rPr>
              <a:t>Andere beeldvormende technieke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at is er meer dan röntgenfoto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nt_rss_sts_001"/>
          <p:cNvPicPr/>
          <p:nvPr/>
        </p:nvPicPr>
        <p:blipFill>
          <a:blip r:embed="rId1"/>
          <a:stretch/>
        </p:blipFill>
        <p:spPr>
          <a:xfrm>
            <a:off x="1908000" y="858960"/>
            <a:ext cx="50403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200" spc="-1" strike="noStrike">
                <a:solidFill>
                  <a:srgbClr val="ffffff"/>
                </a:solidFill>
                <a:latin typeface="Times New Roman"/>
              </a:rPr>
              <a:t>MRI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Magnetic Resonance Imaging</a:t>
            </a: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Magnetisme in weefs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 kern van sommige elementen (waterstof H</a:t>
            </a:r>
            <a:r>
              <a:rPr b="0" lang="nl-NL" sz="3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) heeft een “kernspin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Kernspin is een eigenschap van een element dat een magnetisch veld doet ontsta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41300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Lichaam in een magnetisch veld (MRI-app) doet H</a:t>
            </a:r>
            <a:r>
              <a:rPr b="0" lang="nl-NL" sz="3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 in het lichaam van richting verander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 richting wordt weer gecorrigeerd. Hierbij komt een foton vrij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 hoeveelheid energie in zo’n foton wordt gemet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Het MRI apparaat meet de energie van deze verschillende foton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 computer maakt hiervan een 3 dimensionaal beel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Verschillende weefsels verschillende H</a:t>
            </a:r>
            <a:r>
              <a:rPr b="0" lang="nl-NL" sz="3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 dichtheid. Hierdoor 3D beeld van weefse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upload.wikimedia.org/wikipedia/commons/thumb/b/bd/Modern_3T_MRI.JPG/220px-Modern_3T_MRI.JPG"/>
          <p:cNvPicPr/>
          <p:nvPr/>
        </p:nvPicPr>
        <p:blipFill>
          <a:blip r:embed="rId1"/>
          <a:stretch/>
        </p:blipFill>
        <p:spPr>
          <a:xfrm>
            <a:off x="1187280" y="692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estand:MRI bra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692280"/>
            <a:ext cx="4751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f-MRI – functionele MR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Techniek waarmee de hersenactiviteit wordt gemeten. (meer gebruik van O</a:t>
            </a:r>
            <a:r>
              <a:rPr b="0" lang="nl-NL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Modern hersenonderzoek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upload.wikimedia.org/wikipedia/commons/c/c7/User-FastFission-brai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80960"/>
            <a:ext cx="48974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200" spc="-1" strike="noStrike">
                <a:solidFill>
                  <a:srgbClr val="ffffff"/>
                </a:solidFill>
                <a:latin typeface="Times New Roman"/>
              </a:rPr>
              <a:t>PET sca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sitron</a:t>
            </a:r>
            <a:r>
              <a:rPr b="0" lang="nl-NL" sz="3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issie</a:t>
            </a:r>
            <a:r>
              <a:rPr b="0" lang="nl-NL" sz="3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ograf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Wat is er me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204640"/>
            <a:ext cx="81532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Echografi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CT-sc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MR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PET sc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Scintigrafi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828800"/>
            <a:ext cx="81532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Radioactieve deeltjes worden gekoppeld aan bepaalde stoff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ze stoffen verzamelen zich op bepaalde plaats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 die plaatsen treedt verval op van de radioactieve stoff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Bij dit verval komen positronen vrij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ze positronen geven ook weer fotonen af. Deze worden gemet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Hieruit maakt de computer weer een plaatj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lossend vermogen = kleinst waarneembare deeltje : enkele m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renskecramerteksten.files.wordpress.com/2011/01/pet-scan.jpg"/>
          <p:cNvPicPr/>
          <p:nvPr/>
        </p:nvPicPr>
        <p:blipFill>
          <a:blip r:embed="rId1"/>
          <a:stretch/>
        </p:blipFill>
        <p:spPr>
          <a:xfrm>
            <a:off x="2050920" y="549360"/>
            <a:ext cx="496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health.learninginfo.org/images/pet-scan.jpg"/>
          <p:cNvPicPr/>
          <p:nvPr/>
        </p:nvPicPr>
        <p:blipFill>
          <a:blip r:embed="rId1"/>
          <a:stretch/>
        </p:blipFill>
        <p:spPr>
          <a:xfrm>
            <a:off x="1763640" y="765000"/>
            <a:ext cx="5289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200" spc="-1" strike="noStrike">
                <a:solidFill>
                  <a:srgbClr val="ffffff"/>
                </a:solidFill>
                <a:latin typeface="Times New Roman"/>
              </a:rPr>
              <a:t>Scinitigrafi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Patiënt krijgt radioactive stof toegedien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it verzamelt zich op specifieke plaatsen. (Jodium in de schildklier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Met een speciale camera wordt vervolgens een “foto” gemaak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lossend vermogen = kleinst waarneembare deeltje: 1 c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www.bosdreef.be/info_gzd/thyr_scintigrafie/bt_thyrscan.jpg"/>
          <p:cNvPicPr/>
          <p:nvPr/>
        </p:nvPicPr>
        <p:blipFill>
          <a:blip r:embed="rId1"/>
          <a:stretch/>
        </p:blipFill>
        <p:spPr>
          <a:xfrm>
            <a:off x="2050920" y="69228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Röntgenfot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25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Een röntgenfoto geeft een 2 dimensionaal (platgeslagen) plaatje op basis van röntgenstral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lossend vermogen 4 m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teentumor1"/>
          <p:cNvPicPr/>
          <p:nvPr/>
        </p:nvPicPr>
        <p:blipFill>
          <a:blip r:embed="rId1"/>
          <a:stretch/>
        </p:blipFill>
        <p:spPr>
          <a:xfrm>
            <a:off x="4718160" y="981000"/>
            <a:ext cx="3743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CT-sc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CT = Computer Tomografi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Een CT-scan geeft een dwarsdoorsnede van de verschillende lichaamsdelen. Ook mbv röntgenstraling, maar computermatig bewerkt zodat een doorsnede ontsta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A3C562ED"/>
          <p:cNvPicPr/>
          <p:nvPr/>
        </p:nvPicPr>
        <p:blipFill>
          <a:blip r:embed="rId1"/>
          <a:srcRect l="7573" t="4481" r="6169" b="56442"/>
          <a:stretch/>
        </p:blipFill>
        <p:spPr>
          <a:xfrm>
            <a:off x="755640" y="765000"/>
            <a:ext cx="74167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3C562ED"/>
          <p:cNvPicPr/>
          <p:nvPr/>
        </p:nvPicPr>
        <p:blipFill>
          <a:blip r:embed="rId1"/>
          <a:srcRect l="6071" t="49883" r="7218" b="2833"/>
          <a:stretch/>
        </p:blipFill>
        <p:spPr>
          <a:xfrm>
            <a:off x="826920" y="482760"/>
            <a:ext cx="74170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FAC2C02"/>
          <p:cNvPicPr/>
          <p:nvPr/>
        </p:nvPicPr>
        <p:blipFill>
          <a:blip r:embed="rId1"/>
          <a:stretch/>
        </p:blipFill>
        <p:spPr>
          <a:xfrm>
            <a:off x="1908000" y="692280"/>
            <a:ext cx="5400720" cy="496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FAC2C02"/>
          <p:cNvPicPr/>
          <p:nvPr/>
        </p:nvPicPr>
        <p:blipFill>
          <a:blip r:embed="rId2"/>
          <a:srcRect l="0" t="8725" r="68021" b="60855"/>
          <a:stretch/>
        </p:blipFill>
        <p:spPr>
          <a:xfrm>
            <a:off x="2627280" y="1341360"/>
            <a:ext cx="410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Mogelijkheden CT-sc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oorsneden op verschillende hoogt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Verschillende opvolgende doorsneden bekijk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Computermatig lengtedoorsneden, schuine doorsneden en drie-dimensionale beelden mak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Stralingsbelasting komt overeen met ongeveer 200 röntgenfoto’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lossend vermogen als röntgenfoto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0:05:45Z</dcterms:created>
  <dc:creator>H. Verstappen</dc:creator>
  <dc:description/>
  <dc:language>en-US</dc:language>
  <cp:lastModifiedBy>aocoost</cp:lastModifiedBy>
  <dcterms:modified xsi:type="dcterms:W3CDTF">2011-12-15T09:30:30Z</dcterms:modified>
  <cp:revision>25</cp:revision>
  <dc:subject/>
  <dc:title>Andere beeldvormende technieken</dc:title>
</cp:coreProperties>
</file>