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00850" cy="9936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AC2-634B-4DB5-A818-BCAC55B1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043-8BC2-4420-81EA-E6DE3960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FE81A-D31C-4C2A-9E6E-E2DA0DBB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6CDDC-1C4A-4236-AAF5-5AA6125B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EAE9B-B22D-4FE9-A25F-695ABCE5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11AAE-0099-418E-AACE-D80800B7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CBB23-2AD3-4440-A899-0AAFFCBF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F5F29-5F9C-457F-8BF0-3CFA00F1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ABD11-A4E5-43DD-B703-68BD1CBB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16413-2111-4B4A-A82E-46B04B46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38114-3143-413D-8E18-FFE78180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426CC-96FE-4215-B8C5-C5332564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4B69-3009-4168-B549-C4C1C81D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4383B-86BB-4279-86BF-75262C28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67704-22FA-4C2C-96E4-88EC2695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45CBE-7C3D-41CB-8FEA-D36BAE40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79648-A9E9-4DD2-8560-39F88459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5D026-EBC0-47E3-A19C-01D37CE8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A00AE-8586-499A-BCF0-B35D4FAA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92A09-32F0-4DF9-9143-6E3FA5CD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7FB71-F313-43BF-A5D2-C5498138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9B703-5763-4FDD-BFB8-BA6BBA03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51B3C-9FD8-4140-9776-5DDB538B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1D01-8F41-4511-8366-C58D6D8F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C4D91-5030-4194-AAFF-8D962651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BF530-4766-4D30-BB67-489FC350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1DCBE-8F62-49C1-988F-95BE2F3A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F7F09-E6FD-419B-A19E-983D1F4A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8F664-F072-471E-82C1-481CBA2D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034ED-A208-434C-A1FA-072464B9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39110-2063-4680-8551-F5045E2F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4A512-832A-48E5-8102-6C1872E2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D77B0-D6C0-469B-B443-2016B96F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6253F-D49B-4DC0-B5EC-22D92B4C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4E48-CE60-4D65-A525-03679789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9A988-DF8D-4A91-AF1C-2C4182B1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CAD8C-04FA-465B-8EEC-9DDB7012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AE340-761B-45B9-BA45-9B96F1F1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8E672-9613-466D-B08B-A98B5CF4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348C8-1C24-49CF-98C1-AA9384B9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95ACB-BBAA-4F44-9A6F-40163138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73B35-B243-4FCE-9270-C03D5CBA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0EBF2-5931-4819-A83F-8898D077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B0D7C-04AB-4D9E-A4D9-77F42D2B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B6CC0-DB82-49E2-BEE6-495F0578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25C9-CC3A-46D8-99E0-7FCA6252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C7D66-3E85-44B3-90FB-A657660A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9834F-9B66-4268-9966-72B84726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A23B8-4E43-4664-93E0-38628DBE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4BDB7-87F9-4D88-B7FC-F622B15F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0C6D9-75D9-484B-8544-5534BA48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87602B-3A95-46E3-B87D-E1B15916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BD098-65EC-4613-9A35-F5900F90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F3DB7-68D9-47F1-9587-EAC54977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74FD7B-C012-42C3-B3E6-CD8613F1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67D73-4BDB-4DE7-AA95-A3E40F3E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E034-D876-47EB-B018-9A0BFCE9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90605F-2A73-4355-A53C-F731F207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B19DB3-A1F3-41A7-8A11-5BD426AD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CC4BB-0639-4ABF-8966-3C2570AB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FE6C4-E7C0-4BB5-84CE-CBDDAE1E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DB42D-1939-4EEF-8AA9-C7E381A2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5A422-146A-419A-99E9-1702293F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AE130-BE00-48B3-9C71-61FD6249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3555-9B7A-4E21-817E-0EF1CAEB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D4C7-7A6A-425D-886E-C6E8F567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6F6E-E912-4529-BDB0-138ED602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6461-8814-4E61-9B64-96B41DB5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885-10A8-4F16-A572-A5FA871F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55C1-7F3F-4B4A-833D-7BCF4739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B837-5C67-49E6-AABB-06DF3F9D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7562-D1DF-4B03-AD90-A9E9DD2F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3D6A-52F3-494E-81B6-C975E488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CFCA-F88F-4BA2-8C39-9F13C288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E1502-8697-477A-B017-E125CE1F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C87B6-FEFD-4424-964A-08EC5DD3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6398A-099C-4DE2-BD11-160619A1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98E38-9682-464C-91D9-B24B05A2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5B7B9-02FD-461B-AFC3-FFC6602F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3EB5-0FD2-4666-907D-13C1D515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B45F7-61F6-459A-8907-CC933E34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CCE4E-CC31-4130-9B3C-581AF16E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A6F88-121E-4890-8464-842F5444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BD845-3EBE-42CD-AAEB-D07FC6E1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05189-6C43-4EE9-8821-AF61A27C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9E4AF-D48F-4BF2-BB6C-9CD83A78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CBD9D-E4CD-4E1E-BBD2-91523099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E45AD-DF1D-42D1-82B1-7019B3B1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EAA16-E066-43EA-9FF8-B88E18DA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C5A3B-FDBB-4696-AA28-5A1A5C05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BC39-B6EB-4E19-B922-4ED1F1A7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F8872-CDCE-4706-83AB-5CFD1D63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4289F-B0B1-40B9-BCF4-96881A10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B4FE6-BD84-481F-88AF-204AABD4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60C24-DB2A-4740-A1A0-BEF387C7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6F062-BD7C-4706-A7CE-15582FAA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4CF59-F648-460B-85BF-EE16F9CB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53AE0-AA44-4577-97FC-075DDB8D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EBC98-AD67-4B93-B9F2-DDDD773D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03C22-1DE9-4A46-9F27-75C9B730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AFB68-9A5F-4BB7-AC65-F8F1F4CB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E89-9B2F-4AA2-A82A-B210F744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9E53B-53D9-448C-81D8-5CDFFAE7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11738-AE7F-4FB0-91F5-8393D6A1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CCA89-9389-41B8-A376-F056F3FA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99811-D350-449B-BDE0-0906E78D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A4201-D2AB-4E2B-BAFA-7485E9F8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59AC4-96B6-47EA-8AA7-BF1BEBA7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4C89A-2D88-4120-A613-C47CB33A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6B915-E193-4B80-BC99-B23963C0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AE4F4-F930-43F4-A2D2-AEF5CE73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9FCB3-14BD-4B3E-BD98-40E9181F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DA6-9572-48CD-8F89-568C2A7C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2AF86-83D9-4C8E-8048-2A854E12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0638C-DF37-4502-8FC2-AFAB1880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1247A-FB72-40B2-BAF2-CEAB94D2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27D86-D847-48AD-8017-0073DB50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1F8A5-766F-4B8D-972C-78709DF6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ABD61-6B90-41CA-A108-79658684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EF179-77A2-4F90-8BAB-CCE5224A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6F12D-27BB-4B45-A22A-33ACD237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4B7F6-15FB-46E6-A162-B011ED32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7891F-1ADF-475C-BFE0-3725E05E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3D9-ABDB-45E1-8734-D87AC428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11F03-C783-422E-AA7B-ECBF5812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C99FA-910A-4493-B8C7-D23CE15E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89D86-DEA2-4F3B-96D8-C64B4EF3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3293F-1375-4B5A-A33C-1E1C867E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A2558-E08F-4D9C-BD7E-99151F86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D2A7C-AF61-46BE-84CA-C7176D9D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EDF45-FBE9-4828-9220-F0B19DBD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DBB01-8828-4211-811E-1AF21C15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1AD83-6629-45BF-9D02-11210DC8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C714E-E0F0-497B-AF61-2B7DB927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C3E-4A9B-481D-9DD5-EEE769F7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5EF1F-17A3-444C-9E64-8E6BE0B5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A4FC0-D3BB-489B-B16C-9CDBA912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EDF3E-5B7C-483C-BE96-4BCE3846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A51D6-9E8F-4EE6-8EB9-56E3CFBB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A7540-B821-4087-BE9A-5A0325D9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A6A20-F633-451B-BC1E-00E2A83B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11104-BDBC-4036-A53C-0C6493C8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6E393-E3C5-4806-A897-F906D241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4C00A-47CA-4308-A310-B1AF7067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145F2-F745-4E7B-8D29-2E822ADE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3470-D31B-40EB-9BFD-11ABE3ED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A6562-6717-4032-AB63-8DDA194D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07478-38F5-4383-ADC7-74600EBA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B2E50-8EFD-4B40-86C7-02FF7149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C810D-DC48-40C7-8FEE-15347332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627DC-AE47-4043-9B9D-5299BBE9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0D32E-6061-4016-91F2-40B557A2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B5BBB-E7E9-4608-A042-CE76DD47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4D3E8-3CFB-427D-BDED-3CB616FB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4D73F-7F48-44B6-B21C-9D8E1429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58C09-1B80-48F5-B3BD-14EEEE80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00010C7-747A-4BA6-A884-62F1FEEB248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ADB157E-76E2-4A58-B9A0-757A706C6E6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2754F892-577A-458D-A29E-7E8BF5AEB2F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66778AA-D6A0-4C28-809C-F14D6A7BAD1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F8B961E-F32C-4A9E-9025-89C62C7067A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57115F7C-56AF-43C8-938B-25A4D09244B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A448E563-FEBF-4C3F-A53B-0A416433532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E9CD737-E015-4CC3-B2CA-2AF71422DB0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213FED1-2FB9-4C50-89AB-630F731B7A0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750D842-BCDE-4FFE-8751-3C8A63B24A5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E79CA86-4209-4E2E-A5AD-D81ABD48952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2C14696A-4200-4C10-B0D3-530D963383F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CE0F718-A772-4F2C-9EFD-B4938B08BA2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1000" y="628560"/>
            <a:ext cx="7823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H 3. </a:t>
            </a:r>
            <a:br>
              <a:rPr sz="5400"/>
            </a:b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Gevaarlijke stoffen</a:t>
            </a:r>
            <a:endParaRPr b="0" lang="en-US" sz="5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47" name="Object 6"/>
          <p:cNvGraphicFramePr/>
          <p:nvPr/>
        </p:nvGraphicFramePr>
        <p:xfrm>
          <a:off x="2106720" y="2800440"/>
          <a:ext cx="492912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6720" y="2800440"/>
                    <a:ext cx="4929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233C5DD-D5F3-46F5-A9C3-9DABD4DA8B2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Verandering van opname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nelde opname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ge temperat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ar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demhaling via de 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erkoudheid, verstopte ne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4" descr="A:\CMENP024.WMF"/>
          <p:cNvPicPr/>
          <p:nvPr/>
        </p:nvPicPr>
        <p:blipFill>
          <a:blip r:embed="rId1"/>
          <a:stretch/>
        </p:blipFill>
        <p:spPr>
          <a:xfrm flipH="1">
            <a:off x="2437920" y="4514760"/>
            <a:ext cx="4381560" cy="1731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FAB3F72-DF69-478F-9F48-1F3AC861E64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uren en lo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tende st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rnstige brandwo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gvreten van materi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een zuur is direct merkbaar, een loog pas na enige tij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oelen met veel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kleren uit die onder het 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f loog z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ulp vr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 snel mogelijk naar dokt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kenh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4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07638026-2903-4CD8-8D66-6BCB83EDB25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711360" y="1771560"/>
            <a:ext cx="772128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bijv. wasbenzine, thinner, terpentine, veel gebruikt in lakken, verven, en lij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luchtwegen in het blo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huid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everen meestal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randgevaar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unnen zelfs het zenuw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609480" y="51444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5FE55FD-F27B-4C9D-9631-E0F78C99444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812880" y="2114640"/>
            <a:ext cx="75690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ldoende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noodza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soonlijk hygië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nk aan v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G:\VCA\afbeelding\GC001285.WMF"/>
          <p:cNvPicPr/>
          <p:nvPr/>
        </p:nvPicPr>
        <p:blipFill>
          <a:blip r:embed="rId1"/>
          <a:stretch/>
        </p:blipFill>
        <p:spPr>
          <a:xfrm>
            <a:off x="1219320" y="4229280"/>
            <a:ext cx="6229080" cy="19666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5"/>
          <p:cNvSpPr/>
          <p:nvPr/>
        </p:nvSpPr>
        <p:spPr>
          <a:xfrm>
            <a:off x="507960" y="571680"/>
            <a:ext cx="81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2CC0AF1-7F39-4711-879B-0DEE5596938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88840" y="514440"/>
            <a:ext cx="756936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Cyclische verbind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87320" y="10288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7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tolueen,xyleen,benz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jken erg op organis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dacht van veroorzaken kan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odemverontreinig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K’s (Poly-Aromatische Koolwaterstoff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hoge concentratie kun je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waarschijnlijk)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gunning verp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 organische 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en is weten (MA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ACB3D2B7-D508-49E5-90EC-820F7EDBF03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87320" y="5144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Metal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aalstof &amp; lasdam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chroomverbindingen, lood, kwi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ink, loodoxide, loodmenie, loodw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ctr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ns op ophoping in 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estal chronische vergift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1A59337-7C25-4CEE-999B-942CB2B947F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7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Wat zijn gevaarlijke stoffen?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796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23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Een stof is gevaarlijk, als deze onze gezondheid in gevaar kan bre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verdeling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tend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de huid en ogen, brandwonden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soldeervloeistof, zuren, ammo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gootsteenontsto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iftig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 de spijsvertering en ademha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bestrijding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DD6906C-8059-4950-BA74-00842B671AC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11360" y="3143160"/>
            <a:ext cx="77724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werking is afhankelijk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hoeveelh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lein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bijv. cyaankal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rot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eet maar eens een k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ut 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7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2946240" y="1371600"/>
            <a:ext cx="3454560" cy="166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2DEB50AF-D168-4941-8222-C29A63210E4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eer 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046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kleine hoeveelheden 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rote gevolgen voor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zondheid. Blijvende schad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oed mogelij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via eten en drinken en inade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on op een jerrycan benzine </a:t>
            </a:r>
            <a:r>
              <a:rPr b="0" i="1" lang="nl-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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benzine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3251160" y="1257480"/>
            <a:ext cx="2641680" cy="1269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FCC9EA77-2944-4257-974C-5FD3644F3CD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Soorten vergiftig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eer kort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 hoge concent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merkbare symptom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of na uren of d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ammoniak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terpentine, innemen van te v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edicij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ronisch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angdurige blootstelling aan een bepaalde st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thinner of plan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werken in stoffige ruim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C2F6E2A-D786-4172-B5E0-8975E42EDD1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42800" indent="-353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d </a:t>
            </a: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(spijsverteringkana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mond, keel, slokdarm, maag en d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ten en drin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anden w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5" descr="G:\afbeelding\VCA1\Pictogrammen VCA\roken verboden.gif"/>
          <p:cNvPicPr/>
          <p:nvPr/>
        </p:nvPicPr>
        <p:blipFill>
          <a:blip r:embed="rId1"/>
          <a:stretch/>
        </p:blipFill>
        <p:spPr>
          <a:xfrm>
            <a:off x="6095880" y="2685960"/>
            <a:ext cx="2235240" cy="12002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G:\afbeelding\VCA1\Pictogrammen VCA\veiligheidshandschoenen verplicht.gif"/>
          <p:cNvPicPr/>
          <p:nvPr/>
        </p:nvPicPr>
        <p:blipFill>
          <a:blip r:embed="rId2"/>
          <a:stretch/>
        </p:blipFill>
        <p:spPr>
          <a:xfrm>
            <a:off x="6400800" y="4457880"/>
            <a:ext cx="1932120" cy="109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33A5D2A-5873-4B20-9571-78CC373FFA2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609480" y="691920"/>
            <a:ext cx="812808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33080" indent="-346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on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huidporiën, nagelbed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snij- en schaafwondjes, overige wo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4" descr="G:\afbeelding\VCA1\Pictogrammen VCA\hand.gif"/>
          <p:cNvPicPr/>
          <p:nvPr/>
        </p:nvPicPr>
        <p:blipFill>
          <a:blip r:embed="rId1"/>
          <a:stretch/>
        </p:blipFill>
        <p:spPr>
          <a:xfrm>
            <a:off x="1015920" y="2943360"/>
            <a:ext cx="1727280" cy="15652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G:\afbeelding\VCA1\Pictogrammen VCA\voetbes.gif"/>
          <p:cNvPicPr/>
          <p:nvPr/>
        </p:nvPicPr>
        <p:blipFill>
          <a:blip r:embed="rId2"/>
          <a:stretch/>
        </p:blipFill>
        <p:spPr>
          <a:xfrm>
            <a:off x="6400800" y="2971800"/>
            <a:ext cx="162576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2" name="Object 9"/>
          <p:cNvGraphicFramePr/>
          <p:nvPr/>
        </p:nvGraphicFramePr>
        <p:xfrm>
          <a:off x="3365640" y="2276640"/>
          <a:ext cx="2411280" cy="33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276640"/>
                    <a:ext cx="241128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Rectangle 10"/>
          <p:cNvSpPr/>
          <p:nvPr/>
        </p:nvSpPr>
        <p:spPr>
          <a:xfrm>
            <a:off x="711360" y="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E583464-0871-4F59-86AD-1EE491BD2C6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609480" y="1542960"/>
            <a:ext cx="81280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14360" indent="-331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demhalingsorg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kkelende werking op de slijmvliezen (acu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onmiddellijk verschijnselen zoals: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hoesten, kortademigheid, pijn bij het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uch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rking na opname in het bloed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klachten na enkele u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Bescherming moe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doe het dus go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ies de juiste bescherm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4" descr="F:\Data\Beeldbank\PG Groenbeheer en onderhoud\Arbo  Veiligheid V V A\VCA1\Pictogrammen VCA\ademhaling.gif"/>
          <p:cNvPicPr/>
          <p:nvPr/>
        </p:nvPicPr>
        <p:blipFill>
          <a:blip r:embed="rId1"/>
          <a:stretch/>
        </p:blipFill>
        <p:spPr>
          <a:xfrm>
            <a:off x="5791320" y="4286160"/>
            <a:ext cx="2438280" cy="20955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711360" y="62856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53E13355-0906-4488-9CDD-339AD91C07E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558720" y="692280"/>
            <a:ext cx="802656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ia ademhaling in het bl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opgeno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lemmering transport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3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ing lichaamsc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bewustzijnstoornis, hoofdpijn,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isselijkheid, kloppende sla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G:\VCA\afbeelding\CS002161.WMF"/>
          <p:cNvPicPr/>
          <p:nvPr/>
        </p:nvPicPr>
        <p:blipFill>
          <a:blip r:embed="rId1"/>
          <a:stretch/>
        </p:blipFill>
        <p:spPr>
          <a:xfrm>
            <a:off x="3817800" y="3500280"/>
            <a:ext cx="1505160" cy="28940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9"/>
          <p:cNvSpPr/>
          <p:nvPr/>
        </p:nvSpPr>
        <p:spPr>
          <a:xfrm>
            <a:off x="6603840" y="5363280"/>
            <a:ext cx="16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1422360" y="5363280"/>
            <a:ext cx="11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5791320" y="439200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3"/>
          <p:cNvSpPr/>
          <p:nvPr/>
        </p:nvSpPr>
        <p:spPr>
          <a:xfrm>
            <a:off x="1523880" y="4506120"/>
            <a:ext cx="13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 flipV="1">
            <a:off x="2743200" y="4628880"/>
            <a:ext cx="142236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2641680" y="56577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6"/>
          <p:cNvSpPr/>
          <p:nvPr/>
        </p:nvSpPr>
        <p:spPr>
          <a:xfrm flipH="1" flipV="1">
            <a:off x="5283000" y="4800240"/>
            <a:ext cx="1422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7"/>
          <p:cNvSpPr/>
          <p:nvPr/>
        </p:nvSpPr>
        <p:spPr>
          <a:xfrm flipH="1">
            <a:off x="5181480" y="468648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8"/>
          <p:cNvSpPr/>
          <p:nvPr/>
        </p:nvSpPr>
        <p:spPr>
          <a:xfrm>
            <a:off x="1523880" y="0"/>
            <a:ext cx="699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8:16:30Z</dcterms:created>
  <dc:creator>A.Bakker</dc:creator>
  <dc:description/>
  <dc:language>en-US</dc:language>
  <cp:lastModifiedBy>aoc</cp:lastModifiedBy>
  <cp:lastPrinted>2000-10-11T12:57:01Z</cp:lastPrinted>
  <dcterms:modified xsi:type="dcterms:W3CDTF">2011-10-12T19:02:53Z</dcterms:modified>
  <cp:revision>206</cp:revision>
  <dc:subject>Basisveiligheid sheets</dc:subject>
  <dc:title>Geen diatitel</dc:title>
</cp:coreProperties>
</file>