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00850" cy="9936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EA9D-EC60-47C1-BD59-B1FD5ED7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6571-2FC9-4C6D-BFFD-2245E8A6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D0015-830C-407F-862D-8B14EF55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C5CEF-8017-4EDD-AEDC-3B2D5D9A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81E70-7BD3-4E87-BB31-BC56A61D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63E6F-B9FD-49F0-9E46-EF13FE39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14DF8-9B34-4E4C-8913-87529151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2EA6D-C061-4C20-84F8-584C1DC2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9DA9B-DF26-4EA9-A032-F1EFD88C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C720B-4CD3-4227-A02B-F8F05AF2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9E7F7-6F38-41C9-B296-76881388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A8B51-D2D0-4748-8362-D632DAE2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BA58-20BB-45A5-B9F8-F3F3F64E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C3B38-55C9-46A6-A1B8-973CBFE0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AB8A9-5AA2-4537-829E-8354C879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D500D-CE83-447B-AD78-8A55C489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48D21-6CD8-4D48-80FE-5BBA549D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0D1FA-20F4-4134-AD03-E5168847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916AD-5AC3-471E-8832-4E279C85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B4F4D-7F71-405D-9EE9-2C2C8DEF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816A8-DC02-40E7-84BA-6FE65E7C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9E786-90CC-4DFC-A301-F83D5C06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0B0A4-C22D-46E6-9422-950BA8FE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2B30-0E90-4656-9AA9-1663B199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5F0A7-25EA-4838-83F7-138D3899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7568B-EA6A-4917-9702-B15B3F58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34EC9-BF44-4957-823C-F8CD0B10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D12F5-8A82-489D-AFB7-AB59838E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EB96A-C636-4385-8B45-5D0C9FB4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11F19-FF80-4E22-B0CB-7BE0B801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1FE9E-E592-421F-818C-238EDB36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B09E5-4B70-4C72-84A8-63CEF688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E04A6-0396-4084-AF23-7E1D4A60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11D3D-0B2D-4500-AFC9-11FA92B6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FC2E-1492-4783-B5FF-CE9FCCEC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2F54C-612E-4932-8142-4E1DA284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7D336-0450-4EB4-8BFC-9B71B88E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6A76C-2939-4887-8F09-DB7ACBFF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7CB73-95C1-4A99-9581-F8E863E9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9346E-D4D7-48C7-A1FA-4CC026D9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19D66-6174-42ED-873F-2385BA5D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08065-FCC4-497D-87CE-434CD4D0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C9D84-A23A-4BFB-8A98-D2EC300B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C5467-0F04-4ED3-8F12-5D92F14D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2BA24-A2F6-490D-98F9-07D0EE8D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4581-9889-4BAC-92B9-F1152E40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A99A0-62DD-4B03-A740-0EFDE094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261FB-8445-44A6-B13B-EFFA4290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270F6-634B-4B35-A9C5-DB8A33EB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D1966-D2D3-4C51-BEB8-65D8F1DD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809F6-DE99-44FD-A4CF-3401EE21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C00982-5314-46D7-9AF4-BF5E931A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119E86-C4FA-46C4-983E-41CC6F66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8D41B-4E54-46F0-ABD6-36852640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F88A67-CF77-4D92-A208-FF925B7A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6FC8B2-5057-4A4B-AAF0-EAF0941A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12F4-09BD-484A-AB0F-3B4953A4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11553D-87A7-4818-BC0D-B2AC69DF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DCA049-3346-44DF-9090-9E35E2BC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83352C-D030-436C-81E5-275E8903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28CC0B-610E-4CB8-9872-67D77F7A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512C7-AE9A-4E30-9F6D-0DB69B14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03A533-AD5A-46DF-80AD-2D8C8D72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4874FF-9BA2-411A-B70D-035470E0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9589-E058-459E-9A07-C087AC06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D602-EB1F-4F01-9B1D-F210EA1D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FD89-996B-4916-96BF-BA7B0F23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8F60-D975-4FF4-A550-4A01ADBF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396-8C16-4789-9245-33212D0A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236F-B31A-41C2-A230-3E737F44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5C0A-167B-4BFA-8743-B3748B4E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4FD5-61C3-47C9-8A3F-0970D106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B516-75A3-4CC5-B1DD-307A142F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E365-B256-4326-BD6B-27463AD5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DD963-DA0A-4010-9C0E-BCBA5211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B0801-46DF-4F3A-B663-815926C4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69676-4B56-4362-9AE6-E7735C24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A0DB7-A5C4-4E21-9539-E04C8EE7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A9FD6-800D-4F7A-AAE7-B8180155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A942-EF22-45BB-B460-2C36E09B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C602F-ACB7-4AE6-A670-9F95A38D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23FD6-4F92-4DF7-83E4-5147E5DA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737FD-326C-45F4-8DA3-072310E8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3AAE8-B381-40BA-852C-7F9718AA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CC0A5-BFF9-46E9-9DEA-E8062BA8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8A9A2-DFD0-45EA-9C6A-E3E76F11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0EEF6-229A-48B6-A8E9-80AA0570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FAAFE-C89F-4B21-80AF-9D3E173A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97D07-1A79-42E1-BB1A-6BC35376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12530-ED37-42FC-BF0F-F128901F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5468-3E28-4646-8C91-31603116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233C8-0108-4199-9DA7-191E149D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E725A-27B7-46B0-A80A-817A7C97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4A1B8-F05D-42DA-AD43-6DC48B71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999FA-73DA-4B01-8476-C498370F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6B497-26E7-4B91-B30A-1478A8CD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D8759-C534-49E9-8190-6133FEEE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A70B3-FAF2-480F-A9E5-12D6EAB7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A185B-6C9B-46DC-A8E3-C2ECC66E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6CBEF-4716-4A08-9E8B-AC71E928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8639C-54AB-4896-8260-1A058A95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061-6B93-404E-A534-8BEFDBCE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846F1-71AD-4173-A5DB-1C69D784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AE4EA-B67C-46E2-9640-14CCD5C7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B9319-AB4E-4EB3-B723-0FC4BFDD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9D0FD-2089-4A49-BFB5-5560D5CB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335D1-0B65-48E5-9BBC-5ACCEDAD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66ECF-F087-4D84-AE61-A6976D48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0C5D5-CDB8-482D-8BDC-CF36B7CB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B0994-AFC0-4D8F-857F-9297A44E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5DBE3-091F-48B4-BEB8-3FC2F7EF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9B6E3-E272-4FF1-89ED-C1C0F977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1031-868E-4EAD-BE5F-D5BB19E1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3A413-2EBC-495A-98FD-8D07506A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43C8E-BCCF-4C7D-A74C-D3E924DA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2B147-4959-40A3-B644-E44D7186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98DD5-8E6F-43ED-8724-DA8EEFD5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67ECF-43E5-4D3D-902B-6A833A52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30404-12D8-4305-92DF-661172A5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65476-50A7-4798-A8F3-8C4215C9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80A78-1A18-4D24-A9F4-B8EF2E5F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18413-71CE-494B-B5B4-519F7E65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66826-3EC9-4A0D-8670-F181DE9B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44DB-6B6D-4FE3-8359-A55166DA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8E0A1-B5F1-4E41-AF79-2415B227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A1AAA-719D-4A44-9465-D1658680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71C12-81D4-4621-BBBD-36A8FE9E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8FEED-7E4B-4859-809D-ACBDDEE9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4013B-C36A-49F0-8752-D97AC4E2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C66BA-7806-46AF-B094-BEBEFF9B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11442-0FA4-4DE2-AA3D-E63339D6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4C2A0-BD81-4111-9616-2273C4B7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F15DF-894A-4DD9-8137-ACB0A401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93B9F-02A4-47D2-8CD6-BDAA8F97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D0B3-C023-44F1-95C8-0E9C6F8A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01596-936F-4513-A867-444DBC3B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07117-10F6-499B-9891-3FB05A94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A6845-6071-4DAD-93E4-4776DD71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44F42-24C2-4D38-8AED-D40D7FC9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6114F-A75F-442C-85EE-56E91E7B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E5CE2-5BBC-48FC-A5BA-672EAD4D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9DFFA-FBCD-45DF-9EFE-F5EFEC87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F8157-143F-4471-8297-A4DE24D1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5A441-9E7C-49D2-9AA7-6DF17BE7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03885-8EAE-45EA-A02D-8C6E7B1E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1700-4AC8-41F2-AB4F-99188075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5616D-93C0-4F4E-8EDD-42B8B8FE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3C492-4CAC-4E70-8A26-8FCBD8FD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15D43-DF55-4CA1-821B-E9A4B34B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40D81-D9AB-41DC-8E89-6A75C70F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16D6E-452F-4744-86D1-A7F40942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3EE28-0D38-445F-9387-65AFD496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5EF0C-5639-4709-8304-681BF3BC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50946-2ECF-4E82-93DD-A3128869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9FF98-E7FE-436B-A939-DB72D567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6A7F8-4CAA-475E-93F5-E21EB43C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3A47F5E5-1149-4FA0-892A-44A988D1CC6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CBAA1313-FF0D-4F2C-8137-A47399DCF64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8B33891A-4716-4807-B0EF-B2B1AA5773A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AD55BBA0-BACE-4B58-8D50-9A87B2B6D83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3EBA4C29-65AA-42ED-95A8-D71682ECEF3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3936F02B-933D-4B0F-A420-54EEC8EAD06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69D74B39-0D25-4A39-B438-2C2D0C227FD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84773E98-64E7-4692-9B27-9E9EADEDA9C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3778755D-30EF-468F-9D30-54C6B244281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216DD5BA-0548-44C4-A755-DD4ECD3462D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C1576314-289F-4D97-8F37-EB2CC85B7E1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CC39A7A7-BC0B-450A-BDBE-02F4A00439C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CDEF4C3B-F2B1-4BDB-A101-9386C0FBEAB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11000" y="628560"/>
            <a:ext cx="7823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8000"/>
                </a:solidFill>
                <a:latin typeface="Times New Roman"/>
              </a:rPr>
              <a:t>H 3. </a:t>
            </a:r>
            <a:br>
              <a:rPr sz="5400"/>
            </a:br>
            <a:r>
              <a:rPr b="0" lang="nl-NL" sz="5400" spc="-1" strike="noStrike">
                <a:solidFill>
                  <a:srgbClr val="008000"/>
                </a:solidFill>
                <a:latin typeface="Times New Roman"/>
              </a:rPr>
              <a:t>Gevaarlijke stoffen</a:t>
            </a:r>
            <a:endParaRPr b="0" lang="en-US" sz="54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547" name="Object 6"/>
          <p:cNvGraphicFramePr/>
          <p:nvPr/>
        </p:nvGraphicFramePr>
        <p:xfrm>
          <a:off x="2106720" y="2800440"/>
          <a:ext cx="492912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6720" y="2800440"/>
                    <a:ext cx="4929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CB942BA5-B9A5-4502-B4D0-2C51AA7626C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Verandering van opname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87320" y="154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nelde opname bij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ge temperat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ar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demhaling via de 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erkoudheid, verstopte ne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4" descr="A:\CMENP024.WMF"/>
          <p:cNvPicPr/>
          <p:nvPr/>
        </p:nvPicPr>
        <p:blipFill>
          <a:blip r:embed="rId1"/>
          <a:stretch/>
        </p:blipFill>
        <p:spPr>
          <a:xfrm flipH="1">
            <a:off x="2437920" y="4514760"/>
            <a:ext cx="4381560" cy="1731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F24DCA4E-99F4-4B4D-84A2-18470AAED33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Zuren en lo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836280"/>
            <a:ext cx="777240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5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tende st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rnstige brandwo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gvreten van materi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een zuur is direct merkbaar, een loog pas na enige tij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gebru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poelen met veel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kleren uit die onder het z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f loog z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ulp vr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o snel mogelijk naar dokt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ekenh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46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F0439465-D708-424A-BAB3-2BD70531B5F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"/>
          <p:cNvSpPr/>
          <p:nvPr/>
        </p:nvSpPr>
        <p:spPr>
          <a:xfrm>
            <a:off x="711360" y="1771560"/>
            <a:ext cx="7721280" cy="52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(bijv. wasbenzine, thinner, terpentine, veel gebruikt in lakken, verven, en lij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luchtwegen in het blo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huid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everen meestal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randgevaar 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unnen zelfs het zenuwstel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ntas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609480" y="51444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(Organische) oplosmiddel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D84AB3E9-ACE4-4E23-B715-0B17BB64051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"/>
          <p:cNvSpPr/>
          <p:nvPr/>
        </p:nvSpPr>
        <p:spPr>
          <a:xfrm>
            <a:off x="812880" y="2114640"/>
            <a:ext cx="756900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2854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ldoende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noodzak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ersoonlijk hygië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nk aan v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4" descr="G:\VCA\afbeelding\GC001285.WMF"/>
          <p:cNvPicPr/>
          <p:nvPr/>
        </p:nvPicPr>
        <p:blipFill>
          <a:blip r:embed="rId1"/>
          <a:stretch/>
        </p:blipFill>
        <p:spPr>
          <a:xfrm>
            <a:off x="1219320" y="4229280"/>
            <a:ext cx="6229080" cy="196668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5"/>
          <p:cNvSpPr/>
          <p:nvPr/>
        </p:nvSpPr>
        <p:spPr>
          <a:xfrm>
            <a:off x="507960" y="571680"/>
            <a:ext cx="812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(Organische) oplos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21975488-351F-4B9A-B3D3-1DF959F9D2E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88840" y="514440"/>
            <a:ext cx="756936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Cyclische verbindin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87320" y="10288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7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tolueen,xyleen,benze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jken erg op organisc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lo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dacht van veroorzaken kan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odemverontreinig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532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AK’s (Poly-Aromatische Koolwaterstoff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532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hoge concentratie kun je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waarschijnlijk)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gunning verp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e organische oplo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ten is weten (MA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D97076D6-F71B-4F65-BB46-8B9D16AC0A6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87320" y="5144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Metal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taalstof &amp; lasdam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chroomverbindingen, lood, kwi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ink, loodoxide, loodmenie, loodw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ctr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ans op ophoping in 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cha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estal chronische vergift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B7BFF421-53B3-46DB-9EB6-8AB330B8093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7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Wat zijn gevaarlijke stoffen?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796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23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Een stof is gevaarlijk, als deze onze gezondheid in gevaar kan bren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verdeling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387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ijtende 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ia de huid en ogen, brandwonden)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soldeervloeistof, zuren, ammo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gootsteenontsto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387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iftige 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ia  de spijsvertering en ademha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bestrijding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042C2563-C48D-419C-812F-CC20528A61E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Giftige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11360" y="3143160"/>
            <a:ext cx="77724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 werking is afhankelijk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 hoeveelhe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Kleine hoeveelheid gr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volgen, bijv. cyaankal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rote hoeveelheid gr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volgen, eet maar eens een k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out 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7" descr="G:\afbeelding\VCA1\Pictogrammen VCA\giftige stof.gif"/>
          <p:cNvPicPr/>
          <p:nvPr/>
        </p:nvPicPr>
        <p:blipFill>
          <a:blip r:embed="rId1"/>
          <a:stretch/>
        </p:blipFill>
        <p:spPr>
          <a:xfrm>
            <a:off x="2946240" y="1371600"/>
            <a:ext cx="3454560" cy="1660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23B1E6E8-B799-4E52-89A2-0FBC89D2A45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Zeer giftige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0464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kleine hoeveelheden m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grote gevolgen voor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zondheid. Blijvende schad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goed mogelij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323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rec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via eten en drinken en inade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direc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on op een jerrycan benzine </a:t>
            </a:r>
            <a:r>
              <a:rPr b="0" i="1" lang="nl-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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benzined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G:\afbeelding\VCA1\Pictogrammen VCA\giftige stof.gif"/>
          <p:cNvPicPr/>
          <p:nvPr/>
        </p:nvPicPr>
        <p:blipFill>
          <a:blip r:embed="rId1"/>
          <a:stretch/>
        </p:blipFill>
        <p:spPr>
          <a:xfrm>
            <a:off x="3251160" y="1257480"/>
            <a:ext cx="2641680" cy="1269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A1F1F92D-605D-4C04-995D-848C55AE017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Soorten vergiftigin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840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u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eer kort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 hoge concent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merkbare symptom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of na uren of d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werken met ammoniak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terpentine, innemen van te v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medicij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ronisch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angdurige blootstelling aan een bepaalde st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werken met thinner of plant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werken in stoffige ruim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B10735C1-57D9-4D27-BFDA-7AD93F43015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87320" y="1542960"/>
            <a:ext cx="77724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42800" indent="-353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d </a:t>
            </a: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(spijsverteringkana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mond, keel, slokdarm, maag en dar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ten en drin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anden w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gebru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5" descr="G:\afbeelding\VCA1\Pictogrammen VCA\roken verboden.gif"/>
          <p:cNvPicPr/>
          <p:nvPr/>
        </p:nvPicPr>
        <p:blipFill>
          <a:blip r:embed="rId1"/>
          <a:stretch/>
        </p:blipFill>
        <p:spPr>
          <a:xfrm>
            <a:off x="6095880" y="2685960"/>
            <a:ext cx="2235240" cy="12002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G:\afbeelding\VCA1\Pictogrammen VCA\veiligheidshandschoenen verplicht.gif"/>
          <p:cNvPicPr/>
          <p:nvPr/>
        </p:nvPicPr>
        <p:blipFill>
          <a:blip r:embed="rId2"/>
          <a:stretch/>
        </p:blipFill>
        <p:spPr>
          <a:xfrm>
            <a:off x="6400800" y="4457880"/>
            <a:ext cx="1932120" cy="1093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5ED4CF1E-7DF6-4853-9430-A42C911FA84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609480" y="691920"/>
            <a:ext cx="8128080" cy="54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33080" indent="-346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onbeschadigde 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huidporiën, nagelbed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beschadigde 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snij- en schaafwondjes, overige won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4" descr="G:\afbeelding\VCA1\Pictogrammen VCA\hand.gif"/>
          <p:cNvPicPr/>
          <p:nvPr/>
        </p:nvPicPr>
        <p:blipFill>
          <a:blip r:embed="rId1"/>
          <a:stretch/>
        </p:blipFill>
        <p:spPr>
          <a:xfrm>
            <a:off x="1015920" y="2943360"/>
            <a:ext cx="1727280" cy="15652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G:\afbeelding\VCA1\Pictogrammen VCA\voetbes.gif"/>
          <p:cNvPicPr/>
          <p:nvPr/>
        </p:nvPicPr>
        <p:blipFill>
          <a:blip r:embed="rId2"/>
          <a:stretch/>
        </p:blipFill>
        <p:spPr>
          <a:xfrm>
            <a:off x="6400800" y="2971800"/>
            <a:ext cx="1625760" cy="160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2" name="Object 9"/>
          <p:cNvGraphicFramePr/>
          <p:nvPr/>
        </p:nvGraphicFramePr>
        <p:xfrm>
          <a:off x="3365640" y="2276640"/>
          <a:ext cx="2411280" cy="33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5640" y="2276640"/>
                    <a:ext cx="241128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Rectangle 10"/>
          <p:cNvSpPr/>
          <p:nvPr/>
        </p:nvSpPr>
        <p:spPr>
          <a:xfrm>
            <a:off x="711360" y="0"/>
            <a:ext cx="77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F5E2C1F7-5D19-4C05-9558-1B348873C87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609480" y="1542960"/>
            <a:ext cx="81280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14360" indent="-331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demhalingsorga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kkelende werking op de slijmvliezen (acu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onmiddellijk verschijnselen zoals: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hoesten, kortademigheid, pijn bij het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uch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rking na opname in het bloed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klachten na enkele u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Bescherming moe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doe het dus go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Kies de juiste bescherm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4" descr="F:\Data\Beeldbank\PG Groenbeheer en onderhoud\Arbo  Veiligheid V V A\VCA1\Pictogrammen VCA\ademhaling.gif"/>
          <p:cNvPicPr/>
          <p:nvPr/>
        </p:nvPicPr>
        <p:blipFill>
          <a:blip r:embed="rId1"/>
          <a:stretch/>
        </p:blipFill>
        <p:spPr>
          <a:xfrm>
            <a:off x="5791320" y="4286160"/>
            <a:ext cx="2438280" cy="209556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5"/>
          <p:cNvSpPr/>
          <p:nvPr/>
        </p:nvSpPr>
        <p:spPr>
          <a:xfrm>
            <a:off x="711360" y="628560"/>
            <a:ext cx="77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CD779D50-2410-4E1C-9E42-435C2012E58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558720" y="692280"/>
            <a:ext cx="8026560" cy="32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ia ademhaling in het bl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opgenom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lemmering transport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3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ntasting lichaamsc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bewustzijnstoornis, hoofdpijn,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misselijkheid, kloppende sla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G:\VCA\afbeelding\CS002161.WMF"/>
          <p:cNvPicPr/>
          <p:nvPr/>
        </p:nvPicPr>
        <p:blipFill>
          <a:blip r:embed="rId1"/>
          <a:stretch/>
        </p:blipFill>
        <p:spPr>
          <a:xfrm>
            <a:off x="3817800" y="3500280"/>
            <a:ext cx="1505160" cy="289404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9"/>
          <p:cNvSpPr/>
          <p:nvPr/>
        </p:nvSpPr>
        <p:spPr>
          <a:xfrm>
            <a:off x="6603840" y="5363280"/>
            <a:ext cx="16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1422360" y="5363280"/>
            <a:ext cx="11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5791320" y="439200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3"/>
          <p:cNvSpPr/>
          <p:nvPr/>
        </p:nvSpPr>
        <p:spPr>
          <a:xfrm>
            <a:off x="1523880" y="4506120"/>
            <a:ext cx="13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4"/>
          <p:cNvSpPr/>
          <p:nvPr/>
        </p:nvSpPr>
        <p:spPr>
          <a:xfrm flipV="1">
            <a:off x="2743200" y="4628880"/>
            <a:ext cx="142236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5"/>
          <p:cNvSpPr/>
          <p:nvPr/>
        </p:nvSpPr>
        <p:spPr>
          <a:xfrm>
            <a:off x="2641680" y="56577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6"/>
          <p:cNvSpPr/>
          <p:nvPr/>
        </p:nvSpPr>
        <p:spPr>
          <a:xfrm flipH="1" flipV="1">
            <a:off x="5283000" y="4800240"/>
            <a:ext cx="1422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7"/>
          <p:cNvSpPr/>
          <p:nvPr/>
        </p:nvSpPr>
        <p:spPr>
          <a:xfrm flipH="1">
            <a:off x="5181480" y="468648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8"/>
          <p:cNvSpPr/>
          <p:nvPr/>
        </p:nvSpPr>
        <p:spPr>
          <a:xfrm>
            <a:off x="1523880" y="0"/>
            <a:ext cx="699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08:16:30Z</dcterms:created>
  <dc:creator>A.Bakker</dc:creator>
  <dc:description/>
  <dc:language>en-US</dc:language>
  <cp:lastModifiedBy>aoc</cp:lastModifiedBy>
  <cp:lastPrinted>2000-10-11T12:57:01Z</cp:lastPrinted>
  <dcterms:modified xsi:type="dcterms:W3CDTF">2011-10-12T19:02:53Z</dcterms:modified>
  <cp:revision>206</cp:revision>
  <dc:subject>Basisveiligheid sheets</dc:subject>
  <dc:title>Geen diatitel</dc:title>
</cp:coreProperties>
</file>