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00850" cy="9936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3EB-995D-4F4C-89A2-C9580053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037-47A2-448E-93B1-A86FF0D3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6D7D8-8BB4-4A2E-9408-713D04CA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82F57-4BBC-4970-89D7-2989A8CF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EA488-64A2-4A82-AE4D-1DC31DA9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B6D5F-A4AB-469E-8709-B1EE5D0C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E52F0-8753-4B29-8C6E-34C6C2EA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ABF94-D6A1-49F1-8C23-533E53DD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0503C-9F38-4A30-A5F9-EFBBD03E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512E9-89D9-4D74-9753-CC3D1B64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9DEC4-5CA5-4E3E-8B2D-A625AD44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DD43A-89FD-4966-9951-9535A77E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088-AADD-4145-8898-11C66CBF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136AF-B08E-4F13-9FCC-343784AA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05EAC-C2D7-4791-9C34-95E5B6F0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873F2-9E05-4190-90E6-51EAE305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B5E2A-BAFF-47D6-A7C1-68255A8F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7C0E6-0E35-451A-86DC-159AB1FC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EE559-132F-4C08-AE70-0F8E3301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1D019-DB1E-4D24-8B8C-8ABB900B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9AC8F-71D9-428F-91DF-08AA0681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124B0-5524-4765-8422-D786FB29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AC224-2CCE-4077-B0C2-907F9A97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351-CE06-4B1B-A90B-4BE6D30F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9EADA-D551-4C15-999E-DFAD8E39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AA8AE-0A18-47D8-84D6-FAC3E17C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89B27-C638-444A-9C85-0F7CD5FF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00B03-BF69-4A76-AEE8-E968C3FF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D49F5-211C-4310-9A8F-6EA2D29F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8B951-8FB8-4AF1-9539-63400F6D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66356-8423-4C44-A793-EA8A50FE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77A16-FB90-4526-8413-EF488717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2FD1F-EEBE-46F0-8A2F-187C0A81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39FC0-DFC2-438A-925F-A7CD4147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1BE2-669B-4417-826F-7A11E709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50C91-BC21-46B8-AB4F-9FC07A7C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664E8-3147-4DFF-99A3-0A125D6A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4D12C-E596-4B0B-B202-A89B5043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BBFF8-1EC3-43D1-B249-DF90446E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D6308-09A8-4665-A381-3DAB9C0B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08D2D-EBD7-4DB1-BECB-1F24FFAE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A7446-580D-4348-9B62-820BE54E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D1774-6C99-45B1-B735-CE1C9531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A5C58-B301-4252-B12B-27C60996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91E03-169C-414D-93C8-388AF50F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6A95-499F-499D-8567-C90CBEC1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C211B-FB81-4DA3-B699-D69CEEC8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3B683-B412-4849-A01D-00016B92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0F493-627E-4E5E-AC18-87C3524A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30179-DE68-4BB5-BCE3-8AB51B69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72E7E-3788-42AD-926E-9A64A480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32D8A-508D-4AF1-94E0-6DA668CF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8E61D-CE33-4B8D-91BB-DCA15346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6E309-247B-42DE-9318-130A6A00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B59D4-8890-4A43-AC75-1C651268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45DDF-B3FE-48A8-834E-0F1968FD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3A61-CE65-4A3F-AB04-1A996C56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719F6A-EC5E-49BC-BFD8-91AAC8A1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B05F2-112C-494C-AD0D-E1B2302D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5F1081-B015-4343-8A05-CFEE35B0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936E2-757E-4E81-9F12-68700B31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0FC90-7FE6-4B8B-A70E-F4521936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74502-C9F4-450B-9A76-5E45BC23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8965F-FD2F-4B2A-A15A-3C69543C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9377-47BC-4DFA-AA2D-E73AFDA0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80AE-8E38-436B-9EBB-2A564DE5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AB06-A16E-40FC-96FD-D752730C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43AF-40C8-4FC6-A5AF-CD72246A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69E-6350-4F94-AF09-31715854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8C81-448E-4D04-95E0-67DC2D2D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16F2-03DD-4497-8588-FA40A5E7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407C-4076-4BB8-B433-9C758AA7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5EE2-76E1-47D4-A7A3-4E6B5FB4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1A98-FE9C-4062-9E54-A81D235C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63AAC-B428-47AA-A228-0102B758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7CD31-4325-4D9C-8260-1A3C0B5D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A37C9-DD65-4F6E-8719-DCFD463A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825AD-5DC7-4CB8-ADD5-3B1589F6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6DFD3-75FD-4B6C-A6C9-522B3B05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8640-3E3D-4500-ADEE-02229CCF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B8DB3-89F4-4325-88E8-C7DEBAE1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80DC2-6007-4588-9CFE-8732124D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017EF-5170-4B65-8C41-DFC1E804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072C9-9B60-46AF-AC6D-53C527B9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3C972-A012-4B7B-9E30-86DE0CA3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6A4B2-055F-4B4F-B086-EB7354A2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1F063-357D-4246-B217-56C2E54F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BAA36-A426-4EAF-99FB-0242456C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7CE5F-9EFA-49BB-A40C-997E067A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BBB6B-B3C7-4C10-BF00-95EDC7B9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732-BB0D-454A-8451-5283909A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33755-FF62-47BB-AA2D-F87314A2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4D17F-C833-4375-A134-9D16B566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1FFE5-DF59-44A3-AFA4-2FA9AB25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CEFFD-BDAF-4E33-B63E-B48BE259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EC011-ABFF-4D6F-9225-A5B17555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69F1B-C9E6-4FCB-B561-AEC56CE9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3FDC7-FA63-463C-A166-A75887ED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8EC1C-708A-4AEE-99E0-0E86E54B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8E448-2FC4-4E8C-8DAF-4781B32B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84AF9-1EA6-41F7-953D-F5AE2B3A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2B2E-5B33-4FFC-B691-4A58C9FC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D9C0D-2A7B-4B18-987E-08C0B287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50C9C-0E19-4A59-BB65-80B22399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16A3F-A94B-49AC-8BDA-AC95A7B9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35342-ECB5-464E-9EB7-F03EB395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01237-1511-4E5A-ACBE-B3B31D5F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D154B-3BF2-4868-9603-3F91592C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4B038-6FDA-412C-8FFE-FDAB9202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374D9-1682-4A93-831C-485609E9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F7C88-C524-4F51-96A5-B10AAF58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8D17D-78F9-47EA-BE5C-D6BC49A1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8D44-3F57-499A-B941-110235AB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A7973-5B30-4FEF-9F60-4FFDA237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66400-E9B8-4331-9593-DBE94B21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BA3A5-16F7-48A0-8E99-7F71359F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A9253-E3B8-418F-BA50-C6364ADE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1DFAC-F344-4593-943A-9EA5F4F0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2E5A5-E0E2-4062-A419-CDE65159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06D99-ED75-4DA6-99C3-74E33D5B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9AD9D-A8FF-4AFE-A034-7CCA0BA6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976D1-8AD9-490C-AA70-0C2259E7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F645E-8C18-434B-BF31-620A5B6C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5E4-3C7A-443A-8D3B-3B39A061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FA1F3-A8F2-4819-9351-78E55A0E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BD8AF-0FE1-4AC7-99CD-C63C0B1D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F8E29-DBFC-412E-B63F-B3F3AAAE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7819D-EF6F-4259-8DA6-5E2B7CDA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07306-2A4E-47BF-8716-5DA3DF7D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7FEC7-B433-445A-B1AB-A1BE78B4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D4323-478D-4E79-8C41-95E1ABE6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81BF9-C2C6-4B9D-B4C3-BDF0B8A9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61A75-B7A0-45EC-BDC7-6CD603B7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ECA82-448C-4FE8-BE34-A78FCC8F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5BA5-8180-498D-9776-DB7AC926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E620F-1921-4185-870D-4F682643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CEBE2-9051-44E4-B6F1-AED70C27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82017-F089-4450-A065-63813B0C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7B27E-93EE-45E7-B97F-F7653D2B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17BFE-5C96-485C-88A9-7D9D2038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A65F7-7ADA-4CF9-AD4A-06BD6880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7FA9F-22A1-48CB-8642-4CF07DF0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E4ACE-04BA-4884-B21A-7B68C6F4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51700-6C62-4118-8357-25D01AE5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CF634-FE4A-4800-AA4F-4F348A59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6D7-E357-4266-B2DB-FCF4C0F4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B1B44-CE20-4988-8A9C-9FAECD92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C1E95-1568-432F-8E60-B8B14D76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D9BE6-FB89-4F94-88E4-F92D7DC3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C0570-D00A-45B8-8B57-6C47730E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83A04-C312-4E3B-8E25-968D4010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EB853-A21A-4B42-9D74-2757CC79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83446-7F02-404B-AA7A-B0035734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881A2-1DBB-47EB-A56F-9D5826D7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DB502-5140-4697-A186-826C4A92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34A47-A083-4D04-83C6-6A02A20B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5C6DA29-4F6B-4B4A-8489-B0FC1CCD81A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E3E1C20-2293-4E53-9C56-93B270B7892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9920A51-A733-4636-ABA5-2F912BE03DB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27F9B99-E707-4FAD-ABCA-6D48633F509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539360BF-BBD6-47F3-95FA-A4DBA3D9438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01B73963-F7E5-40A7-BAE2-3E6A8716BF3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C2CB9F0-6BAD-4BE5-BD2A-561349DA602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B285DAB-26C9-4CBC-996D-8A6537C65B7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13F1895-1C32-49E3-A229-67592F482C3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15B7D0E-D185-4D23-A886-5A91A0A590F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5A0B380-2B9A-4C5B-99B9-30B334B3A0D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84E22FF-7B77-4517-B9BF-53963422D30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A744489-FE13-4FD0-BC9C-607B02B6482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1000" y="628560"/>
            <a:ext cx="7823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H 3. </a:t>
            </a:r>
            <a:br>
              <a:rPr sz="5400"/>
            </a:b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Gevaarlijke stoffen</a:t>
            </a:r>
            <a:endParaRPr b="0" lang="en-US" sz="5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47" name="Object 6"/>
          <p:cNvGraphicFramePr/>
          <p:nvPr/>
        </p:nvGraphicFramePr>
        <p:xfrm>
          <a:off x="2106720" y="2800440"/>
          <a:ext cx="492912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6720" y="2800440"/>
                    <a:ext cx="4929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58B8F5B0-0255-4D58-9FA5-B71A560032D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Verandering van opname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nelde opname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ge temperat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ar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demhaling via de 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erkoudheid, verstopte ne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4" descr="A:\CMENP024.WMF"/>
          <p:cNvPicPr/>
          <p:nvPr/>
        </p:nvPicPr>
        <p:blipFill>
          <a:blip r:embed="rId1"/>
          <a:stretch/>
        </p:blipFill>
        <p:spPr>
          <a:xfrm flipH="1">
            <a:off x="2437920" y="4514760"/>
            <a:ext cx="4381560" cy="1731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A4ADF2A-C50D-48D4-A859-883B1BEA7A6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uren en lo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tende st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rnstige brandwo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gvreten van materi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een zuur is direct merkbaar, een loog pas na enige tij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oelen met veel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kleren uit die onder het 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f loog z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ulp vr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 snel mogelijk naar dokt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kenh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4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CBD4445-C991-4654-9527-412C628BDE0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711360" y="1771560"/>
            <a:ext cx="772128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bijv. wasbenzine, thinner, terpentine, veel gebruikt in lakken, verven, en lij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luchtwegen in het blo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huid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everen meestal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randgevaar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unnen zelfs het zenuw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609480" y="51444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EC34546-60D2-409B-82BB-4A31E0B96C0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812880" y="2114640"/>
            <a:ext cx="75690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ldoende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noodza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soonlijk hygië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nk aan v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G:\VCA\afbeelding\GC001285.WMF"/>
          <p:cNvPicPr/>
          <p:nvPr/>
        </p:nvPicPr>
        <p:blipFill>
          <a:blip r:embed="rId1"/>
          <a:stretch/>
        </p:blipFill>
        <p:spPr>
          <a:xfrm>
            <a:off x="1219320" y="4229280"/>
            <a:ext cx="6229080" cy="19666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5"/>
          <p:cNvSpPr/>
          <p:nvPr/>
        </p:nvSpPr>
        <p:spPr>
          <a:xfrm>
            <a:off x="507960" y="571680"/>
            <a:ext cx="81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A855DAEB-D750-445C-A607-E63770295D4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88840" y="514440"/>
            <a:ext cx="756936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Cyclische verbind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87320" y="10288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7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tolueen,xyleen,benz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jken erg op organis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dacht van veroorzaken kan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odemverontreinig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K’s (Poly-Aromatische Koolwaterstoff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hoge concentratie kun je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waarschijnlijk)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gunning verp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 organische 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en is weten (MA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3D9E14C-5FAA-4E7F-98CD-95B4BFC072B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87320" y="5144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Metal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aalstof &amp; lasdam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chroomverbindingen, lood, kwi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ink, loodoxide, loodmenie, loodw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ctr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ns op ophoping in 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estal chronische vergift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2A51720E-FDCE-4933-B7E3-C0947B08505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7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Wat zijn gevaarlijke stoffen?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796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23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Een stof is gevaarlijk, als deze onze gezondheid in gevaar kan bre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verdeling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tend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de huid en ogen, brandwonden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soldeervloeistof, zuren, ammo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gootsteenontsto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iftig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 de spijsvertering en ademha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bestrijding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2F4B197-A2F1-4D2A-B907-6FD3CF9AF40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11360" y="3143160"/>
            <a:ext cx="77724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werking is afhankelijk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hoeveelh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lein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bijv. cyaankal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rot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eet maar eens een k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ut 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7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2946240" y="1371600"/>
            <a:ext cx="3454560" cy="166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E5F7C67-81F3-4C3E-8F2F-FE7E38C9A39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eer 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046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kleine hoeveelheden 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rote gevolgen voor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zondheid. Blijvende schad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oed mogelij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via eten en drinken en inade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on op een jerrycan benzine </a:t>
            </a:r>
            <a:r>
              <a:rPr b="0" i="1" lang="nl-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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benzine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3251160" y="1257480"/>
            <a:ext cx="2641680" cy="1269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070851FF-ECBC-476C-B412-57BF96B2B7B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Soorten vergiftig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eer kort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 hoge concent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merkbare symptom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of na uren of d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ammoniak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terpentine, innemen van te v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edicij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ronisch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angdurige blootstelling aan een bepaalde st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thinner of plan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werken in stoffige ruim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EFD97F3-2B08-44D2-AE24-113C092032E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42800" indent="-353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d </a:t>
            </a: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(spijsverteringkana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mond, keel, slokdarm, maag en d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ten en drin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anden w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5" descr="G:\afbeelding\VCA1\Pictogrammen VCA\roken verboden.gif"/>
          <p:cNvPicPr/>
          <p:nvPr/>
        </p:nvPicPr>
        <p:blipFill>
          <a:blip r:embed="rId1"/>
          <a:stretch/>
        </p:blipFill>
        <p:spPr>
          <a:xfrm>
            <a:off x="6095880" y="2685960"/>
            <a:ext cx="2235240" cy="12002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G:\afbeelding\VCA1\Pictogrammen VCA\veiligheidshandschoenen verplicht.gif"/>
          <p:cNvPicPr/>
          <p:nvPr/>
        </p:nvPicPr>
        <p:blipFill>
          <a:blip r:embed="rId2"/>
          <a:stretch/>
        </p:blipFill>
        <p:spPr>
          <a:xfrm>
            <a:off x="6400800" y="4457880"/>
            <a:ext cx="1932120" cy="109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450F04E-AF49-4C2E-A8DC-942706DFD76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609480" y="691920"/>
            <a:ext cx="812808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33080" indent="-346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on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huidporiën, nagelbed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snij- en schaafwondjes, overige wo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4" descr="G:\afbeelding\VCA1\Pictogrammen VCA\hand.gif"/>
          <p:cNvPicPr/>
          <p:nvPr/>
        </p:nvPicPr>
        <p:blipFill>
          <a:blip r:embed="rId1"/>
          <a:stretch/>
        </p:blipFill>
        <p:spPr>
          <a:xfrm>
            <a:off x="1015920" y="2943360"/>
            <a:ext cx="1727280" cy="15652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G:\afbeelding\VCA1\Pictogrammen VCA\voetbes.gif"/>
          <p:cNvPicPr/>
          <p:nvPr/>
        </p:nvPicPr>
        <p:blipFill>
          <a:blip r:embed="rId2"/>
          <a:stretch/>
        </p:blipFill>
        <p:spPr>
          <a:xfrm>
            <a:off x="6400800" y="2971800"/>
            <a:ext cx="162576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2" name="Object 9"/>
          <p:cNvGraphicFramePr/>
          <p:nvPr/>
        </p:nvGraphicFramePr>
        <p:xfrm>
          <a:off x="3365640" y="2276640"/>
          <a:ext cx="2411280" cy="33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276640"/>
                    <a:ext cx="241128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Rectangle 10"/>
          <p:cNvSpPr/>
          <p:nvPr/>
        </p:nvSpPr>
        <p:spPr>
          <a:xfrm>
            <a:off x="711360" y="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DE4751E-9980-46C6-ACA0-A7C29647E02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609480" y="1542960"/>
            <a:ext cx="81280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14360" indent="-331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demhalingsorg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kkelende werking op de slijmvliezen (acu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onmiddellijk verschijnselen zoals: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hoesten, kortademigheid, pijn bij het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uch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rking na opname in het bloed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klachten na enkele u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Bescherming moe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doe het dus go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ies de juiste bescherm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4" descr="F:\Data\Beeldbank\PG Groenbeheer en onderhoud\Arbo  Veiligheid V V A\VCA1\Pictogrammen VCA\ademhaling.gif"/>
          <p:cNvPicPr/>
          <p:nvPr/>
        </p:nvPicPr>
        <p:blipFill>
          <a:blip r:embed="rId1"/>
          <a:stretch/>
        </p:blipFill>
        <p:spPr>
          <a:xfrm>
            <a:off x="5791320" y="4286160"/>
            <a:ext cx="2438280" cy="20955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711360" y="62856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F8791A0E-C1A8-4E32-807D-75E5C18DDF7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558720" y="692280"/>
            <a:ext cx="802656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ia ademhaling in het bl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opgeno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lemmering transport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3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ing lichaamsc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bewustzijnstoornis, hoofdpijn,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isselijkheid, kloppende sla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G:\VCA\afbeelding\CS002161.WMF"/>
          <p:cNvPicPr/>
          <p:nvPr/>
        </p:nvPicPr>
        <p:blipFill>
          <a:blip r:embed="rId1"/>
          <a:stretch/>
        </p:blipFill>
        <p:spPr>
          <a:xfrm>
            <a:off x="3817800" y="3500280"/>
            <a:ext cx="1505160" cy="28940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9"/>
          <p:cNvSpPr/>
          <p:nvPr/>
        </p:nvSpPr>
        <p:spPr>
          <a:xfrm>
            <a:off x="6603840" y="5363280"/>
            <a:ext cx="16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1422360" y="5363280"/>
            <a:ext cx="11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5791320" y="439200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3"/>
          <p:cNvSpPr/>
          <p:nvPr/>
        </p:nvSpPr>
        <p:spPr>
          <a:xfrm>
            <a:off x="1523880" y="4506120"/>
            <a:ext cx="13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 flipV="1">
            <a:off x="2743200" y="4628880"/>
            <a:ext cx="142236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2641680" y="56577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6"/>
          <p:cNvSpPr/>
          <p:nvPr/>
        </p:nvSpPr>
        <p:spPr>
          <a:xfrm flipH="1" flipV="1">
            <a:off x="5283000" y="4800240"/>
            <a:ext cx="1422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7"/>
          <p:cNvSpPr/>
          <p:nvPr/>
        </p:nvSpPr>
        <p:spPr>
          <a:xfrm flipH="1">
            <a:off x="5181480" y="468648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8"/>
          <p:cNvSpPr/>
          <p:nvPr/>
        </p:nvSpPr>
        <p:spPr>
          <a:xfrm>
            <a:off x="1523880" y="0"/>
            <a:ext cx="699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8:16:30Z</dcterms:created>
  <dc:creator>A.Bakker</dc:creator>
  <dc:description/>
  <dc:language>en-US</dc:language>
  <cp:lastModifiedBy>aoc</cp:lastModifiedBy>
  <cp:lastPrinted>2000-10-11T12:57:01Z</cp:lastPrinted>
  <dcterms:modified xsi:type="dcterms:W3CDTF">2011-10-12T19:02:53Z</dcterms:modified>
  <cp:revision>206</cp:revision>
  <dc:subject>Basisveiligheid sheets</dc:subject>
  <dc:title>Geen diatitel</dc:title>
</cp:coreProperties>
</file>