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00850" cy="9936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420C-C478-44BA-B28E-A143FDF1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CD3-E26E-4660-88BD-DE5C3F7F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F97E0-0471-4AEF-A9BF-C2F1374A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3F759-5C11-4C77-973F-9748B1E8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ADB21-8790-420A-87DA-EDE23CDD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DAEBF-1100-42FC-A882-A6BEFD41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2CBE3-BA96-40FB-978D-AEB5B704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BC52D-C239-4CAE-86EA-F317F3E8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350A2-9DFF-45E6-9773-81002E43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D0A49-2028-4B52-BA07-B85D79EB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E8177-612B-41F0-B6E5-A15441B8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5F3BA-91A8-42D1-AB7D-FE669208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8DF6-AFB4-40DD-893F-ECD9E8EA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30E7F-60E0-4E2A-9692-DE64BD09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207D2-63D0-41BA-97BA-1806348A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95DAF-FDB2-4A8C-A8A4-6A14F348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32BF9-978E-4D4C-BC2B-7EFBACB2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40B53-378A-404F-9C8B-E9A90B76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6B3A9-245A-4F99-8A91-6538D315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C0A17-9208-45FA-BD2B-4923B4E6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7D5D6-896B-476E-B571-7958AF64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2C04C-5690-43D1-B170-558BD77C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31C9F-BD04-47D1-A35E-FBACC130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13F1-1BEC-4228-87D3-B0DADAD3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CC6DB-DF64-47C0-9EAC-FB3EC469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5EB1F-C44A-41CA-8461-3B267A95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ABD42-25CF-48D4-B4C2-C0560692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BC80E-E249-405B-8DD6-344CC06F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F4508-ACEF-4B70-B336-104BBB2B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256EC-A996-4CA1-B8C4-A1509B48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ED9D9-B5D0-47BD-8342-4B96BC53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B9D2A-650F-4C04-9107-19A7C07B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1E021-945A-4B42-BA71-FA865E0A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5385A-E4A4-40CB-B162-6C47F843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A988-65C2-4C6C-B9CE-9D3C5986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EFA49-94C3-45CC-8280-560D9531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B0A91-8F0B-4419-8632-612F6622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88EC3-2DEF-4BFB-84A8-4E36C8A2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6AC84-010C-4CEE-859B-16144400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BEDA5-1E2F-450E-96C5-CF7BD86C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C4BB0-0541-4FB3-914E-13BB08CA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70152-4AB5-43C0-8555-2F8A3E1E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47AE2-B1C8-41D5-B043-F19B2CA9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302C1-DDB6-43A4-AF65-CEA8EF61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11F0F-2EF5-4801-A47F-07CFC636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2C4D-115D-46AF-8F6B-D5B230C9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9AD5C-C66E-4B64-B29D-8566C9CA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94888-7305-41C8-9057-2C6E4D7C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E27F9-FB47-4D78-8AC2-1DC272C8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0AD9F-F25D-408B-BDF2-3F37E105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6FD2D-3C35-40D2-B577-1BA0F86D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75F1F-EB88-4C4D-8666-17016C9C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70F18-ADED-46F9-85CC-56845DBF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6B8DC-155F-4A5E-B83A-E31150A6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C7D18A-BC9C-4AD5-A69C-561CE1D2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0A542-1630-4560-A6A5-E387C5A1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E3D6-286E-4CC0-969F-C8ABE413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CEDCB-33D4-4783-85C4-D7023E8E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3C92ED-1FD5-43DA-8F71-24F57C28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B1316-5A8C-406F-911B-5813C02B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243582-00E2-4CAD-8ED4-3FC87B2B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11991E-50B3-4E95-9883-C6DCB2DA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4C96B-D07F-49F5-99EE-506FBA77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AA426-0487-424B-84E4-E91A7B8C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EEFF-A394-4E01-B81E-9CDDAECD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931F-7362-4C89-A954-348038CB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9FB0-D170-4292-97A0-D18463AF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55EA-ACF0-4124-8B48-838B8F9E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3FD2-D451-42D3-AE3B-B385C84B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AB15-FAA4-49AB-8AC1-F88F505E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C91E-B950-4DF1-9CDE-E0182A24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73C6-2112-4C54-B26D-7A8B1DA0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811E-0DEB-4E6E-965D-F4004C82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DDB2-734D-4D63-B647-056D0325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BE73B-0013-4C66-8046-9B92C66B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51DAC-DE2A-424D-9BEC-7D38B7BE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70128-0F50-4924-BBA0-00A0D9B1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E12E6-6472-406B-97E9-921418F6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A1F7C-AE3B-4412-B19A-34466FC9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E074-1777-4649-83E8-61D8DADD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0C80F-2582-4045-B2DE-CE1019BE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90C67-A2E1-41A2-8ACD-A34DCA29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C485D-02A2-468F-95C5-CDDB039E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35B55-6B1A-4F5F-9501-845DF7B4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915AA-404F-40BC-AE50-28204CA8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B3678-85CD-419D-ACA0-2470A2D0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CE269-DFE9-4353-89FC-93CE338B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D0D68-17B1-4EBD-8FB6-B052288C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C3FA7-8EE4-44D0-B50E-3E272F17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E3595-DC23-4277-BD77-49BFC561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78C2-6FC1-4CC2-8937-9187FDB3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36161-98C7-4A05-8EDB-BAE3E8DA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6AC1D-7DA8-47A1-97AB-2D4190A5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1759C-D920-435D-98CD-70A87FF3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39F26-C659-4D8F-AC38-432461B9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4215F-45E4-4610-B3C4-8C9D7AF6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8AE7F-B83E-45DD-BA16-88D99E5E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D936C-A0E7-49D6-A68D-56320441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11CE2-7CAE-4816-8904-6FDB6233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CAAAC-D9A9-48AB-ADAD-3FC83D19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782D1-4689-49AE-B541-C6B107F0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6AB0-A372-40D9-BBCB-1D3301C2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D9C5C-21EC-4D23-9C1C-61353DEC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85DD2-95EB-4EBE-9AB9-D1FDE240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4E37E-9237-417A-8D58-9D1FF440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890F6-61C0-4A9F-B937-4FEB03F1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FBF68-3BE7-4641-B2E7-398ADBFF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8B17D-D712-4BAD-8586-CDD55DE1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81DDE-F0B8-4CA5-B78A-B772020A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74652-BED8-4893-9B11-4E34D787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57A03-E38B-41F5-818C-ADD6F235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6388D-A586-4192-894F-F71C1F21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271-4E9E-4B42-9218-1AAAF5A9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F4D3D-AD32-41A8-AF63-5B82EFF8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F8150-BC29-4EFA-BB62-8F3DAEBC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459F6-D2E6-494D-BDFA-709D352F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E4317-1C9E-4359-AF6C-18F65857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D43B7-8CD2-4FEC-A99F-9EAE3458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91823-B075-4CF6-9277-D135024F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DF955-ECDC-453A-B126-859DB7AA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4BBF6-785D-41F8-B08F-3FE99E09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119BF-9D40-419B-906B-A038D024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43D51-D115-40D1-8056-3CAE7A1B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3CD-6D98-48C5-BF52-A9FE2A67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BA626-242B-48E6-A1C5-3483A01C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31A1B-343E-48EB-8A53-2416B90A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0DD73-605D-44DA-BA9C-CC144401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5F548-2663-486E-8EBB-EC37DFF7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9DF83-CBA6-49EC-AB12-2AD1D2E3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F484C-1B9F-460D-9EE8-9165D1AC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AA284-D169-418D-B860-BE5A1B07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DC71E-07C2-4594-9D6E-EE3D818A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81421-AEBC-4457-AEB6-A6244184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5B30A-D5B8-44FF-8367-9213CA77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DB3F-D398-46D8-8775-891533B9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81812-9E1E-4473-AF31-2BB2F483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C1B0F-8F1B-4C7E-9FA0-4910B017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8ADAD-2F96-416D-8308-8D74B6BA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2F29C-6D6A-48E9-9CA1-988F10E8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A1480-FBAF-4A64-A386-EDC90C60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29E31-A48D-4B9D-A5F1-A8E1AF1C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40C1E-5ABB-427E-81E0-8432F487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A2C72-424F-40C0-8406-50C3AEA0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1AE61-8B14-494B-9888-2BF91000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AB825-2A86-4FB2-8A7A-896A2619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C0FA-943E-468D-9F72-3479D842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D5B51-05A7-4051-8D3B-F67AE2C4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1A00B-F39A-42BB-89F8-4865926F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A502A-3EEB-4326-8E96-E5E50695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5B6FC-690E-4745-B510-26C25864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DEED1-B92D-4283-928B-4F5FFAED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74F2E-EA28-4702-B397-4FF3745E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A39A3-4529-43F7-94B3-83987BCF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66EE8-7547-453C-87C8-5B0D7C00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E3A66-7C8E-442A-ABCA-396FDD3C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9C386-E4B1-4123-8B54-27BE5AD2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926D9EE-A1AF-4E3D-859E-EC64A14C7E0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F453D822-1CB4-434D-BF34-07FF10B1F0E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95CB768-6AD3-46B9-87F7-2B2F3654FE8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D1A8A6CA-2744-4942-826F-C67CC293943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106DEAA-F32B-40B9-ADB4-AD1B495E3A5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8019565C-C2CF-4203-9992-1EB28095BB8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2F1AE146-FCA9-4D21-9AD0-6067D663C20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DC53ABE3-3448-485B-BD7A-AA95EF44E1C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791D3F6C-B425-4EAA-A621-44B7C7ECE59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876FA26-9E22-4FB8-A93B-9CFA40CB886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D539D009-19D0-4A26-9B78-555ADE795D0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3E78ED0-8E7C-4B9B-9B16-04BFD8224E2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7AAC7347-4A1E-4A2E-AD8A-99972EE3F12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1000" y="628560"/>
            <a:ext cx="7823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H 3. </a:t>
            </a:r>
            <a:br>
              <a:rPr sz="5400"/>
            </a:b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Gevaarlijke stoffen</a:t>
            </a:r>
            <a:endParaRPr b="0" lang="en-US" sz="54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547" name="Object 6"/>
          <p:cNvGraphicFramePr/>
          <p:nvPr/>
        </p:nvGraphicFramePr>
        <p:xfrm>
          <a:off x="2106720" y="2800440"/>
          <a:ext cx="492912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6720" y="2800440"/>
                    <a:ext cx="4929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F059248-25C2-4921-91D2-BE69695E874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Verandering van opname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nelde opname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ge temperat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ar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demhaling via de 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erkoudheid, verstopte ne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4" descr="A:\CMENP024.WMF"/>
          <p:cNvPicPr/>
          <p:nvPr/>
        </p:nvPicPr>
        <p:blipFill>
          <a:blip r:embed="rId1"/>
          <a:stretch/>
        </p:blipFill>
        <p:spPr>
          <a:xfrm flipH="1">
            <a:off x="2437920" y="4514760"/>
            <a:ext cx="4381560" cy="1731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D913EA4C-506C-4CEF-B57E-F5D312479DA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uren en lo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5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tende st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rnstige brandwo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gvreten van materi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een zuur is direct merkbaar, een loog pas na enige tij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poelen met veel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kleren uit die onder het 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f loog z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ulp vr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 snel mogelijk naar dokt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kenh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46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C64236D-FF71-4558-BC4B-14B3020923B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711360" y="1771560"/>
            <a:ext cx="772128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bijv. wasbenzine, thinner, terpentine, veel gebruikt in lakken, verven, en lij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luchtwegen in het blo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huid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everen meestal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randgevaar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unnen zelfs het zenuw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609480" y="51444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99E07A0-8FE7-4697-9957-A2164E7C01F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812880" y="2114640"/>
            <a:ext cx="75690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ldoende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noodza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soonlijk hygië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nk aan v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G:\VCA\afbeelding\GC001285.WMF"/>
          <p:cNvPicPr/>
          <p:nvPr/>
        </p:nvPicPr>
        <p:blipFill>
          <a:blip r:embed="rId1"/>
          <a:stretch/>
        </p:blipFill>
        <p:spPr>
          <a:xfrm>
            <a:off x="1219320" y="4229280"/>
            <a:ext cx="6229080" cy="196668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5"/>
          <p:cNvSpPr/>
          <p:nvPr/>
        </p:nvSpPr>
        <p:spPr>
          <a:xfrm>
            <a:off x="507960" y="571680"/>
            <a:ext cx="81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0799D9C-4A2B-43A1-88DD-D7269940A22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88840" y="514440"/>
            <a:ext cx="756936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Cyclische verbind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87320" y="10288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7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tolueen,xyleen,benz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jken erg op organisc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dacht van veroorzaken kan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odemverontreinig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K’s (Poly-Aromatische Koolwaterstoff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hoge concentratie kun je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waarschijnlijk)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gunning verp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 organische 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en is weten (MA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2B0F0147-984F-4C0A-9A0D-9BB9B60FFA4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87320" y="5144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Metal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aalstof &amp; lasdam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chroomverbindingen, lood, kwi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ink, loodoxide, loodmenie, loodw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ctr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ans op ophoping in 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ch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estal chronische vergift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7F4C92DF-8883-4FA9-9940-0787964B30B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7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Wat zijn gevaarlijke stoffen?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796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23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Een stof is gevaarlijk, als deze onze gezondheid in gevaar kan bren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verdeling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tend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de huid en ogen, brandwonden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soldeervloeistof, zuren, ammo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gootsteenontsto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iftig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 de spijsvertering en ademha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bestrijding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3855009-11D6-4DB6-A5BE-DC7F96FDD96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11360" y="3143160"/>
            <a:ext cx="77724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werking is afhankelijk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hoeveelh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lein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bijv. cyaankal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rot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eet maar eens een k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ut 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7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2946240" y="1371600"/>
            <a:ext cx="3454560" cy="166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0044C5B5-A589-46CA-B7EB-513036CC10C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eer 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046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kleine hoeveelheden 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rote gevolgen voor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zondheid. Blijvende schad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oed mogelij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via eten en drinken en inade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on op een jerrycan benzine </a:t>
            </a:r>
            <a:r>
              <a:rPr b="0" i="1" lang="nl-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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benzine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3251160" y="1257480"/>
            <a:ext cx="2641680" cy="1269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2D347995-950C-4827-B343-68A5F1B0DBF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Soorten vergiftig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u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eer kort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 hoge concent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merkbare symptom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of na uren of d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ammoniak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terpentine, innemen van te v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edicij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ronisch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angdurige blootstelling aan een bepaalde st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thinner of plant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werken in stoffige ruim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F2E8D2A9-D309-476C-9A5A-A0E374D6143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42800" indent="-353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d </a:t>
            </a: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(spijsverteringkana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mond, keel, slokdarm, maag en d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ten en drin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anden w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5" descr="G:\afbeelding\VCA1\Pictogrammen VCA\roken verboden.gif"/>
          <p:cNvPicPr/>
          <p:nvPr/>
        </p:nvPicPr>
        <p:blipFill>
          <a:blip r:embed="rId1"/>
          <a:stretch/>
        </p:blipFill>
        <p:spPr>
          <a:xfrm>
            <a:off x="6095880" y="2685960"/>
            <a:ext cx="2235240" cy="12002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G:\afbeelding\VCA1\Pictogrammen VCA\veiligheidshandschoenen verplicht.gif"/>
          <p:cNvPicPr/>
          <p:nvPr/>
        </p:nvPicPr>
        <p:blipFill>
          <a:blip r:embed="rId2"/>
          <a:stretch/>
        </p:blipFill>
        <p:spPr>
          <a:xfrm>
            <a:off x="6400800" y="4457880"/>
            <a:ext cx="1932120" cy="109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F3D3B43-5736-47DA-8C19-1BD09BCAF74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609480" y="691920"/>
            <a:ext cx="812808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33080" indent="-346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on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huidporiën, nagelbed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snij- en schaafwondjes, overige wo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4" descr="G:\afbeelding\VCA1\Pictogrammen VCA\hand.gif"/>
          <p:cNvPicPr/>
          <p:nvPr/>
        </p:nvPicPr>
        <p:blipFill>
          <a:blip r:embed="rId1"/>
          <a:stretch/>
        </p:blipFill>
        <p:spPr>
          <a:xfrm>
            <a:off x="1015920" y="2943360"/>
            <a:ext cx="1727280" cy="15652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G:\afbeelding\VCA1\Pictogrammen VCA\voetbes.gif"/>
          <p:cNvPicPr/>
          <p:nvPr/>
        </p:nvPicPr>
        <p:blipFill>
          <a:blip r:embed="rId2"/>
          <a:stretch/>
        </p:blipFill>
        <p:spPr>
          <a:xfrm>
            <a:off x="6400800" y="2971800"/>
            <a:ext cx="162576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2" name="Object 9"/>
          <p:cNvGraphicFramePr/>
          <p:nvPr/>
        </p:nvGraphicFramePr>
        <p:xfrm>
          <a:off x="3365640" y="2276640"/>
          <a:ext cx="2411280" cy="33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2276640"/>
                    <a:ext cx="241128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Rectangle 10"/>
          <p:cNvSpPr/>
          <p:nvPr/>
        </p:nvSpPr>
        <p:spPr>
          <a:xfrm>
            <a:off x="711360" y="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502B387-6907-4681-8795-0003CEB9FB4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609480" y="1542960"/>
            <a:ext cx="81280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14360" indent="-331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demhalingsorg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kkelende werking op de slijmvliezen (acu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onmiddellijk verschijnselen zoals: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hoesten, kortademigheid, pijn bij het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uch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rking na opname in het bloed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klachten na enkele u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Bescherming moe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doe het dus go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ies de juiste bescherm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4" descr="F:\Data\Beeldbank\PG Groenbeheer en onderhoud\Arbo  Veiligheid V V A\VCA1\Pictogrammen VCA\ademhaling.gif"/>
          <p:cNvPicPr/>
          <p:nvPr/>
        </p:nvPicPr>
        <p:blipFill>
          <a:blip r:embed="rId1"/>
          <a:stretch/>
        </p:blipFill>
        <p:spPr>
          <a:xfrm>
            <a:off x="5791320" y="4286160"/>
            <a:ext cx="2438280" cy="20955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5"/>
          <p:cNvSpPr/>
          <p:nvPr/>
        </p:nvSpPr>
        <p:spPr>
          <a:xfrm>
            <a:off x="711360" y="62856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4082C44-2A53-4A46-8C25-43AC5ADC99D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558720" y="692280"/>
            <a:ext cx="802656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ia ademhaling in het bl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opgeno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lemmering transport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3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ing lichaamsc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bewustzijnstoornis, hoofdpijn,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isselijkheid, kloppende sla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G:\VCA\afbeelding\CS002161.WMF"/>
          <p:cNvPicPr/>
          <p:nvPr/>
        </p:nvPicPr>
        <p:blipFill>
          <a:blip r:embed="rId1"/>
          <a:stretch/>
        </p:blipFill>
        <p:spPr>
          <a:xfrm>
            <a:off x="3817800" y="3500280"/>
            <a:ext cx="1505160" cy="28940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9"/>
          <p:cNvSpPr/>
          <p:nvPr/>
        </p:nvSpPr>
        <p:spPr>
          <a:xfrm>
            <a:off x="6603840" y="5363280"/>
            <a:ext cx="16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1422360" y="5363280"/>
            <a:ext cx="11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5791320" y="439200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3"/>
          <p:cNvSpPr/>
          <p:nvPr/>
        </p:nvSpPr>
        <p:spPr>
          <a:xfrm>
            <a:off x="1523880" y="4506120"/>
            <a:ext cx="13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4"/>
          <p:cNvSpPr/>
          <p:nvPr/>
        </p:nvSpPr>
        <p:spPr>
          <a:xfrm flipV="1">
            <a:off x="2743200" y="4628880"/>
            <a:ext cx="142236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2641680" y="56577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6"/>
          <p:cNvSpPr/>
          <p:nvPr/>
        </p:nvSpPr>
        <p:spPr>
          <a:xfrm flipH="1" flipV="1">
            <a:off x="5283000" y="4800240"/>
            <a:ext cx="1422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7"/>
          <p:cNvSpPr/>
          <p:nvPr/>
        </p:nvSpPr>
        <p:spPr>
          <a:xfrm flipH="1">
            <a:off x="5181480" y="468648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8"/>
          <p:cNvSpPr/>
          <p:nvPr/>
        </p:nvSpPr>
        <p:spPr>
          <a:xfrm>
            <a:off x="1523880" y="0"/>
            <a:ext cx="699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08:16:30Z</dcterms:created>
  <dc:creator>A.Bakker</dc:creator>
  <dc:description/>
  <dc:language>en-US</dc:language>
  <cp:lastModifiedBy>aoc</cp:lastModifiedBy>
  <cp:lastPrinted>2000-10-11T12:57:01Z</cp:lastPrinted>
  <dcterms:modified xsi:type="dcterms:W3CDTF">2011-10-12T19:02:53Z</dcterms:modified>
  <cp:revision>206</cp:revision>
  <dc:subject>Basisveiligheid sheets</dc:subject>
  <dc:title>Geen diatitel</dc:title>
</cp:coreProperties>
</file>