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00850" cy="9936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EA38-C292-4607-A040-CDB01313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30F2-BF07-42D3-8581-68E84C68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F72D9-CA07-4A0F-B435-96565A95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52DDE-B26E-43E9-BDE0-E2035A95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EFCA4-D35F-4418-979A-D23D73E4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DBCC0-517B-4C2B-B897-B72F828B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E1A2B-D5C4-4A2A-9F19-CA1858F7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AB03E-7ED0-4FC6-A864-44BDB6A7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60EDE-36D2-45D0-AD4F-2DB3E700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13A0F-A4EB-47FE-B501-023BC511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56D16-87B6-4BFB-8CA5-DBA45C06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EEFBF-9DB0-4E26-A418-2C7B7C14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E98C-6A7E-48F1-8FD3-E07D94DB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E9E1D-EB34-4F9A-8E99-62B4ACB8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A7CD1-29C8-43F6-833B-2AC8E569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11474-50B1-4814-BAE6-74210314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E6EF9-5AA2-4168-A142-8FD07F32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17F8C-E277-4A52-B804-E6CBD48B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75B71-1A49-452C-900F-E204351D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75F58-E401-48D0-A1AF-84D1A06A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AB46C-3839-4D58-A031-86DC1D38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36D05-E5C2-48DC-BB82-79A69136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2F367-5D7F-49EE-9E72-2C901B32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FD05-B648-49A4-BDCD-98EFC833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07AF6-DD18-4157-95F2-2716DCC3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7368A-A7E1-4AFC-9EE6-E9CE5E86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73141-31BE-470A-A592-738B4AB5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72B89-EEBF-4055-B1C1-E5F0C189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717BE-6C77-4CCE-B63D-5705CAD8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8F242-DCB0-4F1B-A9D8-3FEA80D7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1CCDC-246C-43AB-AF11-40BA4B03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DBC73-CF3D-425C-B423-4B338D9A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8B8D1-6AB8-492F-9CF1-91857683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3A005-2CC5-4339-A86F-431C8F35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19F1-95D3-4B43-9C61-059352B8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D709B-AD45-4482-88C9-55050CBE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B1B26-FFFC-4DBF-8755-6D141353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693DF-CA8C-4566-B83B-8CB99B65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195F50-AAB8-4271-BE9F-B2D354F9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85439-C61F-4E4C-8A64-E98AF934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9978C-E5F2-4F0B-A390-BEB5232B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0D55E-8B8B-458C-814C-32983A25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358FD-0EF9-462C-9B1E-4B453084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B3CBB-5D9C-4272-991E-1091E6D9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97EE1-C747-4FB3-A3BE-424CFB03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BCBD-2398-4B71-AEA2-FF9A0DB3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A36F7-46F5-4315-A12A-3FE54CF3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0756C-8DAE-4387-A6A3-D4091953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97C380-A189-4A99-8275-2F26AD62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77F26-7E20-4F82-98F3-80E7654A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ABA3A-1AD2-4599-AF8A-01233D2A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90E3C9-B598-4D76-9668-FD4C5F94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E99B0A-3406-4671-98AA-A4B34528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F7B810-8717-487B-80F2-42064AB2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FBA4B9-0B41-4678-BC61-5EB4E283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0B2915-3F25-4EB5-8790-E8178894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C73F-3364-49C2-8A7C-BB1614F6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AADA5C-D9CA-44D7-8A49-517CAC33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1E0D5A-80B6-462D-B24B-9066CCF2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1FAC0A-2F03-4CC2-9A62-54A01BB8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98C475-816E-4853-93BC-09BF8BCA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2B6D3B-2D42-42FD-9747-DEB8041F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3AB71F-483E-47B6-9478-9057B744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4516F5-9B2F-46D8-B99F-9D59666E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BC62-E562-436C-86A5-AC9B4F8E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441C-0EC7-4364-BE3D-F0E875E7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AA13-C5C1-4038-BD2F-8273C5F0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5E85-488F-47A7-9C7D-615167A4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233D-9BCB-41EE-B944-010301BB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87FC-437C-4DE5-A6C4-FF1318C7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3196-E028-4DCA-8B98-FDC4948F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F2B2-F6EA-47CE-A53B-31D4728E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9AD0-5753-4379-AB80-5D5B29A5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5C9A-0F42-4A94-B518-DB9899A4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052C7-2FD8-45ED-8A42-B878DFBF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F526A-1B3D-4702-8181-DFB28B8B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F99F6-3524-4FA1-B223-EA85A4DB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26DD1-A591-4B56-8A82-4CA1C9A0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F17F9-27EB-4E69-BDC5-27E7427F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B4C7-3BED-428E-A587-66D4055C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C36A0-87B9-4846-B081-566F1167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E224A-38C6-45A0-9AF8-DF46CECB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B9789-7F36-42F7-9613-AB5C970C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630FC-B947-4FD7-B472-2176060A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B4726-C53C-42FA-B6C6-51F18A8E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B7ECC-EAC9-4460-A62C-4241E971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AFE70-4E1A-4333-954C-C226C354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5D776-ED4E-42EA-806F-CCFF2752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B8520-ECE3-4152-A003-E77B3E9C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3020F-09B0-4A7B-A294-8D1A4157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EC27-313D-4460-A0EB-72F51F61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CAB5A-6BB6-4B43-BA7E-A00987FC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87357-4677-4E89-A79B-80709BD8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6D5BE-CBE7-4FE4-BB86-369804EC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C1280-2DFD-4130-A8A4-5C9BCFFD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E0BBF-104E-4B69-BF85-384E0F43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05A56-A195-42DC-8974-8619C117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CA62A-56E8-48CC-BA72-55D72354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6326A-2954-4052-9B43-8A04FB61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DFD62-7118-45C6-8F8A-07814FE9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0490A-7D43-4D04-AA0A-FADE1DEB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5E88-40A3-4B75-8340-20D6E2CE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F292B-5CFA-4CB4-9AE8-C6CE423B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152AC-3A33-4DB8-9721-E61B798F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0EDA6-D699-4780-AFE5-1D3B831C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9BBD7-463D-4CC5-8424-4B81CD38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A1A40-5302-4769-818E-349F2B61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5FEC9-4308-4287-B18E-4BD68C50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FC61A-A651-48C8-90A8-539520E7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34D88-5770-452A-8776-BF87F869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FA7A7-1347-484E-9CBE-4E35ADC6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08E5D-6DE3-4DF4-B1F5-FF657563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11EF-6F60-45DD-BAAF-36A837B5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09382-6293-4E9A-85E5-C7E1FA23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04491-5D48-4A9B-9CF2-0129398F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3A482-4016-44B3-B15A-96F03AA7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368D1-B704-47AC-96A4-D9A4A4BC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BF9C4-4C17-47A8-B306-A71A2680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9DE9D-76E5-4388-964F-852E6486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F4A2A-FBDF-44DB-BAB0-5601C10F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0B200-C19C-4D3E-83D0-91C87C3C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70B99-4ABF-4CA3-A183-28D4D28E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68FCE-E8E4-43AB-98ED-5A4C2957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97EC-EF82-4A1D-8824-4D4FDDB4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F4D8D-56EB-4654-9C65-983A7BA9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3C03B-3F4D-4518-9115-1D13620F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719F4-2D92-4C15-BFDD-7F30C310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5C31E-913E-4045-819F-7216A51D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C5644-D50E-49BF-BF56-27743F3A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2A0BB-9744-4210-9113-94E626BB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EC370-10D7-40B3-AC8E-1BDBB76D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6AA0B-278C-45C8-89E6-148A3941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5F16F-7C7A-4EC7-AFE3-F6EEBE1B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85F80-EF0B-4D6A-B30A-15E28CAB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89E5-3C3A-4E74-BEFE-47C8AE81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A4C19-8626-46CF-AF08-93BB21DD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3BFA4-D7F5-47E2-B249-A2B2C6FD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33512-AB63-4024-943B-28673D3A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872F3-6371-462A-A326-299FB56B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96F67-CBDD-4E9A-817E-3D635A25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7FFDA-3895-4E40-88DE-E3BAE155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278F2-7D32-461C-AE53-95995A74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FF26E-EDB9-484E-83CD-8CBDFF7F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C8660-11CC-47F7-A306-CC1D26FE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07FCA-79BA-4CBA-9C6A-2EFF7EEE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A8F5-73A1-4AC1-B201-8A8068FD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03E29-4920-4A20-AF27-D5208701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5BCCC-3EB3-435E-8ADF-5CDC19BB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8F3C5-CC4B-4BF0-AE3D-BABFD935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AAE97-0230-4D89-8D26-9C0FD4FC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1360" y="414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004C0-7D49-4443-B0CE-C768299F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4040" y="2000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1136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94040" y="414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360F5-9B1A-4A9C-B0F6-0E74A394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936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67000" y="2000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711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936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67000" y="414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53A0D-4AAC-40B1-A4F0-C6C3B718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0BD1D-6009-4AFE-A835-B7CEAB70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5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F1663-5EF0-42F6-B713-194ADF22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75235-DB08-4FF1-9A53-08D2268C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489B21C8-473C-4D1D-8D3C-493945B041A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B5DA0709-10AA-4054-8A2F-995AAAA9BB3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9F8CCF73-A57E-4626-83B1-A2CD1341E0B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4AF44B34-32CB-4223-BCDB-4C5EE614EB0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939B20E3-F61C-4A3F-84E8-F6130C3218B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A57E326E-AAFD-4D09-B902-E8155BAC55B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4ABC574C-62B2-4EB3-9584-95857F23EA5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3D8AB93A-2C87-4B9A-ADBC-B92274DD589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81C7B17B-2378-4A61-AE25-9182BA04EF1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EB210691-E61A-40E6-96A3-A60E9A0BC72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134FFDD6-B9E1-4F2B-A915-AF3968A0C45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10AFC8BB-DC54-4A56-B884-F0A02A1B701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8" descr="G:\NOL\logo IPC.jpg"/>
          <p:cNvPicPr/>
          <p:nvPr/>
        </p:nvPicPr>
        <p:blipFill>
          <a:blip r:embed="rId3"/>
          <a:stretch/>
        </p:blipFill>
        <p:spPr>
          <a:xfrm>
            <a:off x="3149640" y="6343560"/>
            <a:ext cx="2438280" cy="3636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113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37692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976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97400" indent="-188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4320" indent="-188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0C2122C4-0DDF-47C2-9B94-323875FAB5B4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11000" y="628560"/>
            <a:ext cx="7823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8000"/>
                </a:solidFill>
                <a:latin typeface="Times New Roman"/>
              </a:rPr>
              <a:t>H 3. </a:t>
            </a:r>
            <a:br>
              <a:rPr sz="5400"/>
            </a:br>
            <a:r>
              <a:rPr b="0" lang="nl-NL" sz="5400" spc="-1" strike="noStrike">
                <a:solidFill>
                  <a:srgbClr val="008000"/>
                </a:solidFill>
                <a:latin typeface="Times New Roman"/>
              </a:rPr>
              <a:t>Gevaarlijke stoffen</a:t>
            </a:r>
            <a:endParaRPr b="0" lang="en-US" sz="54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547" name="Object 6"/>
          <p:cNvGraphicFramePr/>
          <p:nvPr/>
        </p:nvGraphicFramePr>
        <p:xfrm>
          <a:off x="2106720" y="2800440"/>
          <a:ext cx="492912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6720" y="2800440"/>
                    <a:ext cx="4929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482706E1-5C1A-4935-A9BC-3DEC14B0B31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Verandering van opname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87320" y="154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nelde opname bij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ge temperat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ar we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demhaling via de 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erkoudheid, verstopte ne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4" descr="A:\CMENP024.WMF"/>
          <p:cNvPicPr/>
          <p:nvPr/>
        </p:nvPicPr>
        <p:blipFill>
          <a:blip r:embed="rId1"/>
          <a:stretch/>
        </p:blipFill>
        <p:spPr>
          <a:xfrm flipH="1">
            <a:off x="2437920" y="4514760"/>
            <a:ext cx="4381560" cy="1731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D015D3F0-5468-4ABF-9C1A-690D6FB7450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Zuren en lo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836280"/>
            <a:ext cx="7772400" cy="54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5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tende st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rnstige brandwo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gvreten van materi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een zuur is direct merkbaar, een loog pas na enige tij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gebru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poelen met veel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kleren uit die onder het z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f loog z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ulp vr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-3618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o snel mogelijk naar dokt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2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ekenh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46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9937B5A9-01D4-4362-92CF-91D9958AAC8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"/>
          <p:cNvSpPr/>
          <p:nvPr/>
        </p:nvSpPr>
        <p:spPr>
          <a:xfrm>
            <a:off x="711360" y="1771560"/>
            <a:ext cx="7721280" cy="52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(bijv. wasbenzine, thinner, terpentine, veel gebruikt in lakken, verven, en lij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luchtwegen in het blo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huid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everen meestal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randgevaar 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unnen zelfs het zenuwstel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ntas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609480" y="51444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(Organische) oplosmiddel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4246855E-36CB-4A4C-8A01-B0708D31744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"/>
          <p:cNvSpPr/>
          <p:nvPr/>
        </p:nvSpPr>
        <p:spPr>
          <a:xfrm>
            <a:off x="812880" y="2114640"/>
            <a:ext cx="756900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2854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ldoende venti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noodzak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ersoonlijk hygië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nk aan v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285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4" descr="G:\VCA\afbeelding\GC001285.WMF"/>
          <p:cNvPicPr/>
          <p:nvPr/>
        </p:nvPicPr>
        <p:blipFill>
          <a:blip r:embed="rId1"/>
          <a:stretch/>
        </p:blipFill>
        <p:spPr>
          <a:xfrm>
            <a:off x="1219320" y="4229280"/>
            <a:ext cx="6229080" cy="196668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5"/>
          <p:cNvSpPr/>
          <p:nvPr/>
        </p:nvSpPr>
        <p:spPr>
          <a:xfrm>
            <a:off x="507960" y="571680"/>
            <a:ext cx="812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(Organische) oplos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795DA984-CB24-463C-8ADB-FB4E0809DA4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88840" y="514440"/>
            <a:ext cx="756936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Cyclische verbindin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87320" y="10288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7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tolueen,xyleen,benze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jken erg op organisc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plo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dacht van veroorzaken kan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odemverontreinig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532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AK’s (Poly-Aromatische Koolwaterstoff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532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hoge concentratie kun je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waarschijnlijk)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rui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gunning verp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e organische oplosmid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480" indent="-357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ten is weten (MA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419CFBE7-35BA-4EFF-88C5-439FB901C8F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87320" y="5144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Metal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taalstof &amp; lasdam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chroomverbindingen, lood, kwi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ink, loodoxide, loodmenie, loodw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 algn="ctr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ans op ophoping in 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cha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estal chronische vergift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4ED29969-093B-4552-96C4-9443A9CA607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7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Wat zijn gevaarlijke stoffen?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796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23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Een stof is gevaarlijk, als deze onze gezondheid in gevaar kan bren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verdeling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387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ijtende 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ia de huid en ogen, brandwonden)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soldeervloeistof, zuren, ammo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gootsteenontsto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-3387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iftige stof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via  de spijsvertering en ademha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3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bestrijdingsmi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7655A718-D0AD-48FA-A238-45B81936F28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Giftige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11360" y="3143160"/>
            <a:ext cx="77724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 werking is afhankelijk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 hoeveelhe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Kleine hoeveelheid gr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volgen, bijv. cyaankal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rote hoeveelheid gr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volgen, eet maar eens een k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out 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7" descr="G:\afbeelding\VCA1\Pictogrammen VCA\giftige stof.gif"/>
          <p:cNvPicPr/>
          <p:nvPr/>
        </p:nvPicPr>
        <p:blipFill>
          <a:blip r:embed="rId1"/>
          <a:stretch/>
        </p:blipFill>
        <p:spPr>
          <a:xfrm>
            <a:off x="2946240" y="1371600"/>
            <a:ext cx="3454560" cy="1660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CCCD41DA-296F-4ACD-A601-D0595240A06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Zeer giftige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0464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kleine hoeveelheden m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grote gevolgen voor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gezondheid. Blijvende schad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zeer goed mogelij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323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rec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via eten en drinken en inade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-323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direc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on op een jerrycan benzine </a:t>
            </a:r>
            <a:r>
              <a:rPr b="0" i="1" lang="nl-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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  benzined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" descr="G:\afbeelding\VCA1\Pictogrammen VCA\giftige stof.gif"/>
          <p:cNvPicPr/>
          <p:nvPr/>
        </p:nvPicPr>
        <p:blipFill>
          <a:blip r:embed="rId1"/>
          <a:stretch/>
        </p:blipFill>
        <p:spPr>
          <a:xfrm>
            <a:off x="3251160" y="1257480"/>
            <a:ext cx="2641680" cy="1269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FF3F4305-3388-4BBF-B7D5-36166050DA5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Soorten vergiftiging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840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ut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eer kort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 hoge concent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merkbare symptom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 of na uren of d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werken met ammoniak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terpentine, innemen van te v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medicij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-34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ronische 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angdurige blootstelling aan een bepaalde st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ijv. werken met thinner of plant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werken in stoffige ruim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42F7D061-EF5C-47EF-BDC5-C6D11934D9A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87320" y="1542960"/>
            <a:ext cx="77724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42800" indent="-353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nd </a:t>
            </a: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(spijsverteringkana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mond, keel, slokdarm, maag en dar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ten en drin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o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Maatreg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anden wa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60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BM’s gebru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5" descr="G:\afbeelding\VCA1\Pictogrammen VCA\roken verboden.gif"/>
          <p:cNvPicPr/>
          <p:nvPr/>
        </p:nvPicPr>
        <p:blipFill>
          <a:blip r:embed="rId1"/>
          <a:stretch/>
        </p:blipFill>
        <p:spPr>
          <a:xfrm>
            <a:off x="6095880" y="2685960"/>
            <a:ext cx="2235240" cy="12002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G:\afbeelding\VCA1\Pictogrammen VCA\veiligheidshandschoenen verplicht.gif"/>
          <p:cNvPicPr/>
          <p:nvPr/>
        </p:nvPicPr>
        <p:blipFill>
          <a:blip r:embed="rId2"/>
          <a:stretch/>
        </p:blipFill>
        <p:spPr>
          <a:xfrm>
            <a:off x="6400800" y="4457880"/>
            <a:ext cx="1932120" cy="1093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84054DA9-290B-496D-A394-E6EF6FFE41E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609480" y="691920"/>
            <a:ext cx="8128080" cy="54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33080" indent="-346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onbeschadigde 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huidporiën, nagelbed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52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ia de beschadigde 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snij- en schaafwondjes, overige won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4" descr="G:\afbeelding\VCA1\Pictogrammen VCA\hand.gif"/>
          <p:cNvPicPr/>
          <p:nvPr/>
        </p:nvPicPr>
        <p:blipFill>
          <a:blip r:embed="rId1"/>
          <a:stretch/>
        </p:blipFill>
        <p:spPr>
          <a:xfrm>
            <a:off x="1015920" y="2943360"/>
            <a:ext cx="1727280" cy="15652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G:\afbeelding\VCA1\Pictogrammen VCA\voetbes.gif"/>
          <p:cNvPicPr/>
          <p:nvPr/>
        </p:nvPicPr>
        <p:blipFill>
          <a:blip r:embed="rId2"/>
          <a:stretch/>
        </p:blipFill>
        <p:spPr>
          <a:xfrm>
            <a:off x="6400800" y="2971800"/>
            <a:ext cx="1625760" cy="160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2" name="Object 9"/>
          <p:cNvGraphicFramePr/>
          <p:nvPr/>
        </p:nvGraphicFramePr>
        <p:xfrm>
          <a:off x="3365640" y="2276640"/>
          <a:ext cx="2411280" cy="33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5640" y="2276640"/>
                    <a:ext cx="241128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Rectangle 10"/>
          <p:cNvSpPr/>
          <p:nvPr/>
        </p:nvSpPr>
        <p:spPr>
          <a:xfrm>
            <a:off x="711360" y="0"/>
            <a:ext cx="77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35E33283-2564-4502-B556-E91B6050386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609480" y="1542960"/>
            <a:ext cx="81280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14360" indent="-331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demhalingsorga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kkelende werking op de slijmvliezen (acu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onmiddellijk verschijnselen zoals: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hoesten, kortademigheid, pijn bij het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zuch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-2484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rking na opname in het bloed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klachten na enkele ur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8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Bescherming moe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doe het dus go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imes New Roman"/>
              </a:rPr>
              <a:t>Kies de juiste bescherm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4" descr="F:\Data\Beeldbank\PG Groenbeheer en onderhoud\Arbo  Veiligheid V V A\VCA1\Pictogrammen VCA\ademhaling.gif"/>
          <p:cNvPicPr/>
          <p:nvPr/>
        </p:nvPicPr>
        <p:blipFill>
          <a:blip r:embed="rId1"/>
          <a:stretch/>
        </p:blipFill>
        <p:spPr>
          <a:xfrm>
            <a:off x="5791320" y="4286160"/>
            <a:ext cx="2438280" cy="209556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5"/>
          <p:cNvSpPr/>
          <p:nvPr/>
        </p:nvSpPr>
        <p:spPr>
          <a:xfrm>
            <a:off x="711360" y="628560"/>
            <a:ext cx="772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fld id="{1BC267EF-6864-4742-B7DD-DF9FE508BB8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558720" y="692280"/>
            <a:ext cx="8026560" cy="32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ia ademhaling in het bl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opgenom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lemmering transport zuur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13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ntasting lichaamsc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(bewustzijnstoornis, hoofdpijn, 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misselijkheid, kloppende sla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G:\VCA\afbeelding\CS002161.WMF"/>
          <p:cNvPicPr/>
          <p:nvPr/>
        </p:nvPicPr>
        <p:blipFill>
          <a:blip r:embed="rId1"/>
          <a:stretch/>
        </p:blipFill>
        <p:spPr>
          <a:xfrm>
            <a:off x="3817800" y="3500280"/>
            <a:ext cx="1505160" cy="289404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9"/>
          <p:cNvSpPr/>
          <p:nvPr/>
        </p:nvSpPr>
        <p:spPr>
          <a:xfrm>
            <a:off x="6603840" y="5363280"/>
            <a:ext cx="16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1422360" y="5363280"/>
            <a:ext cx="11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5791320" y="439200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3"/>
          <p:cNvSpPr/>
          <p:nvPr/>
        </p:nvSpPr>
        <p:spPr>
          <a:xfrm>
            <a:off x="1523880" y="4506120"/>
            <a:ext cx="13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4"/>
          <p:cNvSpPr/>
          <p:nvPr/>
        </p:nvSpPr>
        <p:spPr>
          <a:xfrm flipV="1">
            <a:off x="2743200" y="4628880"/>
            <a:ext cx="142236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5"/>
          <p:cNvSpPr/>
          <p:nvPr/>
        </p:nvSpPr>
        <p:spPr>
          <a:xfrm>
            <a:off x="2641680" y="56577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6"/>
          <p:cNvSpPr/>
          <p:nvPr/>
        </p:nvSpPr>
        <p:spPr>
          <a:xfrm flipH="1" flipV="1">
            <a:off x="5283000" y="4800240"/>
            <a:ext cx="1422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7"/>
          <p:cNvSpPr/>
          <p:nvPr/>
        </p:nvSpPr>
        <p:spPr>
          <a:xfrm flipH="1">
            <a:off x="5181480" y="468648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8"/>
          <p:cNvSpPr/>
          <p:nvPr/>
        </p:nvSpPr>
        <p:spPr>
          <a:xfrm>
            <a:off x="1523880" y="0"/>
            <a:ext cx="699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8000"/>
                </a:solidFill>
                <a:latin typeface="Times New Roman"/>
              </a:rPr>
              <a:t>Opname van stoff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08:16:30Z</dcterms:created>
  <dc:creator>A.Bakker</dc:creator>
  <dc:description/>
  <dc:language>en-US</dc:language>
  <cp:lastModifiedBy>aoc</cp:lastModifiedBy>
  <cp:lastPrinted>2000-10-11T12:57:01Z</cp:lastPrinted>
  <dcterms:modified xsi:type="dcterms:W3CDTF">2011-10-12T19:02:53Z</dcterms:modified>
  <cp:revision>206</cp:revision>
  <dc:subject>Basisveiligheid sheets</dc:subject>
  <dc:title>Geen diatitel</dc:title>
</cp:coreProperties>
</file>