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1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8.wmf" ContentType="image/x-wmf"/>
  <Override PartName="/ppt/media/image17.png" ContentType="image/png"/>
  <Override PartName="/ppt/media/image16.png" ContentType="image/png"/>
  <Override PartName="/ppt/media/image15.png" ContentType="image/png"/>
  <Override PartName="/ppt/media/image1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2.png" ContentType="image/png"/>
  <Override PartName="/ppt/media/image10.wmf" ContentType="image/x-wmf"/>
  <Override PartName="/ppt/media/image7.wmf" ContentType="image/x-wmf"/>
  <Override PartName="/ppt/media/image1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11049000" cy="7239000"/>
  <p:notesSz cx="6850063" cy="97488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0800" cy="974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1440" y="0"/>
            <a:ext cx="2970000" cy="487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647640" y="738000"/>
            <a:ext cx="5556240" cy="3641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1440" y="9259920"/>
            <a:ext cx="2970000" cy="487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260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i="1" lang="nl-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347ABF0F-DB69-4A3C-A317-46762E03BC81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8AD2517B-0A73-4FBD-9A71-5742CB7F12CD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DD39E3BA-21DF-4D4C-9034-5E9805F4A36F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CDED7D57-37E8-48D6-A1CC-A3E2B7DCE5C7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D9317BB4-3641-47CD-ADDF-8680BB7C8FD9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D5D37970-42FC-4FB2-821C-78AE794BAA41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739CC66B-9087-4E1F-B92E-F29A49F4EB57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82DD9393-91C0-4E09-B1B6-DD41B8BDFCEA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3076CD59-C8A4-4056-9F09-24515201B41F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AD7F99EC-1A98-45D7-BF9D-520CA156CBA0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4BB97596-46A2-4128-8190-2A52D0225420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9BD216B9-A015-4DCD-86EE-79EBE65DAFA6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E83BE0F0-7154-49B3-AE3A-56C112C4D9CB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E23888C7-353C-46D4-8501-CCD58329DF65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B4522F52-BB90-471C-A3D8-2A3EC4E426BC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9E784E69-9740-4968-8100-61F44F2A3D4F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095B3C80-A538-4CA2-B98E-B62E33FEBD31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404C75CC-8753-4D95-BE37-12EAC8307805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7C2B2D17-FE10-4F42-B39B-53FBECA97B08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A1B76E9A-3576-426D-AB1A-D1693FB8A1BA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9D38593F-EC95-4091-8DD4-6874AEA27293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31CF83B0-5668-4143-A5EB-E6525C8CFB1D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335EC022-7CCA-4ADB-A9A0-900E3BADC94E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6084F795-0647-4C9A-BA71-ACEDEB9987BE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BD1E8F28-3F45-4AAF-A3E5-CD9270E9BD49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3604CF4E-D44C-4CC3-BFCB-635D673E5E8C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A61ECB0F-FBBE-4FAF-B164-4F6C59E06213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B8D765E0-141A-4E32-9FDD-2D5EF2285AC8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2A0B53D9-D3A1-401F-8E80-2BA9CB584A3E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2AA5E640-AE30-4BDB-8D06-3DF97B18B3DB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4E1D8DA6-A492-44F8-A132-51329A817792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0C6063A6-7855-474E-8642-77D51C515520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478AF09C-FC45-455A-93D3-063D4BB963B1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F2D28856-0306-4585-B77E-ADA3793A5F65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76699324-EB70-4739-8EAD-B47234373745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057892ED-4C8B-4EE0-B448-4D0BC887B3AD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38D33E61-18E9-47F8-9E59-42927CA85DA4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7A4E4AC4-070A-4524-BB78-F67180C763DB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823F735E-DB45-45E7-B41F-754AAD5AF148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DFC9A0F4-76FA-41D0-8D8F-774C7A7F17DB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E7482C9A-48CA-49A2-BF6B-D53B04A1962F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FCC91E67-246E-4421-A116-4FE5A2AB7E7C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2FA32F4E-E450-499B-90C7-1067C6A282DB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A9C27ECA-AB6F-4CB3-9F63-B37294804138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507561BE-56D8-4D8C-B869-DDFB5C5A4CF6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46871-E072-431F-B448-49B24F7C3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28720" y="4360680"/>
            <a:ext cx="939168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86653-2ACC-4A41-9E8C-D11610D45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45828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641200" y="2091960"/>
            <a:ext cx="45828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28720" y="4360680"/>
            <a:ext cx="45828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641200" y="4360680"/>
            <a:ext cx="45828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CC1F6-1B32-4AA2-A1B2-181345541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30240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004280" y="2091960"/>
            <a:ext cx="30240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179840" y="2091960"/>
            <a:ext cx="30240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28720" y="4360680"/>
            <a:ext cx="30240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004280" y="4360680"/>
            <a:ext cx="30240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179840" y="4360680"/>
            <a:ext cx="30240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2F463-C11C-44F6-B6C5-4FB606368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76EB5-7D68-40F8-A4BC-ACCEB7457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856CB-A8C7-4821-A346-492A615C8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45828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641200" y="2091960"/>
            <a:ext cx="45828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63BD6-9E8D-4A2F-B0D8-41F719250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D30B3-F57F-48A3-8A61-AEBDD3A3D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8720" y="644400"/>
            <a:ext cx="9391680" cy="559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CEF22-8440-426F-9E27-D4CB3C780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45828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641200" y="2091960"/>
            <a:ext cx="45828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28720" y="4360680"/>
            <a:ext cx="45828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A489F-2A6E-4634-94A0-FF6A0BD25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45828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641200" y="2091960"/>
            <a:ext cx="45828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641200" y="4360680"/>
            <a:ext cx="45828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F5D6F-F644-407B-BBDE-2A90A4C0C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45828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641200" y="2091960"/>
            <a:ext cx="45828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28720" y="4360680"/>
            <a:ext cx="939168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A2DBF-6E95-4138-9D1E-0B9707324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28720" y="6594120"/>
            <a:ext cx="2301840" cy="48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774600" y="6594120"/>
            <a:ext cx="3498840" cy="48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18560" y="6594120"/>
            <a:ext cx="2301840" cy="48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DB24839F-CDD1-41D5-A050-ECF58B6750B2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E52E882F-5769-489D-B37D-1949108CD9F1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44640" y="664920"/>
            <a:ext cx="9391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ASISVEILIGHEID (VCA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657440" y="2022120"/>
            <a:ext cx="7734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Handgereedschap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machinaal gereedschap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lassen en bran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ijdelijke aanduiding voor datum 1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ijdelijke aanduiding voor dianummer 3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C5C25291-E314-4A2F-BC2B-F90518554D70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2" descr=""/>
          <p:cNvPicPr/>
          <p:nvPr/>
        </p:nvPicPr>
        <p:blipFill>
          <a:blip r:embed="rId1"/>
          <a:stretch/>
        </p:blipFill>
        <p:spPr>
          <a:xfrm>
            <a:off x="698400" y="1473120"/>
            <a:ext cx="9657000" cy="428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389528E5-4929-4557-9F14-4E9AAEA06EEE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Eisen elektrisch handgereedsch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oet jaarlijks worden gekeu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en beschadigi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oed onderhou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AAD4F287-8646-4520-ADEB-A46DB3337BFA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andslijpmachines, doorslijpschijven en afbraamschijv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p slijpschijven vermel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Naam fabrik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aximum toelaatbaar toere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oort bindmid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Korrelgroot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tructu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ardhe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fmeting van de schij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Toepas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199365BA-C199-406D-9A88-AE4B8C6D7D93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lijpt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"/>
          <p:cNvPicPr/>
          <p:nvPr/>
        </p:nvPicPr>
        <p:blipFill>
          <a:blip r:embed="rId1"/>
          <a:stretch/>
        </p:blipFill>
        <p:spPr>
          <a:xfrm>
            <a:off x="2616120" y="1752480"/>
            <a:ext cx="5918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765B330E-A3E2-4C04-88CC-C4B73E074DCC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Risico’s slijpmach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belangrijkste risico’s bij h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erken met een slijpmach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zij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Rondvliegende deeltj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et aanraken van de slijpschij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et uit elkaar springen van de slijpschij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rand door ontsteking van brandbare stoff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Lawaa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ampen en st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3A943FBE-CFD2-4A30-A3F5-167BB660D2ED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lijpschijv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2000"/>
          </a:bodyPr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Twee groepen van schijven zij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oorslijpschijv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fbraamschijv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4E95ACA3-7A3D-4033-872C-7D1F980E8527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lijpschijv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Object 4"/>
          <p:cNvGraphicFramePr/>
          <p:nvPr/>
        </p:nvGraphicFramePr>
        <p:xfrm>
          <a:off x="3157560" y="2682720"/>
          <a:ext cx="4751280" cy="2351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57560" y="2682720"/>
                    <a:ext cx="4751280" cy="235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A9529C50-3998-48DE-B37E-077BDD303871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lijpen met de handslijpmach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r moet rekening gehouden wor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e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et type handslijpmach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et vermogen van de mach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gewenste afmeting van de schij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et materiaal dat men gaat slijp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et resultaat dat men wil hebb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grootte en de vorm van het materia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stand waaronder men werk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ervaring en het vakmansch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BA1CFE93-85B0-49D6-A446-3EFE0118AD49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Pneumatisch handgereedsch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erkt op samengeperste luc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bruik van dodemanskn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Regels voor het werken m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pneumatisch handgereedschap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Zorg voor voldoende onderhou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bruik gehoorbescher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bruik zachte, leren handschoe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Regelmatig rust ne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A5709269-E45E-4D40-AC25-603F7C3ACDF9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ogedruk reinig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isico’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etsel door binnendringen sta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troffen worden door weggeslagen gereedschap of materiaaldeeltj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lootstelling giftige stoffen bij gevelreini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69F74DE9-7700-4CBD-8B1B-7E77C9F99691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Gereedsch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23440" y="2091960"/>
            <a:ext cx="96966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es soorten gereedschap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(eenvoudig) handgereedsch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lektrisch handgereedsch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neumatisch handgereedsch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pparaten onder hoge dru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ast opgestelde gereedschapsmach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asapparatu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DD98C19C-9032-4318-B987-B570A97F9811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Eisen hogedruk reinig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ij werkdruk &gt; 100 Ba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inimaal 18 ja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puitpistool met dodemanskn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eveiligd tegen ongewild inschake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ag niet in “AAN” stand vergrendeld kunnen wor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Pomp voorzien van noodst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dequate opleiding verplic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E512A008-29F0-4B5D-A50B-7D3DCA338F58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Gebruik hogedruk reinig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puiten op asbesthoudend materiaal verbo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ij werken met chemicaliën zijn persoonlijke beschermingsmiddelen verplic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5C13B9CE-A85F-4A95-9CDA-D24D8CF18808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Algemene regels bij machines met bewegende dele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org voor goed aansluitende kle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org dat lange haren niet bij de bewegende delen kunnen ko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raag geen handschoenen en rin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lem het werkstuk op een werkban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raag een veiligheidsbril met zijkleppen en evt. adem- en gehoorbescherm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org voor voldoende ruim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EA83A641-53F4-4F71-90AF-8993A0D6B7C0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Algemene regels bij machines met bewegende delen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iet laten afleiden tijdens de werkzaamhe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em het gereedschap niet met de hand af, maar laat het uitdraai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org voor voldoende lic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an- en uit schakela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rek gereedschap nooit aan het snoer of de luchtsla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org voor goed onderhoud van gereedsch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A7911385-7EE1-4041-B804-C08F0CB08278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Gereedschapsmach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e behandelen de volgen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achin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Cirkelza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ast opgestelde boormach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ast opgestelde slijpmach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lgemene regels voor deze mach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oed onderhou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Jaarlijkse keu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gebruiker moet een goede instructie krij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Ruim opgeste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2DD2F87C-2D36-4793-BE6E-A442392E3DDD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44640" y="14436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Cirkelzag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28720" y="1372680"/>
            <a:ext cx="9391680" cy="50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 risico’s zij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egschietende de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kneld raken van armen of benen in de opspantoestel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er abuis opstarten van de mach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plopen van gehoorsch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nademen van houtst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AC5EFC13-4113-4E30-A75C-950244877543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28720" y="244080"/>
            <a:ext cx="9391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De universele cirkelzaagmach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28720" y="1572840"/>
            <a:ext cx="9391680" cy="48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eisen zij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achine moet een goede beschuttingskap hebb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achine moet een spouwmessupport hebben dat bij het zaagblad p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achine moet een instelbare en goed uitgevoerde hulpgeleider hebb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én of meer aansluitingen voor de stofaanzuig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anwezigheid van een duwhout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Zo hoog mogelijk instellen van het zaagbl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ijdelijke aanduiding voor datum 1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ijdelijke aanduiding voor dianummer 3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7CE86D50-EA74-4820-872D-ED11643C7B1A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3" descr="C:\Documents and Settings\Inge Nagle\Mijn documenten\Mijn afbeeldingen\cirkelzaag.bmp"/>
          <p:cNvPicPr/>
          <p:nvPr/>
        </p:nvPicPr>
        <p:blipFill>
          <a:blip r:embed="rId1"/>
          <a:stretch/>
        </p:blipFill>
        <p:spPr>
          <a:xfrm>
            <a:off x="762120" y="685800"/>
            <a:ext cx="9524880" cy="55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7704F523-4253-4497-AFF5-3646BD1655B5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De universele cirkelzaagmach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4"/>
          <p:cNvSpPr/>
          <p:nvPr/>
        </p:nvSpPr>
        <p:spPr>
          <a:xfrm>
            <a:off x="1230480" y="2674800"/>
            <a:ext cx="8588160" cy="368640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pmerking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oor de bouwcirkelzaag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ach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ldt de aanwezigheid v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ulspanningsschakelaar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D0250CC9-ED6C-452E-B314-B5A18D366048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Vast opgestelde boormach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e risico’s zijn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“Happen” in het niet vastgezette werkstu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reken van de bo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Wegvegen van het boorsel met de ha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Niet gesloten aandrijv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Verstellen van de V-snaar als de machine nog niet stilsta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Gebruiken van koel- en snijoli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8B6D1975-813E-490B-8D48-926F2D5A11AA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andgereedsch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ngevallen met handgereed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chap worden veroorzaakt doo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 Slecht onderhou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Klein gereedschap zelf onderhouden, ander gereedschap laten repareren of vernieuw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erkeerd gebrui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reedschap gebruiken waar het voor bedoeld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F46A8485-020B-4552-9F85-1ABC573C4027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oormach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4" descr=""/>
          <p:cNvPicPr/>
          <p:nvPr/>
        </p:nvPicPr>
        <p:blipFill>
          <a:blip r:embed="rId1"/>
          <a:stretch/>
        </p:blipFill>
        <p:spPr>
          <a:xfrm>
            <a:off x="1676520" y="1828800"/>
            <a:ext cx="723888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2F01CA52-58C9-44A9-98F2-098FD54BF58A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44640" y="444600"/>
            <a:ext cx="9391680" cy="8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Vast opgestelde slijpmach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28720" y="1292040"/>
            <a:ext cx="9391680" cy="542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risico’s zij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Te hoog toere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eschadiging van de ste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plinters in het o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hoorbeschadig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aatregel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lleen monteren door deskundig persone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oed afschermen van de zijkanten van de mach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bruik van beschermru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fstand tussen leunspaan en slijpsteen mag niet meer dan 3 mm bedra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Leunspaan mag niet U-vormig zijn uitgesle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0D972B34-93F2-4490-9840-1D8C4EBAF86B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28720" y="244080"/>
            <a:ext cx="9391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lijpmach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4" descr=""/>
          <p:cNvPicPr/>
          <p:nvPr/>
        </p:nvPicPr>
        <p:blipFill>
          <a:blip r:embed="rId1"/>
          <a:stretch/>
        </p:blipFill>
        <p:spPr>
          <a:xfrm>
            <a:off x="1104840" y="1444680"/>
            <a:ext cx="4000680" cy="26622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5" descr=""/>
          <p:cNvPicPr/>
          <p:nvPr/>
        </p:nvPicPr>
        <p:blipFill>
          <a:blip r:embed="rId2"/>
          <a:stretch/>
        </p:blipFill>
        <p:spPr>
          <a:xfrm>
            <a:off x="5257800" y="4140360"/>
            <a:ext cx="4343400" cy="252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64F72BE1-B475-42C8-AA78-D8CD9B0FAE71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Lassen en slijpe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lektrisch lass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ateriaal plaatselijk verhitten met behulp van elektrische vlambo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utogeen lass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ateriaal verhitten met behulp van een gasvlam, versterkt door extra zuurst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AB53F07D-5190-4CB1-B689-2BD9259011F1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Lassen en slijpen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meenschappelijke gevar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rand- en explosiegeva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randbaar materiaal dat achter blijft op de werkpl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Lassen aan tanks en leidi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38C7656D-DDA6-4DA1-ABF5-DFD28A1620ED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Nemen van preventieve maatrege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bruik van brandblusser en brandwac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bruik van lasbr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bruik van gehoorbescher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bruik van beschermende kle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fzuiging en/of ventilat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8DD9EC1A-A473-4149-B613-325A2A63AE61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PBM’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4" descr=""/>
          <p:cNvPicPr/>
          <p:nvPr/>
        </p:nvPicPr>
        <p:blipFill>
          <a:blip r:embed="rId1"/>
          <a:stretch/>
        </p:blipFill>
        <p:spPr>
          <a:xfrm>
            <a:off x="1039680" y="1994040"/>
            <a:ext cx="3075120" cy="204444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5" descr=""/>
          <p:cNvPicPr/>
          <p:nvPr/>
        </p:nvPicPr>
        <p:blipFill>
          <a:blip r:embed="rId2"/>
          <a:stretch/>
        </p:blipFill>
        <p:spPr>
          <a:xfrm>
            <a:off x="6400800" y="1828800"/>
            <a:ext cx="3687840" cy="209556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6" descr=""/>
          <p:cNvPicPr/>
          <p:nvPr/>
        </p:nvPicPr>
        <p:blipFill>
          <a:blip r:embed="rId3"/>
          <a:stretch/>
        </p:blipFill>
        <p:spPr>
          <a:xfrm>
            <a:off x="2743200" y="4419720"/>
            <a:ext cx="3110040" cy="20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3E2F9556-2117-4F3C-BC12-B010FE5DD6C3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Elektrisch lass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4" descr=""/>
          <p:cNvPicPr/>
          <p:nvPr/>
        </p:nvPicPr>
        <p:blipFill>
          <a:blip r:embed="rId1"/>
          <a:stretch/>
        </p:blipFill>
        <p:spPr>
          <a:xfrm>
            <a:off x="1919160" y="1968480"/>
            <a:ext cx="6932880" cy="44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BE7A8EEC-9071-408D-A296-7783E5D15A78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Extra gevaren elektrisch lass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Giftige gassen en damp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Straling (gevolg = lasoge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Elektrocuti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Te nemen maatregelen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Zorg voor goede beschermende kled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Gebruik een laskap of lashel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e helper moet ook een lasbril drag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Houd werkstukklem, de elektrode, lastang niet onder de ar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ijdelijke aanduiding voor datum 1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ijdelijke aanduiding voor dianummer 3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2B519A07-60B7-4098-9393-D7D96B64FE7A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3" descr="C:\Documents and Settings\Inge Nagle\Mijn documenten\Mijn afbeeldingen\lassen.bmp"/>
          <p:cNvPicPr/>
          <p:nvPr/>
        </p:nvPicPr>
        <p:blipFill>
          <a:blip r:embed="rId1"/>
          <a:stretch/>
        </p:blipFill>
        <p:spPr>
          <a:xfrm>
            <a:off x="1143000" y="587520"/>
            <a:ext cx="8763120" cy="60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FD632924-FE95-4ED7-B4D8-2152871D69DA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28720" y="194760"/>
            <a:ext cx="9391680" cy="1078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Risico’s handgereedsch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28720" y="1492200"/>
            <a:ext cx="9391680" cy="5122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Uitschieten, vallen of struike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nijden, knellen of plet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troffen worden door wegschietende de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oorboord of doorstoken wor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chaven of schu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hoorschade door lawaa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ijdelijke aanduiding voor datum 1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ijdelijke aanduiding voor dianummer 3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857566EE-2E50-4A4E-ABD7-5F89E32FF13C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3" descr="C:\Documents and Settings\Inge Nagle\Mijn documenten\Mijn afbeeldingen\afzuiging.bmp"/>
          <p:cNvPicPr/>
          <p:nvPr/>
        </p:nvPicPr>
        <p:blipFill>
          <a:blip r:embed="rId1"/>
          <a:stretch/>
        </p:blipFill>
        <p:spPr>
          <a:xfrm>
            <a:off x="1944720" y="966960"/>
            <a:ext cx="7157880" cy="53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95D50C2A-1037-4BFB-8B0D-E1A2C900CB86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Extra gevaren autogeen lass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bruik van acetyleen en propa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bruik van zuivere zuurst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Te nemen maatregel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Zorg dat explosiegrenzen niet worden bereik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la propaanflessen niet op in kelders en put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bruik geen zuurstof als werklucht of om te ventile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oorkom zuurstof lekk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ijdelijke aanduiding voor datum 1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ijdelijke aanduiding voor dianummer 3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A2AE5AD9-414E-40A9-94FC-1B77B336290A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3" descr="C:\Documents and Settings\Inge Nagle\Mijn documenten\Mijn afbeeldingen\gasfles.bmp"/>
          <p:cNvPicPr/>
          <p:nvPr/>
        </p:nvPicPr>
        <p:blipFill>
          <a:blip r:embed="rId1"/>
          <a:stretch/>
        </p:blipFill>
        <p:spPr>
          <a:xfrm>
            <a:off x="2795760" y="676440"/>
            <a:ext cx="5457600" cy="588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ijdelijke aanduiding voor datum 1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ijdelijke aanduiding voor dianummer 3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8E72F899-9F56-4E18-B9F0-1D71CA981CE3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3" descr="C:\Documents and Settings\Inge Nagle\Mijn documenten\Mijn afbeeldingen\gasfles1.bmp"/>
          <p:cNvPicPr/>
          <p:nvPr/>
        </p:nvPicPr>
        <p:blipFill>
          <a:blip r:embed="rId1"/>
          <a:stretch/>
        </p:blipFill>
        <p:spPr>
          <a:xfrm>
            <a:off x="1905120" y="304920"/>
            <a:ext cx="7223040" cy="646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Tijdelijke aanduiding voor datum 1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ijdelijke aanduiding voor dianummer 3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63C09F8D-D71C-49D5-AF5D-4F25F56E0C1B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2" descr=""/>
          <p:cNvPicPr/>
          <p:nvPr/>
        </p:nvPicPr>
        <p:blipFill>
          <a:blip r:embed="rId1"/>
          <a:stretch/>
        </p:blipFill>
        <p:spPr>
          <a:xfrm>
            <a:off x="262080" y="604800"/>
            <a:ext cx="10529640" cy="603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ijdelijke aanduiding voor datum 1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ijdelijke aanduiding voor dianummer 3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F19C5A16-8ECB-4431-906D-FFAD65A8C69E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Object 2"/>
          <p:cNvGraphicFramePr/>
          <p:nvPr/>
        </p:nvGraphicFramePr>
        <p:xfrm>
          <a:off x="3398760" y="274680"/>
          <a:ext cx="4152960" cy="629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98760" y="274680"/>
                    <a:ext cx="4152960" cy="629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8" name="Picture 5" descr="C:\Documents and Settings\Inge Nagle\Mijn documenten\Mijn afbeeldingen\hamer.bmp"/>
          <p:cNvPicPr/>
          <p:nvPr/>
        </p:nvPicPr>
        <p:blipFill>
          <a:blip r:embed="rId3"/>
          <a:stretch/>
        </p:blipFill>
        <p:spPr>
          <a:xfrm>
            <a:off x="685800" y="179280"/>
            <a:ext cx="9829800" cy="633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83B0E031-2B49-4D02-BEAC-45CE0D12E569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44640" y="693360"/>
            <a:ext cx="9391680" cy="97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Eisen handgereedsch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12800" y="214128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reedschap gaaf en sch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amers met gladde, goed geborgde ste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oersleutels die passen en niet versleten zij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ijlen met handv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chroevendraaiers zonder beschadigin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itels, doorslagen en centerponsen zonder bra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angen met gave en schone b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51E0BDEE-C57F-4CE6-9E8B-73B33957CAE2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28720" y="344520"/>
            <a:ext cx="9391680" cy="8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Gebruik handgereedsch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44640" y="1522080"/>
            <a:ext cx="9391680" cy="514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Alleen gebruiken waarvoor bestemd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Moersleutels nooit verlenge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Gereedschap passend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Van je af snijden en bikke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Kleine werkstukken vast zette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Oppassen voor elektrakab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PBM’s gebruike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A7D1B492-6422-48EF-B9B8-E533E60968D6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Elektrisch handgereedsch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lektriciteit kan op 2 manie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vaarlijk zij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lektrocutie (stroom door het lichaa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onkoverslag (kortsluiting in of vlakbij het apparaa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ze risico’s zijn te verklei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oor te werken met veilige spann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aximaal 50 Volt wisselspan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aximaal 120 Volt gelijkspan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125B4A50-BAB2-4603-B751-AE4EBBEAFAB2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Risico’s elektrisch handgereedsch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rand- of explos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randwon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wegende de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egschietende deeltj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t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hoorsch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19T21:06:26Z</dcterms:created>
  <dc:creator>Hajo Kleijburg</dc:creator>
  <dc:description>Revisie 0</dc:description>
  <dc:language>en-US</dc:language>
  <cp:lastModifiedBy>Hans Mulder</cp:lastModifiedBy>
  <cp:lastPrinted>2000-05-31T17:51:36Z</cp:lastPrinted>
  <dcterms:modified xsi:type="dcterms:W3CDTF">2016-10-03T10:34:19Z</dcterms:modified>
  <cp:revision>27</cp:revision>
  <dc:subject>Les 5</dc:subject>
  <dc:title>Basisveiligheid (VCA)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atum voltooid">
    <vt:filetime>2000-03-14T23:00:00Z</vt:filetime>
  </property>
</Properties>
</file>