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8E5-674A-42BD-8228-F2D66BA6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9C1-E72D-4745-BE9C-C0569F3C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B43-1A66-4C53-9F21-58C972EC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0D3-8917-43B1-946A-CB5B6E99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5C8-28B0-4CCD-BE42-5090E4AE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8CA-1DAA-4517-94D0-3C9E10D2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308-BEBD-4FF2-BAC1-8A86369D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E9A-5868-4EDE-AD2B-A3D33353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87C-B135-4F98-B7E3-E15CFB7B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2A1-4229-4D04-BA8B-675A11D2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8B6-5B73-462E-BD28-1CE9458D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08D2-4FFF-4F3F-8E3D-685B20D6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6BB2-EA13-4C28-9398-0A57AC2059D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54880" y="3048120"/>
            <a:ext cx="16891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0280" y="3578400"/>
            <a:ext cx="1725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s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lucht 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86520" y="0"/>
            <a:ext cx="2157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stalen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en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len neus en stalen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kleding wisselen indie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nasgordels goed passend en afgestemd zijn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harnasgordels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harnasgordels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7120" y="2561400"/>
              <a:ext cx="460080" cy="994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438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ndom het gehele 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2640" y="1523880"/>
            <a:ext cx="1584360" cy="122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3200400"/>
            <a:ext cx="1584360" cy="10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1480" y="4718160"/>
            <a:ext cx="13525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autogeen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48520" y="2359080"/>
            <a:ext cx="1798560" cy="16225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48520" y="4498920"/>
            <a:ext cx="1773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4:13Z</dcterms:modified>
  <cp:revision>36</cp:revision>
  <dc:subject/>
  <dc:title>Test</dc:title>
</cp:coreProperties>
</file>