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7239000" cy="10666413"/>
  <p:notesSz cx="66706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5207-E395-4E51-A729-5A9A65C9B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1A01-34B7-47FF-BBDA-F19F3DB94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7184-54EF-49BA-97E0-87358AF86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042E-A009-4F12-A9DB-80A617B38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A408-C5D1-4593-8B16-D71C0F5BC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684F-FD18-451A-8FD3-68C0E8998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8FB8-E503-46EA-B4F1-9DE12AD90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78E9-4DEC-43AC-90C1-6A5A0E880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7880"/>
            <a:ext cx="6153120" cy="82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C2B2-8ABA-4352-BB21-6F125D20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6958-0BAA-4781-BC69-A2D957B1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94C2-8EAE-4663-8EB5-F680326F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1B30-CA6D-40BB-9FA3-D45D69FC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20000"/>
            <a:ext cx="1508040" cy="71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20000"/>
            <a:ext cx="2292480" cy="71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20000"/>
            <a:ext cx="1508040" cy="71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78E2D90-AEAB-4B85-890B-B5692909A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2880" y="58392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SVEILIGHEID (VC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62080" y="2590560"/>
            <a:ext cx="5067360" cy="739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rkvergun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sloten 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880D-7BBA-40CA-AC9D-99B2AB432D3A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atreg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ede toegankelijk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der dan 18 j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ten en sleuven 2 uitga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tenzijde afzetting en waarschuwingsb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itgangen altijd vrijhou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5189400" y="6894360"/>
          <a:ext cx="1882800" cy="190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9400" y="6894360"/>
                    <a:ext cx="1882800" cy="19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9F6D-9B46-4558-8D5A-E7CD765862E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289880" y="685800"/>
            <a:ext cx="465948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EILIG WERK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95200" y="8381880"/>
            <a:ext cx="664848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 BESLOTEN RUIM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lopuh" descr=""/>
          <p:cNvPicPr/>
          <p:nvPr/>
        </p:nvPicPr>
        <p:blipFill>
          <a:blip r:embed="rId1"/>
          <a:stretch/>
        </p:blipFill>
        <p:spPr>
          <a:xfrm>
            <a:off x="444600" y="2819520"/>
            <a:ext cx="6348240" cy="4432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B952-FB84-435A-8994-D1C3B03971D1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47640" y="480960"/>
            <a:ext cx="5992920" cy="887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4ED9-49F6-4A7E-A301-3CA21F40E4DE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19200" y="262080"/>
            <a:ext cx="6153120" cy="118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BM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42880" y="1328760"/>
            <a:ext cx="6153120" cy="850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iligheidsbr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hoorbesche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scho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103720" y="5589720"/>
          <a:ext cx="1900440" cy="19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3720" y="5589720"/>
                    <a:ext cx="1900440" cy="19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5032440" y="7799400"/>
          <a:ext cx="1892160" cy="191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32440" y="7799400"/>
                    <a:ext cx="1892160" cy="19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5075280" y="1074600"/>
          <a:ext cx="1805040" cy="1805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75280" y="1074600"/>
                    <a:ext cx="1805040" cy="18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5033880" y="3241800"/>
          <a:ext cx="1887480" cy="1892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33880" y="3241800"/>
                    <a:ext cx="188748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E806-D5BF-4771-845D-D4CE149BCE6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42880" y="337680"/>
            <a:ext cx="6153120" cy="11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BM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42880" y="1709280"/>
            <a:ext cx="6153120" cy="796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iligheidsschoei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iligheidshe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afhankelijke adembesche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beveili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5205240" y="5210280"/>
          <a:ext cx="2003760" cy="191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240" y="5210280"/>
                    <a:ext cx="2003760" cy="19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5189400" y="3227400"/>
          <a:ext cx="1882800" cy="191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9400" y="3227400"/>
                    <a:ext cx="1882800" cy="19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5110200" y="1251000"/>
          <a:ext cx="1887480" cy="1909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10200" y="1251000"/>
                    <a:ext cx="1887480" cy="19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5186520" y="7524720"/>
          <a:ext cx="2041200" cy="2013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86520" y="7524720"/>
                    <a:ext cx="2041200" cy="20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1FC5-E6F5-46F8-96CA-A52890C3E31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varen elektriciteit besloten ruim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ak hogere temperatu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ak vocht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elal metaal en dus goede gele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eine ruimte, waardoor elektrakabels ongeord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B177-75E2-4EA5-8474-B5E99F359E0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28600" y="2135160"/>
            <a:ext cx="6832440" cy="6326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5423-EA8A-4345-9104-11CFA7C85E8D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ktrocu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ktrocutie te voorkomen do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kzaamheden te verrichten met een veilige sp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0080" y="5416560"/>
            <a:ext cx="5550120" cy="14349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 Volt wisselstro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54120" y="7854840"/>
            <a:ext cx="5626080" cy="18162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0 Volt gelijkstro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7057-7EB5-45F6-B4EE-08D57C07C66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vergunninge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en werkvergunning is bedo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m de volgende zaken goed 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el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eg tussen iedereen die met het werk heeft te 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dende afspraken tussen iedereen die met het werk heeft te 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t vastleggen van de voorwaarden waaronder gewerkt dient te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B75B-C067-49DD-B8FA-61D6139D6E2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vergunninge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ste onderdelen op 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kvergunning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anvraag werkzaam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tregelen door verstrekkende af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tregelen door de hou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krachtiging door verschillende partij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77800" y="7778880"/>
            <a:ext cx="6235920" cy="19684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36720" y="7894800"/>
            <a:ext cx="611172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orgen dat de betrokkenen 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mplaar van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kvergunning hebb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8E58-3674-42BA-B3F8-E495E86BD99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9200" y="566640"/>
            <a:ext cx="6153120" cy="13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sloten ruimt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2880" y="1828440"/>
            <a:ext cx="6153120" cy="76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merken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stal erg kleine werkplek, waardoor moeilijk te bewe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stal slechte venti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stal kleine in- en uitga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stal weinig verlic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en dagl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AF90-9B28-40B8-972A-7CB5092D6F3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2880" y="338040"/>
            <a:ext cx="6153120" cy="13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sloten ruimt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2880" y="2319480"/>
            <a:ext cx="6153120" cy="743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gevaren in een beslo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im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nd en explo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vaarlijke stoffen en zuurstofgebr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ktrocu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len en struik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54120" y="1987560"/>
            <a:ext cx="5931000" cy="34164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17600" y="2133720"/>
            <a:ext cx="4672080" cy="30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orbeelden besloten ruimt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slagreservoi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l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eu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4D25-3DF5-4E0B-B48B-783C0559E1F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nd &amp; Explos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vaar voor brand en explos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inig venti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ndbare stoffen in de 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kzaamheden zorgen voor brandbare stoff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tregel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orgen dat er geen brandbare stoffen in de ruimte k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orgen voor ventilatie d.m.v. lucht in bla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03A8-1BB4-4392-87FC-D6B43DC4FA3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vaarlijke stoffen en zuurstoftek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komen giftige stoffen in 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loten ruim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or verdamping van resten van de inhoud van een t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it de wanden door verhitting en schoon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or het werk dat wordt uitgevoe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n buiten de besloten 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CC50-681F-4DAB-8933-4BEB43F0B6B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atregelen bij werken in besloten ruim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bereidende maat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organisatie, toezicht en verblijfsduur, meting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tregelen tijdens het w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lgemene maatregelen, ventileren, maatregelen bij lassen, slijpen, schilderen en bij overige werkzaamhed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C2E6-282F-447F-AACA-7BEFF5B52CF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42880" y="338040"/>
            <a:ext cx="6153120" cy="12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en is We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42880" y="1862280"/>
            <a:ext cx="6153120" cy="51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 betreden besloten 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or deskundig personeel altij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en o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age zuurstof (21 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L (&lt;10 % L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 waa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6920" y="7245360"/>
            <a:ext cx="6692760" cy="25020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79520" y="7405560"/>
            <a:ext cx="534996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OIT FILTERBU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BRUIK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700520" y="7553160"/>
          <a:ext cx="1946520" cy="195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00520" y="7553160"/>
                    <a:ext cx="1946520" cy="19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4762440" y="7620120"/>
            <a:ext cx="1905120" cy="19047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686120" y="7620120"/>
            <a:ext cx="1904760" cy="182880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024C-EF05-4335-BE09-B8E2C7318B4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8:09:42Z</dcterms:created>
  <dc:creator>Hajo Kleijburg</dc:creator>
  <dc:description>Revisie 0</dc:description>
  <dc:language>en-US</dc:language>
  <cp:lastModifiedBy>inge</cp:lastModifiedBy>
  <cp:lastPrinted>2000-04-30T14:28:28Z</cp:lastPrinted>
  <dcterms:modified xsi:type="dcterms:W3CDTF">2003-11-25T19:44:47Z</dcterms:modified>
  <cp:revision>21</cp:revision>
  <dc:subject>Les 8</dc:subject>
  <dc:title>Basisveiligheid (VC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um voltooid">
    <vt:filetime>2000-03-14T23:00:00Z</vt:filetime>
  </property>
</Properties>
</file>