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1.jpeg" ContentType="image/jpeg"/>
  <Override PartName="/ppt/media/image3.wmf" ContentType="image/x-wmf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.wmf" ContentType="image/x-wmf"/>
  <Override PartName="/ppt/media/image21.jpeg" ContentType="image/jpeg"/>
  <Override PartName="/ppt/media/image22.png" ContentType="image/pn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A754-4A5C-47E1-8D9D-2760AC6D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11BE-00BC-4544-B7F6-11D53E2A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F9BE-46C7-4AE3-9CDE-C57A929E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D918-2B78-4F6F-BF53-295CB235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683C-AADB-47D9-BECB-2F7DF708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60B6-8C82-46DB-ABA5-4AEAB770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D96F-D784-47AF-A656-771C216A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43EC-E51A-4BD3-A8DB-0C1D6F3B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DDC9-C1CD-438A-93AF-C58DBCC2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3ECF-3B7A-476F-B067-D8A7BDBE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A910-1AF7-47D0-92B9-B9B71AA0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36F3-C255-45BC-86BF-39B8C808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FA06-435D-450C-BCEF-0FCACAE1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125A-FB56-4352-9F0C-2926E22F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353A-16D0-4E39-B3E0-2BBCD8B7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F808-2491-44D5-A15A-AA18A1F1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A113-1DBF-401F-9B93-49AF31AA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A7C95-4AE5-4781-9EDB-26F0A176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92181-8ED0-451D-B32B-0260367B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57979-3943-4F03-977D-B73B06B9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05A5B-B2BD-480D-8150-966BE710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1CB10-0B0C-4D69-A58D-DBE6F510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3A17-5CD9-4C8F-BE78-7867AD8E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BE926-FF87-472D-A399-01727A55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88B43-9523-46A6-97D2-5D79A784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ED0A9-7617-4D6D-8D10-DF5EC57F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CD7F2-B42C-4473-8C02-6A6E7C23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B46CB-B3DD-4E56-9BD1-61B5101F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81724-D336-459D-B2B5-50BBE84C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507F7-DEF8-4EC5-8DA4-C74DA447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2BC7-0384-4C22-95B4-0D46CB5A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6F1B-3C02-4757-856B-01F232F8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78D0-15A2-4A74-8857-1F9A43E1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6B26-35D9-4A93-97A1-D27155E2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258E-0783-4656-A5C7-A6ABBF9C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F7A-67DE-43E1-BFB3-7C627E92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07EC-08EB-46F3-8805-E5E493E27487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DC08-D028-4B14-B5FE-130BEF500D54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0A11-3CAA-464C-8A33-A23121E7700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aned.nl/index.php?id=289&amp;L=10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aned.nl/index.php?id=289&amp;L=10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71680" y="500040"/>
            <a:ext cx="828648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b844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Hoofdstuk 4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Gevaarlijke stoffe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directe en sluipende gevar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BFA8-61A2-475A-AFA1-0E13C0D7E73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8335800" y="2911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ab844"/>
                </a:solidFill>
                <a:latin typeface="Arial"/>
              </a:rPr>
              <a:t>4.3 Gascilind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4FD3-737B-43E2-8F2D-8CDEB2794F9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1785960" y="2071800"/>
            <a:ext cx="5441760" cy="4057560"/>
          </a:xfrm>
          <a:prstGeom prst="rect">
            <a:avLst/>
          </a:prstGeom>
          <a:ln w="0">
            <a:noFill/>
          </a:ln>
        </p:spPr>
      </p:pic>
      <p:sp>
        <p:nvSpPr>
          <p:cNvPr id="217" name="Rechthoek 5"/>
          <p:cNvSpPr/>
          <p:nvPr/>
        </p:nvSpPr>
        <p:spPr>
          <a:xfrm>
            <a:off x="571680" y="11430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inhoud van de gascilinder is te zien a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leur op de bovenkant (schouder) van de cilind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71680" y="135684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heidsmaatregelen bij opslag gascilinders: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ilinders goed vastze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 tegen zonnestralen / weersinvlo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chermen van warmtestralingsbro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atterijen met gasflessen niet op de arbeids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ruimte goed ventil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opslaan in of bij kelders en pu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gescheiden houden van brandbare g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aangepaste blusmiddelen en water als koelmiddel vlak bij de opslag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0651-67EC-4CAF-94CB-46D7C43A2D4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ab844"/>
                </a:solidFill>
                <a:latin typeface="Arial"/>
              </a:rPr>
              <a:t>4.3 Gascilind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2"/>
          <a:srcRect l="44375" t="0" r="4399" b="0"/>
          <a:stretch/>
        </p:blipFill>
        <p:spPr>
          <a:xfrm>
            <a:off x="7358040" y="0"/>
            <a:ext cx="1785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4 Gassen en dampen herkenn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1680" y="135684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eel gassen en dampen, verdampte vloeistoffen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bben geen kleur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kenning door ge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aar als je niets ruikt of ziet, kan er toch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as of damp aanwezig zij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el gevaarlijke dampen of gassen hebb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geur of kle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geur van de gevaarlijke stof kan word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maskeerd door andere, niet-gevaarlijke 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iedereen kan even goed ruiken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ur is voor iedereen anders... persoonsafhankelijk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090E-D9E0-452D-B60F-8B01F33D1A0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78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Reukgren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71320" y="1204560"/>
            <a:ext cx="8429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f iets sterk ruikt of zwak, hangt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f van de concentratie in de lu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ukgre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gere concentraties niet met neus waar te ne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 reukgrens kunnen stoffen ook gevaarlijk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ommige gassen of dampen zijn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lemaal reuklo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ze giftig zijn, is er sprake van een groo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em, zoals bij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olmonoxid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kolendam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arlijks vele doden door bijvoorbeel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cht werkende gasgeis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1511-59E4-409D-96B4-0E4E5DA3379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Afbeelding 4" descr="wlimageimage_253.jpg"/>
          <p:cNvPicPr/>
          <p:nvPr/>
        </p:nvPicPr>
        <p:blipFill>
          <a:blip r:embed="rId2"/>
          <a:stretch/>
        </p:blipFill>
        <p:spPr>
          <a:xfrm>
            <a:off x="7456320" y="0"/>
            <a:ext cx="168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750060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5 Werken met gevaarlijke stoff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320" y="1214280"/>
            <a:ext cx="894204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hoeveelheid van een stof die op en/of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lichaam terechtkomt, bepaalt het geva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wone stoffen in huis (bijv. schoonmaakmiddel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verven) kunnen meer schade aanrichten dan een gevaarlijke stof, waar je heel voorzichtig mee omga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C6AD-4965-4A68-9F4A-AE54F6946E6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11" descr=""/>
          <p:cNvPicPr/>
          <p:nvPr/>
        </p:nvPicPr>
        <p:blipFill>
          <a:blip r:embed="rId2"/>
          <a:stretch/>
        </p:blipFill>
        <p:spPr>
          <a:xfrm>
            <a:off x="1785960" y="3571920"/>
            <a:ext cx="3286080" cy="2571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http://www.rivm.nl/jeugdgezondheid/images/veiligheid.jpg"/>
          <p:cNvPicPr/>
          <p:nvPr/>
        </p:nvPicPr>
        <p:blipFill>
          <a:blip r:embed="rId3"/>
          <a:stretch/>
        </p:blipFill>
        <p:spPr>
          <a:xfrm>
            <a:off x="5072040" y="3571920"/>
            <a:ext cx="2438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Aandachtspunten</a:t>
            </a:r>
            <a:r>
              <a:rPr b="0" lang="en-US" sz="28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 veilig werken met gevaarlijke stoff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428480"/>
            <a:ext cx="70005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oor alle werkzaamheden nag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gevaren er zijn bij de stof(fen) die je gebrui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de schadelijke effecten ontst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de mogelijke schadelijke gevolgen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de grenzen zijn waarbij gevaar optreedt en hoe je kunt meten of je de gevarengrens passee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je risico’s kunt verklei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je jezelf kunt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je moet doen in nood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8B2A-7D67-4AD0-AFEF-BD2D3404151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680" y="1428480"/>
            <a:ext cx="75722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uishoude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stoppingsmidd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tend, met kans op ernstig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en, verni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gelijk met organische oplo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Spir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licht)ontvlambaar, bij langdurig gebruik hersenletsel, ontvet de h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wasproducten (vaatwasmachin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riterend, kans op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4117-D792-4A4A-ADAA-8B154D13E6C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4" descr="C:\Users\Eigenaar\AppData\Local\Microsoft\Windows\Temporary Internet Files\Content.IE5\X3JDBKQA\MCj03343160000[1].wmf"/>
          <p:cNvPicPr/>
          <p:nvPr/>
        </p:nvPicPr>
        <p:blipFill>
          <a:blip r:embed="rId2"/>
          <a:stretch/>
        </p:blipFill>
        <p:spPr>
          <a:xfrm>
            <a:off x="7321680" y="208080"/>
            <a:ext cx="16030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2DA3-3AA2-41DE-A485-A3EB61907FE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2"/>
          <a:stretch/>
        </p:blipFill>
        <p:spPr>
          <a:xfrm>
            <a:off x="752400" y="878040"/>
            <a:ext cx="72151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1320" y="128556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ologisch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el verschillende stoffen ‘biologisch’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d- en tuinbouw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edingsindustr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ak vervelende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cti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giftig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rgieën en schimm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’s van natuurlijke stoffen zijn soms ernsti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 bij champignons (allergi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8A2F-C08A-40DA-85C2-DA9897EBE9A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Afbeelding 4" descr="biohazard.png"/>
          <p:cNvPicPr/>
          <p:nvPr/>
        </p:nvPicPr>
        <p:blipFill>
          <a:blip r:embed="rId2"/>
          <a:stretch/>
        </p:blipFill>
        <p:spPr>
          <a:xfrm>
            <a:off x="7184880" y="0"/>
            <a:ext cx="1959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4294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71680" y="1213920"/>
            <a:ext cx="8286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eel verwerkt in gebouwen en installa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thermische isol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 (af)bouwproduc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onderdelen als remvoeringen en pakk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ziektebeelden, ook lang na blootst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sbestos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ngkank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sothelioom (long-, buikvlieskank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ine vezels geven de probl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erdere behandeling in hoofdstuk 1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6DE8-0911-4EA7-B1DF-6E90547DCCA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500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71320" y="1285560"/>
            <a:ext cx="6786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eling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cil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4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sen en dampen herkenn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5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6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fen en hun 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7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sch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8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nadering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9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matige 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7F39-B1A8-4A2A-83FB-D608FED2248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7254720" y="0"/>
            <a:ext cx="18892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71320" y="1071360"/>
            <a:ext cx="8429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chade van stoffen ontstaat als ze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je lichaam raken en vooral als ze je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ichaam binnendringen d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raken en spatten van vloeistoff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otstaan aan nevels, dampen en g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denk d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mpen, gassen en nevels gemakkelijk je hele lichaam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nnen bere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aste stof in fijne poedervorm bij verstuiven overal je lichaam kan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istoffen in kledingstukken kunnen trekken en da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eventueel na verdamping) langdurig in contac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n met de h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3236-6B84-470D-8D4C-7F3954666CE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7372440" y="0"/>
            <a:ext cx="17715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0040" y="1071360"/>
            <a:ext cx="84297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ndringen van stoffen in je licha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B6CD-47F7-4F57-A9E3-788C1A6B0115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2"/>
          <a:stretch/>
        </p:blipFill>
        <p:spPr>
          <a:xfrm>
            <a:off x="714240" y="1714680"/>
            <a:ext cx="7866360" cy="1643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http://www.spirxpert.com/brreactiviteit/bitmaps/airways.gif"/>
          <p:cNvPicPr/>
          <p:nvPr/>
        </p:nvPicPr>
        <p:blipFill>
          <a:blip r:embed="rId3"/>
          <a:stretch/>
        </p:blipFill>
        <p:spPr>
          <a:xfrm>
            <a:off x="4500720" y="3500280"/>
            <a:ext cx="2571480" cy="2775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http://www.beautycentre-renaissance.nl/images/huid.png"/>
          <p:cNvPicPr/>
          <p:nvPr/>
        </p:nvPicPr>
        <p:blipFill>
          <a:blip r:embed="rId4"/>
          <a:stretch/>
        </p:blipFill>
        <p:spPr>
          <a:xfrm>
            <a:off x="1857240" y="4500720"/>
            <a:ext cx="2433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71320" y="1147320"/>
            <a:ext cx="8429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st van de vergift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e gevaarlijk is de stof en hoeveel komt in het lichaam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tr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ur blootste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htconsumptie ( zwaar werk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fvorm (gas, damp, poeder, vloeistof, neve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tgesteld huidoppervlak en kenmerken van di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 is de belastbaarheid en weerstand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i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ftijd en gezond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99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7AF5-415D-4F75-8F0B-2B6D5F1987C6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8057880" cy="55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71320" y="1066320"/>
            <a:ext cx="825804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oorten vergiftigingen en soorten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en vergift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u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direct, meestal flinke do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ronis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langdurige blootstelling aan lage concentr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2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en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kelijk van stof en concentratie en persoon zijn veel effecten mogelijk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49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fdpijn, duizeligheid, evenwichtstoornissen(!) maagkrampen, misselijkheid en braken, hartkloppingen, en benauwdheid, wazig of dubbel z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 kan ernstige schade optreden aan systemen en organen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F6BB-D444-4D9D-8595-55EAED878CA7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8 Bronbenadering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m schade te voorkomen en te beperk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99A2-C128-46ED-AF17-6F3B44B5040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8691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9 Bedrijfsmatige 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71320" y="128556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neer gevaarlijke stoffen in 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omgeving voorkomen, moeten de medewerk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oplettend zijn op hun persoonlijke veilighei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werk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ren op lekka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vullende maatregelen nemen bij biologische besmett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F5A7-C4A0-48A7-99E2-37A7C5C1207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71680" y="157140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 voor persoonlijke hygiëne en kled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en en drinken in speciale ruimte, vuile werkkleding uittre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en en gezicht schoonm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persoonlijke beschermingsmiddel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tilatie of ademhalingsbescherming toe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concentraties van stoffen in de lucht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37CB-8597-48E3-B4E1-16B9E72282D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Picture 15" descr="http://www.arbostore.eu/UserFiles/Image/x_06970273.jpg"/>
          <p:cNvPicPr/>
          <p:nvPr/>
        </p:nvPicPr>
        <p:blipFill>
          <a:blip r:embed="rId2"/>
          <a:stretch/>
        </p:blipFill>
        <p:spPr>
          <a:xfrm>
            <a:off x="7572240" y="214200"/>
            <a:ext cx="1443240" cy="1928880"/>
          </a:xfrm>
          <a:prstGeom prst="rect">
            <a:avLst/>
          </a:prstGeom>
          <a:ln w="0">
            <a:noFill/>
          </a:ln>
        </p:spPr>
      </p:pic>
      <p:sp>
        <p:nvSpPr>
          <p:cNvPr id="278" name="Titel 1"/>
          <p:cNvSpPr/>
          <p:nvPr/>
        </p:nvSpPr>
        <p:spPr>
          <a:xfrm>
            <a:off x="571680" y="142920"/>
            <a:ext cx="70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4.9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Bedrijfsmatige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 beheersing  (2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928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renswaarde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33520" y="1676160"/>
            <a:ext cx="8942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veel stoffen is een veili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nswaarde vastgeste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3EF3-3361-4C55-9DC8-37589A905ED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11" descr="http://www.msaned.nl/uploads/tx_comacatalog/AUERPPMStatic1_09.jpg">
            <a:hlinkClick r:id="rId2"/>
          </p:cNvPr>
          <p:cNvPicPr/>
          <p:nvPr/>
        </p:nvPicPr>
        <p:blipFill>
          <a:blip r:embed="rId3">
            <a:lum bright="-20000"/>
          </a:blip>
          <a:srcRect l="35170" t="0" r="33203" b="0"/>
          <a:stretch/>
        </p:blipFill>
        <p:spPr>
          <a:xfrm>
            <a:off x="7743960" y="0"/>
            <a:ext cx="1400040" cy="2214720"/>
          </a:xfrm>
          <a:prstGeom prst="rect">
            <a:avLst/>
          </a:prstGeom>
          <a:ln w="0">
            <a:noFill/>
          </a:ln>
        </p:spPr>
      </p:pic>
      <p:sp>
        <p:nvSpPr>
          <p:cNvPr id="283" name="Tekstvak 6"/>
          <p:cNvSpPr/>
          <p:nvPr/>
        </p:nvSpPr>
        <p:spPr>
          <a:xfrm>
            <a:off x="571680" y="3044880"/>
            <a:ext cx="757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voor beroepsmatige blootstelling geld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e grenswaarde is de maximale concentratie van een gevaarlijke stof  als tijdgewogen gemiddelde over een referentieperiode, waarboven geen enkele werknemer blootgesteld mag wor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itel 1"/>
          <p:cNvSpPr/>
          <p:nvPr/>
        </p:nvSpPr>
        <p:spPr>
          <a:xfrm>
            <a:off x="571680" y="142920"/>
            <a:ext cx="642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4.9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Bedrijfsmatige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 beheersing  (3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8429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lasting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320" y="1571760"/>
            <a:ext cx="8429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 er minder van de stof in de lucht is dan de grenswaarde, is het veili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ls, condities voor grenswaar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zonde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wone werkdagen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overwer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one werkwee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one werkomstandighed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e fysieke insp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CFD2-BB7A-4BF8-A4EE-ABDFF656510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11" descr="http://www.msaned.nl/uploads/tx_comacatalog/AUERPPMStatic1_0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36040" y="-6480"/>
            <a:ext cx="1414440" cy="2225880"/>
          </a:xfrm>
          <a:prstGeom prst="rect">
            <a:avLst/>
          </a:prstGeom>
          <a:ln w="0">
            <a:noFill/>
          </a:ln>
        </p:spPr>
      </p:pic>
      <p:sp>
        <p:nvSpPr>
          <p:cNvPr id="289" name="Titel 1"/>
          <p:cNvSpPr/>
          <p:nvPr/>
        </p:nvSpPr>
        <p:spPr>
          <a:xfrm>
            <a:off x="571680" y="0"/>
            <a:ext cx="666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1680" y="9288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eageren op lekkages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1752480"/>
            <a:ext cx="82864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gwerken van gelekt produ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jken naar de oorzaken en die aanpa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preiding van product in de ademlu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oor brand en/of explos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lieuverontreini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gl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ippen van voertu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verl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6E9A-1780-466B-B1EF-97AF372BFA9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itel 1"/>
          <p:cNvSpPr/>
          <p:nvPr/>
        </p:nvSpPr>
        <p:spPr>
          <a:xfrm>
            <a:off x="571680" y="0"/>
            <a:ext cx="814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5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 1 Gevaarlijke stoffen</a:t>
            </a:r>
            <a:r>
              <a:rPr b="0" lang="en-US" sz="28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irecte en sluipende gevar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71680" y="1428480"/>
            <a:ext cx="837072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zijn stoffen die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rmen voor de gezondheid en/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om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erschillen per soort sto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gevaarlijke stoffen m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etiket en kleurcodes op gascil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BB2E-353D-4DEA-8FE2-5BCCEFFE588C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650052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ekkages beheers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71680" y="1428480"/>
            <a:ext cx="82864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gelmatig controleren of de installatie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orde i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e personeel voor bedieningswerkzaamheden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én reparatie goed opleide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k begin van lekken meld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oldoende grote lekbakken onder tank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kken vakkundig reparer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elekt product vakkundig verwijder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ra aandacht voor belangrijke oorzaken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echt onderhoud van installati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echte montage van flenzen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tieve procedure bij overgieten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kkende kran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51EC-53FE-4C68-8088-5BB8EC84126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4" descr="10"/>
          <p:cNvPicPr/>
          <p:nvPr/>
        </p:nvPicPr>
        <p:blipFill>
          <a:blip r:embed="rId2"/>
          <a:stretch/>
        </p:blipFill>
        <p:spPr>
          <a:xfrm>
            <a:off x="7175520" y="-6480"/>
            <a:ext cx="1974960" cy="2011320"/>
          </a:xfrm>
          <a:prstGeom prst="rect">
            <a:avLst/>
          </a:prstGeom>
          <a:ln w="0">
            <a:noFill/>
          </a:ln>
        </p:spPr>
      </p:pic>
      <p:sp>
        <p:nvSpPr>
          <p:cNvPr id="298" name="Titel 1"/>
          <p:cNvSpPr/>
          <p:nvPr/>
        </p:nvSpPr>
        <p:spPr>
          <a:xfrm>
            <a:off x="571680" y="0"/>
            <a:ext cx="657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6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78865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ologische besmett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71680" y="1642680"/>
            <a:ext cx="7913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reiging door bacteriën, virussen 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immels kan in sommige omstandighed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biologische besmettingdreiging extra preventieve maatregelen 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ent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vaak en intensief handen w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beschermingcrè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arnaast gebruikelijke bescher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ogbescherming bij gevaar voor spa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0B6A-34A6-4722-A6FA-48BCCF22A5D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Afbeelding 4" descr="genomicsBacterien.jpg"/>
          <p:cNvPicPr/>
          <p:nvPr/>
        </p:nvPicPr>
        <p:blipFill>
          <a:blip r:embed="rId2"/>
          <a:stretch/>
        </p:blipFill>
        <p:spPr>
          <a:xfrm>
            <a:off x="7186680" y="-6480"/>
            <a:ext cx="1963800" cy="2371680"/>
          </a:xfrm>
          <a:prstGeom prst="rect">
            <a:avLst/>
          </a:prstGeom>
          <a:ln w="0">
            <a:noFill/>
          </a:ln>
        </p:spPr>
      </p:pic>
      <p:sp>
        <p:nvSpPr>
          <p:cNvPr id="303" name="Titel 1"/>
          <p:cNvSpPr/>
          <p:nvPr/>
        </p:nvSpPr>
        <p:spPr>
          <a:xfrm>
            <a:off x="571680" y="0"/>
            <a:ext cx="6357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7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1 Indeling gevaarlijke stoff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71680" y="145692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t ontvlamba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licht ontvlamba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tig, zeer gifti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d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it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tend of corros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eugevaar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bilis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4746-2E1F-4072-B9A9-0CFECD25998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kstvak 4"/>
          <p:cNvSpPr/>
          <p:nvPr/>
        </p:nvSpPr>
        <p:spPr>
          <a:xfrm>
            <a:off x="571680" y="11430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indeling in categorie met bijbehorend etike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2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Herkennen van gevaarlijke stoffen </a:t>
            </a:r>
            <a:br>
              <a:rPr sz="2800"/>
            </a:b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en het gevaar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915920" y="1356840"/>
            <a:ext cx="7227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de gevaren van een stof zijn, kun je zien aan het gevareneti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geven de betekenis van de etiketten en voorbeelden van stoffen met dat geva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896A-6D0A-4BF4-A866-11B536FAC32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1143000" cy="1160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3"/>
          <a:stretch/>
        </p:blipFill>
        <p:spPr>
          <a:xfrm>
            <a:off x="857160" y="3071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4"/>
          <a:stretch/>
        </p:blipFill>
        <p:spPr>
          <a:xfrm>
            <a:off x="857160" y="4357800"/>
            <a:ext cx="1179720" cy="1216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5"/>
          <a:stretch/>
        </p:blipFill>
        <p:spPr>
          <a:xfrm>
            <a:off x="2286000" y="4357800"/>
            <a:ext cx="108756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6"/>
          <a:stretch/>
        </p:blipFill>
        <p:spPr>
          <a:xfrm>
            <a:off x="3571920" y="4357800"/>
            <a:ext cx="112536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7"/>
          <a:stretch/>
        </p:blipFill>
        <p:spPr>
          <a:xfrm>
            <a:off x="4932360" y="4357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8"/>
          <a:stretch/>
        </p:blipFill>
        <p:spPr>
          <a:xfrm>
            <a:off x="6286680" y="4357800"/>
            <a:ext cx="1137960" cy="1120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9"/>
          <a:stretch/>
        </p:blipFill>
        <p:spPr>
          <a:xfrm>
            <a:off x="7643880" y="4286160"/>
            <a:ext cx="1160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4865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14320" y="1071720"/>
            <a:ext cx="7143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v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deren gemakkelijk, ook zonder inwerking van zuurstof, maar bijvoorbeeld door een schok of verhitting; bijvoorbeeld 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munitie, TNT, buskru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licht en licht ontvlambar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iegen zeer gemakkelijk in brand, zelfs bij normale omgevingstemperaturen; bijvoorbeeld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benzine, acet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rende of brandbevord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ren heftig met onder andere ontvlambare stoffen, waarbij veel warmte vrijkom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oor aantasting van huid, kleding en het ontstaan van brand; bijvoorbeeld 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waterstofperoxide (zuurstofwater), ozon, zuur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E6A3-A0D6-49DD-9C9C-9CB6E491378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285840" y="835200"/>
            <a:ext cx="1768320" cy="1785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3"/>
          <a:stretch/>
        </p:blipFill>
        <p:spPr>
          <a:xfrm>
            <a:off x="762120" y="297180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4"/>
          <a:stretch/>
        </p:blipFill>
        <p:spPr>
          <a:xfrm>
            <a:off x="762120" y="4495680"/>
            <a:ext cx="9284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14320" y="1071360"/>
            <a:ext cx="7800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giftige en giftig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angrijke kans op (zeer) ernstige verschijnselen bij inademen, inslikken of contact met de huid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CO (kolendamp), (H2S), 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</a:rPr>
              <a:t>methanol, benz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de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gelijkbaar met giftige stoffen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erschijnselen minder ernstig dan giftige stoffen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: inademen, inslikken of huidcontact; bijvoorbeel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verf, lak, hout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t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tasting huid, ogen, longen en kleding bij contac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 bijvoorbeeld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zuren, zoals salpeterzuur, zoutzuur en basen (loog), zoals natronloo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CFD2-025B-43D0-8A06-56FEC121F01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857160" y="1214280"/>
            <a:ext cx="816120" cy="857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838080" y="2895480"/>
            <a:ext cx="857520" cy="870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4"/>
          <a:stretch/>
        </p:blipFill>
        <p:spPr>
          <a:xfrm>
            <a:off x="838080" y="48006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4865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785600" y="1142640"/>
            <a:ext cx="7800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rrit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perktere werking dan bijtende producten, kunnen ontstekingen veroorzaken bij huidcontact en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ijmvliezen; bijvoorbeeld: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dikke bleek, ammon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1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 voor het milieu en voor dieren; bijvoorbeeld</a:t>
            </a:r>
            <a:r>
              <a:rPr b="0" lang="nl-NL" sz="22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chloorfluorkoolwaterstoffen (cfk’s), pestic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ensibilis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nen een allergie veroorz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in aanraking komen met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bepaalde harsen en kleurmiddelen, sommige verven, metaalbehandelingsmiddelen,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haarkleur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57F3-6A06-4F99-8809-DE563F4B90D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712800" y="1214280"/>
            <a:ext cx="942840" cy="928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942840" cy="9284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5578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71320" y="1285560"/>
            <a:ext cx="82674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de vervoeretiketten van gevaarlijke stoff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t het om het gevaar dat tijdens het transport kan optr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arlijke stoffen die over de weg worden vervoerd, worden aangeduid met een diamant- of ruitvormig gevaarsymbool met de punt omhoog; de kleur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hankelijk van de categori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8C7E-39F4-41FE-A23D-45DA066C900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2214720" y="518148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6000840" y="5181480"/>
            <a:ext cx="1071360" cy="10717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0721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Vervoe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" name="Tekstvak 8"/>
          <p:cNvSpPr/>
          <p:nvPr/>
        </p:nvSpPr>
        <p:spPr>
          <a:xfrm>
            <a:off x="1714680" y="4467240"/>
            <a:ext cx="285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brandbare vaste stof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hthoek 10"/>
          <p:cNvSpPr/>
          <p:nvPr/>
        </p:nvSpPr>
        <p:spPr>
          <a:xfrm>
            <a:off x="5645880" y="4467240"/>
            <a:ext cx="210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ontplofbare stof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20:52Z</dcterms:modified>
  <cp:revision>135</cp:revision>
  <dc:subject/>
  <dc:title>Taak en positie VFP</dc:title>
</cp:coreProperties>
</file>