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5F08-A7D2-42F1-9C39-FBE11711F5E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ADA7-B443-4CAE-A94A-CBE16E1FDC4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503-3F81-41D9-BB3F-58448EB3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F5D-750B-497E-B27A-B3034095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017-0C67-4074-BB9D-AE2CC175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DDD-BC75-4BC2-AD2F-4BA2F531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A11F-9253-4441-9134-A3873767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53D-DAFF-4CD3-8E56-24707410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872-19EA-4824-9359-6FF53A0D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3D8-D0C6-4006-A575-37149C33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B4D-3DC8-4903-AED8-EF7E7CE2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5D3-35EE-4DD4-B0FD-2FBAE16F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C48-2714-448B-BF27-CEAA3F38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6CB-A9D2-473D-AABA-87E1FEEB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2131-2CC8-4085-B27D-B4EF70C5812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er mis kan 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slijpstenen op één machine mogen niet te veel verschi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es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fbeelding 5" descr="http://www.metabo.nl/uploads/tx_commerce/feinbilder/0300020003s_51_m.jpg"/>
          <p:cNvPicPr/>
          <p:nvPr/>
        </p:nvPicPr>
        <p:blipFill>
          <a:blip r:embed="rId1"/>
          <a:stretch/>
        </p:blipFill>
        <p:spPr>
          <a:xfrm>
            <a:off x="6934320" y="3124080"/>
            <a:ext cx="1976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nderlijke of gevaarlijk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, stevig bevestigde beschuttings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rote werkstukken assistentie van tweede persoon of gebruik rollenb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ttp://www.metabo.nl/uploads/tx_commerce/feinbilder/0104605000s_51_m.jpg"/>
          <p:cNvPicPr/>
          <p:nvPr/>
        </p:nvPicPr>
        <p:blipFill>
          <a:blip r:embed="rId1"/>
          <a:stretch/>
        </p:blipFill>
        <p:spPr>
          <a:xfrm>
            <a:off x="7172280" y="152280"/>
            <a:ext cx="1971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 geïsoleerd betekent niet bescherming tegen water of vochtig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neumat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erslucht = pneumatis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gereedsc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, bij slijpschijven groter dan 125m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slijpschijf moet st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slijpmachin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3800" y="18892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cirkel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 schermt de buitenrand zaag volledig a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 aanpassen aan diameter en dikte van de z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oer steeds achter de zaag 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nagel/niet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ketting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40227" t="0" r="8150" b="0"/>
          <a:stretch/>
        </p:blipFill>
        <p:spPr>
          <a:xfrm>
            <a:off x="7500960" y="1523880"/>
            <a:ext cx="16430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er van machines en gereedschappen heb je een belangrijke rol in risico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zelf vragen stellen en zonodig in actie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het apparaat in ord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risico's bij gebruik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b je een duidelijke instructie gekregen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ren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oldoende kennis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rsleutels en slagsleu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458040" y="1905120"/>
            <a:ext cx="2685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roevendraa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ij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ndz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aat en (soort) zaag aangepas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ug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fbeelding 6" descr="zagen.jpg"/>
          <p:cNvPicPr/>
          <p:nvPr/>
        </p:nvPicPr>
        <p:blipFill>
          <a:blip r:embed="rId1"/>
          <a:stretch/>
        </p:blipFill>
        <p:spPr>
          <a:xfrm>
            <a:off x="7531200" y="312408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i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t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8" descr="tangen.jpg"/>
          <p:cNvPicPr/>
          <p:nvPr/>
        </p:nvPicPr>
        <p:blipFill>
          <a:blip r:embed="rId1"/>
          <a:srcRect l="0" t="0" r="0" b="35266"/>
          <a:stretch/>
        </p:blipFill>
        <p:spPr>
          <a:xfrm>
            <a:off x="6678720" y="2967120"/>
            <a:ext cx="2465280" cy="923760"/>
          </a:xfrm>
          <a:prstGeom prst="rect">
            <a:avLst/>
          </a:prstGeom>
          <a:ln w="0">
            <a:noFill/>
          </a:ln>
        </p:spPr>
      </p:pic>
      <p:pic>
        <p:nvPicPr>
          <p:cNvPr id="99" name="Afbeelding 4" descr="images.jpg"/>
          <p:cNvPicPr/>
          <p:nvPr/>
        </p:nvPicPr>
        <p:blipFill>
          <a:blip r:embed="rId2"/>
          <a:stretch/>
        </p:blipFill>
        <p:spPr>
          <a:xfrm>
            <a:off x="5638680" y="1523880"/>
            <a:ext cx="1378080" cy="144324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7" descr="imagesCAPWV5WN.jpg"/>
          <p:cNvPicPr/>
          <p:nvPr/>
        </p:nvPicPr>
        <p:blipFill>
          <a:blip r:embed="rId3"/>
          <a:stretch/>
        </p:blipFill>
        <p:spPr>
          <a:xfrm>
            <a:off x="6705720" y="4419720"/>
            <a:ext cx="1725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1  Veiligheidseisen voor arbeidsmidde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2  Algemene eisen en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3  Vast opgestelde machines/gereedsc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4 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5  Handgereedschap zonder aand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1 Veiligheidseis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- voor arbeidsmiddelen en machin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kunnen er ongevallen ont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sp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ontwer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s- en onderhoudsvoorschrift in taal gebruik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aan bedieners van 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opleiding/ervaring en ouder dan 18 j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uste inzet van techniek in ruimtes met explosie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dreven 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erhog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loop- en bewegingsruim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nderhoud machines of gereedschappen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mansknop op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reikbaar, duidelijk zichtbaar en herken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ulspanningschak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: tweehandenbediening en koppelscherm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let zelf op dat je instructies krijgt</a:t>
            </a:r>
            <a:br>
              <a:rPr sz="2400"/>
            </a:b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voor nieuw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olomboormachines en boor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boren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 werken is van bela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0:37:45Z</dcterms:modified>
  <cp:revision>34</cp:revision>
  <dc:subject/>
  <dc:title>Test</dc:title>
</cp:coreProperties>
</file>