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8750-7463-44B5-9A77-922CA7476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6909-726E-4B77-B1A1-38A5A94B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F93A-4141-406F-B30B-3B8AE8089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7562-7D79-4582-96BF-50BE7FE1B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3E45-D49D-40A0-B954-01E8AA0D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B621-A398-4AAE-AD96-AB20F934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D156-E963-4129-A653-13BF4710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30CA-E1A2-4024-89F6-6A588C97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64C2-D1B1-4205-8FD8-1AD6F816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303C-168E-4548-A0F2-86B07630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D541-9DDC-4677-93BD-3E513A62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A1A8-E1FF-45CA-A450-FFC73A2C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8214-D45C-42AD-AADB-E25C8C5EE83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msaned.nl/index.php?id=289&amp;L=10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71320"/>
            <a:ext cx="784872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3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Gevaarlijke stoffen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rvoersetikett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de vervoersetiketten van gevaarlijke stoff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at het om het gevaar dat tijdens het transport kan optre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e stoffen die over de weg worden vervoerd, worden aangeduid met een diamant- of ruitvormig gevaarsymbool met de punt omhoog; de kleur is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hankelijk van de catego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33cc33"/>
                </a:solidFill>
                <a:latin typeface="Arial"/>
              </a:rPr>
              <a:t>       </a:t>
            </a:r>
            <a:r>
              <a:rPr b="0" lang="nl-NL" sz="2200" spc="-1" strike="noStrike">
                <a:solidFill>
                  <a:srgbClr val="33cc33"/>
                </a:solidFill>
                <a:latin typeface="Arial"/>
              </a:rPr>
              <a:t>brandbare vaste stof                        ontplofbare st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2281320" y="5486400"/>
            <a:ext cx="1071360" cy="1071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6248520" y="5562720"/>
            <a:ext cx="107136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3 Gascilinder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ronosPro-Bold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inhoud van de gascilinder is te zien aan de kleur op de bovenkant (schouder) van de cilin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1905120" y="2441520"/>
            <a:ext cx="510516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3 Gascilinder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bij </a:t>
            </a: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opsla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gascilinders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ilinders goed vastzet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en tegen zonnestralen / weersinvlo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fschermen van warmtestralingsbron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atterijen met gasflessen niet op de arbeidspla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slagruimte goed ventil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opslaan in of bij kelders en put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uurstof gescheiden houden van brandbare ga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en voor aangepaste blusmiddelen en water als koelmiddel vlak bij de opslagruim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rcRect l="44375" t="0" r="4399" b="0"/>
          <a:stretch/>
        </p:blipFill>
        <p:spPr>
          <a:xfrm>
            <a:off x="7358040" y="0"/>
            <a:ext cx="17859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4 Gassen en dampen herkenn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gassen en dampen (verdampte vloeistoffen) hebben geen kleur, maar herken je door g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je niets ruikt of ziet, kan er toch gas of damp aanwezig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veel gevaarlijke dampen of gassen hebben 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geen geur of kleu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de geur van de gevaarlijke stof kan worden 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gemaskeerd door andere, niet-gevaarlijke stoffe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niet iedereen kan even goed ruiken;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geur is voor iedereen anders... persoonsafhankelijk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eukgren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iets sterk ruikt of zwak, hangt af van de concentratie in de lu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ukgr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gere concentraties niet met neus waar te ne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 reukgrens kunnen stoffen ook gevaarlijk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mmige gassen of dampen zijn helemaal reuklo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ze giftig zijn, is er sprake van een groo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bleem, zoals bij koolmonoxide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kolendam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aarlijks vele doden door bijvoorbeeld slecht werkende gasgei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Afbeelding 4" descr="wlimageimage_253.jpg"/>
          <p:cNvPicPr/>
          <p:nvPr/>
        </p:nvPicPr>
        <p:blipFill>
          <a:blip r:embed="rId1"/>
          <a:stretch/>
        </p:blipFill>
        <p:spPr>
          <a:xfrm>
            <a:off x="7456320" y="0"/>
            <a:ext cx="168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5 Werken met gevaarlijke stoff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hoeveelheid van een stof die op en/of i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lichaam terechtkomt, bepaalt het gev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wone stoffen in huis (bijvoorbeeld schoonmaakmiddelen en verven) kunn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schade aanrichten dan een gevaarlijk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of waar je heel voorzichtig mee omg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6" descr="http://www.rivm.nl/jeugdgezondheid/images/veiligheid.jpg"/>
          <p:cNvPicPr/>
          <p:nvPr/>
        </p:nvPicPr>
        <p:blipFill>
          <a:blip r:embed="rId1"/>
          <a:stretch/>
        </p:blipFill>
        <p:spPr>
          <a:xfrm>
            <a:off x="3657600" y="4343400"/>
            <a:ext cx="227160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Aandachtspunt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oor veilig werken met gevaarlijke stoff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oor alle werkzaamheden nag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elke gevaren er zijn bij de stof(fen) die je gebrui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oe de schadelijke effecten ontst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t de mogelijke schadelijke gevolgen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t de grenzen zijn waarbij gevaar optreedt en hoe je kunt meten of je de gevarengrens passe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oe je risico’s kunt verklei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oe je jezelf kunt bescher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t je moet doen in noodgeval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6 Stoffen en hun gevar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ishoudelijke stoff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oppingsmidd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tend, met kans op ernstig oog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ven, verni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gelijk met organische oplosmidd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hite Spi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licht)ontvlambaar, bij langdurig gebruik hersenletsel, ontvet de hu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wasproducten (vaatwasmach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rriterend, kans op oog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C:\Users\Eigenaar\AppData\Local\Microsoft\Windows\Temporary Internet Files\Content.IE5\X3JDBKQA\MCj03343160000[1].wmf"/>
          <p:cNvPicPr/>
          <p:nvPr/>
        </p:nvPicPr>
        <p:blipFill>
          <a:blip r:embed="rId1"/>
          <a:stretch/>
        </p:blipFill>
        <p:spPr>
          <a:xfrm>
            <a:off x="7327800" y="212760"/>
            <a:ext cx="15908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6 Stoffen en hun gevaren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103" name="0B691036-7581-44CA-A8E3-B76B5209B409" descr="55F4348B-CA0A-44C8-AD31-3AF23DEB23A0@profit"/>
          <p:cNvPicPr/>
          <p:nvPr/>
        </p:nvPicPr>
        <p:blipFill>
          <a:blip r:embed="rId1"/>
          <a:stretch/>
        </p:blipFill>
        <p:spPr>
          <a:xfrm>
            <a:off x="1692360" y="1484280"/>
            <a:ext cx="5940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6 Stoffen en hun gevaren (3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biologisch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verschillende stoffen ‘biologisch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nd- en tuinbouw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edingsindust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ak vervelende effec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fect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giftiging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rgieën en schimmel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’s van natuurlijke stoffen zijn soms ernsti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bij champignons (allergi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Afbeelding 4" descr="biohazard.png"/>
          <p:cNvPicPr/>
          <p:nvPr/>
        </p:nvPicPr>
        <p:blipFill>
          <a:blip r:embed="rId1"/>
          <a:stretch/>
        </p:blipFill>
        <p:spPr>
          <a:xfrm>
            <a:off x="7184880" y="0"/>
            <a:ext cx="19591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Directe en sluipende gevar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e stoffen zijn stoffen die e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vormen voor de gezondheid en/of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d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verschillen per soort 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rkennen gevaarlijke stoffen me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etiket en kleurcodes op gascilin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 moet je weten om veilig te kunnen wer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uishoudelijke stoff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offen in werksituat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ologisch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7 Gezondheidsschad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schade van stoff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ntstaat als ze je lichaam raken en vooral als ze je lichaam binnendringen 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raken en spatten van vloei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ootstaan aan nevels, dampen en g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edenk d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mpen, gassen en nevels gemakkelijk je hele lichaam kunnen bere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vaste stof in fijne poedervorm bij verstuiven overal je lichaam kan r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oeistoffen in kledingstukken kunnen trekken en dan (eventueel na verdamping) langdurig in contac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jn met de h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7862760" y="0"/>
            <a:ext cx="12812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7 Gezondheidsschade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nnendringen van stoffen in je licha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6" descr="http://www.spirxpert.com/brreactiviteit/bitmaps/airways.gif"/>
          <p:cNvPicPr/>
          <p:nvPr/>
        </p:nvPicPr>
        <p:blipFill>
          <a:blip r:embed="rId1"/>
          <a:stretch/>
        </p:blipFill>
        <p:spPr>
          <a:xfrm>
            <a:off x="4648320" y="4325760"/>
            <a:ext cx="2346120" cy="2532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http://www.beautycentre-renaissance.nl/images/huid.png"/>
          <p:cNvPicPr/>
          <p:nvPr/>
        </p:nvPicPr>
        <p:blipFill>
          <a:blip r:embed="rId2"/>
          <a:stretch/>
        </p:blipFill>
        <p:spPr>
          <a:xfrm>
            <a:off x="1857240" y="4429080"/>
            <a:ext cx="2433600" cy="1857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3"/>
          <a:stretch/>
        </p:blipFill>
        <p:spPr>
          <a:xfrm>
            <a:off x="685800" y="2438280"/>
            <a:ext cx="78660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8 Bronbenadering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om schade te voorkomen en te beperk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685800" y="2281320"/>
            <a:ext cx="7772400" cy="35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9 Bedrijfsmatige beheersing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nneer gevaarlijke stoffen in de werkomgeving voorkomen, moeten de medewerk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tra oplettend zijn op hun persoonlijke veiligheid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 werkged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ageren op lek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vullende maatregelen nemen bij biologische besmet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9.1  Persoonlijke veiligheid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 voor persoonlijke hygiëne en kle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ten en drinken in speciale ruimte, vuile werkkleding uittrek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en en gezicht schoonm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persoonlijke beschermingsmiddelen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nden/wondjes direct behan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 of ademhalingsbescherming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concentraties van stoffen in de lucht bep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Concentratie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veel stoffen is een veilige grenswaarde vastgest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er minder van de stof in de lucht is dan de grenswaarde, is het veil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, condities voor grenswaar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rmale 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e werk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wone werkda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overwer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wone werkwee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wone werkomstandighe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rmale fysieke inspa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1" descr="http://www.msaned.nl/uploads/tx_comacatalog/AUERPPMStatic1_09.jpg">
            <a:hlinkClick r:id="rId1"/>
          </p:cNvPr>
          <p:cNvPicPr/>
          <p:nvPr/>
        </p:nvPicPr>
        <p:blipFill>
          <a:blip r:embed="rId2">
            <a:lum bright="-20000"/>
          </a:blip>
          <a:srcRect l="35170" t="0" r="33203" b="0"/>
          <a:stretch/>
        </p:blipFill>
        <p:spPr>
          <a:xfrm>
            <a:off x="8180280" y="0"/>
            <a:ext cx="9637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9.2  Reageren op lekkage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gwerken van gelekt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ijken naar de oorzaken en die aanpak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preiding van product in de ademlu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 voor brand en/of explos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ilieuverontrein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lij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ippen van voertui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oductverl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Lekkages beheers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matig controleren of de installatie in ord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 personeel voor bedieningswerkzaamheden én reparatie goed oplei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lk begin van lekken mel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doende grote lekbakken plaatsen onder tan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kken vakkundig repar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lekt product vakkundig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tra aandacht voor belangrijke oorza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echt onderhoud van installa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echte montage van flenz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outieve procedure bij overgie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kkende kra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9.3  Biologische besmetting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eiging door bacteriën, virussen en schimmels kan in sommige omstandigheden toene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biologische besmettingsdreiging extra preventieve maatregelen ne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enti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tra vaak en intensief handen wa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 van beschermingcrè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arnaast gebruikelijke bescherm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ende kle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dbescher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gbescherming bij gevaar voor spat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dembescher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Afbeelding 4" descr="genomicsBacterien.jpg"/>
          <p:cNvPicPr/>
          <p:nvPr/>
        </p:nvPicPr>
        <p:blipFill>
          <a:blip r:embed="rId1"/>
          <a:stretch/>
        </p:blipFill>
        <p:spPr>
          <a:xfrm>
            <a:off x="7570800" y="6480"/>
            <a:ext cx="156672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vaarlijke stoff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1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deling gevaarlijk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2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rkennen van gevaarlijk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scilin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4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ssen en dampen herken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5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gevaarlijk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6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offen en hun geva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7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s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8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benadering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9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fsmatige behee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1 Indeling gevaarlijke stoff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xplosief/ontplofba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xider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t ontvlambaar, licht ontvlambaar, ontvlamba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ftig, zeer gift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adelij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rriter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tend of corrosi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ankerverwekk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lieugevaarlij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nsibiliser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zondheidsgevaarlijk op lange termij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assen onder dr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el 2"/>
          <p:cNvSpPr/>
          <p:nvPr/>
        </p:nvSpPr>
        <p:spPr>
          <a:xfrm>
            <a:off x="571680" y="214200"/>
            <a:ext cx="84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8560" indent="-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  <a:ea typeface="Arial"/>
              </a:rPr>
              <a:t>3.2 Herkennen van gevaarlijke stoffen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  <a:ea typeface="Arial"/>
              </a:rPr>
              <a:t>en het gevaar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Tijdelijke aanduiding voor inhoud 3"/>
          <p:cNvSpPr/>
          <p:nvPr/>
        </p:nvSpPr>
        <p:spPr>
          <a:xfrm>
            <a:off x="1884240" y="1366920"/>
            <a:ext cx="722808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5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808080"/>
                </a:solidFill>
                <a:latin typeface="Arial"/>
                <a:ea typeface="Arial"/>
              </a:rPr>
              <a:t>welke de gevaren van een stof zijn, kun je zien aan het gevarenetiket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45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45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808080"/>
                </a:solidFill>
                <a:latin typeface="Arial"/>
                <a:ea typeface="Arial"/>
              </a:rPr>
              <a:t>we geven de betekenis van de etiketten en voorbeelden van stoffen met dat gevaar</a:t>
            </a:r>
            <a:r>
              <a:rPr b="0" lang="nl-NL" sz="2400" spc="-1" strike="noStrike">
                <a:solidFill>
                  <a:srgbClr val="80808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808080"/>
                </a:solidFill>
                <a:latin typeface="Arial"/>
                <a:ea typeface="Arial"/>
              </a:rPr>
              <a:t>    </a:t>
            </a:r>
            <a:r>
              <a:rPr b="0" lang="nl-NL" sz="2400" spc="-1" strike="noStrike">
                <a:solidFill>
                  <a:srgbClr val="808080"/>
                </a:solidFill>
                <a:latin typeface="Arial"/>
                <a:ea typeface="Arial"/>
              </a:rPr>
              <a:t>	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45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E553-5180-48A3-A284-8967E880E007}" type="slidenum">
              <a:rPr b="0" lang="nl-NL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Tijdelijke aanduiding voor dianummer 1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8CFC-DEBF-46FE-A92E-F2FD758A689D}" type="slidenum">
              <a:rPr b="0" lang="nl-NL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2" name="Picture 2" descr="Y:\UITGEVERIJ\boeken\VCA\Basisboek Veiligheid\picto 2011\bijtend.gif"/>
          <p:cNvPicPr/>
          <p:nvPr/>
        </p:nvPicPr>
        <p:blipFill>
          <a:blip r:embed="rId1"/>
          <a:stretch/>
        </p:blipFill>
        <p:spPr>
          <a:xfrm>
            <a:off x="3635280" y="4905360"/>
            <a:ext cx="1133640" cy="1146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Y:\UITGEVERIJ\boeken\VCA\Basisboek Veiligheid\picto 2011\brandbevorderend.gif"/>
          <p:cNvPicPr/>
          <p:nvPr/>
        </p:nvPicPr>
        <p:blipFill>
          <a:blip r:embed="rId2"/>
          <a:stretch/>
        </p:blipFill>
        <p:spPr>
          <a:xfrm>
            <a:off x="843120" y="3541680"/>
            <a:ext cx="1143000" cy="1146240"/>
          </a:xfrm>
          <a:prstGeom prst="rect">
            <a:avLst/>
          </a:prstGeom>
          <a:ln w="0">
            <a:noFill/>
          </a:ln>
        </p:spPr>
      </p:pic>
      <p:sp>
        <p:nvSpPr>
          <p:cNvPr id="54" name="Tijdelijke aanduiding voor dianummer 1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8A75-4C33-49D1-8759-5DFD242213CF}" type="slidenum">
              <a:rPr b="0" lang="nl-NL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5" name="Picture 6" descr="Y:\UITGEVERIJ\boeken\VCA\Basisboek Veiligheid\picto 2011\brandgevaarlijk.gif"/>
          <p:cNvPicPr/>
          <p:nvPr/>
        </p:nvPicPr>
        <p:blipFill>
          <a:blip r:embed="rId3"/>
          <a:stretch/>
        </p:blipFill>
        <p:spPr>
          <a:xfrm>
            <a:off x="843120" y="2309760"/>
            <a:ext cx="1143000" cy="1144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Y:\UITGEVERIJ\boeken\VCA\Basisboek Veiligheid\picto 2011\explosiegevaar.gif"/>
          <p:cNvPicPr/>
          <p:nvPr/>
        </p:nvPicPr>
        <p:blipFill>
          <a:blip r:embed="rId4"/>
          <a:stretch/>
        </p:blipFill>
        <p:spPr>
          <a:xfrm>
            <a:off x="843120" y="1095480"/>
            <a:ext cx="1145880" cy="1144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Y:\UITGEVERIJ\boeken\VCA\Basisboek Veiligheid\picto 2011\giftig.gif"/>
          <p:cNvPicPr/>
          <p:nvPr/>
        </p:nvPicPr>
        <p:blipFill>
          <a:blip r:embed="rId5"/>
          <a:stretch/>
        </p:blipFill>
        <p:spPr>
          <a:xfrm>
            <a:off x="846000" y="4875120"/>
            <a:ext cx="1143000" cy="1144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Y:\UITGEVERIJ\boeken\VCA\Basisboek Veiligheid\picto 2011\houder onder druk.gif"/>
          <p:cNvPicPr/>
          <p:nvPr/>
        </p:nvPicPr>
        <p:blipFill>
          <a:blip r:embed="rId6"/>
          <a:stretch/>
        </p:blipFill>
        <p:spPr>
          <a:xfrm>
            <a:off x="7524720" y="4950000"/>
            <a:ext cx="1144440" cy="1144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Y:\UITGEVERIJ\boeken\VCA\Basisboek Veiligheid\picto 2011\lange termijn gezondheidsschadelijk.gif"/>
          <p:cNvPicPr/>
          <p:nvPr/>
        </p:nvPicPr>
        <p:blipFill>
          <a:blip r:embed="rId7"/>
          <a:stretch/>
        </p:blipFill>
        <p:spPr>
          <a:xfrm>
            <a:off x="4932360" y="4950000"/>
            <a:ext cx="1144440" cy="1144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Y:\UITGEVERIJ\boeken\VCA\Basisboek Veiligheid\picto 2011\milieuschadelijk.gif"/>
          <p:cNvPicPr/>
          <p:nvPr/>
        </p:nvPicPr>
        <p:blipFill>
          <a:blip r:embed="rId8"/>
          <a:stretch/>
        </p:blipFill>
        <p:spPr>
          <a:xfrm>
            <a:off x="6227640" y="4950000"/>
            <a:ext cx="1146240" cy="1144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" descr="Y:\UITGEVERIJ\boeken\VCA\Basisboek Veiligheid\picto 2011\schadelijk.gif"/>
          <p:cNvPicPr/>
          <p:nvPr/>
        </p:nvPicPr>
        <p:blipFill>
          <a:blip r:embed="rId9"/>
          <a:stretch/>
        </p:blipFill>
        <p:spPr>
          <a:xfrm>
            <a:off x="2235240" y="4875120"/>
            <a:ext cx="114624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Gevarenetikett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58920" y="1357200"/>
            <a:ext cx="7818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plosiev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xploderen gemakkelijk, ook zonder inwerking van zuurstof, bijvoorbeeld door een schok of verhitting, zoals bij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munitie, TNT, buskr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er licht en licht ontvlambar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liegen zeer gemakkelijk in brand, zelfs bij normale omgevingstemperaturen, zoals bijvoorbeeld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nzine, acet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xiderende of brandbevorderend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geren heftig met onder andere ontvlambare stoffen, waarbij veel warmte vrijkomt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aar voor aantasting van huid, kleding en het ontstaan van brand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beelden: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waterstofperoxide (zuurstofwater), ozon, zuur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8" descr="Y:\UITGEVERIJ\boeken\VCA\Basisboek Veiligheid\picto 2011\explosiegevaar.gif"/>
          <p:cNvPicPr/>
          <p:nvPr/>
        </p:nvPicPr>
        <p:blipFill>
          <a:blip r:embed="rId1"/>
          <a:stretch/>
        </p:blipFill>
        <p:spPr>
          <a:xfrm>
            <a:off x="611280" y="1341360"/>
            <a:ext cx="1146240" cy="1144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Y:\UITGEVERIJ\boeken\VCA\Basisboek Veiligheid\picto 2011\brandgevaarlijk.gif"/>
          <p:cNvPicPr/>
          <p:nvPr/>
        </p:nvPicPr>
        <p:blipFill>
          <a:blip r:embed="rId2"/>
          <a:stretch/>
        </p:blipFill>
        <p:spPr>
          <a:xfrm>
            <a:off x="614520" y="2762280"/>
            <a:ext cx="1143000" cy="1144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Y:\UITGEVERIJ\boeken\VCA\Basisboek Veiligheid\picto 2011\brandbevorderend.gif"/>
          <p:cNvPicPr/>
          <p:nvPr/>
        </p:nvPicPr>
        <p:blipFill>
          <a:blip r:embed="rId3"/>
          <a:stretch/>
        </p:blipFill>
        <p:spPr>
          <a:xfrm>
            <a:off x="614520" y="4278240"/>
            <a:ext cx="114300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Gevarenetikett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6920" y="1828800"/>
            <a:ext cx="7270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er giftige en giftig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langrijke kans op (zeer) ernstige verschijnselen bij inademen, inslikken of contact met de huid. Bv.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CO (kolendamp), H2S (zwavelwaterstof), methanol, benz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adelijke en irriterend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adelijke stoffen vergelijkbaar met giftige stoffen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verschijnselen minder ernstig dan giftige stoff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aar: inademen, inslikken of huidcontact bijvoorbeeld met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verf, lak, houtbescher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rriterende stoffen hebben beperktere werking; ze kunnen ontstekingen veroorzaken bij contact met huid, ogen, longen en slijmvliezen met bv. ammo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0" descr="Y:\UITGEVERIJ\boeken\VCA\Basisboek Veiligheid\picto 2011\giftig.gif"/>
          <p:cNvPicPr/>
          <p:nvPr/>
        </p:nvPicPr>
        <p:blipFill>
          <a:blip r:embed="rId1"/>
          <a:stretch/>
        </p:blipFill>
        <p:spPr>
          <a:xfrm>
            <a:off x="596880" y="2060640"/>
            <a:ext cx="1144440" cy="1144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" descr="Y:\UITGEVERIJ\boeken\VCA\Basisboek Veiligheid\picto 2011\schadelijk.gif"/>
          <p:cNvPicPr/>
          <p:nvPr/>
        </p:nvPicPr>
        <p:blipFill>
          <a:blip r:embed="rId2"/>
          <a:stretch/>
        </p:blipFill>
        <p:spPr>
          <a:xfrm>
            <a:off x="615960" y="3728880"/>
            <a:ext cx="114624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Gevarenetikett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6920" y="1752480"/>
            <a:ext cx="7270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tende/corrosiev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tasting huid, ogen, longen en kleding bij contact, met bijvoorbeeld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zuren, zoals salpeterzuur, zoutzuur en basen (loog), zoals natronlo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assen onder druk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tplofbaar bij hitte; bij contact met vloeibaar gas is verbranding mogelijk; door vrijkomend brandbaar gas explosiegevaar, zuurstofverdringing en verstikkingsgevaar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beelden: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acetyleen, propaan, stik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ensibiliserend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unnen een allergie veroorzak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voorbeeld bij in aanraking komen met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paalde harsen en kleurmiddelen, sommige verven, metaalbehandelingsmiddelen, haarkleurmidde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" descr="Y:\UITGEVERIJ\boeken\VCA\Basisboek Veiligheid\picto 2011\bijtend.gif"/>
          <p:cNvPicPr/>
          <p:nvPr/>
        </p:nvPicPr>
        <p:blipFill>
          <a:blip r:embed="rId1"/>
          <a:stretch/>
        </p:blipFill>
        <p:spPr>
          <a:xfrm>
            <a:off x="609480" y="1916280"/>
            <a:ext cx="1131840" cy="1145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Y:\UITGEVERIJ\boeken\VCA\Basisboek Veiligheid\picto 2011\houder onder druk.gif"/>
          <p:cNvPicPr/>
          <p:nvPr/>
        </p:nvPicPr>
        <p:blipFill>
          <a:blip r:embed="rId2"/>
          <a:stretch/>
        </p:blipFill>
        <p:spPr>
          <a:xfrm>
            <a:off x="623880" y="3357720"/>
            <a:ext cx="1144440" cy="11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  <a:ea typeface="Arial"/>
              </a:rPr>
              <a:t>Gevaaretiketten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1258920" y="1752480"/>
            <a:ext cx="7199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zondheidsschadelijke stoffen (op lange termijn):</a:t>
            </a:r>
            <a:endParaRPr b="1" lang="en-US" sz="2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ernstige gevaren met mogelijke gevolgen op lange termijn: kanker, aantasting vruchtbaarheid, miskramen, misvormde baby’s, aantasting organen, longziekten; voorbeelden: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sbest, dieselrook, benzeen, formaldehyde, tolueen, aldrin, vinylchloride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milieugevaarlijke stoffen:</a:t>
            </a:r>
            <a:endParaRPr b="1" lang="en-US" sz="2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gevaarlijk voor het milieu en voor dieren, zoals  bijvoorbeeld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chloorfluorkoolwaterstoffen (cfk’s) en pesticiden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7" name="Picture 16" descr="Y:\UITGEVERIJ\boeken\VCA\Basisboek Veiligheid\picto 2011\milieuschadelijk.gif"/>
          <p:cNvPicPr/>
          <p:nvPr/>
        </p:nvPicPr>
        <p:blipFill>
          <a:blip r:embed="rId1"/>
          <a:stretch/>
        </p:blipFill>
        <p:spPr>
          <a:xfrm>
            <a:off x="592200" y="3933720"/>
            <a:ext cx="1146240" cy="1144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Y:\UITGEVERIJ\boeken\VCA\Basisboek Veiligheid\picto 2011\lange termijn gezondheidsschadelijk.gif"/>
          <p:cNvPicPr/>
          <p:nvPr/>
        </p:nvPicPr>
        <p:blipFill>
          <a:blip r:embed="rId2"/>
          <a:stretch/>
        </p:blipFill>
        <p:spPr>
          <a:xfrm>
            <a:off x="593640" y="1989000"/>
            <a:ext cx="114624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2:38:54Z</dcterms:created>
  <dc:creator>jrijdes</dc:creator>
  <dc:description/>
  <dc:language>en-US</dc:language>
  <cp:lastModifiedBy>Mechteld de Coo</cp:lastModifiedBy>
  <dcterms:modified xsi:type="dcterms:W3CDTF">2015-10-01T08:32:39Z</dcterms:modified>
  <cp:revision>123</cp:revision>
  <dc:subject/>
  <dc:title>PowerPoint-presentatie</dc:title>
</cp:coreProperties>
</file>