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63E8-5284-4AB4-9FBA-B7B4AD57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76FB-3F27-4777-A6E7-7EF206B5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2F99-F01C-438E-8660-65D3DC66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BB5A-DEC6-4B72-AB86-45CA2FFA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FC5B-26FC-4B0E-82D3-818EF3A1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511D-6C4A-453A-9417-9F2D9440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3148-0F48-48E0-9B8D-9F11AD51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76E8-E000-4176-8C1C-CF2B2CEC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5E38-EAD4-4AB2-8A5C-2F45D58E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5424-C045-435E-A54C-7D4366CC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08E7-550E-4F0E-A74B-D6114567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E8D4-4C2C-477D-AADB-85453EEC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0104-D726-4E5B-BA87-10B44575723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71320"/>
            <a:ext cx="78487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5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Elektriciteit en lawaai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3 Technische veiligheidsmaatregel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af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le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zeer lage span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elektrische zek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8" descr="http://www.soer.nl/shop/images/9706278elektra.JPG"/>
          <p:cNvPicPr/>
          <p:nvPr/>
        </p:nvPicPr>
        <p:blipFill>
          <a:blip r:embed="rId1"/>
          <a:stretch/>
        </p:blipFill>
        <p:spPr>
          <a:xfrm>
            <a:off x="6815160" y="3886200"/>
            <a:ext cx="2309760" cy="2309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www.nl.bradyeurope.com/images/products/479484.jpg"/>
          <p:cNvPicPr/>
          <p:nvPr/>
        </p:nvPicPr>
        <p:blipFill>
          <a:blip r:embed="rId2"/>
          <a:stretch/>
        </p:blipFill>
        <p:spPr>
          <a:xfrm>
            <a:off x="4952880" y="1752480"/>
            <a:ext cx="29116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aard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is het verbinden van de uitwendige metalen delen van elektrische toestellen met aar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defect elektrisch toestel wordt voorkomen dat uitwendige delen onder spanning 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ing aansluiten op bestaand aardnet</a:t>
            </a:r>
            <a:br>
              <a:rPr sz="22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steigers (stellin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op en/of aan de steigers met een niet-veilige spanning wordt gewer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containers moeten ook geaard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of op omkastingen moet je kunnen zi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de beveiligingen zijn aangebra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Arial"/>
              </a:rPr>
              <a:t>let op: beveiligt niet tegen indringen van vocht en stof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indringen van vocht (bijv. re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indringen van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stoten en vallende voorwer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0" descr="http://www.gortzen.eu/vca/elektrisch%20gereedschap/dubbel%20geisoleerd.png"/>
          <p:cNvPicPr/>
          <p:nvPr/>
        </p:nvPicPr>
        <p:blipFill>
          <a:blip r:embed="rId1"/>
          <a:stretch/>
        </p:blipFill>
        <p:spPr>
          <a:xfrm>
            <a:off x="4048200" y="313380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26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isuele inspe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af nakijken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voor gebruik altijd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ingen en afwijking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d materieel niet gebrui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n afwijkingen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tijdelijke stroominstal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bouw- en reparatiewer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de bouwstroomaansluitkas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aardlekbeveiliging van 300 mA en per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aande voeding een van 30 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Afbeelding 4" descr="insp.jpg"/>
          <p:cNvPicPr/>
          <p:nvPr/>
        </p:nvPicPr>
        <p:blipFill>
          <a:blip r:embed="rId1"/>
          <a:stretch/>
        </p:blipFill>
        <p:spPr>
          <a:xfrm>
            <a:off x="6500880" y="2000160"/>
            <a:ext cx="2281320" cy="1711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http://www.abird.nl/UserFiles/Image/Producten/VerdeelkastVS.jpg"/>
          <p:cNvPicPr/>
          <p:nvPr/>
        </p:nvPicPr>
        <p:blipFill>
          <a:blip r:embed="rId2"/>
          <a:stretch/>
        </p:blipFill>
        <p:spPr>
          <a:xfrm>
            <a:off x="6286680" y="3786120"/>
            <a:ext cx="21715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voeding- en verlengsnoeren en kabelhasp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noeren afgestemd op de stroomster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kom overbelasting (brandoorza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ren of kabels en snoeren geschikt zijn voor het vermogen van de appara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belhasp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belasting opgerold versus afgero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spel altijd volledig afr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 op struikelg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Afbeelding 4" descr="kabelhaspel02.jpg"/>
          <p:cNvPicPr/>
          <p:nvPr/>
        </p:nvPicPr>
        <p:blipFill>
          <a:blip r:embed="rId1"/>
          <a:stretch/>
        </p:blipFill>
        <p:spPr>
          <a:xfrm>
            <a:off x="7412040" y="3968640"/>
            <a:ext cx="171936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5 Statische elektriciteit (1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elektriciteit is de opbouw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spanning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tijgende gas- of dampbellen die turbule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wervelingen in vloeistoffen veroorz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spuiten of andere soortgelijke activ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rijven over kunst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neumatisch transport van poeders en korr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rijving door kleding over de h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rijfriemen (drijfrie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mige vloeistoffen bij stroming door een kunststofleiding of bij het ro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pen over kunststof vloerbedek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7415280" y="0"/>
            <a:ext cx="1728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5 Statische elektriciteit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ontstaan van (zeer) hoge spanningen bij statische elektriciteit is mogelijk, dus gevaarlijk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lading kan leiden tot vonkoversl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nische apparatuur kan defect r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statische elektriciteit te bep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pleidingen, apparatuur en tanks a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hoogte van het product beperken (valbu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snelheid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arding aansluiten op bestaande aardleiding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istatisch schoeisel en kleding 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lawaai is schadelijk gelui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rd geluid heeft nadelige eff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hinderlij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kan tijdelijk je geh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verstaat mensen slecht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ffecten zijn afhankelijk v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erkte van het ge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geluid (hoge of lage ton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tijdsduur van de bloot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519200" y="11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85" name="Groep 14"/>
          <p:cNvGrpSpPr/>
          <p:nvPr/>
        </p:nvGrpSpPr>
        <p:grpSpPr>
          <a:xfrm>
            <a:off x="6715080" y="0"/>
            <a:ext cx="2428920" cy="6858000"/>
            <a:chOff x="6715080" y="0"/>
            <a:chExt cx="2428920" cy="6858000"/>
          </a:xfrm>
        </p:grpSpPr>
        <p:pic>
          <p:nvPicPr>
            <p:cNvPr id="86" name="Picture 7" descr=""/>
            <p:cNvPicPr/>
            <p:nvPr/>
          </p:nvPicPr>
          <p:blipFill>
            <a:blip r:embed="rId1"/>
            <a:stretch/>
          </p:blipFill>
          <p:spPr>
            <a:xfrm>
              <a:off x="6715080" y="0"/>
              <a:ext cx="24289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5" descr=""/>
            <p:cNvPicPr/>
            <p:nvPr/>
          </p:nvPicPr>
          <p:blipFill>
            <a:blip r:embed="rId2"/>
            <a:stretch/>
          </p:blipFill>
          <p:spPr>
            <a:xfrm>
              <a:off x="7639920" y="2004120"/>
              <a:ext cx="817920" cy="10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7" descr="http://www.energytech.at/kwk/fotos/portrait_10_en.jpg"/>
            <p:cNvPicPr/>
            <p:nvPr/>
          </p:nvPicPr>
          <p:blipFill>
            <a:blip r:embed="rId3"/>
            <a:stretch/>
          </p:blipFill>
          <p:spPr>
            <a:xfrm>
              <a:off x="7596720" y="347040"/>
              <a:ext cx="1121040" cy="89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3" descr=""/>
            <p:cNvPicPr/>
            <p:nvPr/>
          </p:nvPicPr>
          <p:blipFill>
            <a:blip r:embed="rId4"/>
            <a:stretch/>
          </p:blipFill>
          <p:spPr>
            <a:xfrm>
              <a:off x="7596720" y="1307520"/>
              <a:ext cx="943200" cy="73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gelijke gevolgen van lawa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oring van de communicatie tijdens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horen van alarmsignalen of hulpgero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blijvende gehoor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de concentr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oeidheid en/of hoofdp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nelde ademh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g- en darmkla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ogde bloeddruk, hartkla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6002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3" name="Picture 9" descr="http://www.docukit.nl/inhoud/ic74-2.jpg"/>
          <p:cNvPicPr/>
          <p:nvPr/>
        </p:nvPicPr>
        <p:blipFill>
          <a:blip r:embed="rId1"/>
          <a:stretch/>
        </p:blipFill>
        <p:spPr>
          <a:xfrm>
            <a:off x="5797440" y="6480"/>
            <a:ext cx="334008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ijvende gehoorscha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hoge tonen of zachte gelu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telefon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het volgen van een gespr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en van voortdurende fluit-, piep- of bromto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gezondheidskl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pressivite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er is dus alle reden om lawaai serieus aan te pak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- risico’s van de techniek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onmisb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ichting, airco, geluidsinstallatie, tv, computer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meeste gereedschappen zijn elektrisch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 k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 en explosies veroorz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cc0000"/>
                </a:solidFill>
                <a:latin typeface="Arial"/>
              </a:rPr>
              <a:t>statische elektriciteit kan ook gevaarlijk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is een belangrijke beroepszie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1  Gevaren van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2  Veilig werken met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3  Technische 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4  Elektriciteit in werk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5 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6  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1 Gevaren van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dood worden door stroom door je licha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ondingen door vonken en vlamb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door een elektrische sch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door reflex op een elektrische sch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 explosie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ekingsbron bij overslag va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branding door overbelasting van kab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49" name="Picture 2" descr="http://aivpc41.vub.ac.be/preventie/Images/VE_EL_electrocutie.gif"/>
          <p:cNvPicPr/>
          <p:nvPr/>
        </p:nvPicPr>
        <p:blipFill>
          <a:blip r:embed="rId1">
            <a:grayscl/>
          </a:blip>
          <a:stretch/>
        </p:blipFill>
        <p:spPr>
          <a:xfrm>
            <a:off x="4003560" y="1752480"/>
            <a:ext cx="1751040" cy="47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evaren van stroom door het lichaam worden door meerdere invloeden bepaal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nning (50 Volt, 230 Volt of hoogspan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chtigheidsgraad van de huid (droog of 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kte van de huid (een eeltlaag biedt bescher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akingsoppervlak (hoe groter hoe meer st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weerstand van schoeisel en standpla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noleum en een rubbermat hebben een hoge we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betonnen vloer heeft een lage we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0" descr="http://www.poolsevis.nl/wp-content/uploads/2009/05/manenschicht.jpg"/>
          <p:cNvPicPr/>
          <p:nvPr/>
        </p:nvPicPr>
        <p:blipFill>
          <a:blip r:embed="rId1"/>
          <a:stretch/>
        </p:blipFill>
        <p:spPr>
          <a:xfrm>
            <a:off x="6929280" y="76320"/>
            <a:ext cx="22147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 door het lichaam kan op een indirecte manier leiden tot een ongev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ikreactie bij stroomdoorgang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door letsel ont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kortsluiting geraakt worden d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 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geslingerd worden door een drukgo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" descr="http://www.poolsevis.nl/wp-content/uploads/2009/05/manenschicht.jpg"/>
          <p:cNvPicPr/>
          <p:nvPr/>
        </p:nvPicPr>
        <p:blipFill>
          <a:blip r:embed="rId1"/>
          <a:stretch/>
        </p:blipFill>
        <p:spPr>
          <a:xfrm>
            <a:off x="6929280" y="76320"/>
            <a:ext cx="22147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http://www.evin.nl/2008/images/accu%27s/laders/kortsluitbeveiligd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5769000" y="0"/>
            <a:ext cx="3375000" cy="2508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Kortsluit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sluit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boo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gte van de 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oomste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chakelaars: schakel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kortsluiting en/of een vlamboo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ekingsbr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2 Onveilig werken met elektriciteit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oorz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fecte / ondeugdelijke machines, toeste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of ontbrekende aar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e aanleg of mo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of indirecte aanraking van onder spanning staande 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ordeelkundig gebruik van elektris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 en/of materi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ge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wetend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plettend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achtzaam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09-29T09:50:07Z</dcterms:modified>
  <cp:revision>137</cp:revision>
  <dc:subject/>
  <dc:title>PowerPoint-presentatie</dc:title>
</cp:coreProperties>
</file>