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3.jpeg" ContentType="image/jpeg"/>
  <Override PartName="/ppt/media/image10.png" ContentType="image/png"/>
  <Override PartName="/ppt/media/image27.jpeg" ContentType="image/jpeg"/>
  <Override PartName="/ppt/media/image25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F48C-8C39-43C9-B29A-C5F2543A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6C4-AC44-4391-B7EE-30C41D06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476-215E-4B45-A911-7E666402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0BD-E300-40CC-B7F6-6AED1298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7AEE-C59B-4D94-9910-3396BF6E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EC5B-8424-4B3E-B2CC-5CD6C017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C7C6-07FD-41E9-B1FB-081303FF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40EF-4962-481F-9BE5-C706D2E3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931A-0E1A-4A4C-A2D8-F77B4450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08A7-5035-4546-B7A3-448E8365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24FD-8C4D-41DD-BA9F-7F340E0E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DCD-ACB5-4449-82C6-473CC8A6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29F6-1577-49B4-8FF3-E1E74A85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AEEB-7184-457C-8FB8-AD3418B2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C8D8-522C-48DB-97F6-E062B943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8756-4E65-4AE2-AC63-369DC5EB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5614-6592-439D-B2D7-3573C219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C4BDA-ABBC-49CA-B3E7-083C8E65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0C55C-D39D-4EB2-BF86-F7226347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163AE-7B49-4B94-9084-1E3F238B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3C4A5-778A-4049-B767-6F3F3C10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42D92-862E-4F48-AAC1-FE2F40A8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DE0-338E-4B68-B9DF-34844F99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D150B-BC9D-4C52-90B9-4634C627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16EC6-5BBE-4DDA-B649-7175BF66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2A552-DD95-4611-8F08-A6345BE9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A9360-6016-4CFC-A78D-9205E099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6B98C-4844-473C-BD1D-238FEAF3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7DB4C-526A-49A6-8F70-8874797D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A6FBE-1E37-4B3C-8A0E-9CDEAD86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4D26-AC83-4EB7-9C64-680DE850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A41-75E3-44A0-85FC-4E010F89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2680-3514-460E-809E-60329E46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1461-5801-4FC8-B71D-5E19DD5A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7E7-AF80-4497-BCE1-63174287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60B-567B-493A-8238-D47A6ED6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5B99-8B8E-4774-A6D9-7E4427842368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28D4-76FD-488C-9A31-70DF2A154A28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53CD-4A89-48C3-84CD-6CF494C2155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erckebosch.nl/html/home.php" TargetMode="External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1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24BF-6994-4916-A7DB-486CD3562FD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Hoofdstuk 2</a:t>
            </a:r>
            <a:br>
              <a:rPr sz="4400"/>
            </a:b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Wetten en reg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5BB0-CA2B-454D-B4FC-92521DB6E21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71680" y="1604880"/>
            <a:ext cx="7868880" cy="28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werkgever moet oo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voorkom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zo veel mogelijk bij de bron verminder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werknemer goed voorlicht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veilige werkwijze laten zien en laten toepass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oede PBM’s beschikbaar stell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orgen dat er hulp is in geval van noo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499760"/>
            <a:ext cx="83707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ventariseert de risico’s (schriftelij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 preventiebeleid o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 risico’s (rekening houden met technie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rnstige risico’s voorkeur voor materiële maatregel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76280" indent="-343080"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734C-E362-4B58-A7E5-7F09744A8C5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pak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ysteembenadering (bijv. KAM-systee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 met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(wijze) zo nodig aan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arbeidsmid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n (derden)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hulp organis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vallen, onderzoeken en melden aan Arbeidsinspec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1A8E-F629-478D-8786-068F2DA036B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heersing betekent vooral dat beleid en procedures worden nageleef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zicht 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geven en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toler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9FF0-2181-44C4-BA5B-B1E872A6FCA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71320" y="1000080"/>
            <a:ext cx="83581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effectiviteit verbeteren door te reageren op incidenten en te leren van ongevallen en incide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3B53-F552-409F-A565-484E690FBDC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71680" y="149976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moe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kunn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will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 blijven van de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e 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geleg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ragen van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HBO- en brandbestrijd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vacuatiewe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0ADB-D3AE-4E32-BA29-E8AE39CE1FE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520" y="1142640"/>
            <a:ext cx="45003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1"/>
          <a:stretch/>
        </p:blipFill>
        <p:spPr>
          <a:xfrm>
            <a:off x="5500800" y="52862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http://www.biname.be/images/produits/signalisation/signalweb.gif"/>
          <p:cNvPicPr/>
          <p:nvPr/>
        </p:nvPicPr>
        <p:blipFill>
          <a:blip r:embed="rId2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224" name="Tijdelijke aanduiding voor dianummer 10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7C2B-53C6-479B-A0DF-E98E98B9B09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5108400" y="1378080"/>
            <a:ext cx="1616400" cy="1931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4"/>
          <a:stretch/>
        </p:blipFill>
        <p:spPr>
          <a:xfrm>
            <a:off x="5181480" y="2444760"/>
            <a:ext cx="1590840" cy="187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5"/>
          <a:stretch/>
        </p:blipFill>
        <p:spPr>
          <a:xfrm>
            <a:off x="6143760" y="3286080"/>
            <a:ext cx="987120" cy="866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"/>
          <p:cNvPicPr/>
          <p:nvPr/>
        </p:nvPicPr>
        <p:blipFill>
          <a:blip r:embed="rId6"/>
          <a:stretch/>
        </p:blipFill>
        <p:spPr>
          <a:xfrm>
            <a:off x="5500800" y="4357800"/>
            <a:ext cx="96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680" y="1285920"/>
            <a:ext cx="7851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ven aan dat er een gevaar i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63680" indent="-2383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http://www.biname.be/images/produits/signalisation/ballisage.gif"/>
          <p:cNvPicPr/>
          <p:nvPr/>
        </p:nvPicPr>
        <p:blipFill>
          <a:blip r:embed="rId1"/>
          <a:stretch/>
        </p:blipFill>
        <p:spPr>
          <a:xfrm>
            <a:off x="6715080" y="3429000"/>
            <a:ext cx="1138320" cy="1138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http://www.biname.be/images/produits/signalisation/barriere.gif"/>
          <p:cNvPicPr/>
          <p:nvPr/>
        </p:nvPicPr>
        <p:blipFill>
          <a:blip r:embed="rId2"/>
          <a:stretch/>
        </p:blipFill>
        <p:spPr>
          <a:xfrm>
            <a:off x="5500800" y="4786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  <p:sp>
        <p:nvSpPr>
          <p:cNvPr id="234" name="Tijdelijke aanduiding voor dianummer 7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0A7A-C8F3-45C2-9DEB-6A67179E72C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kstvak 8"/>
          <p:cNvSpPr/>
          <p:nvPr/>
        </p:nvSpPr>
        <p:spPr>
          <a:xfrm>
            <a:off x="571680" y="4071960"/>
            <a:ext cx="607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3920" indent="-22392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s linten: wit - rood, of geel - zwar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kstvak 9"/>
          <p:cNvSpPr/>
          <p:nvPr/>
        </p:nvSpPr>
        <p:spPr>
          <a:xfrm>
            <a:off x="571680" y="4500720"/>
            <a:ext cx="61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5360" indent="-2253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rood - witte hekken worden ook gebruik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kstvak 11"/>
          <p:cNvSpPr/>
          <p:nvPr/>
        </p:nvSpPr>
        <p:spPr>
          <a:xfrm>
            <a:off x="571680" y="2720880"/>
            <a:ext cx="58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kstvak 12"/>
          <p:cNvSpPr/>
          <p:nvPr/>
        </p:nvSpPr>
        <p:spPr>
          <a:xfrm>
            <a:off x="571680" y="3643200"/>
            <a:ext cx="428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35080" indent="-2350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plakt of geschilderd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8" descr=""/>
          <p:cNvPicPr/>
          <p:nvPr/>
        </p:nvPicPr>
        <p:blipFill>
          <a:blip r:embed="rId1">
            <a:lum bright="-30000"/>
          </a:blip>
          <a:stretch/>
        </p:blipFill>
        <p:spPr>
          <a:xfrm rot="20067600">
            <a:off x="4846320" y="-43956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550044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71320" y="1219320"/>
            <a:ext cx="678636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el-zwarte mar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tr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ven bovenste en/of de onderste trede 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E9B1-0CCA-41CB-8E24-3A7843C5848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2"/>
          <a:srcRect l="27321" t="40454" r="0" b="41551"/>
          <a:stretch/>
        </p:blipFill>
        <p:spPr>
          <a:xfrm>
            <a:off x="6711840" y="642960"/>
            <a:ext cx="2432160" cy="603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"/>
          <p:cNvPicPr/>
          <p:nvPr/>
        </p:nvPicPr>
        <p:blipFill>
          <a:blip r:embed="rId3">
            <a:lum bright="-30000"/>
          </a:blip>
          <a:stretch/>
        </p:blipFill>
        <p:spPr>
          <a:xfrm rot="20067600">
            <a:off x="6440040" y="-296640"/>
            <a:ext cx="2500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le of witte strepen worden ook gebruikt om aan te g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voor het aangeven van een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plosiegevaarlijke zone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, wordt het waarschuwingsbord met de letters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C477-AA90-4821-8936-D43526DE831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429160" y="4857840"/>
            <a:ext cx="170028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83581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500120"/>
            <a:ext cx="81435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verplicht de Europese Richtlijnen te vol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geving gaat verder </a:t>
            </a:r>
            <a:r>
              <a:rPr b="0" lang="nl-NL" sz="2400" spc="-1" strike="noStrike">
                <a:solidFill>
                  <a:srgbClr val="c0163a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Arbo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rbeidsinspec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97F3-2EDE-4937-9868-1990DD28531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5149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eidsplaatsen en projectloc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680" y="128556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én werknemer moeten ongevallen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kom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eest voorkomende ongeval is onderuitgaa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het lopen doo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normaal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1B57-71BF-4A9D-83CE-D1386FB12E1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Afbeelding 7" descr="IMG_5781%20bouwplaats%20entree.jpg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</a:t>
            </a: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ronbestrijd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71680" y="1499760"/>
            <a:ext cx="85723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rg besteden aan ontwerp en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cheiden van mens en gevaa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0FFD-11BB-4F72-AD8C-13349C2A0A8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Afbeelding 4" descr="Aquallure%201.jpg"/>
          <p:cNvPicPr/>
          <p:nvPr/>
        </p:nvPicPr>
        <p:blipFill>
          <a:blip r:embed="rId1"/>
          <a:stretch/>
        </p:blipFill>
        <p:spPr>
          <a:xfrm>
            <a:off x="2738520" y="407196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 </a:t>
            </a:r>
            <a:br>
              <a:rPr sz="2800"/>
            </a:b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lichten werknemer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680" y="1500120"/>
            <a:ext cx="83707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elf do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aangegeven, voorziene wegen en paden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3710-3817-44A0-825B-1562915CE4F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ouding en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eigen veiligheid en gezondheid en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ie van a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reventiebel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van ongevallen, gevaren of bijna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5FB7-FA6C-420D-8105-BE5D026A678E}" type="slidenum">
              <a:rPr b="1" lang="nl-NL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71320" y="164268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e werkwijze toe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 de goede manier gebruik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gevaarlijke stoffen, vervoermiddelen en andere 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gebrachte beveilig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onlijke 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B759-620A-44AB-AD59-A07328F65B5D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71320" y="499680"/>
            <a:ext cx="815652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163a"/>
                </a:solidFill>
                <a:latin typeface="Arial"/>
              </a:rPr>
              <a:t>rechten van de werknem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breking van werk bij ernstig gevaar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en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AFD5-9AFA-4989-B74D-6DA15FFBA448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4498920" y="3645000"/>
            <a:ext cx="310824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5 Deskundige bijstand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71680" y="1571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moe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een of meer deskundigen aanste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8D0C-C45E-4C70-AF46-91153D3060C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6" descr=""/>
          <p:cNvPicPr/>
          <p:nvPr/>
        </p:nvPicPr>
        <p:blipFill>
          <a:blip r:embed="rId1"/>
          <a:srcRect l="41175" t="0" r="0" b="0"/>
          <a:stretch/>
        </p:blipFill>
        <p:spPr>
          <a:xfrm>
            <a:off x="7475400" y="0"/>
            <a:ext cx="1668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Bedrijfsgezondheidszor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71680" y="135684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e bedrijfsarts is belangr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is verantwoor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4DB0-2FDD-45C6-B6E1-1DBDF6DB12E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7410600" y="0"/>
            <a:ext cx="1733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6 Toezicht op V+G 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71680" y="1142640"/>
            <a:ext cx="79819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inspectiediensten waaronder de Arbeidsinspec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en rechten van de inspectiediens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ren naleven van de wetgev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en naleving van de w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 onderzoe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illeggen werk bij ernstig 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-verbaal schrijven bij strafbaar f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agen geldige legitimatie werkne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zoeken van alle werkplek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C6B7-56B9-4B6F-83E2-DC52D7CD654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7" descr="MPj04373830000[1]"/>
          <p:cNvPicPr/>
          <p:nvPr/>
        </p:nvPicPr>
        <p:blipFill>
          <a:blip r:embed="rId1"/>
          <a:srcRect l="0" t="0" r="35719" b="0"/>
          <a:stretch/>
        </p:blipFill>
        <p:spPr>
          <a:xfrm>
            <a:off x="6934320" y="4495680"/>
            <a:ext cx="17240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7 Milieu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218960"/>
            <a:ext cx="76435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e schadelijke gevolgen van activ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stoot milieubelastende stoff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afvalstromen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doelmatige en correc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erwijdering van afval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DAA3-A2C5-4D1C-98C8-CAA38C42C70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5" descr="http://www.ivarem.be/images/ladder-van-lansink.GIF"/>
          <p:cNvPicPr/>
          <p:nvPr/>
        </p:nvPicPr>
        <p:blipFill>
          <a:blip r:embed="rId1">
            <a:grayscl/>
          </a:blip>
          <a:stretch/>
        </p:blipFill>
        <p:spPr>
          <a:xfrm>
            <a:off x="6000840" y="-108000"/>
            <a:ext cx="400032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2375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320" y="1499760"/>
            <a:ext cx="8267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bepaling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9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0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93CA-FC1B-4F8F-A885-DD6E0748D8F0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8 Asbestbepa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 inventar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iet verwerken of be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houdend afval gescheiden afvo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verdacht materiaa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ten onderzoeken door onafhankelijk lab (niet bij werk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houdende producten met gebonden vezels kan iedereen af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7FAB-6DB0-412A-9E64-C61C7D293CB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9 Arbeidstijden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71680" y="12855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x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in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sttijd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orderen dat werken en zorgtaken/gezin gecombineerd kunne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57BB-968A-4425-A15C-28656DB7AB8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3144960" y="4071960"/>
            <a:ext cx="3017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71680" y="1285560"/>
            <a:ext cx="8370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-gecertificeerde uitzendbureaus moeten vooraf goede voorlichting over risicobeheersing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lenende organisatie is verantwoordelijk voor bescherming en veilig laten werken van inleenkrach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7227-6AC9-4F9D-AF55-0DD6F9B92FD7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3520" y="12189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organisatie informeert  medewerker over eigen beleid, inlenende bedrijf, werk en werkpl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eidsverklaring uitzendorganis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regels inlenende bedrij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ne veiligheid- en gezondheids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onveiligheid en 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 en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unctie-eisen, gevaren, beheersmaatreg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-gebruik, vergunningen en specifieke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BFD7-A0DD-4560-8394-A06CF8465DB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kstvak 6"/>
          <p:cNvSpPr/>
          <p:nvPr/>
        </p:nvSpPr>
        <p:spPr>
          <a:xfrm>
            <a:off x="1714680" y="548640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e inleenkracht krijgt documentatie mee</a:t>
            </a:r>
            <a:r>
              <a:rPr b="0" i="1" lang="nl-NL" sz="2000" spc="-1" strike="noStrike">
                <a:solidFill>
                  <a:srgbClr val="00ffff"/>
                </a:solidFill>
                <a:latin typeface="Arial"/>
                <a:ea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71400" y="1147680"/>
            <a:ext cx="7227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D36A-F823-40D6-88BB-4B36A9A4B2C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kstvak 6"/>
          <p:cNvSpPr/>
          <p:nvPr/>
        </p:nvSpPr>
        <p:spPr>
          <a:xfrm>
            <a:off x="571680" y="1285920"/>
            <a:ext cx="842940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lenende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bedrij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directe instructie over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lden geva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handelen bij noodsitua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edoen met oefeni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inschakelen hulpdien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zet inleenkracht op afgesproken wer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oor nieuwe taken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angeven wat de risico’s en preventiemaatregelen zij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fspraken met uitzendorganisatie over  taakverdeling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wie informeert, instrueert en verstrekt de PB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70722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 Invloed van Europ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828440"/>
            <a:ext cx="795168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lid van de Europese U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ten moeten zo nodig worden aangepa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CE-marke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CE-markering op machines en PB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.b.t. veiligheid voldoen CE-producten aan de betreffende Europese richtl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lleen CE-gemarkeerde arbeidsmiddelen mogen op de markt worden gebracht en worden gebrui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B339-9D1F-4D8F-920E-89A08A5B68E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181080" y="-509760"/>
            <a:ext cx="16192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1"/>
          <a:stretch/>
        </p:blipFill>
        <p:spPr>
          <a:xfrm>
            <a:off x="6242040" y="30240"/>
            <a:ext cx="27259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over veilig  en gezond werken</a:t>
            </a:r>
            <a:r>
              <a:rPr b="1" lang="nl-NL" sz="2800" spc="-1" strike="noStrike">
                <a:solidFill>
                  <a:srgbClr val="47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00120"/>
            <a:ext cx="815652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rbeidsomstandighedenwet  is 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angrijkste wet op het gebied v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 en gezondheid bij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werknemers bij het werk bescherm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eteren van de veilig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gezondheid en welzij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alle plaatsen waar 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5A58-E99B-474C-A480-C92AE07CDE7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71320" y="1428480"/>
            <a:ext cx="7143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s én werknemers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geve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an het bedrijf waar je in dienst bent, maar ook degene die jou aanwijzingen geeft, toezicht houdt en middelen verstrekt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nemer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vaste/tijdelijke dienst, uitzendkrachten, stagiairs, vrijwillig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BFAA-BE94-4069-A6A2-1638AC4325D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65354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Welzijn in de 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71320" y="1428840"/>
            <a:ext cx="82674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richting werkplek aan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ten op persoonsfacto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eftijd en gesl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, vakmanschap en voer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880D-5B65-4DFB-B30B-593FB9588F1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2" name="Tijdelijke aanduiding voor inhoud 3"/>
          <p:cNvSpPr/>
          <p:nvPr/>
        </p:nvSpPr>
        <p:spPr>
          <a:xfrm>
            <a:off x="571680" y="3571920"/>
            <a:ext cx="82674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vloed op eigen werkzaamhe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eentonig werk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62308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Kennis als uitgangspun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320" y="1643040"/>
            <a:ext cx="7886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 aan werknemers  o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GW algem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plekgevaren en veiligheids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schriften en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toets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7BFA-23CA-4D1D-BC39-004D57B57DB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7" name="Tijdelijke aanduiding voor inhoud 3"/>
          <p:cNvSpPr/>
          <p:nvPr/>
        </p:nvSpPr>
        <p:spPr>
          <a:xfrm>
            <a:off x="609480" y="3733920"/>
            <a:ext cx="7013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gever laat zich bijstaan door deskundig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30456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A8B4-3ADB-4433-9BBB-4E75ED5F544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358040" y="0"/>
            <a:ext cx="1785960" cy="235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01" name=""/>
          <p:cNvSpPr txBox="1"/>
          <p:nvPr/>
        </p:nvSpPr>
        <p:spPr>
          <a:xfrm>
            <a:off x="571680" y="18396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dat de werknemer veilig werkt en geen gezondheidsschade oploopt door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als de werkgever dat niet goed doet, kan hij gestraft   worden en zal hij de schade aan de werknemer moeten vergoe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Hans Mulder</cp:lastModifiedBy>
  <dcterms:modified xsi:type="dcterms:W3CDTF">2016-10-06T09:07:09Z</dcterms:modified>
  <cp:revision>211</cp:revision>
  <dc:subject/>
  <dc:title>Taak en positie VFP</dc:title>
</cp:coreProperties>
</file>