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6D1-56DA-4263-B8AB-597E8192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8A2-3925-4AF7-8409-F57F1EA2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1242-96C3-40C4-9A3B-9490FD9E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FAB-C421-407C-B4A6-E7B51BFD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BD80-9A23-4099-8653-0143DEDF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7BB8-2385-4D2C-92C5-148CF175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0BA3-ECC1-447A-8CC9-594F5851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D6BA-E9E5-45B5-A18A-9318F449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6DFF-B923-4BCB-84D5-A278DCE5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5EDF-3A68-4079-BD94-B2E725BE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CA61-A995-4A96-94E9-B25EC5EA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B88-F69F-4FC5-A84A-718E6331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755B-BEA0-48A7-A90C-E1E68723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9328-C8DE-4781-92A8-014CED62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2ADA-811F-40AF-BC2B-87294C0D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9062-FD0F-4AFD-A058-C0A45A50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299A-7D77-464F-9A21-A893DD59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31C45-2741-4188-B20E-AD73E283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D6793-FFD0-4D06-A62B-F8157B4E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092F2-BC92-49A3-97B0-A1D61377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F5B5B-7795-42F2-855F-77776BB8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BB247-7B09-4948-95CE-C29E9271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2A8-4744-4E72-BD8D-6D887B91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7FC2D-7C8E-4A90-B827-1B29CEDB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F516C-CF11-4860-842F-6B6DAF6D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47DB3-E251-4A8C-A189-2919C510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AA603-5800-4037-90D4-7A00FFC9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63F6A-D405-4EE7-8456-B44E11DF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B4BEC-E386-430E-8475-A0A64F29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B6191-DDE7-41B9-BC4B-1BF5EF9C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DE7-3600-4A3D-89F2-A56E8CCE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15B0-9DC8-4660-87B0-1C70173C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B2A-8504-49E7-BDF2-7B846464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9D36-1F82-4D4E-9BBC-76C04F8F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A68-54FE-4238-BF98-B36A0802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E76E-1479-47E7-9DDC-F50CA515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4CA4-D9A5-4E61-BB99-F8421878966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D941-C102-4FED-9BDA-FAE6DBD3099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8E89-4303-4ED6-9E79-3D5F604879C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71320"/>
            <a:ext cx="815328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3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Hoofdstuk 6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Elektriciteit, straling, trillingen en lawaai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risico’s van de techni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6592-0B36-4F08-9619-A953C825920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71320" y="1147320"/>
            <a:ext cx="835812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gevaloorz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amengev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A20D-90D1-48E4-BE39-6E634600D4A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1320" y="1499760"/>
            <a:ext cx="8001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an elektrische installaties is aan regels gebo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person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atie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bekwaam persoon (elektrotechnicu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onderricht persoo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niet bevoegd: l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3D48-E77D-424B-A712-74EA0CD6E92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71680" y="164268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 (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 persoon en een leek hebben geen elektrotechnische vakopleiding afge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e persoon heeft van een vakbekwaam persoon een instructie gekregen om zorgvuldig omschreven taken aan een elektrische installatie onder toezicht te mogen uit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163a"/>
                </a:solidFill>
                <a:latin typeface="Arial"/>
              </a:rPr>
              <a:t>een leek heeft géén instructie ontvangen en mag níet aan een installatie werk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3193-3F52-4560-9474-F8F4B0F73DA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4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Technische</a:t>
            </a:r>
            <a:br>
              <a:rPr sz="2800"/>
            </a:b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571400"/>
            <a:ext cx="77990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E304-DDE4-4FA1-9897-ECDB085CB9E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6232680" y="0"/>
            <a:ext cx="2911320" cy="1943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http://www.soer.nl/shop/images/9706278elektra.JPG"/>
          <p:cNvPicPr/>
          <p:nvPr/>
        </p:nvPicPr>
        <p:blipFill>
          <a:blip r:embed="rId3"/>
          <a:stretch/>
        </p:blipFill>
        <p:spPr>
          <a:xfrm>
            <a:off x="6643800" y="3714840"/>
            <a:ext cx="2309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9d37"/>
                </a:solidFill>
                <a:latin typeface="Arial"/>
              </a:rPr>
              <a:t>Veiligheidsaar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1320" y="164268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en defect elektrisch toestel wordt voorkomen dat uitwendige delen onder spanning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30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95D2-44C1-4F56-B6DB-0A52D7BCC66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9680" y="1428480"/>
            <a:ext cx="8442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 op: beveiligt niet tegen indringen van vocht en 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998C-CF28-4499-8029-A10E9AD9524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http://www.gortzen.eu/vca/elektrisch%20gereedschap/dubbel%20geisoleerd.png"/>
          <p:cNvPicPr/>
          <p:nvPr/>
        </p:nvPicPr>
        <p:blipFill>
          <a:blip r:embed="rId2"/>
          <a:stretch/>
        </p:blipFill>
        <p:spPr>
          <a:xfrm>
            <a:off x="4675320" y="2779560"/>
            <a:ext cx="6588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357720" y="1147680"/>
            <a:ext cx="62863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isuele insp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bruik tijdelijke stroominstal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een aardlekschakelaar (30 of 300 m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2DE5-DBE8-4A2A-8EA5-9CD50F8B89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Afbeelding 4" descr="insp.jpg"/>
          <p:cNvPicPr/>
          <p:nvPr/>
        </p:nvPicPr>
        <p:blipFill>
          <a:blip r:embed="rId2"/>
          <a:stretch/>
        </p:blipFill>
        <p:spPr>
          <a:xfrm>
            <a:off x="357120" y="135720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http://www.abird.nl/UserFiles/Image/Producten/VerdeelkastVS.jpg"/>
          <p:cNvPicPr/>
          <p:nvPr/>
        </p:nvPicPr>
        <p:blipFill>
          <a:blip r:embed="rId3"/>
          <a:stretch/>
        </p:blipFill>
        <p:spPr>
          <a:xfrm>
            <a:off x="785880" y="3429000"/>
            <a:ext cx="2628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85960" y="1642680"/>
            <a:ext cx="70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258F-5877-47BD-B7A2-9B1F7478AA6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Afbeelding 4" descr="kabelhaspel02.jpg"/>
          <p:cNvPicPr/>
          <p:nvPr/>
        </p:nvPicPr>
        <p:blipFill>
          <a:blip r:embed="rId2"/>
          <a:stretch/>
        </p:blipFill>
        <p:spPr>
          <a:xfrm>
            <a:off x="133200" y="2852640"/>
            <a:ext cx="173844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71320" y="157140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 is de opbou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elektrische spanning bi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f spuiten of andere soortgelijke activit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vloeistoffen bij strom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een kunststofleiding of bij het ro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55A6-05A2-4270-B27D-805A2CFF30F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7283520" y="0"/>
            <a:ext cx="1860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320" y="1147680"/>
            <a:ext cx="8358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et ontstaan van (zeer) hoge spanninge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statische elektriciteit is mogelijk,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us gevaarlijk!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2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aatregelen om statische elektriciteit te bep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7855-AE48-4879-8F85-157D5528FFB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 Elektriciteit, straling, trillingen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1680" y="714240"/>
            <a:ext cx="8572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: gemak en risico’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n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werken met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sch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 in werk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6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7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-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klimaat e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10AE-7456-4E13-87EC-4F201D47DD6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CB3C-402E-4D2D-A261-E37E628A31B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kstvak 4"/>
          <p:cNvSpPr/>
          <p:nvPr/>
        </p:nvSpPr>
        <p:spPr>
          <a:xfrm>
            <a:off x="1071720" y="1785960"/>
            <a:ext cx="2143080" cy="9471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actiev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kstvak 7"/>
          <p:cNvSpPr/>
          <p:nvPr/>
        </p:nvSpPr>
        <p:spPr>
          <a:xfrm>
            <a:off x="4786200" y="1643040"/>
            <a:ext cx="142884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kstvak 12"/>
          <p:cNvSpPr/>
          <p:nvPr/>
        </p:nvSpPr>
        <p:spPr>
          <a:xfrm>
            <a:off x="5500800" y="2643120"/>
            <a:ext cx="228600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chni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hte verbindingslijn 14"/>
          <p:cNvSpPr/>
          <p:nvPr/>
        </p:nvSpPr>
        <p:spPr>
          <a:xfrm>
            <a:off x="3214800" y="2263680"/>
            <a:ext cx="2286000" cy="64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 verbindingslijn 19"/>
          <p:cNvSpPr/>
          <p:nvPr/>
        </p:nvSpPr>
        <p:spPr>
          <a:xfrm flipV="1">
            <a:off x="3214800" y="1908000"/>
            <a:ext cx="1571400" cy="262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kstvak 24"/>
          <p:cNvSpPr/>
          <p:nvPr/>
        </p:nvSpPr>
        <p:spPr>
          <a:xfrm>
            <a:off x="5500800" y="3718080"/>
            <a:ext cx="228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es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cent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ie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al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kstvak 28"/>
          <p:cNvSpPr/>
          <p:nvPr/>
        </p:nvSpPr>
        <p:spPr>
          <a:xfrm>
            <a:off x="857160" y="3228840"/>
            <a:ext cx="2876760" cy="45972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IJL-OMLAAG 29"/>
          <p:cNvSpPr/>
          <p:nvPr/>
        </p:nvSpPr>
        <p:spPr>
          <a:xfrm>
            <a:off x="1928880" y="278604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IJL-OMLAAG 30"/>
          <p:cNvSpPr/>
          <p:nvPr/>
        </p:nvSpPr>
        <p:spPr>
          <a:xfrm>
            <a:off x="2000160" y="3714840"/>
            <a:ext cx="71640" cy="1428840"/>
          </a:xfrm>
          <a:prstGeom prst="downArrow">
            <a:avLst>
              <a:gd name="adj1" fmla="val 50000"/>
              <a:gd name="adj2" fmla="val 49862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kstvak 33"/>
          <p:cNvSpPr/>
          <p:nvPr/>
        </p:nvSpPr>
        <p:spPr>
          <a:xfrm>
            <a:off x="857160" y="5143680"/>
            <a:ext cx="2857680" cy="36828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antasting weefsel/org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kstvak 34"/>
          <p:cNvSpPr/>
          <p:nvPr/>
        </p:nvSpPr>
        <p:spPr>
          <a:xfrm>
            <a:off x="2214720" y="3786120"/>
            <a:ext cx="278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ort b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rkte br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: absorptie / reflec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kstvak 15"/>
          <p:cNvSpPr/>
          <p:nvPr/>
        </p:nvSpPr>
        <p:spPr>
          <a:xfrm>
            <a:off x="6715080" y="928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gebi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kstvak 16"/>
          <p:cNvSpPr/>
          <p:nvPr/>
        </p:nvSpPr>
        <p:spPr>
          <a:xfrm>
            <a:off x="6715080" y="1785960"/>
            <a:ext cx="197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jn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e/gasw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hte verbindingslijn 18"/>
          <p:cNvSpPr/>
          <p:nvPr/>
        </p:nvSpPr>
        <p:spPr>
          <a:xfrm flipV="1">
            <a:off x="6215040" y="1279440"/>
            <a:ext cx="50004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Rechte verbindingslijn met pijl 26"/>
          <p:cNvCxnSpPr>
            <a:stCxn id="236" idx="3"/>
            <a:endCxn id="247" idx="1"/>
          </p:cNvCxnSpPr>
          <p:nvPr/>
        </p:nvCxnSpPr>
        <p:spPr>
          <a:xfrm>
            <a:off x="6214680" y="1907640"/>
            <a:ext cx="5007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8A35-3D6B-4E8A-B97E-D22C8D88CB3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tel 2"/>
          <p:cNvSpPr/>
          <p:nvPr/>
        </p:nvSpPr>
        <p:spPr>
          <a:xfrm>
            <a:off x="571680" y="228600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er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fstand: borden en afsche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gië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pakkingen gesloten la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tingen uitvo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8 Niet-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71320" y="11473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ionisatie-effecten maar wel schadelijke werking mog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V-straling en IR-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nl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er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g instructies en houd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BD69-2D81-45BD-9F14-B340501D81B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2A98-6FEC-46EF-9D58-416A158F364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kstvak 3"/>
          <p:cNvSpPr/>
          <p:nvPr/>
        </p:nvSpPr>
        <p:spPr>
          <a:xfrm>
            <a:off x="642960" y="2276640"/>
            <a:ext cx="19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torische) aandrij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kstvak 4"/>
          <p:cNvSpPr/>
          <p:nvPr/>
        </p:nvSpPr>
        <p:spPr>
          <a:xfrm>
            <a:off x="2714760" y="16430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r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kstvak 5"/>
          <p:cNvSpPr/>
          <p:nvPr/>
        </p:nvSpPr>
        <p:spPr>
          <a:xfrm>
            <a:off x="3718080" y="2419200"/>
            <a:ext cx="13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d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kstvak 7"/>
          <p:cNvSpPr/>
          <p:nvPr/>
        </p:nvSpPr>
        <p:spPr>
          <a:xfrm>
            <a:off x="5410080" y="1676520"/>
            <a:ext cx="15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/arm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kstvak 8"/>
          <p:cNvSpPr/>
          <p:nvPr/>
        </p:nvSpPr>
        <p:spPr>
          <a:xfrm>
            <a:off x="5429160" y="259092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chaams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Vrije vorm 9"/>
          <p:cNvSpPr/>
          <p:nvPr/>
        </p:nvSpPr>
        <p:spPr>
          <a:xfrm>
            <a:off x="1928880" y="2604960"/>
            <a:ext cx="1805040" cy="39708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1253067" h="296998">
                <a:moveTo>
                  <a:pt x="0" y="50722"/>
                </a:moveTo>
                <a:cubicBezTo>
                  <a:pt x="7526" y="35670"/>
                  <a:pt x="6397" y="10190"/>
                  <a:pt x="22578" y="5567"/>
                </a:cubicBezTo>
                <a:cubicBezTo>
                  <a:pt x="42062" y="0"/>
                  <a:pt x="63636" y="14956"/>
                  <a:pt x="79022" y="28144"/>
                </a:cubicBezTo>
                <a:cubicBezTo>
                  <a:pt x="91799" y="39096"/>
                  <a:pt x="93251" y="58689"/>
                  <a:pt x="101600" y="73300"/>
                </a:cubicBezTo>
                <a:cubicBezTo>
                  <a:pt x="108331" y="85080"/>
                  <a:pt x="118110" y="95032"/>
                  <a:pt x="124178" y="107167"/>
                </a:cubicBezTo>
                <a:cubicBezTo>
                  <a:pt x="129500" y="117810"/>
                  <a:pt x="129563" y="130701"/>
                  <a:pt x="135467" y="141033"/>
                </a:cubicBezTo>
                <a:cubicBezTo>
                  <a:pt x="144802" y="157369"/>
                  <a:pt x="158397" y="170879"/>
                  <a:pt x="169333" y="186189"/>
                </a:cubicBezTo>
                <a:cubicBezTo>
                  <a:pt x="177219" y="197229"/>
                  <a:pt x="184385" y="208766"/>
                  <a:pt x="191911" y="220055"/>
                </a:cubicBezTo>
                <a:cubicBezTo>
                  <a:pt x="199437" y="208766"/>
                  <a:pt x="207758" y="197969"/>
                  <a:pt x="214489" y="186189"/>
                </a:cubicBezTo>
                <a:cubicBezTo>
                  <a:pt x="222838" y="171578"/>
                  <a:pt x="227416" y="154820"/>
                  <a:pt x="237067" y="141033"/>
                </a:cubicBezTo>
                <a:cubicBezTo>
                  <a:pt x="253921" y="116956"/>
                  <a:pt x="274696" y="95878"/>
                  <a:pt x="293511" y="73300"/>
                </a:cubicBezTo>
                <a:cubicBezTo>
                  <a:pt x="297274" y="62011"/>
                  <a:pt x="294596" y="33311"/>
                  <a:pt x="304800" y="39433"/>
                </a:cubicBezTo>
                <a:cubicBezTo>
                  <a:pt x="328068" y="53394"/>
                  <a:pt x="349955" y="107167"/>
                  <a:pt x="349955" y="107167"/>
                </a:cubicBezTo>
                <a:cubicBezTo>
                  <a:pt x="351162" y="111995"/>
                  <a:pt x="364332" y="186189"/>
                  <a:pt x="383822" y="186189"/>
                </a:cubicBezTo>
                <a:cubicBezTo>
                  <a:pt x="412480" y="186189"/>
                  <a:pt x="436503" y="163611"/>
                  <a:pt x="462844" y="152322"/>
                </a:cubicBezTo>
                <a:cubicBezTo>
                  <a:pt x="464730" y="149493"/>
                  <a:pt x="510596" y="75896"/>
                  <a:pt x="519289" y="84589"/>
                </a:cubicBezTo>
                <a:cubicBezTo>
                  <a:pt x="547947" y="113247"/>
                  <a:pt x="546319" y="161228"/>
                  <a:pt x="564444" y="197478"/>
                </a:cubicBezTo>
                <a:lnTo>
                  <a:pt x="609600" y="287789"/>
                </a:lnTo>
                <a:cubicBezTo>
                  <a:pt x="678786" y="264727"/>
                  <a:pt x="613722" y="296998"/>
                  <a:pt x="654755" y="231344"/>
                </a:cubicBezTo>
                <a:cubicBezTo>
                  <a:pt x="674307" y="200061"/>
                  <a:pt x="704634" y="183040"/>
                  <a:pt x="733778" y="163611"/>
                </a:cubicBezTo>
                <a:cubicBezTo>
                  <a:pt x="739335" y="174725"/>
                  <a:pt x="765634" y="231994"/>
                  <a:pt x="778933" y="242633"/>
                </a:cubicBezTo>
                <a:cubicBezTo>
                  <a:pt x="788225" y="250067"/>
                  <a:pt x="801511" y="250159"/>
                  <a:pt x="812800" y="253922"/>
                </a:cubicBezTo>
                <a:cubicBezTo>
                  <a:pt x="816563" y="242633"/>
                  <a:pt x="818767" y="230698"/>
                  <a:pt x="824089" y="220055"/>
                </a:cubicBezTo>
                <a:cubicBezTo>
                  <a:pt x="877407" y="113418"/>
                  <a:pt x="843787" y="206114"/>
                  <a:pt x="869244" y="129744"/>
                </a:cubicBezTo>
                <a:cubicBezTo>
                  <a:pt x="876023" y="156859"/>
                  <a:pt x="878748" y="189277"/>
                  <a:pt x="903111" y="208767"/>
                </a:cubicBezTo>
                <a:cubicBezTo>
                  <a:pt x="912403" y="216200"/>
                  <a:pt x="925689" y="216292"/>
                  <a:pt x="936978" y="220055"/>
                </a:cubicBezTo>
                <a:cubicBezTo>
                  <a:pt x="948267" y="197477"/>
                  <a:pt x="961135" y="175623"/>
                  <a:pt x="970844" y="152322"/>
                </a:cubicBezTo>
                <a:cubicBezTo>
                  <a:pt x="979997" y="130354"/>
                  <a:pt x="974838" y="99456"/>
                  <a:pt x="993422" y="84589"/>
                </a:cubicBezTo>
                <a:cubicBezTo>
                  <a:pt x="1004017" y="76113"/>
                  <a:pt x="1016000" y="99641"/>
                  <a:pt x="1027289" y="107167"/>
                </a:cubicBezTo>
                <a:cubicBezTo>
                  <a:pt x="1038578" y="122219"/>
                  <a:pt x="1050219" y="137012"/>
                  <a:pt x="1061155" y="152322"/>
                </a:cubicBezTo>
                <a:cubicBezTo>
                  <a:pt x="1069041" y="163363"/>
                  <a:pt x="1070165" y="186189"/>
                  <a:pt x="1083733" y="186189"/>
                </a:cubicBezTo>
                <a:cubicBezTo>
                  <a:pt x="1097301" y="186189"/>
                  <a:pt x="1097625" y="162745"/>
                  <a:pt x="1106311" y="152322"/>
                </a:cubicBezTo>
                <a:cubicBezTo>
                  <a:pt x="1116532" y="140057"/>
                  <a:pt x="1129788" y="130577"/>
                  <a:pt x="1140178" y="118455"/>
                </a:cubicBezTo>
                <a:cubicBezTo>
                  <a:pt x="1152422" y="104170"/>
                  <a:pt x="1162755" y="88352"/>
                  <a:pt x="1174044" y="73300"/>
                </a:cubicBezTo>
                <a:cubicBezTo>
                  <a:pt x="1185333" y="84589"/>
                  <a:pt x="1199055" y="93883"/>
                  <a:pt x="1207911" y="107167"/>
                </a:cubicBezTo>
                <a:cubicBezTo>
                  <a:pt x="1214512" y="117068"/>
                  <a:pt x="1213878" y="130390"/>
                  <a:pt x="1219200" y="141033"/>
                </a:cubicBezTo>
                <a:cubicBezTo>
                  <a:pt x="1225268" y="153168"/>
                  <a:pt x="1234797" y="163266"/>
                  <a:pt x="1241778" y="174900"/>
                </a:cubicBezTo>
                <a:cubicBezTo>
                  <a:pt x="1246107" y="182115"/>
                  <a:pt x="1249304" y="189952"/>
                  <a:pt x="1253067" y="197478"/>
                </a:cubicBezTo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Rechte verbindingslijn met pijl 11"/>
          <p:cNvCxnSpPr>
            <a:stCxn id="260" idx="3"/>
            <a:endCxn id="261" idx="1"/>
          </p:cNvCxnSpPr>
          <p:nvPr/>
        </p:nvCxnSpPr>
        <p:spPr>
          <a:xfrm flipV="1">
            <a:off x="5105520" y="2056680"/>
            <a:ext cx="305280" cy="56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5" name="Rechte verbindingslijn met pijl 13"/>
          <p:cNvCxnSpPr>
            <a:stCxn id="260" idx="3"/>
            <a:endCxn id="262" idx="1"/>
          </p:cNvCxnSpPr>
          <p:nvPr/>
        </p:nvCxnSpPr>
        <p:spPr>
          <a:xfrm>
            <a:off x="5105160" y="2617560"/>
            <a:ext cx="324360" cy="354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6" name="Tekstvak 17"/>
          <p:cNvSpPr/>
          <p:nvPr/>
        </p:nvSpPr>
        <p:spPr>
          <a:xfrm>
            <a:off x="7072200" y="2562120"/>
            <a:ext cx="192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el of vloer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e/ werktu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kstvak 18"/>
          <p:cNvSpPr/>
          <p:nvPr/>
        </p:nvSpPr>
        <p:spPr>
          <a:xfrm>
            <a:off x="7072200" y="928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hand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kstvak 19"/>
          <p:cNvSpPr/>
          <p:nvPr/>
        </p:nvSpPr>
        <p:spPr>
          <a:xfrm>
            <a:off x="5257800" y="5043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IJL-OMLAAG 20"/>
          <p:cNvSpPr/>
          <p:nvPr/>
        </p:nvSpPr>
        <p:spPr>
          <a:xfrm>
            <a:off x="5857920" y="3776760"/>
            <a:ext cx="642960" cy="10000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kstvak 21"/>
          <p:cNvSpPr/>
          <p:nvPr/>
        </p:nvSpPr>
        <p:spPr>
          <a:xfrm>
            <a:off x="6858000" y="41148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requen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uitslag (amplit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3C31-4842-4903-BA51-99BBD2B8F15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3"/>
          <p:cNvSpPr/>
          <p:nvPr/>
        </p:nvSpPr>
        <p:spPr>
          <a:xfrm>
            <a:off x="571680" y="135108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letsel/gezondheidsklachten door 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ijn in handen en a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voelloze vingertopp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u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moei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hoofd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pier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ncentratiever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enwichtstoor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C3B6-4356-4E51-A250-B80C1E0E6E5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kstvak 3"/>
          <p:cNvSpPr/>
          <p:nvPr/>
        </p:nvSpPr>
        <p:spPr>
          <a:xfrm>
            <a:off x="571680" y="14479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preventieve maatreg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euze van nieuwe appara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illing absorberende handscho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ternatieve techni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perking blootstelling (bijv. door taakroula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7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 Binnenklimaat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58C5-1B9B-4766-8A8F-D9F602D56C2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kstvak 3"/>
          <p:cNvSpPr/>
          <p:nvPr/>
        </p:nvSpPr>
        <p:spPr>
          <a:xfrm>
            <a:off x="571680" y="838080"/>
            <a:ext cx="835812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t werkt beter onder comfortabele omstandighed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je blijft langer gez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limaatbehee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leving wordt bepaald door temperatuur, vocht e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to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rksoort stelt eisen: precisiewerk meer 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eigenschappen werknemer: zichtverlies bijvoorbeel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oor leef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kwaliteit verlichting/inrichting (contrasten en spiegeling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onderhoud en vervan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ttelijke ei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533520" y="1371600"/>
            <a:ext cx="58291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awaai is schadelijk geluid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rd geluid heeft nadelig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 verstaat mensen slecht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effecten zijn afhankelijk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EFD7-4574-4094-A7A8-7BB041FCFA6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283" name="Picture 7" descr=""/>
            <p:cNvPicPr/>
            <p:nvPr/>
          </p:nvPicPr>
          <p:blipFill>
            <a:blip r:embed="rId2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" descr=""/>
            <p:cNvPicPr/>
            <p:nvPr/>
          </p:nvPicPr>
          <p:blipFill>
            <a:blip r:embed="rId3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7" descr="http://www.energytech.at/kwk/fotos/portrait_10_en.jpg"/>
            <p:cNvPicPr/>
            <p:nvPr/>
          </p:nvPicPr>
          <p:blipFill>
            <a:blip r:embed="rId4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" descr=""/>
            <p:cNvPicPr/>
            <p:nvPr/>
          </p:nvPicPr>
          <p:blipFill>
            <a:blip r:embed="rId5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Rechthoek 12"/>
          <p:cNvGrpSpPr/>
          <p:nvPr/>
        </p:nvGrpSpPr>
        <p:grpSpPr>
          <a:xfrm>
            <a:off x="8772480" y="-12600"/>
            <a:ext cx="384120" cy="6883200"/>
            <a:chOff x="8772480" y="-12600"/>
            <a:chExt cx="384120" cy="6883200"/>
          </a:xfrm>
        </p:grpSpPr>
        <p:pic>
          <p:nvPicPr>
            <p:cNvPr id="288" name="Rechthoek 12" descr=""/>
            <p:cNvPicPr/>
            <p:nvPr/>
          </p:nvPicPr>
          <p:blipFill>
            <a:blip r:embed="rId6"/>
            <a:stretch/>
          </p:blipFill>
          <p:spPr>
            <a:xfrm>
              <a:off x="8772480" y="-12600"/>
              <a:ext cx="3841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8786880" y="0"/>
              <a:ext cx="35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hte verbindingslijn 14"/>
          <p:cNvSpPr/>
          <p:nvPr/>
        </p:nvSpPr>
        <p:spPr>
          <a:xfrm>
            <a:off x="6786720" y="3000240"/>
            <a:ext cx="20001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 verbindingslijn 16"/>
          <p:cNvSpPr/>
          <p:nvPr/>
        </p:nvSpPr>
        <p:spPr>
          <a:xfrm>
            <a:off x="6715080" y="292896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 verbindingslijn 18"/>
          <p:cNvSpPr/>
          <p:nvPr/>
        </p:nvSpPr>
        <p:spPr>
          <a:xfrm>
            <a:off x="6500880" y="2928960"/>
            <a:ext cx="35712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 verbindingslijn 20"/>
          <p:cNvSpPr/>
          <p:nvPr/>
        </p:nvSpPr>
        <p:spPr>
          <a:xfrm>
            <a:off x="6500880" y="2714760"/>
            <a:ext cx="357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571680" y="1066680"/>
            <a:ext cx="6410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 va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oring van de communicati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jdens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oren van alarmsignal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hulpgeroe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vende gehoor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F5AE-07D6-4292-86E5-F6AD173DA17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http://www.docukit.nl/inhoud/ic74-2.jpg"/>
          <p:cNvPicPr/>
          <p:nvPr/>
        </p:nvPicPr>
        <p:blipFill>
          <a:blip r:embed="rId2"/>
          <a:stretch/>
        </p:blipFill>
        <p:spPr>
          <a:xfrm>
            <a:off x="5334120" y="2975040"/>
            <a:ext cx="3438360" cy="22302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1680" y="1147320"/>
            <a:ext cx="82152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lijvende gehoor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dus alle reden om lawaai serieus aan te 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6F6E-A3B5-4C3A-ABEF-9921A61D9EE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, gemak en risico’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67B9-6D70-4316-9C4D-F5632A2B4C84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09480" y="1752480"/>
            <a:ext cx="82296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onmisb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maar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stroom kan doden en brand en explosies veroorz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en kunnen effecten geven op 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 kunnen de gezondheid bedre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 kan ernstige schade toebre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56B8-3716-43A2-9C2E-2370A54A9AA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3"/>
          <p:cNvSpPr/>
          <p:nvPr/>
        </p:nvSpPr>
        <p:spPr>
          <a:xfrm>
            <a:off x="571680" y="1143000"/>
            <a:ext cx="8397720" cy="47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geluidssterkte in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oor rekenen met geluidsbelasting wordt decibel(A) gebruikt</a:t>
            </a:r>
            <a:br>
              <a:rPr sz="2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A staat voor toepassen van een geluidsfilter A dat overeenkomt met het menselijk oor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eenheid decibel bevat een logarit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aardoor gelden andere rekenregels als lineaire een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erdubbeling van geluid betekent een toename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halvering van geluid betekent een vermindering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elke puntbron, dus meestal ook voor geluid, geldt: 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ubbele afstand: 1/4 van de intensiteit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geluid is dat  dus  -6 decibel!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: gemak en risico’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50DA-656B-42CC-987D-FC720A526ED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95440" y="1676520"/>
            <a:ext cx="82627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de basis van de industrie, huishouden en 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veel ervaring met en er zijn veel voorschriften voor 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het algemene gebruik en de goede bescherming kunnen we overblijvende risico’s gaan onderscha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E6AA-5910-4654-9416-8BBAAF452AE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71680" y="1600200"/>
            <a:ext cx="835812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22E8-3873-4EA9-86E5-7737EC16F37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http://aivpc41.vub.ac.be/preventie/Images/VE_EL_electrocutie.gif"/>
          <p:cNvPicPr/>
          <p:nvPr/>
        </p:nvPicPr>
        <p:blipFill>
          <a:blip r:embed="rId2">
            <a:grayscl/>
          </a:blip>
          <a:stretch/>
        </p:blipFill>
        <p:spPr>
          <a:xfrm>
            <a:off x="4003560" y="1071720"/>
            <a:ext cx="20005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15228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85" name="Titel 1"/>
          <p:cNvSpPr/>
          <p:nvPr/>
        </p:nvSpPr>
        <p:spPr>
          <a:xfrm>
            <a:off x="571680" y="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#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01200" y="2133720"/>
            <a:ext cx="7651440" cy="39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gevaren van stroom door het licha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en door meerdere factoren bepaa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panning (50 Volt, 230 Volt of hoogspan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ochtigheidsgraad van de huid (droog of n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kte van de huid (een eeltlaag biedt bescherm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anrakingsoppervlak (hoe groter hoe meer stro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solatieweerstand van de standplaa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oleum en een rubbermat hebben een ho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en betonnen vloer heeft een la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8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(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FAD9-5CFC-4820-AAEF-6D497DB4927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21420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90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71680" y="2362320"/>
            <a:ext cx="6867360" cy="27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om door het lichaam kan op een indirec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er leiden tot een ong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waardoor letsel ontsta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rondvliegend materia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571320" y="2071440"/>
            <a:ext cx="87296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tsluit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kortsluiting en/of een 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9997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kortslui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0F94-95E0-482A-A087-57A7226D1ED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8:10Z</dcterms:modified>
  <cp:revision>131</cp:revision>
  <dc:subject/>
  <dc:title>Taak en positie VFP</dc:title>
</cp:coreProperties>
</file>