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3.wmf" ContentType="image/x-wmf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CA6A-3F56-4A8E-A3CA-8C952108DBC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A36B-B2F2-45F4-9554-5E923CE0FCE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9B13-0211-4DB3-9EBE-3D2B0938D02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5D65-04F9-427E-A868-A7987F6F2BF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00A-477A-4647-9ADE-2CE90F19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AD4-ADC9-441C-AD42-08FFA129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36B-3060-4F9F-9C6D-5BAA252E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AF1-9A5C-46F8-BC69-6FF89B5D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A1B2-422C-4707-8891-72D43B72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2B85-372B-4708-B2F1-7AF140F5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4024-BAEC-4753-8AAF-04BF496F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E5F9-18E0-47A6-80CD-41671634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C847-0205-46AE-BA2B-60801FD5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A529-BF18-41B5-972B-EDE23F12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7875-FF4A-47FD-877B-3F585222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42B-1720-4368-8D64-173645A0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9175-714F-4676-8153-C3363131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1C48-1EA0-478B-BE20-8B053C3D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7C7A-3D47-4553-9DF9-F98BD581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873C-4CC7-47B2-AABC-9D746236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672E-D406-4C9D-A5A7-E3044BA2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A7F46-2F0E-410E-9EFE-9E375FFE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E20B0-C301-4246-A307-AC9D2C92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BE404-C5EA-42C4-AEE5-BE2F40AD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0EE34-8428-4506-B17B-33FC84A4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5E927-FAA7-4234-AE4E-E12A2419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0366-1758-485A-B500-D26763C1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891B-BB98-4E89-BE25-6F0EA517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D83C6-34A8-4819-BC27-DBE61CBB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B33DB-92AC-4901-999F-1EACA783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1054A-ADD8-409A-9F67-37D8EAA5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F0630-87EC-4723-9EF7-7C504206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E2C57-E310-479F-9DBC-B1DE5C51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6ADF1-FDD4-462C-B2F5-F9B1CAAA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C8EE-E555-460C-B168-2810DE2D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6E39-7FC5-47CE-AF86-C4F0E54D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060-A63E-4FAB-8115-68B48BAC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9DFF-56B3-4E6A-9845-160B759E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5DC-0414-42F0-8CE9-31A59D09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A94-4E96-4924-9559-47FF7AE9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D623-6539-4CDC-B888-078166CDD67F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BF74-7A99-4C7C-88DC-DD40E231D1C8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3EB5-A0A0-4443-A4B9-F11CDBC653F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a40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Hoofdstuk 8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GM-beheersing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ormgeven aan veilig werken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DFE6-3FB7-4651-9C2D-1BE795E66C2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3357720" y="4286160"/>
          <a:ext cx="2493720" cy="17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7720" y="4286160"/>
                    <a:ext cx="2493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1680" y="149976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8211-E183-4561-AF54-1CDEFE2C606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71320" y="159984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9977-93DF-4C75-A25F-F587553D1C8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857240"/>
            <a:ext cx="764352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3BF8-D443-4247-83A8-0A67BFE1F44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318160" cy="10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specifieke veiligheidsregels </a:t>
            </a:r>
            <a:r>
              <a:rPr b="0" lang="en-US" sz="2400" spc="-1" strike="noStrike">
                <a:solidFill>
                  <a:srgbClr val="0fa40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499760"/>
            <a:ext cx="8331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3520" indent="-5335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ikbaar zijn voor betreffende/betrokken werkne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53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ffen eisen en 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6D0D-4A9D-432F-9E29-46EB3FA6823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kstvak 4"/>
          <p:cNvSpPr/>
          <p:nvPr/>
        </p:nvSpPr>
        <p:spPr>
          <a:xfrm rot="21028800">
            <a:off x="5319360" y="56606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71320" y="1295280"/>
            <a:ext cx="735804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regels kunnen eisen bevatten omt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9F4D-5B0C-4939-8F83-560FE55DDC3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kstvak 4"/>
          <p:cNvSpPr/>
          <p:nvPr/>
        </p:nvSpPr>
        <p:spPr>
          <a:xfrm rot="21028800">
            <a:off x="4756320" y="457632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5 Werkvoorberei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11E2-EDE9-4EF7-B296-D5B5D996F65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kstvak 6"/>
          <p:cNvSpPr/>
          <p:nvPr/>
        </p:nvSpPr>
        <p:spPr>
          <a:xfrm>
            <a:off x="571680" y="114300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en goed begin…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ijdsplanning voor totale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oede volgorde om goed en veilig te kunnen wer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nodigd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teria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reedschappen en machin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tailplanning voor de uitvoering van het werk volgens een veiliger werkwijze (ook als die trager is en ext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zieningen eis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304560"/>
            <a:ext cx="801972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320" y="1905120"/>
            <a:ext cx="83581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waarden scheppen 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uit te voeren werkzaam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p voor sta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et maximale veilighei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mens en installati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uit te voeren…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2960" y="1220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zeker weten d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werken op het terrein en aan de installa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nder vergunning niet aan het werk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9CF9-071B-4242-92CC-3AFFD2F953B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Object 6"/>
          <p:cNvGraphicFramePr/>
          <p:nvPr/>
        </p:nvGraphicFramePr>
        <p:xfrm>
          <a:off x="3429000" y="2743200"/>
          <a:ext cx="178596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743200"/>
                    <a:ext cx="17859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60004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werkvergunn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1680" y="2037960"/>
            <a:ext cx="692928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van een veilige werkwijze voor werk met specifieke risico’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odig specifieke opleiding of train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9587-5911-4E2C-A759-5CEEE46B7DF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4"/>
          <p:cNvSpPr/>
          <p:nvPr/>
        </p:nvSpPr>
        <p:spPr>
          <a:xfrm rot="20244600">
            <a:off x="4191480" y="49525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a407"/>
                </a:solidFill>
                <a:latin typeface="Arial Black"/>
              </a:rPr>
              <a:t>persoonlijk overtu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itel 1"/>
          <p:cNvSpPr/>
          <p:nvPr/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6 Vergunning veilig werken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1220400"/>
            <a:ext cx="8646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beelden van werk met specifieke 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werk bij belangrijke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iteiten asbesthoudend materia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met giftige en/of kankerverwekkend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12B3-2ED1-44E4-9749-FF61B411A17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331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1680" y="1220400"/>
            <a:ext cx="82152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1  Hoofdrol voor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  VGM-kennis een basisvoorwaar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  Overleggen en reg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  Algemene en 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6  Vergunning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7  Aandachtspunten bij risicovol wer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8  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663A-89A9-4A08-B4E9-4FAC31CE546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515520" cy="70880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872D-450B-4EB8-B0F1-1ADF86F1345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kstvak 5"/>
          <p:cNvSpPr/>
          <p:nvPr/>
        </p:nvSpPr>
        <p:spPr>
          <a:xfrm rot="18256200">
            <a:off x="-417240" y="282996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anvraag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kstvak 7"/>
          <p:cNvSpPr/>
          <p:nvPr/>
        </p:nvSpPr>
        <p:spPr>
          <a:xfrm rot="18256200">
            <a:off x="3654000" y="27586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gunninghoud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kstvak 8"/>
          <p:cNvSpPr/>
          <p:nvPr/>
        </p:nvSpPr>
        <p:spPr>
          <a:xfrm rot="18256200">
            <a:off x="6011640" y="29016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ekrachtig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kstvak 9"/>
          <p:cNvSpPr/>
          <p:nvPr/>
        </p:nvSpPr>
        <p:spPr>
          <a:xfrm rot="18256200">
            <a:off x="1725480" y="25444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strekk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kstvak 12"/>
          <p:cNvSpPr/>
          <p:nvPr/>
        </p:nvSpPr>
        <p:spPr>
          <a:xfrm rot="21347400">
            <a:off x="6356520" y="5245200"/>
            <a:ext cx="27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verleng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Werkvergunningen</a:t>
            </a: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jn een onderdeel van projectveiligheid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1779480" y="1420920"/>
            <a:ext cx="4803840" cy="4583160"/>
          </a:xfrm>
          <a:prstGeom prst="rect">
            <a:avLst/>
          </a:prstGeom>
          <a:ln w="0">
            <a:noFill/>
          </a:ln>
        </p:spPr>
      </p:pic>
      <p:pic>
        <p:nvPicPr>
          <p:cNvPr id="260" name="WordArt 2" descr=""/>
          <p:cNvPicPr/>
          <p:nvPr/>
        </p:nvPicPr>
        <p:blipFill>
          <a:blip r:embed="rId3"/>
          <a:stretch/>
        </p:blipFill>
        <p:spPr>
          <a:xfrm>
            <a:off x="1841400" y="1620720"/>
            <a:ext cx="2621160" cy="1293840"/>
          </a:xfrm>
          <a:prstGeom prst="rect">
            <a:avLst/>
          </a:prstGeom>
          <a:ln w="0">
            <a:noFill/>
          </a:ln>
        </p:spPr>
      </p:pic>
      <p:pic>
        <p:nvPicPr>
          <p:cNvPr id="261" name="WordArt 3" descr=""/>
          <p:cNvPicPr/>
          <p:nvPr/>
        </p:nvPicPr>
        <p:blipFill>
          <a:blip r:embed="rId4"/>
          <a:stretch/>
        </p:blipFill>
        <p:spPr>
          <a:xfrm>
            <a:off x="3962520" y="4638600"/>
            <a:ext cx="2614320" cy="1285920"/>
          </a:xfrm>
          <a:prstGeom prst="rect">
            <a:avLst/>
          </a:prstGeom>
          <a:ln w="0">
            <a:noFill/>
          </a:ln>
        </p:spPr>
      </p:pic>
      <p:pic>
        <p:nvPicPr>
          <p:cNvPr id="262" name="WordArt 4" descr=""/>
          <p:cNvPicPr/>
          <p:nvPr/>
        </p:nvPicPr>
        <p:blipFill>
          <a:blip r:embed="rId5"/>
          <a:stretch/>
        </p:blipFill>
        <p:spPr>
          <a:xfrm>
            <a:off x="4853160" y="1500120"/>
            <a:ext cx="1908000" cy="2737080"/>
          </a:xfrm>
          <a:prstGeom prst="rect">
            <a:avLst/>
          </a:prstGeom>
          <a:ln w="0">
            <a:noFill/>
          </a:ln>
        </p:spPr>
      </p:pic>
      <p:pic>
        <p:nvPicPr>
          <p:cNvPr id="263" name="WordArt 5" descr=""/>
          <p:cNvPicPr/>
          <p:nvPr/>
        </p:nvPicPr>
        <p:blipFill>
          <a:blip r:embed="rId6"/>
          <a:stretch/>
        </p:blipFill>
        <p:spPr>
          <a:xfrm>
            <a:off x="1706400" y="3333600"/>
            <a:ext cx="1970280" cy="27133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Functies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71680" y="1357200"/>
            <a:ext cx="70005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oede voorbereiding op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leggen met iedereen die bij het wer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leggen van de voorwaarden waarond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lenen van toestemming voor aanvang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DC74-0670-4776-A000-C7C3E2CA170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kstvak 4"/>
          <p:cNvSpPr/>
          <p:nvPr/>
        </p:nvSpPr>
        <p:spPr>
          <a:xfrm rot="21347400">
            <a:off x="3115440" y="44722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gestructureerde en verplichte communicatie tussen 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Invullen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7720" y="1294920"/>
            <a:ext cx="66438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4360-E6DD-491B-85E0-7C99D74768D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verstrekk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1320" y="1002960"/>
            <a:ext cx="815652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op de vrijstelling van de installat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prek met de vergunninghouder ov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3B09-5CAC-4A87-8456-58738A8AB69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houd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71320" y="1219320"/>
            <a:ext cx="81421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houder van d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AAC3-8DA0-44AF-9ADC-067D27621C5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/plichten operationele medewerk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71320" y="1356840"/>
            <a:ext cx="8157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operationele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een werkvergunning heeft alleen zin als de afspraken die worden gemaakt, ook worden nagelee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0DD0-B585-4E2B-8A51-13259E98799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543F-4DB0-48EF-AB70-8D038FE1738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7" descr=""/>
          <p:cNvPicPr/>
          <p:nvPr/>
        </p:nvPicPr>
        <p:blipFill>
          <a:blip r:embed="rId2"/>
          <a:srcRect l="18846" t="30242" r="-414" b="16908"/>
          <a:stretch/>
        </p:blipFill>
        <p:spPr>
          <a:xfrm>
            <a:off x="7358040" y="0"/>
            <a:ext cx="1785960" cy="250020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5"/>
          <p:cNvSpPr/>
          <p:nvPr/>
        </p:nvSpPr>
        <p:spPr>
          <a:xfrm>
            <a:off x="500040" y="5400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spunten bij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risicovolle 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kstvak 9"/>
          <p:cNvSpPr/>
          <p:nvPr/>
        </p:nvSpPr>
        <p:spPr>
          <a:xfrm>
            <a:off x="571680" y="1928880"/>
            <a:ext cx="79149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, toepassen bedrijfsvoorschriften,  werkvergunningen, TRA, 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wezig zijn, controleren en zonodig ingrijpe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igeren als maatregelen niet worden genomen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 stoppen als het werkplan niet wordt gevol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zendkrachten in samenwerking met de    uitzendorganisatie, aanvullend informeren en zonodig opleiden en instructies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50004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TRA: (taak)risicoanalys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645920"/>
            <a:ext cx="854064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e van de gevaren voor werknemers bij uitvoering van (risicovolle) taken  met als doel beheersmaatregelen vast te stellen en in te zet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taakstap nagaan of extra beheersmaatregelen nodig zij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TRA wordt bijgesteld als er afwijkingen optreden t.o.v. het werkp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ijgestelde TRA wordt dan besproken met  de vertegenwoordiger van de opdracht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D735-D61D-4633-A671-13753725FFF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kstvak 5"/>
          <p:cNvSpPr/>
          <p:nvPr/>
        </p:nvSpPr>
        <p:spPr>
          <a:xfrm>
            <a:off x="571680" y="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punten bij risicovolle werkzaamheden (2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kstvak 8"/>
          <p:cNvSpPr/>
          <p:nvPr/>
        </p:nvSpPr>
        <p:spPr>
          <a:xfrm>
            <a:off x="571680" y="38088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Hoofdlijn omgaan met verhoogd risic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kstvak 9"/>
          <p:cNvSpPr/>
          <p:nvPr/>
        </p:nvSpPr>
        <p:spPr>
          <a:xfrm>
            <a:off x="1900080" y="1571760"/>
            <a:ext cx="307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normal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kstvak 10"/>
          <p:cNvSpPr/>
          <p:nvPr/>
        </p:nvSpPr>
        <p:spPr>
          <a:xfrm>
            <a:off x="6469200" y="1500120"/>
            <a:ext cx="26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rojectmatige werkuit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kstvak 11"/>
          <p:cNvSpPr/>
          <p:nvPr/>
        </p:nvSpPr>
        <p:spPr>
          <a:xfrm>
            <a:off x="571680" y="242892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a911"/>
                </a:solidFill>
                <a:latin typeface="Tahoma"/>
                <a:ea typeface="Tahoma"/>
              </a:rPr>
              <a:t>identificatie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kstvak 12"/>
          <p:cNvSpPr/>
          <p:nvPr/>
        </p:nvSpPr>
        <p:spPr>
          <a:xfrm>
            <a:off x="1447920" y="2928960"/>
            <a:ext cx="2233440" cy="45972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-RI&amp;E</a:t>
            </a:r>
            <a:r>
              <a:rPr b="1" lang="nl-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kstvak 13"/>
          <p:cNvSpPr/>
          <p:nvPr/>
        </p:nvSpPr>
        <p:spPr>
          <a:xfrm>
            <a:off x="6681960" y="3000240"/>
            <a:ext cx="2428560" cy="82548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functie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kstvak 14"/>
          <p:cNvSpPr/>
          <p:nvPr/>
        </p:nvSpPr>
        <p:spPr>
          <a:xfrm>
            <a:off x="6681960" y="335772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project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Tekstvak 15"/>
          <p:cNvGrpSpPr/>
          <p:nvPr/>
        </p:nvGrpSpPr>
        <p:grpSpPr>
          <a:xfrm>
            <a:off x="981000" y="4022640"/>
            <a:ext cx="3200400" cy="1519200"/>
            <a:chOff x="981000" y="4022640"/>
            <a:chExt cx="3200400" cy="1519200"/>
          </a:xfrm>
        </p:grpSpPr>
        <p:pic>
          <p:nvPicPr>
            <p:cNvPr id="298" name="Tekstvak 15" descr=""/>
            <p:cNvPicPr/>
            <p:nvPr/>
          </p:nvPicPr>
          <p:blipFill>
            <a:blip r:embed="rId2"/>
            <a:stretch/>
          </p:blipFill>
          <p:spPr>
            <a:xfrm>
              <a:off x="981000" y="4022640"/>
              <a:ext cx="32004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100160" y="4143240"/>
              <a:ext cx="3029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Tekstvak 16"/>
          <p:cNvGrpSpPr/>
          <p:nvPr/>
        </p:nvGrpSpPr>
        <p:grpSpPr>
          <a:xfrm>
            <a:off x="6303960" y="4127400"/>
            <a:ext cx="2833560" cy="1511280"/>
            <a:chOff x="6303960" y="4127400"/>
            <a:chExt cx="2833560" cy="1511280"/>
          </a:xfrm>
        </p:grpSpPr>
        <p:pic>
          <p:nvPicPr>
            <p:cNvPr id="301" name="Tekstvak 16" descr=""/>
            <p:cNvPicPr/>
            <p:nvPr/>
          </p:nvPicPr>
          <p:blipFill>
            <a:blip r:embed="rId3"/>
            <a:stretch/>
          </p:blipFill>
          <p:spPr>
            <a:xfrm>
              <a:off x="6303960" y="4127400"/>
              <a:ext cx="28335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21320" y="4241880"/>
              <a:ext cx="266220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Tekstvak 17"/>
          <p:cNvSpPr/>
          <p:nvPr/>
        </p:nvSpPr>
        <p:spPr>
          <a:xfrm>
            <a:off x="1066680" y="563868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163a"/>
                </a:solidFill>
                <a:latin typeface="Tahoma"/>
                <a:ea typeface="Tahoma"/>
              </a:rPr>
              <a:t>beheersing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kstvak 18"/>
          <p:cNvSpPr/>
          <p:nvPr/>
        </p:nvSpPr>
        <p:spPr>
          <a:xfrm>
            <a:off x="4419720" y="1357200"/>
            <a:ext cx="1547640" cy="100872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wijkende omstandig-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kstvak 19"/>
          <p:cNvSpPr/>
          <p:nvPr/>
        </p:nvSpPr>
        <p:spPr>
          <a:xfrm>
            <a:off x="4876920" y="2971800"/>
            <a:ext cx="1073160" cy="70380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M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IJL-OMHOOG 20"/>
          <p:cNvSpPr/>
          <p:nvPr/>
        </p:nvSpPr>
        <p:spPr>
          <a:xfrm rot="10800000">
            <a:off x="2611080" y="3571920"/>
            <a:ext cx="49860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IJL-OMHOOG 21"/>
          <p:cNvSpPr/>
          <p:nvPr/>
        </p:nvSpPr>
        <p:spPr>
          <a:xfrm rot="10800000">
            <a:off x="7469280" y="3786120"/>
            <a:ext cx="49824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IJL-OMHOOG 22"/>
          <p:cNvSpPr/>
          <p:nvPr/>
        </p:nvSpPr>
        <p:spPr>
          <a:xfrm rot="13027800">
            <a:off x="4167000" y="3963240"/>
            <a:ext cx="501480" cy="358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IJL-OMHOOG 23"/>
          <p:cNvSpPr/>
          <p:nvPr/>
        </p:nvSpPr>
        <p:spPr>
          <a:xfrm rot="7795200">
            <a:off x="6014880" y="3965400"/>
            <a:ext cx="501480" cy="355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0722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1 Hoofdrol voor de leidinggeven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4B59-DBAA-4FEB-911E-4F9EB704063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kstvak 4"/>
          <p:cNvSpPr/>
          <p:nvPr/>
        </p:nvSpPr>
        <p:spPr>
          <a:xfrm>
            <a:off x="1066680" y="2209680"/>
            <a:ext cx="371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aan werkge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evallen- en incidentenonderz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PB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vragen bij deskund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kennis/info werknemers check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kstvak 5"/>
          <p:cNvSpPr/>
          <p:nvPr/>
        </p:nvSpPr>
        <p:spPr>
          <a:xfrm>
            <a:off x="4952880" y="2209680"/>
            <a:ext cx="3714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laten nal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medewerk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roductie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or aanwij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werken aan RI&amp;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A’s op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GM-inspecties uitvo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olboxmeetings verzor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13880" y="1219320"/>
            <a:ext cx="77994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de taak om de VGM-risicobeheersing in de praktijk te realise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2"/>
          <a:stretch/>
        </p:blipFill>
        <p:spPr>
          <a:xfrm>
            <a:off x="7358040" y="285840"/>
            <a:ext cx="1405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8648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8.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71320" y="1523520"/>
            <a:ext cx="815652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6349-17FF-4513-8428-EE6E822E6F4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2151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71680" y="857160"/>
            <a:ext cx="5286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heersing en 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s om noodsituaties te beheer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effectief optreden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ie moet wat, wanneer, hoe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fasen noodsit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rste me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elingen en maatreg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ëindigen van de noodsitu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 dat de situatie veilig 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0228-68C4-463B-9DD9-DF240CA2C1A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2" descr="http://www.safetybillboards.nl/brandpreventie.JPG"/>
          <p:cNvPicPr/>
          <p:nvPr/>
        </p:nvPicPr>
        <p:blipFill>
          <a:blip r:embed="rId2"/>
          <a:stretch/>
        </p:blipFill>
        <p:spPr>
          <a:xfrm>
            <a:off x="5772240" y="566640"/>
            <a:ext cx="33782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71320" y="928800"/>
            <a:ext cx="815652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r verzamelplaats gaa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ift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3FB6-2DD8-45E9-AB8E-04734B6E213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  <p:sp>
        <p:nvSpPr>
          <p:cNvPr id="321" name="Rechthoek 5"/>
          <p:cNvSpPr/>
          <p:nvPr/>
        </p:nvSpPr>
        <p:spPr>
          <a:xfrm>
            <a:off x="571680" y="4214880"/>
            <a:ext cx="7277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46160" indent="-474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/waar zij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(verzamel)plaats(en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mogelijkheden/vluchtrou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instructies van de opdrachtgev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en bij evacuatie direct melden op de verzamelplaat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60E5-28BC-4DB6-94FB-449BDA21B95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2627280" y="353880"/>
            <a:ext cx="39495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42976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F71D-E8A1-4B58-8C59-3DB7C61E1CA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000080"/>
            <a:ext cx="815652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moeten, ook volgens wetgeving, direct worden voorgelicht over risico’s en veilige werkwijze en op die kennis getoetst wor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r de kennis moet ook actueel blijve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kstvak 8"/>
          <p:cNvSpPr/>
          <p:nvPr/>
        </p:nvSpPr>
        <p:spPr>
          <a:xfrm>
            <a:off x="571680" y="264312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nneer opleiding en instructie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at gebeurt bij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tart nieuwe medewerk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verplaats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functiewijzig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anpassingen aan arbeidsmiddel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technolog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voeren nieuwe werkprocedur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133F-A477-41A2-A6E7-9290B6A7FB8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143000"/>
            <a:ext cx="83325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rijven hanteren meestal de volgende vormen van opleiding en instructi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inhoud 6"/>
          <p:cNvSpPr/>
          <p:nvPr/>
        </p:nvSpPr>
        <p:spPr>
          <a:xfrm>
            <a:off x="571680" y="1928880"/>
            <a:ext cx="80866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emene veiligheids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gemene VGM-regels, brand- en andere noodmeldingen en voorschriften, werkplekregels en verplicht PBM-gebrui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ijdelijke aanduiding voor inhoud 6"/>
          <p:cNvSpPr/>
          <p:nvPr/>
        </p:nvSpPr>
        <p:spPr>
          <a:xfrm>
            <a:off x="533520" y="3200400"/>
            <a:ext cx="81579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ke 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plekgebonden of aan installaties, arbeidsmiddelen, machines, zones of omstandigheden en aan plaatsen verbonden risico’s en de daarbij behorende regels en voorzien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6018-769E-49F6-B79E-80C38990EB2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ijdelijke aanduiding voor inhoud 6"/>
          <p:cNvSpPr/>
          <p:nvPr/>
        </p:nvSpPr>
        <p:spPr>
          <a:xfrm>
            <a:off x="571680" y="928800"/>
            <a:ext cx="82864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GM-bijeenkomsten of toolboxmeet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m de kennis op peil te houden en de medewerkers te motiveren tot veilig werken, wordt regelmatig een onderwerp  behandeld en met de medewerkers bediscussieer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n de bijeenkomst wordt getoetst of de boodschap begrepen is, er worden duidelijke afspraken gemaakt en een verslag opgestel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mogelijke onderwerpen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methode, orde en netheid, PBM-gebruik, machines, gevaarlijke stoffen, procedures, incidenten en ongevallen, fysieke belasting, communicatie, inspecties en alle andere onderwerpen over VGM die aandacht verdien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371240"/>
            <a:ext cx="8039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verleg over VGM-beleid tussen werkgever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nemersvertegenwoord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wat werkgever en werknemers belangrijk vi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onderwerpen waarvoor de werkgever instemming of advies van de werknemersvertegenwoordiging (OR of VGM-commissie) nodig heef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RI&amp;E en 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090E-35BC-4826-A63B-E7703553158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kstvak 6"/>
          <p:cNvSpPr/>
          <p:nvPr/>
        </p:nvSpPr>
        <p:spPr>
          <a:xfrm>
            <a:off x="642960" y="4857840"/>
            <a:ext cx="7562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7215120" y="71280"/>
          <a:ext cx="18576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5120" y="71280"/>
                    <a:ext cx="18576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56800" y="999720"/>
            <a:ext cx="6715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5E0F-2F25-4DEF-9621-650DFE5FF06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kstvak 6"/>
          <p:cNvSpPr/>
          <p:nvPr/>
        </p:nvSpPr>
        <p:spPr>
          <a:xfrm>
            <a:off x="928800" y="1192320"/>
            <a:ext cx="73771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werk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(eventueel  samen met toolboxmeeting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praktische aspecten van VGM-beheersi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. werkmethoden, opleidingen, gevaarlijke stoff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eventueel met een deskundi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en verslag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het gevoerde overleg en de gegeven advie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Object 5"/>
          <p:cNvGraphicFramePr/>
          <p:nvPr/>
        </p:nvGraphicFramePr>
        <p:xfrm>
          <a:off x="7139160" y="797040"/>
          <a:ext cx="1861920" cy="127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39160" y="797040"/>
                    <a:ext cx="18619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gelen en 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71680" y="1294920"/>
            <a:ext cx="82152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zijn er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dagelijkse werkuitvoering veilig te laten verlo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onder val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 T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Analyse LM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* zie (ook) hoofdstuk 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6F01-7BF4-408A-8E70-8480389A01C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0:52Z</dcterms:modified>
  <cp:revision>201</cp:revision>
  <dc:subject/>
  <dc:title>Taak en positie VFP</dc:title>
</cp:coreProperties>
</file>