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FAD-164F-4C7F-8E77-F4223BC4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410-777D-477C-81B5-316BA566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736-C925-4B48-B349-411EB9B9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2D7-91B5-4704-BE29-F06C8936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169-3FEA-4DF6-A4E5-3F1C9FDB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939-E53E-4851-96C3-E972868A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672-3408-4BFE-9B7D-6A7AC235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E1F-EA62-4C4D-A14F-45D4868C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B6D-94DE-4B67-BA77-B2F66AF5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F98-083F-4CD8-B980-CAA4BA9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70F-FED8-4194-BE91-2B835F06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4E8-948B-47C5-AC0E-2C5AC8E2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E425-5B65-4DD4-A6D8-F9D4A748866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4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Brand en explosie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ne stof brandt gemakkelijker d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: vlampunt is maat voor brand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g vlampu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oog brandgev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pu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of de ‘ontvlammingstemperatuu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laagste temperatuur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ij vloeistof zoveel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ontvlambare damp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wikkelt, dat deze in de aanwezige lucht onder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normale luchtomstandigheden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een vlam of vonk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aangestok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kan bij vorst aangestoken worden (vlampunt onder - 20 °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troleum kan niet bij kamertemperatuur aangestoken worden, vlampunt boven + 30 °C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is dus veel brandgevaarlijk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20482" t="0" r="29468" b="0"/>
          <a:stretch/>
        </p:blipFill>
        <p:spPr>
          <a:xfrm>
            <a:off x="7786800" y="0"/>
            <a:ext cx="1357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ontbrandingstemperatuur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gste temperatuur waarbij een stof spontaan ontbra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enig hulpmidde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normale lucht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stekingsenergie is hier geen vonk of vlam, maar de hoge temperatuur 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5 Blu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ncipes van blu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uitschakelen / verwij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te uitschakelen door afk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bron weg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verdringen of de toegang t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ver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grijpen in de chemische reactie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rand (negatieve katal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715080" y="82440"/>
            <a:ext cx="2212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deling brandkla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EB76BD7-4227-447F-B5C8-D5C14D2928CF" descr="5A8DB082-2839-484A-B0AB-DACCFFD08C53@profit"/>
          <p:cNvPicPr/>
          <p:nvPr/>
        </p:nvPicPr>
        <p:blipFill>
          <a:blip r:embed="rId1"/>
          <a:stretch/>
        </p:blipFill>
        <p:spPr>
          <a:xfrm>
            <a:off x="216000" y="3068640"/>
            <a:ext cx="864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6 Blusmidd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447920"/>
          <a:ext cx="7772400" cy="4616280"/>
        </p:xfrm>
        <a:graphic>
          <a:graphicData uri="http://schemas.openxmlformats.org/drawingml/2006/table">
            <a:tbl>
              <a:tblPr/>
              <a:tblGrid>
                <a:gridCol w="2062080"/>
                <a:gridCol w="2476440"/>
                <a:gridCol w="3233880"/>
              </a:tblGrid>
              <a:tr h="34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middel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ing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ort br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om 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im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 op de grond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deken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bij person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poed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t verbrandingsreactie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gass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metal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nl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lektriciteitsinstallaties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-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7" name="Picture 6" descr="http://www.brandweer.borger-odoorn.info/images/146_1.jpg"/>
          <p:cNvPicPr/>
          <p:nvPr/>
        </p:nvPicPr>
        <p:blipFill>
          <a:blip r:embed="rId1"/>
          <a:stretch/>
        </p:blipFill>
        <p:spPr>
          <a:xfrm>
            <a:off x="2827440" y="1981080"/>
            <a:ext cx="312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–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9" name="Picture 10" descr="http://www.manroy.nl/ontruimingsplan.gi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eige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de brand zo snel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uit deuren en 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ensen i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 de br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s je het kunt en dat verantwoord is….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ies het juiste blusmid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cht op het brandende voorwerp, niet op de vla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 opletten, het vuur kan weer aanwakk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15960" y="5867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bij brandwonden zo snel mogelijk koelen </a:t>
            </a:r>
            <a:r>
              <a:rPr b="0" i="1" lang="nl-NL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 15 minut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brand is vuur waar het niet thuis hoort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orkomen en schade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zijn ernstige bedre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ijv. raffinaderijen en chemische fabrieken is brand zeer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voorkomen of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ze kunn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je moet optr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wat van belang is voor blu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  Gevaren voor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 Gevaren tijdens een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 Ontstaan van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 Brandbaarheid van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 Bl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 Blu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 Handelend optreden bij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1 Gevaren voor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branden komen heel veel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brieken en werkplaat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vervoer (bijv. vrachtwagens met propaa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orten van licht ontvlambare produc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krepar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nkelpanden, opslagloodsen, jachthav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embaden, hotels, disco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orm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morgenpost.de/multimedia/archive/00382/sei_Unfall_BM_Berli_382094b.jpg"/>
          <p:cNvPicPr/>
          <p:nvPr/>
        </p:nvPicPr>
        <p:blipFill>
          <a:blip r:embed="rId1"/>
          <a:stretch/>
        </p:blipFill>
        <p:spPr>
          <a:xfrm>
            <a:off x="5562720" y="4648320"/>
            <a:ext cx="2143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2 Gevaren tijdens een bran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vuurcontact, hitte en 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ttestraling belemmert blu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s mogelijk door ontsteking en op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roo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mmert vlu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ift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ijgt op (lichter dan luc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t zich in een gebou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3 Ontstaan van brand of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brand of explosie is tegelijk nod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brandbar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zu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ontstekings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de branddrie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van brand hangt af van aanwez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brandbare stof en aanwezighei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ontstekingsenergie’ (vlammetje of von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108400" y="2498760"/>
            <a:ext cx="2949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ntstekingsenerg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energie wordt geleverd door een ontstekings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mogelijke ontstekings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onk van handgereedschap of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t opperv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 temperatu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 vuur en stralingswar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plosie is een “bliksemsnelle”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randingsgassen komen vrij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is verwoes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ersnelle verbranding alleen bij ideale 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bare stof en zuurstof heel goed gemen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erhouding tussen brandbare stof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moet goe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propaan-luchtmengsel kan niet exploderen bij een concentratie onder 2,1% en niet boven 9,5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-luchtmengsels kunnen alleen exploderen bij een concentratie tussen 2,1% en 9,5% propaan in de 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Explosiegrenzen en explosiegebie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59" name="Picture 9" descr="http://www.arbobert.nl/images/290Expl1.jpg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695760"/>
          </a:xfrm>
          <a:prstGeom prst="rect">
            <a:avLst/>
          </a:prstGeom>
          <a:ln w="0">
            <a:noFill/>
          </a:ln>
        </p:spPr>
      </p:pic>
      <p:sp>
        <p:nvSpPr>
          <p:cNvPr id="60" name="Tekstvak 9"/>
          <p:cNvSpPr/>
          <p:nvPr/>
        </p:nvSpPr>
        <p:spPr>
          <a:xfrm>
            <a:off x="685800" y="2209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‘arm’ mengs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te ‘rijk’ mengsel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IJL-OMHOOG 7"/>
          <p:cNvSpPr/>
          <p:nvPr/>
        </p:nvSpPr>
        <p:spPr>
          <a:xfrm rot="16200000">
            <a:off x="1159560" y="1278720"/>
            <a:ext cx="642960" cy="1285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IJL-OMHOOG 8"/>
          <p:cNvSpPr/>
          <p:nvPr/>
        </p:nvSpPr>
        <p:spPr>
          <a:xfrm rot="5400000">
            <a:off x="6564600" y="1283400"/>
            <a:ext cx="642960" cy="1428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5:03Z</dcterms:modified>
  <cp:revision>124</cp:revision>
  <dc:subject/>
  <dc:title>PowerPoint-presentatie</dc:title>
</cp:coreProperties>
</file>