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png" ContentType="image/png"/>
  <Override PartName="/ppt/media/image9.jpeg" ContentType="image/jpeg"/>
  <Override PartName="/ppt/media/image12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BD648-8BB6-418C-8737-4825889DCAFA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ijdelijke aanduiding voor dianumm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35CD5-08CA-4644-A625-74387C482177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Tijdelijke aanduiding voor dianumm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F7AB0-0553-449C-B113-6265F9BD55EC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ijdelijke aanduiding voor dianumm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2F908-9657-490C-910B-C6AEE90A1BA6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59F64-0BA5-4EF9-AAE3-DC5AA51E7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8DD4A-F93F-45D3-9DF2-BE6A1368C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C7F10-6FCD-4105-B4DB-19E67D48B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89535-1DCD-47B6-8818-BBB038851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AC4CD-C80A-48C3-AC73-D1E2B9B96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FCCC4-AEA6-48A6-BDFD-65D605D24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D5BF0-C305-43F6-93D8-51CE562CE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63719-C48A-40CE-82FF-B2276EDF4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9AA45-F1D7-4C51-8868-169AA7764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1C973-0606-4EFF-9781-3A8553EF1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D263B-3BF7-40D2-9E28-C07CEBBD1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2E025-26A2-4F89-BE96-79C149F94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4CA05-0503-4999-BD07-FA105E771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97136-26A2-46F7-BCFE-E0BC905E8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ADB81-7A0F-41B6-89F3-EA87E9522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3F44B-BE02-4443-B62A-3BDBC63D4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6A49E-D0EC-425F-A16C-A57F1D04F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17D1CB-6E47-4FDE-A9AB-051C18E37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476828-938B-477A-826B-DEE94BFC7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9FEC85-37D1-4696-BE82-773CC1144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86974E-83B7-4C2B-8329-1EAFEAEC2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9B01F0-679D-41FD-A62A-4D232E129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53A6E-553C-40E3-8CDA-37CAA4554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6F222F-6C57-45C0-9CAD-B34F7E647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4FF599-6C33-4A37-965B-E60D016E8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7ADB5A-071E-40E0-BFC0-31D9F0177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7EBB96-A2D9-4560-8CA3-7291A9102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72604A-F339-4243-B133-3766FCF52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CEE404-DF4E-4D15-9838-93AB9378D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2E3DBB-1AE2-4FFF-AF3B-2D0AA542C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A60B1-C0EB-4C5D-BE39-8E9729FCD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3CF77-1245-4346-91E7-6AB2E15EE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3DEB9-73E7-49CB-955F-B5F2C5464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EB2F7-5D8F-4ABD-9A19-910894E42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562A0-60C2-411E-9A5A-39F7E2921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222F2-0655-4107-9B04-D8A02B20C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hyperlink" Target="http://www.kerckebosch.nl/html/home.php" TargetMode="External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hyperlink" Target="http://www.kerckebosch.nl/html/home.php" TargetMode="External"/><Relationship Id="rId6" Type="http://schemas.openxmlformats.org/officeDocument/2006/relationships/image" Target="../media/image2.wmf"/><Relationship Id="rId7" Type="http://schemas.openxmlformats.org/officeDocument/2006/relationships/image" Target="../media/image4.wmf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5CB94-7B22-4EE5-A0C9-D9636158DB0B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" name="Picture 2" descr=""/>
          <p:cNvPicPr/>
          <p:nvPr/>
        </p:nvPicPr>
        <p:blipFill>
          <a:blip r:embed="rId3"/>
          <a:stretch/>
        </p:blipFill>
        <p:spPr>
          <a:xfrm>
            <a:off x="7667640" y="6000840"/>
            <a:ext cx="762120" cy="507960"/>
          </a:xfrm>
          <a:prstGeom prst="rect">
            <a:avLst/>
          </a:prstGeom>
          <a:ln w="0">
            <a:noFill/>
          </a:ln>
        </p:spPr>
      </p:pic>
      <p:pic>
        <p:nvPicPr>
          <p:cNvPr id="6" name="Picture 14" descr=""/>
          <p:cNvPicPr/>
          <p:nvPr/>
        </p:nvPicPr>
        <p:blipFill>
          <a:blip r:embed="rId4"/>
          <a:stretch/>
        </p:blipFill>
        <p:spPr>
          <a:xfrm>
            <a:off x="714240" y="5929200"/>
            <a:ext cx="600120" cy="630360"/>
          </a:xfrm>
          <a:prstGeom prst="rect">
            <a:avLst/>
          </a:prstGeom>
          <a:ln w="0">
            <a:noFill/>
          </a:ln>
        </p:spPr>
      </p:pic>
      <p:sp>
        <p:nvSpPr>
          <p:cNvPr id="7" name="AutoShape 42">
            <a:hlinkClick r:id="rId5"/>
          </p:cNvPr>
          <p:cNvSpPr/>
          <p:nvPr/>
        </p:nvSpPr>
        <p:spPr>
          <a:xfrm>
            <a:off x="181080" y="-21276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3"/>
          <a:stretch/>
        </p:blipFill>
        <p:spPr>
          <a:xfrm>
            <a:off x="7667640" y="6000840"/>
            <a:ext cx="762120" cy="5079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4" descr=""/>
          <p:cNvPicPr/>
          <p:nvPr/>
        </p:nvPicPr>
        <p:blipFill>
          <a:blip r:embed="rId4"/>
          <a:stretch/>
        </p:blipFill>
        <p:spPr>
          <a:xfrm>
            <a:off x="714240" y="5929200"/>
            <a:ext cx="600120" cy="630360"/>
          </a:xfrm>
          <a:prstGeom prst="rect">
            <a:avLst/>
          </a:prstGeom>
          <a:ln w="0">
            <a:noFill/>
          </a:ln>
        </p:spPr>
      </p:pic>
      <p:sp>
        <p:nvSpPr>
          <p:cNvPr id="46" name="AutoShape 42">
            <a:hlinkClick r:id="rId5"/>
          </p:cNvPr>
          <p:cNvSpPr/>
          <p:nvPr/>
        </p:nvSpPr>
        <p:spPr>
          <a:xfrm>
            <a:off x="181080" y="-21276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7" name="Picture 2" descr=""/>
          <p:cNvPicPr/>
          <p:nvPr/>
        </p:nvPicPr>
        <p:blipFill>
          <a:blip r:embed="rId6"/>
          <a:stretch/>
        </p:blipFill>
        <p:spPr>
          <a:xfrm>
            <a:off x="7715160" y="6000840"/>
            <a:ext cx="762120" cy="5079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"/>
          <p:cNvPicPr/>
          <p:nvPr/>
        </p:nvPicPr>
        <p:blipFill>
          <a:blip r:embed="rId7"/>
          <a:stretch/>
        </p:blipFill>
        <p:spPr>
          <a:xfrm>
            <a:off x="533520" y="5867280"/>
            <a:ext cx="838080" cy="5428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057AD-8F8F-467E-B325-E7D8E0D458A8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2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91" name="Rectangle 3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2" name="Group 4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93" name="Rectangle 5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Rectangle 6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Rectangle 7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Rectangle 8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Rectangle 9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Rectangle 10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Rectangle 11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Rectangle 12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Rectangle 13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Rectangle 14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Rectangle 15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Rectangle 16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Rectangle 17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" name="Rectangle 18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" name="Rectangle 19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" name="Rectangle 20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Rectangle 21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Rectangle 22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Rectangle 23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Rectangle 24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Rectangle 25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Rectangle 26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Rectangle 27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Rectangle 28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Rectangle 29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Rectangle 30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Rectangle 31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Rectangle 32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Rectangle 33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22" name="Picture 4" descr=""/>
          <p:cNvPicPr/>
          <p:nvPr/>
        </p:nvPicPr>
        <p:blipFill>
          <a:blip r:embed="rId3"/>
          <a:stretch/>
        </p:blipFill>
        <p:spPr>
          <a:xfrm>
            <a:off x="5334120" y="5181480"/>
            <a:ext cx="1447560" cy="9651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4" descr=""/>
          <p:cNvPicPr/>
          <p:nvPr/>
        </p:nvPicPr>
        <p:blipFill>
          <a:blip r:embed="rId4"/>
          <a:stretch/>
        </p:blipFill>
        <p:spPr>
          <a:xfrm>
            <a:off x="2362320" y="5181480"/>
            <a:ext cx="1039680" cy="109224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7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8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9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CB8AE-28B0-44E6-8B04-2BB5D4F632F9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500040" y="500040"/>
            <a:ext cx="8429760" cy="4214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a60d"/>
                </a:solidFill>
                <a:latin typeface="Arial"/>
              </a:rPr>
              <a:t>VCA VO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9a60d"/>
                </a:solidFill>
                <a:latin typeface="Arial"/>
              </a:rPr>
              <a:t>Hoofdstuk 9  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9a60d"/>
                </a:solidFill>
                <a:latin typeface="Arial"/>
              </a:rPr>
              <a:t>Machines en gereedschappen: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9a60d"/>
                </a:solidFill>
                <a:latin typeface="Arial"/>
              </a:rPr>
              <a:t>keuze, gebruik en onderhoud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86C42-955D-476C-B5C5-8265A32BB913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572320" cy="107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a911"/>
                </a:solidFill>
                <a:latin typeface="Arial"/>
              </a:rPr>
              <a:t>9.3 Algemene eisen en veiligheidsmaatregelen (5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571680" y="1142640"/>
            <a:ext cx="843264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9a60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oodvoorziening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odemansknop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noodstopinricht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28584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oed bereikbaar, duidelijk zichtbaar en herkenbaar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28584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na gebruik noodstop: alleen op te starten met normale opstartprocedur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285840">
              <a:spcBef>
                <a:spcPts val="2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nulspanningschakelaar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28584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achine herstart niet automatisch na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panningsonderbrek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oms: tweehandbediening en koppelschermen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75D29-6509-4CD5-88BF-D3421C0D02EF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53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a60d"/>
                </a:solidFill>
                <a:latin typeface="Arial"/>
              </a:rPr>
              <a:t>9.4 Vast opgestelde machines/gereedschappen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71320" y="1066680"/>
            <a:ext cx="7429320" cy="506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kolomboormachines en boormachin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lnSpc>
                <a:spcPct val="80000"/>
              </a:lnSpc>
              <a:spcBef>
                <a:spcPts val="601"/>
              </a:spcBef>
              <a:buClr>
                <a:srgbClr val="09a60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varen bij het boren zij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569880" indent="-284040">
              <a:lnSpc>
                <a:spcPct val="8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osslaan van het werkstuk, als dit niet goed is ingeklem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569880" indent="-284040">
              <a:lnSpc>
                <a:spcPct val="8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etsel door breken van de boo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569880" indent="-284040">
              <a:lnSpc>
                <a:spcPct val="8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rwonding door wegvegen van boorsel met de han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569880" indent="-284040">
              <a:lnSpc>
                <a:spcPct val="8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rwonding door span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569880" indent="-284040">
              <a:lnSpc>
                <a:spcPct val="8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ademen van spatten of nevel van koel- of snij-oli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569880" indent="-2840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lnSpc>
                <a:spcPct val="80000"/>
              </a:lnSpc>
              <a:spcBef>
                <a:spcPts val="601"/>
              </a:spcBef>
              <a:buClr>
                <a:srgbClr val="09a60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or veilig werken is van bela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569880" indent="-284040">
              <a:lnSpc>
                <a:spcPct val="8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en doorzichtig scherm tussen de boor en de gebruike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569880" indent="-284040">
              <a:lnSpc>
                <a:spcPct val="8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et werkstuk goed vastgeze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569880" indent="-284040">
              <a:lnSpc>
                <a:spcPct val="8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oorsel wegvegen met krullenkwast of krullenhaak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78F1E-0933-4EE9-848D-69CCD92C4468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571680" y="1356840"/>
            <a:ext cx="803880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vast opgestelde slijpmachin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601"/>
              </a:spcBef>
              <a:buClr>
                <a:srgbClr val="09a60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t er mis kan ga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511200" indent="-2253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ondvliegende deeltjes: ooglets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511200" indent="-2253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apot springen van de slijpste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511200" indent="-2253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lemmen van werkstuk tegen slijpsteen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511200" indent="-2253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rwonding door het aanraken draaiende slijpste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511200" indent="-2253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ademen van schadelijk of giftig slijpstof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511200" indent="-2253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hoorschade bij langdurig slijpwerk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3897A-1DA7-433E-BAD7-11CF1748EDD0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53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9a60d"/>
                </a:solidFill>
                <a:latin typeface="Arial"/>
              </a:rPr>
              <a:t>9.4 Vast opgestelde machines/gereedschappen (2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Afbeelding 5" descr="http://www.metabo.nl/uploads/tx_commerce/feinbilder/0300020003s_51_m.jpg"/>
          <p:cNvPicPr/>
          <p:nvPr/>
        </p:nvPicPr>
        <p:blipFill>
          <a:blip r:embed="rId2"/>
          <a:srcRect l="0" t="0" r="0" b="3860"/>
          <a:stretch/>
        </p:blipFill>
        <p:spPr>
          <a:xfrm>
            <a:off x="6715080" y="714240"/>
            <a:ext cx="2357640" cy="178596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 txBox="1"/>
          <p:nvPr/>
        </p:nvSpPr>
        <p:spPr>
          <a:xfrm>
            <a:off x="571320" y="1285920"/>
            <a:ext cx="77864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vast opgestelde slijpmachin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lnSpc>
                <a:spcPct val="80000"/>
              </a:lnSpc>
              <a:spcBef>
                <a:spcPts val="601"/>
              </a:spcBef>
              <a:buClr>
                <a:srgbClr val="09a60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s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569880" indent="-284040">
              <a:lnSpc>
                <a:spcPct val="8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lijpstenen voldoende rond, slijpkant vlak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569880" indent="-284040">
              <a:lnSpc>
                <a:spcPct val="8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wee slijpstenen op één machine mogen niet te veel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rschill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569880" indent="-284040">
              <a:lnSpc>
                <a:spcPct val="8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fstand tussen leunspaan en werkstuk ≤ 3 mm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569880" indent="-284040">
              <a:lnSpc>
                <a:spcPct val="8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zijkanten van de stenen afgescherm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569880" indent="-284040">
              <a:lnSpc>
                <a:spcPct val="8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schermruitj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569880" indent="-284040">
              <a:lnSpc>
                <a:spcPct val="80000"/>
              </a:lnSpc>
              <a:spcBef>
                <a:spcPts val="451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ovenmes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lnSpc>
                <a:spcPct val="80000"/>
              </a:lnSpc>
              <a:spcBef>
                <a:spcPts val="601"/>
              </a:spcBef>
              <a:buClr>
                <a:srgbClr val="09a60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j het werk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569880" indent="-284040">
              <a:lnSpc>
                <a:spcPct val="8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nteren/vervangen slijpstenen door deskundig personeel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569880" indent="-284040">
              <a:lnSpc>
                <a:spcPct val="8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eunspaan alleen verstellen bij stilstaande machin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569880" indent="-284040">
              <a:lnSpc>
                <a:spcPct val="8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schermruitje altijd gebruik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569880" indent="-284040">
              <a:lnSpc>
                <a:spcPct val="8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eunspaan regelmatig bijstell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569880" indent="-284040">
              <a:lnSpc>
                <a:spcPct val="80000"/>
              </a:lnSpc>
              <a:spcBef>
                <a:spcPts val="550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71012-7D0D-40C7-B2B3-69DDDFAF9D53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53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9a60d"/>
                </a:solidFill>
                <a:latin typeface="Arial"/>
              </a:rPr>
              <a:t>9.4 Vast opgestelde machines/gereedschappen (3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571320" y="1447560"/>
            <a:ext cx="814212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vast opgestelde cirkelzag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601"/>
              </a:spcBef>
              <a:buClr>
                <a:srgbClr val="09a60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varen vast opgestelde cirkelzaa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56988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troffen of gegrepen worden door de zaag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f andere bewegende del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56988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troffen worden door afgezaagde,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gvliegende delen van het produc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56988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zondheidsklachten door inademen van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inderlijk of gevaarlijk stof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1495E-8523-408A-B482-89ECE75400B2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53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9a60d"/>
                </a:solidFill>
                <a:latin typeface="Arial"/>
              </a:rPr>
              <a:t>9.4 Vast opgestelde machines/gereedschappen (4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571320" y="1428480"/>
            <a:ext cx="815652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vast opgestelde cirkelzag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9a60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s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90760" indent="-2667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pouwm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90760" indent="-2667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schikte hulpgeleide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90760" indent="-2667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ofafzuiging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9a60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iligheidsmaatregel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90760" indent="-2667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uwhout gebruiken bij smalle werkstukk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90760" indent="-2667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zaagblad juist instell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90760" indent="-2667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ij grote werkstukken: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90760" indent="-26676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sistentie van tweede persoon of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bruik rollenbaa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BA2B1-01C9-4DF6-85F6-7BA160A19569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429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9a60d"/>
                </a:solidFill>
                <a:latin typeface="Arial"/>
              </a:rPr>
              <a:t>9.4 Vast opgestelde machines/gereedschappen (5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pic>
        <p:nvPicPr>
          <p:cNvPr id="217" name="Afbeelding 5" descr="http://www.metabo.nl/uploads/tx_commerce/feinbilder/0104605000s_51_m.jpg"/>
          <p:cNvPicPr/>
          <p:nvPr/>
        </p:nvPicPr>
        <p:blipFill>
          <a:blip r:embed="rId2"/>
          <a:stretch/>
        </p:blipFill>
        <p:spPr>
          <a:xfrm>
            <a:off x="6500880" y="1714680"/>
            <a:ext cx="24051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1680" y="213840"/>
            <a:ext cx="8129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a60d"/>
                </a:solidFill>
                <a:latin typeface="Arial"/>
              </a:rPr>
              <a:t>9.5 Aangedreven handgereedschap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71680" y="1428480"/>
            <a:ext cx="728640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elektrisch aangedreven handgereedschap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601"/>
              </a:spcBef>
              <a:buClr>
                <a:srgbClr val="09a60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bbel geïsoleerd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niet geaa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56988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ubbele isolatie biedt geen bescherming tegen water of vochtige omgev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569880" indent="-284040"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pneumatisch aangedreven handgereedschap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(perslucht = pneumatis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gelmatig pauzeren bij trillende werkzaamhed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uchttoevoer na gebruik afsluit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3241E-522C-4971-A5C6-D66D7ABF4801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71320" y="-360"/>
            <a:ext cx="8057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a60d"/>
                </a:solidFill>
                <a:latin typeface="Arial"/>
              </a:rPr>
              <a:t>9.5 Aangedreven handgereedschap (2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571320" y="1428480"/>
            <a:ext cx="853884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aandachtspunten elektrische gereedschapp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9a60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ndslijpmachin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zijhandva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schermkap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odemansknop, bij slijpschijven groter dan 125 mm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9a60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 de slijpschijf moet staa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aam van de fabrikan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ximaal toelaatbaar toerenta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fmeting van de schijf, toepassing en jaarta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98055-A92C-4BEF-AE79-AA36C7EA0DDC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85360" y="213840"/>
            <a:ext cx="8201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a60d"/>
                </a:solidFill>
                <a:latin typeface="Arial"/>
              </a:rPr>
              <a:t>9.5 Aangedreven handgereedschap (3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71320" y="1285560"/>
            <a:ext cx="778644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elektrische handslijpmachin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9a60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andachtspunt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4880" indent="-419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rkstuk vastzett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04880" indent="-419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ximale toerental van de schijf nooit overschrijd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04880" indent="-419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ndslijpmachine pas neerleggen als schijf stilstaa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04880" indent="-419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zijkant van de schijf niet gebruik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04880" indent="-419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ij afbramen specifieke afbraamschijven gebruiken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04880" indent="-419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oorslijpschijven niet voor afbramen gebruik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49909-D9D2-4E6C-A17F-8717E19BC338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71680" y="0"/>
            <a:ext cx="8129520" cy="10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a60d"/>
                </a:solidFill>
                <a:latin typeface="Arial"/>
              </a:rPr>
              <a:t>9.5 Aangedreven handgereedschap (4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571320" y="928800"/>
            <a:ext cx="8538840" cy="51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elektrische handcirkelzaa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9a60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andachtspunt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03360" indent="-2725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schermkap schermt de buitenrand zaag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olledig af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03360" indent="-2725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utomatische beschermkap over de buitenran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03360" indent="-2725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pouwmes aanpassen aan diameter en dikte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n de zaa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03360" indent="-27252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9a60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iligheidsmaatregel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03360" indent="-2725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zaagblad en geleider zo instellen dat het zaagblad zo weinig mogelijk uitsteekt onder het werkstuk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03360" indent="-2725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dien nodig assistentie door tweede persoo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03360" indent="-2725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zaag niet laten klemm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03360" indent="-2725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noer weghouden van zaagbla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6E063-E707-4036-958C-84A464540041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71680" y="214200"/>
            <a:ext cx="8572320" cy="10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a60d"/>
                </a:solidFill>
                <a:latin typeface="Arial"/>
              </a:rPr>
              <a:t>9. Machines en gereedschappen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571680" y="1214280"/>
            <a:ext cx="8501040" cy="456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4960" indent="-534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.1  Goed en veilig gereedschap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4960" indent="-534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.2  Veiligheidseisen: de achtergron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4960" indent="-534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.3  Algemene veiligheidseisen  en -maatregel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4960" indent="-534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.4  Vast opgestelde machines/gereedschapp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4960" indent="-534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.5  Aangedreven handgereedschap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4960" indent="-534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.6  Handgereedschap zonder aandrijv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D9854-3F65-45F3-8855-1459F689DDA6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71320" y="0"/>
            <a:ext cx="8358120" cy="10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a60d"/>
                </a:solidFill>
                <a:latin typeface="Arial"/>
              </a:rPr>
              <a:t>9.5 Aangedreven handgereedschap (5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571680" y="1428840"/>
            <a:ext cx="8572320" cy="349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elektrische nagel/nietmach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9a60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andachtspunten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ieten/nagels kiezen bij apparaat, materiaal en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orm van werkstuk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ximale werkdruk controler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op stevig op het werkstuk drukk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ader plaatsen als de geleider leeg i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rije hand weghouden van de machin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B8D8D-DFC2-41AE-9083-5FF0F1E47BDB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2" descr=""/>
          <p:cNvPicPr/>
          <p:nvPr/>
        </p:nvPicPr>
        <p:blipFill>
          <a:blip r:embed="rId2"/>
          <a:srcRect l="40227" t="0" r="8150" b="0"/>
          <a:stretch/>
        </p:blipFill>
        <p:spPr>
          <a:xfrm>
            <a:off x="7500960" y="0"/>
            <a:ext cx="1643040" cy="2558880"/>
          </a:xfrm>
          <a:prstGeom prst="rect">
            <a:avLst/>
          </a:prstGeom>
          <a:ln w="0">
            <a:noFill/>
          </a:ln>
        </p:spPr>
      </p:pic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7929360" cy="85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a60d"/>
                </a:solidFill>
                <a:latin typeface="Arial"/>
              </a:rPr>
              <a:t>9.5 Aangedreven handgereedschap (6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71680" y="1147320"/>
            <a:ext cx="857232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elektrische kettingzaa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spcBef>
                <a:spcPts val="601"/>
              </a:spcBef>
              <a:buClr>
                <a:srgbClr val="09a60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andachtspunt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1160" indent="-339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wendige trillingsdemp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911160" indent="-339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schermbeugel, beschermkap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911160" indent="-339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ubbele handbedien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911160" indent="-339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ndvatten: trillingsvrij met antislip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911160" indent="-339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chterste handvat beschermd tegen kettingbreuk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911160" indent="-339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ettingrem, ketting opvangmechanism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911160" indent="-339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angepaste opleiding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911160" indent="-339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ij terugslag mag de ketting het lichaam niet rak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911160" indent="-339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zaagbroek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B56FF-DD3E-4B61-812E-5FF093DBA9D8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572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a60d"/>
                </a:solidFill>
                <a:latin typeface="Arial"/>
              </a:rPr>
              <a:t>9.6 Handgereedschap zonder aandrijving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571320" y="1285560"/>
            <a:ext cx="853884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ham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9a60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andachtspunt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3240" indent="-29196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op moet gaaf zij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3240" indent="-29196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ed vastzitten op ste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3240" indent="-29196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el ongeschond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3240" indent="-29196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moersleutels en slagsleut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9a60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andachtspunt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3240" indent="-29196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beschadigd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3240" indent="-29196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k precies passe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3240" indent="-29196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 steel van moersleutels en slagsleutels niet verleng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3240" indent="-29196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bruik bij voorkeur ringsleute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D50AF-5F06-400C-9E19-7B597977750E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0" name="Picture 6" descr=""/>
          <p:cNvPicPr/>
          <p:nvPr/>
        </p:nvPicPr>
        <p:blipFill>
          <a:blip r:embed="rId2"/>
          <a:stretch/>
        </p:blipFill>
        <p:spPr>
          <a:xfrm>
            <a:off x="6458040" y="857160"/>
            <a:ext cx="2685960" cy="18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85360" y="-360"/>
            <a:ext cx="8558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a60d"/>
                </a:solidFill>
                <a:latin typeface="Arial"/>
              </a:rPr>
              <a:t>9.6 Handgereedschap zonder aandrijving (2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571680" y="1499760"/>
            <a:ext cx="857232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schroevendraai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9a60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andachtspunt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ecies op maat voor de schroefgleuf/kruis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lad mag niet te scherp zij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leine werkstukken vastklemmen (steekwonden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vijl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9a60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andachtspunt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evig heft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evig vast aan vij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637EA-CD9D-49D6-B6F4-F93915984B20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71680" y="142560"/>
            <a:ext cx="8572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a60d"/>
                </a:solidFill>
                <a:latin typeface="Arial"/>
              </a:rPr>
              <a:t>9.6 Handgereedschap zonder aandrijving (3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571320" y="1356840"/>
            <a:ext cx="678636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9a60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handzag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rmaat en (soort) zaag aangepast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an het werk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oed geslepen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oede zett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9a60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beugelzaa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lad goed aanspannen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de juiste richting monter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A7B69-FEB0-4EB3-B6F7-C231208BB101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Tekstvak 4"/>
          <p:cNvSpPr/>
          <p:nvPr/>
        </p:nvSpPr>
        <p:spPr>
          <a:xfrm>
            <a:off x="914400" y="4937040"/>
            <a:ext cx="685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163a"/>
                </a:solidFill>
                <a:latin typeface="Arial"/>
                <a:ea typeface="Arial"/>
              </a:rPr>
              <a:t>voor messen, zagen, beitels en boren geldt: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163a"/>
                </a:solidFill>
                <a:latin typeface="Arial"/>
                <a:ea typeface="Arial"/>
              </a:rPr>
              <a:t>scherp is veiliger, als je er maar voorzichtig mee omgaat!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8" name="Afbeelding 6" descr="zagen.jpg"/>
          <p:cNvPicPr/>
          <p:nvPr/>
        </p:nvPicPr>
        <p:blipFill>
          <a:blip r:embed="rId2"/>
          <a:stretch/>
        </p:blipFill>
        <p:spPr>
          <a:xfrm>
            <a:off x="7531200" y="1071720"/>
            <a:ext cx="161280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46B05-C45F-4E57-A5CF-B18C15806759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Titel 2"/>
          <p:cNvSpPr/>
          <p:nvPr/>
        </p:nvSpPr>
        <p:spPr>
          <a:xfrm>
            <a:off x="571680" y="0"/>
            <a:ext cx="8318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a60d"/>
                </a:solidFill>
                <a:latin typeface="Arial"/>
                <a:ea typeface="Arial"/>
              </a:rPr>
              <a:t>9.6 Handgereedschap zonder aandrijving (4)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Tijdelijke aanduiding voor inhoud 3"/>
          <p:cNvSpPr/>
          <p:nvPr/>
        </p:nvSpPr>
        <p:spPr>
          <a:xfrm>
            <a:off x="571680" y="928800"/>
            <a:ext cx="6140160" cy="45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9a60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  <a:ea typeface="Arial"/>
              </a:rPr>
              <a:t>koudbeitel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23880" indent="-27936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geen bramen op de beitelkop 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623880" indent="-27936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handbescherming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623880" indent="-27936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9a60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  <a:ea typeface="Arial"/>
              </a:rPr>
              <a:t>tang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23880" indent="-27936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bek en het scharnier gaaf en schoon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623880" indent="-27936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9a60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  <a:ea typeface="Arial"/>
              </a:rPr>
              <a:t>mess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23880" indent="-27936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scherp 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623880" indent="-27936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aangepast aan aard van het werk 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623880" indent="-27936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verstandig gebruiken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2" marL="855720" indent="-227160">
              <a:lnSpc>
                <a:spcPct val="100000"/>
              </a:lnSpc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snijd van het lichaam weg 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855720" indent="-227160">
              <a:lnSpc>
                <a:spcPct val="100000"/>
              </a:lnSpc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houd uitschuifbaar lemmet kort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855720" indent="-227160">
              <a:lnSpc>
                <a:spcPct val="100000"/>
              </a:lnSpc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afbreekmessen afbreken met een tang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Tijdelijke aanduiding voor dianummer 3"/>
          <p:cNvSpPr/>
          <p:nvPr/>
        </p:nvSpPr>
        <p:spPr>
          <a:xfrm>
            <a:off x="6985080" y="61768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3" name="Afbeelding 4" descr="images.jpg"/>
          <p:cNvPicPr/>
          <p:nvPr/>
        </p:nvPicPr>
        <p:blipFill>
          <a:blip r:embed="rId2"/>
          <a:stretch/>
        </p:blipFill>
        <p:spPr>
          <a:xfrm>
            <a:off x="6429240" y="928800"/>
            <a:ext cx="1714680" cy="1795320"/>
          </a:xfrm>
          <a:prstGeom prst="rect">
            <a:avLst/>
          </a:prstGeom>
          <a:ln w="0">
            <a:noFill/>
          </a:ln>
        </p:spPr>
      </p:pic>
      <p:pic>
        <p:nvPicPr>
          <p:cNvPr id="254" name="Afbeelding 7" descr="imagesCAPWV5WN.jpg"/>
          <p:cNvPicPr/>
          <p:nvPr/>
        </p:nvPicPr>
        <p:blipFill>
          <a:blip r:embed="rId3"/>
          <a:stretch/>
        </p:blipFill>
        <p:spPr>
          <a:xfrm>
            <a:off x="6858000" y="4000680"/>
            <a:ext cx="1725480" cy="1785600"/>
          </a:xfrm>
          <a:prstGeom prst="rect">
            <a:avLst/>
          </a:prstGeom>
          <a:ln w="0">
            <a:noFill/>
          </a:ln>
        </p:spPr>
      </p:pic>
      <p:pic>
        <p:nvPicPr>
          <p:cNvPr id="255" name="Afbeelding 8" descr="tangen.jpg"/>
          <p:cNvPicPr/>
          <p:nvPr/>
        </p:nvPicPr>
        <p:blipFill>
          <a:blip r:embed="rId4"/>
          <a:srcRect l="0" t="0" r="0" b="35266"/>
          <a:stretch/>
        </p:blipFill>
        <p:spPr>
          <a:xfrm>
            <a:off x="6324480" y="2881440"/>
            <a:ext cx="2465640" cy="92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71320" y="214200"/>
            <a:ext cx="8358120" cy="10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a60d"/>
                </a:solidFill>
                <a:latin typeface="Arial"/>
              </a:rPr>
              <a:t>9.1 Goed en veilig gereedschap 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78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01F8E-7C25-43F9-9E4E-29882D09E4C9}" type="slidenum"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571680" y="1499760"/>
            <a:ext cx="837072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9a60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rol leidinggevend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euze bij aanschaf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oorlichting en instructie gev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nderhou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euring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rvang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ezicht op juist gebruik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rvaringen evalueren met uitvoerend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71680" y="0"/>
            <a:ext cx="8318160" cy="10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a60d"/>
                </a:solidFill>
                <a:latin typeface="Arial"/>
              </a:rPr>
              <a:t>9.1 Goed en veilig gereedschap (2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81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243EE-2098-47A6-9527-14650B743F4C}" type="slidenum"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571680" y="1499760"/>
            <a:ext cx="857232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algemene gevaren van gereedschappen zijn diver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9a60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rect letsel gebruiker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nijden, knellen enz.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9a60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tsel bij omstanders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wegschietend materiaal, straling enz.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9a60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chamelijke belastingseffecten ook op termijn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rillingen, straling, vrijkomende stoffen, lawaai enz.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9a60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oorzaken schade / letsel in de omgev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xplosies door vonken, wegschietende delen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antasten constructiesterkte enz.)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1680" y="214200"/>
            <a:ext cx="8572320" cy="10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aa911"/>
                </a:solidFill>
                <a:latin typeface="Arial"/>
              </a:rPr>
              <a:t>9.2 Veiligheidseisen </a:t>
            </a:r>
            <a:br>
              <a:rPr sz="2800"/>
            </a:br>
            <a:r>
              <a:rPr b="0" lang="en-US" sz="2000" spc="-1" strike="noStrike">
                <a:solidFill>
                  <a:srgbClr val="c0163a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c0163a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c0163a"/>
                </a:solidFill>
                <a:latin typeface="Arial"/>
              </a:rPr>
              <a:t>voor arbeidsmiddelen en machines 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571320" y="1500120"/>
            <a:ext cx="842940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bij gebruik kunnen er ongevallen ontstaa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9a60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iligheidsaspect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ilig ontwerp, goedgemaakt product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abricage met veiligheidsvoorziening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oed onderhoud en regelmatig (laten) keur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oldoende kennis en vaardigheid van de gebruiker door opleiding, instructie en train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ilig werkgedra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ilige werkomgev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B6566-BD62-498E-93A6-E2F93695D7F9}" type="slidenum"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71320" y="213840"/>
            <a:ext cx="8429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a60d"/>
                </a:solidFill>
                <a:latin typeface="Arial"/>
              </a:rPr>
              <a:t>9.3 Algemene eisen en veiligheidsmaatregelen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571320" y="1285560"/>
            <a:ext cx="815652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601"/>
              </a:spcBef>
              <a:buClr>
                <a:srgbClr val="09a60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machines en gereedschappe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goede staat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t afscherming van bewegende del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eriodiek gekeur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ldigheid keuring is zichtbaar (kleur/sticker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bruiksvoorschrif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nderhoudsvoorschrif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aal van de gebruiker is toegepas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7F53B-11C6-439E-A3D1-922803A993F2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115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9a60d"/>
                </a:solidFill>
                <a:latin typeface="Arial"/>
              </a:rPr>
              <a:t>9.3 Algemene eisen en veiligheidsmaatregelen (2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571320" y="1285560"/>
            <a:ext cx="815652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9a60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e mogen met machines werken en ho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9a60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sen aan bedieners van machin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der dan 18 jaa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en loshangende kleding, sieraden of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ren drag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en handschoenen dragen bij mogelijk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tact met roterende (draaiende) onderdel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veiligingen niet overbruggen, onklaar maken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f verwijder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oit draaiende machine onbeheerd achterlat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laats en functie noodstop kenn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CB7C9-E845-411D-85F3-D2BE83729249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71680" y="213840"/>
            <a:ext cx="8572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9a60d"/>
                </a:solidFill>
                <a:latin typeface="Arial"/>
              </a:rPr>
              <a:t>9.3 Algemene eisen en</a:t>
            </a:r>
            <a:r>
              <a:rPr b="1" lang="en-US" sz="2800" spc="-1" strike="noStrike">
                <a:solidFill>
                  <a:srgbClr val="09a60d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9a60d"/>
                </a:solidFill>
                <a:latin typeface="Arial"/>
              </a:rPr>
              <a:t>veiligheidsmaatregelen (3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571320" y="1357200"/>
            <a:ext cx="835812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9a60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wuste inzet van technie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ruimtes met explosiegevaa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22716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losieveilige machines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22716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losieveilig aangedreven gereedscha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227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9a60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iligheid verhogen doo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ilige spann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oede stofafzuig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en rem om de machine te stopp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en noodstop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C973B-1263-4AD6-ACD9-A37DE4A9804F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71320" y="-360"/>
            <a:ext cx="8538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9a60d"/>
                </a:solidFill>
                <a:latin typeface="Arial"/>
              </a:rPr>
              <a:t>9.3 Algemene eisen en veiligheidsmaatregelen (4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571320" y="1428480"/>
            <a:ext cx="778644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9a60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egankelijkheid en werkbeheers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loer rond machines en vast opgesteld gereedschap opgeruimd, schoon, vlak, droog en stroef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oldoende loop- en bewegingsruimte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9a60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ordachte werkaanpa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p de juiste manier bedienen (instructiekaart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vaarlijke zones afgeschermd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oit de machine laten draaien met open aandrijv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ij onderhoud machines of gereedschappen UI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BM op de juiste manier gebruiken en onderhoud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4DA8A-4F4E-443C-AE8F-55152E0D3C48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3T15:19:44Z</dcterms:created>
  <dc:creator>de Groot</dc:creator>
  <dc:description/>
  <dc:language>en-US</dc:language>
  <cp:lastModifiedBy>jrijdes</cp:lastModifiedBy>
  <dcterms:modified xsi:type="dcterms:W3CDTF">2010-02-16T12:51:53Z</dcterms:modified>
  <cp:revision>122</cp:revision>
  <dc:subject/>
  <dc:title>Taak en positie VFP</dc:title>
</cp:coreProperties>
</file>